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E210-5CFB-472B-AE50-F6F77D5D7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5411-9FF8-41C0-8243-428FE5F9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261A-4989-4938-9528-715912AD4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FADD-0D9C-4529-A78D-4A10C538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DBA2-F9EB-479E-8900-A865C52C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6D95-7C6C-49E1-943F-415D26BD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D4A6-0C8F-4D26-A3E8-867AACA2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A968-5DD7-4078-BE9A-96ED00EA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5478-26A1-456D-86C1-E1BCD8E2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2B14-07DF-4768-84C2-C65E513D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6EED-2CCD-4539-83BF-4279C60A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D063-0B27-467F-B449-CD9CBF96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68F3-D31B-4768-B198-6A0B316A5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yższa Szkoła Handlowa w Szczeci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33523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. Sienkiewicza 5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1-742 Szczec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erunki studió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ono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nse i Bankowoś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sunki międzynarodo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rządzanie i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spodarka przestrzen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y kształce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ia dzien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ia zaocz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ia wieczoro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ia podyplomo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ia M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studenci" descr=""/>
          <p:cNvPicPr/>
          <p:nvPr/>
        </p:nvPicPr>
        <p:blipFill>
          <a:blip r:embed="rId1"/>
          <a:stretch/>
        </p:blipFill>
        <p:spPr>
          <a:xfrm>
            <a:off x="6553080" y="2819520"/>
            <a:ext cx="171468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Struktura W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9280" y="3276720"/>
          <a:ext cx="8709120" cy="153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276720"/>
                    <a:ext cx="8709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krutac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2819520"/>
            <a:ext cx="31813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Egzaminy wstępn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3581280"/>
            <a:ext cx="380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maty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ęzyk ob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2819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ymagane dokumen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3581280"/>
            <a:ext cx="3581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Świadectwo dojrzałos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westionarius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świadczenie lekarsk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4 fotograf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łaty za studi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2057400"/>
          <a:ext cx="7772400" cy="33814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0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esięczn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 semest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 ro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ia dzien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 z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0 z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00 z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ia zaocz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 z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00 z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0 z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ia wieczoro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0 z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 z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0 z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ia podyplomo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0 z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0 z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50 z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990720" y="601992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 Przy jednorazowych opłatach za więcej niż jeden miesiąc udzielamy rabat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8T07:46:58Z</dcterms:created>
  <dc:creator>Zachodniopomrska</dc:creator>
  <dc:description/>
  <dc:language>en-US</dc:language>
  <cp:lastModifiedBy>Mat</cp:lastModifiedBy>
  <dcterms:modified xsi:type="dcterms:W3CDTF">2002-06-08T21:43:56Z</dcterms:modified>
  <cp:revision>25</cp:revision>
  <dc:subject/>
  <dc:title>Wyższa Szkoła Handlowa w Szczecinie</dc:title>
</cp:coreProperties>
</file>