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31C-DB2D-4A26-9FC0-FF194ADB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122-BF4F-4F80-8343-1C3202CB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F3B-201D-4680-9CF2-68258514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BB0-7B22-4BA7-84D4-F5AEA1D7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A28F-5360-4C0C-825D-29A800C8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724-2C06-44CC-A4CE-68CF7E10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778-76E3-4A00-9025-D06F5783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FE1-1B06-45F6-AC05-0E350004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A7D-A345-449C-9028-B0251A3D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DEA-2B55-4703-8E44-0761BA5A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2E3-F050-40C7-A44C-038D23FF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12F-D98C-4968-B9AB-C938C0B9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83F0-B603-4267-97B5-05EADF7A2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1258920" y="1341360"/>
            <a:ext cx="6192720" cy="4808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2166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32000" y="256536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Garamond"/>
              </a:rPr>
              <a:t>An evaluation of the business and financial prospects of Continental Airlines Inc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/>
          <p:nvPr/>
        </p:nvCxnSpPr>
        <p:spPr>
          <a:xfrm flipH="1">
            <a:off x="7183080" y="6237000"/>
            <a:ext cx="989280" cy="361080"/>
          </a:xfrm>
          <a:prstGeom prst="straightConnector1">
            <a:avLst/>
          </a:prstGeom>
          <a:ln w="0">
            <a:noFill/>
          </a:ln>
        </p:spPr>
      </p:cxnSp>
      <p:sp>
        <p:nvSpPr>
          <p:cNvPr id="45" name=""/>
          <p:cNvSpPr/>
          <p:nvPr/>
        </p:nvSpPr>
        <p:spPr>
          <a:xfrm flipH="1">
            <a:off x="-360" y="6742080"/>
            <a:ext cx="902988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6237360"/>
            <a:ext cx="468360" cy="620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08000" y="1842840"/>
            <a:ext cx="0" cy="50418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30560" y="115920"/>
            <a:ext cx="69134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9036000" y="-360"/>
            <a:ext cx="0" cy="675180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>
            <a:alphaModFix amt="19000"/>
          </a:blip>
          <a:stretch/>
        </p:blipFill>
        <p:spPr>
          <a:xfrm>
            <a:off x="7380360" y="6386400"/>
            <a:ext cx="1763640" cy="4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059280" y="189000"/>
            <a:ext cx="5905440" cy="128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19280" y="429264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Garamond"/>
              </a:rPr>
              <a:t>P</a:t>
            </a:r>
            <a:r>
              <a:rPr b="1" lang="en-US" sz="1800" spc="-1" strike="noStrike">
                <a:solidFill>
                  <a:srgbClr val="000099"/>
                </a:solidFill>
                <a:latin typeface="Garamond"/>
              </a:rPr>
              <a:t>resentation to mentor Chloe Carvalho by student Artur Skowronsk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1258920" y="1341360"/>
            <a:ext cx="6192720" cy="48085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475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74880" cy="936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55640" y="765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260280"/>
            <a:ext cx="971640" cy="936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0" y="260280"/>
            <a:ext cx="9123480" cy="974880"/>
          </a:xfrm>
          <a:prstGeom prst="rect">
            <a:avLst/>
          </a:prstGeom>
          <a:solidFill>
            <a:srgbClr val="bbe0e3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2000" y="4698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FINANCIAL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>
            <a:alphaModFix amt="19000"/>
          </a:blip>
          <a:stretch/>
        </p:blipFill>
        <p:spPr>
          <a:xfrm>
            <a:off x="7380360" y="6386400"/>
            <a:ext cx="1763640" cy="471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651640" y="1197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Garamond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789440" y="5229360"/>
          <a:ext cx="2303640" cy="1008000"/>
        </p:xfrm>
        <a:graphic>
          <a:graphicData uri="http://schemas.openxmlformats.org/drawingml/2006/table">
            <a:tbl>
              <a:tblPr/>
              <a:tblGrid>
                <a:gridCol w="587520"/>
                <a:gridCol w="780840"/>
                <a:gridCol w="935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.8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.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.8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.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6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.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.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3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6156360" y="3213000"/>
          <a:ext cx="2879640" cy="1098720"/>
        </p:xfrm>
        <a:graphic>
          <a:graphicData uri="http://schemas.openxmlformats.org/drawingml/2006/table">
            <a:tbl>
              <a:tblPr/>
              <a:tblGrid>
                <a:gridCol w="792000"/>
                <a:gridCol w="1008360"/>
                <a:gridCol w="1079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5.54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6.09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0.85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.91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4.33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6.60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4500720" y="4437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Asset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242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Recevable colletion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36360" y="27082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Debt net of Cash/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79280" y="3500280"/>
          <a:ext cx="2592360" cy="1006560"/>
        </p:xfrm>
        <a:graphic>
          <a:graphicData uri="http://schemas.openxmlformats.org/drawingml/2006/table">
            <a:tbl>
              <a:tblPr/>
              <a:tblGrid>
                <a:gridCol w="598680"/>
                <a:gridCol w="985680"/>
                <a:gridCol w="10080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41.17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2.44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625.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57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577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577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2484360" y="443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Interest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908000" y="5229360"/>
          <a:ext cx="2519280" cy="1008000"/>
        </p:xfrm>
        <a:graphic>
          <a:graphicData uri="http://schemas.openxmlformats.org/drawingml/2006/table">
            <a:tbl>
              <a:tblPr/>
              <a:tblGrid>
                <a:gridCol w="630000"/>
                <a:gridCol w="881280"/>
                <a:gridCol w="100800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.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0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7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0.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611280" y="12430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Garamond"/>
              </a:rPr>
              <a:t>G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476000" y="1773360"/>
            <a:ext cx="431640" cy="934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71640" y="1773360"/>
            <a:ext cx="576360" cy="2663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724000" y="1773360"/>
            <a:ext cx="576360" cy="273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1773360"/>
            <a:ext cx="287280" cy="503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2843280" y="4724280"/>
            <a:ext cx="323640" cy="433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1079640" y="2997360"/>
            <a:ext cx="323640" cy="433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5651640" y="4724280"/>
            <a:ext cx="323640" cy="4334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7"/>
          <a:stretch/>
        </p:blipFill>
        <p:spPr>
          <a:xfrm>
            <a:off x="7236000" y="2708280"/>
            <a:ext cx="323640" cy="4334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8"/>
          <a:stretch/>
        </p:blipFill>
        <p:spPr>
          <a:xfrm>
            <a:off x="3635280" y="4776840"/>
            <a:ext cx="426960" cy="380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9"/>
          <a:stretch/>
        </p:blipFill>
        <p:spPr>
          <a:xfrm>
            <a:off x="2050920" y="3068640"/>
            <a:ext cx="427320" cy="3808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0"/>
          <a:stretch/>
        </p:blipFill>
        <p:spPr>
          <a:xfrm>
            <a:off x="8172360" y="2781360"/>
            <a:ext cx="426960" cy="3808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1"/>
          <a:stretch/>
        </p:blipFill>
        <p:spPr>
          <a:xfrm>
            <a:off x="6443640" y="4724280"/>
            <a:ext cx="426960" cy="381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250920" y="6432480"/>
            <a:ext cx="426960" cy="3812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64324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Garamond"/>
              </a:rPr>
              <a:t>- United Air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32000" y="63849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Garamond"/>
              </a:rPr>
              <a:t>- Contin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3"/>
          <a:stretch/>
        </p:blipFill>
        <p:spPr>
          <a:xfrm>
            <a:off x="3132000" y="6361200"/>
            <a:ext cx="324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1258920" y="1341360"/>
            <a:ext cx="6192720" cy="48085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475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>
            <a:alphaModFix amt="19000"/>
          </a:blip>
          <a:stretch/>
        </p:blipFill>
        <p:spPr>
          <a:xfrm>
            <a:off x="7380360" y="6386400"/>
            <a:ext cx="1763640" cy="4716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974880" cy="936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55640" y="765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24000" y="3141720"/>
            <a:ext cx="107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800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60280"/>
            <a:ext cx="971640" cy="936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60280"/>
            <a:ext cx="9123480" cy="974880"/>
          </a:xfrm>
          <a:prstGeom prst="rect">
            <a:avLst/>
          </a:prstGeom>
          <a:solidFill>
            <a:srgbClr val="bbe0e3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56360" y="4698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SWOT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71640" y="3068640"/>
            <a:ext cx="252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33cc"/>
                </a:solidFill>
                <a:latin typeface="Garamond"/>
              </a:rPr>
              <a:t>STRENGH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08720" y="3068640"/>
            <a:ext cx="2950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33cc"/>
                </a:solidFill>
                <a:latin typeface="Garamond"/>
              </a:rPr>
              <a:t>WEAKNES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486900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Garamond"/>
              </a:rPr>
              <a:t>Good relations with the 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155736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Garamond"/>
              </a:rPr>
              <a:t>Continental the highest ranked American Air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43280" y="45086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Garamond"/>
              </a:rPr>
              <a:t>Very robust hub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00720" y="150480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Garamond"/>
              </a:rPr>
              <a:t>The losses incurred in the last two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08720" y="4869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Garamond"/>
              </a:rPr>
              <a:t>High level of ge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8360" y="443700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Garamond"/>
              </a:rPr>
              <a:t>Slow reaction with flat bed s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58920" y="2997360"/>
            <a:ext cx="1873080" cy="5029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12000" y="3068640"/>
            <a:ext cx="208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2000" y="2997360"/>
            <a:ext cx="1944720" cy="5029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4724280"/>
            <a:ext cx="1763640" cy="12258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56000" y="4292640"/>
            <a:ext cx="1763640" cy="12254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58920" y="1413000"/>
            <a:ext cx="1763640" cy="12254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27640" y="1413000"/>
            <a:ext cx="1764000" cy="12254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003640" y="4292640"/>
            <a:ext cx="1764000" cy="12254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80360" y="4653000"/>
            <a:ext cx="1763640" cy="12254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900000" y="3716280"/>
            <a:ext cx="503280" cy="792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43280" y="3573360"/>
            <a:ext cx="216000" cy="576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940360" y="3645000"/>
            <a:ext cx="432000" cy="5047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51640" y="3645000"/>
            <a:ext cx="505080" cy="792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195640" y="2708280"/>
            <a:ext cx="0" cy="216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020000" y="2708280"/>
            <a:ext cx="0" cy="216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1258920" y="1341360"/>
            <a:ext cx="6192720" cy="48085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475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74880" cy="9367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755640" y="765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24000" y="3141720"/>
            <a:ext cx="107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0800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260280"/>
            <a:ext cx="971640" cy="936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260280"/>
            <a:ext cx="9123480" cy="974880"/>
          </a:xfrm>
          <a:prstGeom prst="rect">
            <a:avLst/>
          </a:prstGeom>
          <a:solidFill>
            <a:srgbClr val="bbe0e3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27640" y="47628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SWOT ANALYSIS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14560" y="3286080"/>
            <a:ext cx="2449440" cy="503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8360" y="3232080"/>
            <a:ext cx="3673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33cc"/>
                </a:solidFill>
                <a:latin typeface="Garamond"/>
              </a:rPr>
              <a:t>OPPORTUN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54560" y="3213000"/>
            <a:ext cx="1513080" cy="503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940360" y="3232080"/>
            <a:ext cx="1944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33cc"/>
                </a:solidFill>
                <a:latin typeface="Garamond"/>
              </a:rPr>
              <a:t>THREA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195640" y="1773360"/>
            <a:ext cx="21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Garamond"/>
              </a:rPr>
              <a:t>Transatlantic flights joint ventu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-36360" y="472428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Garamond"/>
              </a:rPr>
              <a:t>Possible future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0920" y="1773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Garamond"/>
              </a:rPr>
              <a:t>Star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00360" y="472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Garamond"/>
              </a:rPr>
              <a:t>“</a:t>
            </a:r>
            <a:r>
              <a:rPr b="0" lang="en-GB" sz="1800" spc="-1" strike="noStrike">
                <a:solidFill>
                  <a:srgbClr val="0033cc"/>
                </a:solidFill>
                <a:latin typeface="Garamond"/>
              </a:rPr>
              <a:t>Open skies”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76720" y="48625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Garamond"/>
              </a:rPr>
              <a:t>Fuel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7440" y="48625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Garamond"/>
              </a:rPr>
              <a:t>Re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56360" y="1773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Garamond"/>
              </a:rPr>
              <a:t>Competitive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>
            <a:alphaModFix amt="19000"/>
          </a:blip>
          <a:stretch/>
        </p:blipFill>
        <p:spPr>
          <a:xfrm>
            <a:off x="7380360" y="6386400"/>
            <a:ext cx="1763640" cy="47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 flipH="1" flipV="1">
            <a:off x="899640" y="2707920"/>
            <a:ext cx="647640" cy="360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700360" y="2707920"/>
            <a:ext cx="647640" cy="360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99640" y="3933720"/>
            <a:ext cx="792360" cy="503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43280" y="3860640"/>
            <a:ext cx="792000" cy="5050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9280" y="1700280"/>
            <a:ext cx="1440000" cy="792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40000" y="1700280"/>
            <a:ext cx="1871640" cy="792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1280" y="4653000"/>
            <a:ext cx="1908360" cy="792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84360" y="4653000"/>
            <a:ext cx="1908360" cy="792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84720" y="1700280"/>
            <a:ext cx="1908360" cy="792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64000" y="4653000"/>
            <a:ext cx="1332000" cy="792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24720" y="4653000"/>
            <a:ext cx="1295280" cy="792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948360" y="2637000"/>
            <a:ext cx="0" cy="5047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084720" y="3860640"/>
            <a:ext cx="432000" cy="648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24720" y="3860640"/>
            <a:ext cx="360360" cy="648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1258920" y="1357200"/>
            <a:ext cx="6192720" cy="48085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475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74880" cy="9367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755640" y="765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24000" y="3141720"/>
            <a:ext cx="107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0800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260280"/>
            <a:ext cx="971640" cy="936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189000"/>
            <a:ext cx="9123480" cy="974520"/>
          </a:xfrm>
          <a:prstGeom prst="rect">
            <a:avLst/>
          </a:prstGeom>
          <a:solidFill>
            <a:srgbClr val="bbe0e3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96000" y="4698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PORTER’S FIVE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>
            <a:alphaModFix amt="19000"/>
          </a:blip>
          <a:stretch/>
        </p:blipFill>
        <p:spPr>
          <a:xfrm>
            <a:off x="7380360" y="6386400"/>
            <a:ext cx="1763640" cy="4716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5003640" y="1414440"/>
            <a:ext cx="1800360" cy="71928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5400000"/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59640" y="3141720"/>
            <a:ext cx="1513080" cy="86364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5400000"/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24360" y="4797360"/>
            <a:ext cx="1800000" cy="57636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08360" y="2492280"/>
            <a:ext cx="2232000" cy="57636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6200" y="4653000"/>
            <a:ext cx="1729080" cy="36036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95640" y="5013360"/>
            <a:ext cx="1008000" cy="5032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11280" y="6165720"/>
            <a:ext cx="1224000" cy="5032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56720" y="4653000"/>
            <a:ext cx="863280" cy="50472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940360" y="5157720"/>
            <a:ext cx="863640" cy="50472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24360" y="6164280"/>
            <a:ext cx="863640" cy="50472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95640" y="1413000"/>
            <a:ext cx="1439640" cy="100800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0920" y="2997360"/>
            <a:ext cx="1225440" cy="100800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11280" y="6093000"/>
            <a:ext cx="1224000" cy="5806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Fuel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50920" y="1484280"/>
            <a:ext cx="17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Needs for innovation and new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03516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Garamond"/>
              </a:rPr>
              <a:t>Decreasing number of passa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50920" y="494172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Aircrafts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920" y="4581360"/>
            <a:ext cx="180036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Finance Suppliers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35280" y="2487600"/>
            <a:ext cx="23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Garamond"/>
              </a:rPr>
              <a:t>European and Japanese Air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52720" y="489276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American Air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147960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ifficult time for the airline industry</a:t>
            </a:r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88360" y="31798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Opportunities for low cost air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67640" y="47242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Garamond"/>
              </a:rPr>
              <a:t>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508720" y="522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Garamond"/>
              </a:rPr>
              <a:t>Trai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35640" y="62611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Garamond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55640" y="5157720"/>
            <a:ext cx="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763640" y="5300280"/>
            <a:ext cx="36036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08000" y="6237360"/>
            <a:ext cx="28764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63640" y="1916280"/>
            <a:ext cx="360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26920" y="2708280"/>
            <a:ext cx="0" cy="144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716360" y="3067200"/>
            <a:ext cx="0" cy="217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716360" y="4581360"/>
            <a:ext cx="0" cy="216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317080" y="278136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877080" y="1700280"/>
            <a:ext cx="216000" cy="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8388360" y="5229000"/>
            <a:ext cx="0" cy="21564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6659280" y="573408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659280" y="6308640"/>
            <a:ext cx="360360" cy="7308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8000" y="5445000"/>
            <a:ext cx="1620720" cy="1341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-36360" y="5734080"/>
            <a:ext cx="19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Supp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920" y="1341360"/>
            <a:ext cx="1873080" cy="129564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-181080" y="162576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236000" y="1197000"/>
            <a:ext cx="1873080" cy="136836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5400000"/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380360" y="128268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New</a:t>
            </a:r>
            <a:r>
              <a:rPr b="1" lang="pl-PL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64360" y="5589720"/>
            <a:ext cx="1944720" cy="93492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20000" y="573408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564000" y="3284640"/>
            <a:ext cx="2448000" cy="12240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64000" y="349740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1258920" y="1341360"/>
            <a:ext cx="6192720" cy="48085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475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74880" cy="93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755640" y="765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124000" y="3141720"/>
            <a:ext cx="107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0800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260280"/>
            <a:ext cx="971640" cy="936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260280"/>
            <a:ext cx="9123480" cy="974880"/>
          </a:xfrm>
          <a:prstGeom prst="rect">
            <a:avLst/>
          </a:prstGeom>
          <a:solidFill>
            <a:srgbClr val="bbe0e3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40360" y="46980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CONCLUSIONS AND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3">
            <a:alphaModFix amt="19000"/>
          </a:blip>
          <a:stretch/>
        </p:blipFill>
        <p:spPr>
          <a:xfrm>
            <a:off x="7380360" y="6386400"/>
            <a:ext cx="1763640" cy="4716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755640" y="145404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Garamond"/>
              </a:rPr>
              <a:t>Continental curren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8720" y="393372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Garamond"/>
              </a:rPr>
              <a:t>The company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68360" y="1557360"/>
            <a:ext cx="307800" cy="28908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592200" y="4005360"/>
            <a:ext cx="307800" cy="2887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5003640" y="1341360"/>
            <a:ext cx="3816360" cy="307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32" name=""/>
          <p:cNvSpPr/>
          <p:nvPr/>
        </p:nvSpPr>
        <p:spPr>
          <a:xfrm>
            <a:off x="539640" y="2333520"/>
            <a:ext cx="396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Garamond"/>
              </a:rPr>
              <a:t>- </a:t>
            </a:r>
            <a:r>
              <a:rPr b="0" lang="en-GB" sz="2000" spc="-1" strike="noStrike">
                <a:solidFill>
                  <a:srgbClr val="0033cc"/>
                </a:solidFill>
                <a:latin typeface="Garamond"/>
              </a:rPr>
              <a:t>The organisation appears to be extremely weak in terms of earn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Garamond"/>
              </a:rPr>
              <a:t>- </a:t>
            </a:r>
            <a:r>
              <a:rPr b="0" lang="en-GB" sz="2000" spc="-1" strike="noStrike">
                <a:solidFill>
                  <a:srgbClr val="0033cc"/>
                </a:solidFill>
                <a:latin typeface="Garamond"/>
              </a:rPr>
              <a:t>Debt to capital structure indicates </a:t>
            </a:r>
            <a:r>
              <a:rPr b="0" lang="pl-PL" sz="2000" spc="-1" strike="noStrike">
                <a:solidFill>
                  <a:srgbClr val="0033cc"/>
                </a:solidFill>
                <a:latin typeface="Garamond"/>
              </a:rPr>
              <a:t>an increased </a:t>
            </a:r>
            <a:r>
              <a:rPr b="0" lang="en-GB" sz="2000" spc="-1" strike="noStrike">
                <a:solidFill>
                  <a:srgbClr val="0033cc"/>
                </a:solidFill>
                <a:latin typeface="Garamond"/>
              </a:rPr>
              <a:t>risk of bankrupt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1280" y="4437000"/>
            <a:ext cx="511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Garamond"/>
              </a:rPr>
              <a:t>- </a:t>
            </a:r>
            <a:r>
              <a:rPr b="0" lang="en-GB" sz="2000" spc="-1" strike="noStrike">
                <a:solidFill>
                  <a:srgbClr val="0033cc"/>
                </a:solidFill>
                <a:latin typeface="Garamond"/>
              </a:rPr>
              <a:t>Continental should try to transform the weaknesses into strengths in order to improve perform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Garamond"/>
              </a:rPr>
              <a:t>- </a:t>
            </a:r>
            <a:r>
              <a:rPr b="0" lang="en-GB" sz="2000" spc="-1" strike="noStrike">
                <a:solidFill>
                  <a:srgbClr val="0033cc"/>
                </a:solidFill>
                <a:latin typeface="Garamond"/>
              </a:rPr>
              <a:t>It is very difficult to give </a:t>
            </a:r>
            <a:r>
              <a:rPr b="0" lang="pl-PL" sz="2000" spc="-1" strike="noStrike">
                <a:solidFill>
                  <a:srgbClr val="0033cc"/>
                </a:solidFill>
                <a:latin typeface="Garamond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Garamond"/>
              </a:rPr>
              <a:t> straight answer to the research question as there are a lot of unknown factors</a:t>
            </a:r>
            <a:r>
              <a:rPr b="0" lang="pl-PL" sz="2000" spc="-1" strike="noStrike">
                <a:solidFill>
                  <a:srgbClr val="0033cc"/>
                </a:solidFill>
                <a:latin typeface="Garamond"/>
              </a:rPr>
              <a:t> that might have an impact o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4751280" cy="31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35" name=""/>
          <p:cNvSpPr/>
          <p:nvPr/>
        </p:nvSpPr>
        <p:spPr>
          <a:xfrm>
            <a:off x="1835280" y="486900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Garamond"/>
              </a:rPr>
              <a:t>THANK 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>
            <a:alphaModFix amt="19000"/>
          </a:blip>
          <a:stretch/>
        </p:blipFill>
        <p:spPr>
          <a:xfrm>
            <a:off x="3708360" y="5877000"/>
            <a:ext cx="1763640" cy="4712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 flipV="1">
            <a:off x="108000" y="0"/>
            <a:ext cx="0" cy="6858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9036000" y="-360"/>
            <a:ext cx="0" cy="6885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115920"/>
            <a:ext cx="914400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1258920" y="1341360"/>
            <a:ext cx="6192720" cy="4808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475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74880" cy="936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765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3141720"/>
            <a:ext cx="107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0280"/>
            <a:ext cx="971640" cy="936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20" y="333360"/>
            <a:ext cx="9123480" cy="974880"/>
          </a:xfrm>
          <a:prstGeom prst="rect">
            <a:avLst/>
          </a:prstGeom>
          <a:solidFill>
            <a:srgbClr val="bbe0e3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698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Garamond"/>
              </a:rPr>
              <a:t>R</a:t>
            </a: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EASONS FOR CHOOSING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55640" y="3141720"/>
            <a:ext cx="308160" cy="288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08200" y="1557360"/>
            <a:ext cx="307800" cy="289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42920" y="148428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Garamond"/>
              </a:rPr>
              <a:t>As an employee, I am very interested to find out what the future holds for the company</a:t>
            </a:r>
            <a:r>
              <a:rPr b="0" lang="en-AU" sz="24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450864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Garamond"/>
              </a:rPr>
              <a:t>Analysis of Continental helps better understand the problems of the today airlin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30384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Garamond"/>
              </a:rPr>
              <a:t>Continental culture makes one proud to work for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0033cc"/>
                </a:solidFill>
                <a:latin typeface="Garamond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826920" y="4581360"/>
            <a:ext cx="308160" cy="289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>
            <a:alphaModFix amt="19000"/>
          </a:blip>
          <a:stretch/>
        </p:blipFill>
        <p:spPr>
          <a:xfrm>
            <a:off x="7380360" y="6386400"/>
            <a:ext cx="1763640" cy="4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5148360" y="1484280"/>
            <a:ext cx="3522600" cy="26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1258920" y="1341360"/>
            <a:ext cx="6192720" cy="480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475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74880" cy="936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765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3141720"/>
            <a:ext cx="107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60280"/>
            <a:ext cx="971640" cy="936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60280"/>
            <a:ext cx="9123480" cy="974880"/>
          </a:xfrm>
          <a:prstGeom prst="rect">
            <a:avLst/>
          </a:prstGeom>
          <a:solidFill>
            <a:srgbClr val="bbe0e3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4360" y="4698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RESEARCH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>
            <a:alphaModFix amt="19000"/>
          </a:blip>
          <a:stretch/>
        </p:blipFill>
        <p:spPr>
          <a:xfrm>
            <a:off x="7380360" y="6386400"/>
            <a:ext cx="1763640" cy="471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8200" y="23907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Garamond"/>
              </a:rPr>
              <a:t>What has to be done at Continental Airlines in order to come back to profitable years and maintain the profit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987640" y="3357720"/>
            <a:ext cx="33847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1258920" y="1341360"/>
            <a:ext cx="6192720" cy="480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475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74880" cy="93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5640" y="765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60280"/>
            <a:ext cx="971640" cy="936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60280"/>
            <a:ext cx="9123480" cy="974880"/>
          </a:xfrm>
          <a:prstGeom prst="rect">
            <a:avLst/>
          </a:prstGeom>
          <a:solidFill>
            <a:srgbClr val="bbe0e3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698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INFORMATION GATH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162864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cc"/>
                </a:solidFill>
                <a:latin typeface="Garamond"/>
              </a:rPr>
              <a:t>Source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924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Garamond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0000" y="2924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Garamond"/>
              </a:rPr>
              <a:t>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8200" y="3789360"/>
            <a:ext cx="3097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Garamond"/>
              </a:rPr>
              <a:t>Interview with Finance Director</a:t>
            </a:r>
            <a:r>
              <a:rPr b="0" lang="en-US" sz="24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0560" y="450864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Garamond"/>
              </a:rPr>
              <a:t>Annual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450864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Garamond"/>
              </a:rPr>
              <a:t>Web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51640" y="3789360"/>
            <a:ext cx="14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Garamond"/>
              </a:rPr>
              <a:t>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68720" y="3716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Garamond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>
            <a:alphaModFix amt="19000"/>
          </a:blip>
          <a:stretch/>
        </p:blipFill>
        <p:spPr>
          <a:xfrm>
            <a:off x="7380360" y="6386400"/>
            <a:ext cx="1763640" cy="47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>
            <a:off x="2268360" y="2276640"/>
            <a:ext cx="719280" cy="576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3840" y="3357720"/>
            <a:ext cx="0" cy="502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87640" y="3357720"/>
            <a:ext cx="863640" cy="3585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724000" y="3500280"/>
            <a:ext cx="287640" cy="865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3500280"/>
            <a:ext cx="360360" cy="9367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6000" y="3284640"/>
            <a:ext cx="792000" cy="431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2205000"/>
            <a:ext cx="432000" cy="719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308720" y="1413000"/>
            <a:ext cx="1474920" cy="1565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012000" y="5229360"/>
            <a:ext cx="1439640" cy="127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32000" y="4537080"/>
            <a:ext cx="1400040" cy="2131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1258920" y="1341360"/>
            <a:ext cx="6192720" cy="4808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475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74880" cy="936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05080" y="3141720"/>
            <a:ext cx="107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908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60280"/>
            <a:ext cx="971640" cy="936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60280"/>
            <a:ext cx="9123480" cy="974880"/>
          </a:xfrm>
          <a:prstGeom prst="rect">
            <a:avLst/>
          </a:prstGeom>
          <a:solidFill>
            <a:srgbClr val="bbe0e3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4698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LIMITATION OF INFORMATION GATH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4560" y="19591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Garamond"/>
              </a:rPr>
              <a:t>English is my second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314172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Garamond"/>
              </a:rPr>
              <a:t>The books cannot be taken home from the l</a:t>
            </a:r>
            <a:r>
              <a:rPr b="0" lang="en-GB" sz="2400" spc="-1" strike="noStrike">
                <a:solidFill>
                  <a:srgbClr val="0033cc"/>
                </a:solidFill>
                <a:latin typeface="Garamond"/>
              </a:rPr>
              <a:t>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292640"/>
            <a:ext cx="54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Garamond"/>
              </a:rPr>
              <a:t>Limited word count to use in the project made it difficult to utilize all availabl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35120" y="2060640"/>
            <a:ext cx="307800" cy="28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55640" y="4292640"/>
            <a:ext cx="308160" cy="288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755640" y="3211560"/>
            <a:ext cx="308160" cy="28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>
            <a:alphaModFix amt="19000"/>
          </a:blip>
          <a:stretch/>
        </p:blipFill>
        <p:spPr>
          <a:xfrm>
            <a:off x="7380360" y="6386400"/>
            <a:ext cx="1763640" cy="471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5076720" y="1557360"/>
            <a:ext cx="3743280" cy="250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1258920" y="1341360"/>
            <a:ext cx="6192720" cy="4808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475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74880" cy="93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5640" y="765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24000" y="3141720"/>
            <a:ext cx="107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800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60280"/>
            <a:ext cx="971640" cy="936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60280"/>
            <a:ext cx="9123480" cy="974880"/>
          </a:xfrm>
          <a:prstGeom prst="rect">
            <a:avLst/>
          </a:prstGeom>
          <a:solidFill>
            <a:srgbClr val="bbe0e3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4698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FINANCIAL RESULTS COMPARISONS BETWEEN 2007, 2008 AND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463840" y="4292640"/>
            <a:ext cx="307800" cy="288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411280" y="1989000"/>
            <a:ext cx="308160" cy="289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411280" y="3141720"/>
            <a:ext cx="308160" cy="288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052720" y="19162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Garamond"/>
              </a:rPr>
              <a:t>Good performance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30430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Garamond"/>
              </a:rPr>
              <a:t>Financial difficulties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422100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Garamond"/>
              </a:rPr>
              <a:t>Slow recovery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>
            <a:alphaModFix amt="19000"/>
          </a:blip>
          <a:stretch/>
        </p:blipFill>
        <p:spPr>
          <a:xfrm>
            <a:off x="7380360" y="6386400"/>
            <a:ext cx="1763640" cy="471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6877080" y="1557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900000" y="4797360"/>
            <a:ext cx="17575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1258920" y="1341360"/>
            <a:ext cx="6192720" cy="4808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475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74880" cy="936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332000" y="3575160"/>
            <a:ext cx="107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60280"/>
            <a:ext cx="971640" cy="936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0" y="260280"/>
            <a:ext cx="9123480" cy="974880"/>
          </a:xfrm>
          <a:prstGeom prst="rect">
            <a:avLst/>
          </a:prstGeom>
          <a:solidFill>
            <a:srgbClr val="bbe0e3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>
            <a:alphaModFix amt="19000"/>
          </a:blip>
          <a:stretch/>
        </p:blipFill>
        <p:spPr>
          <a:xfrm>
            <a:off x="7380360" y="6386400"/>
            <a:ext cx="1763640" cy="471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19280" y="3716280"/>
            <a:ext cx="358920" cy="23065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58920" y="3141360"/>
            <a:ext cx="0" cy="28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530208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5518080"/>
            <a:ext cx="144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5032440"/>
            <a:ext cx="144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4546440"/>
            <a:ext cx="144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4060800"/>
            <a:ext cx="144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3575160"/>
            <a:ext cx="144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1080" y="5302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Garamond"/>
              </a:rPr>
              <a:t>30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2360" y="4834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Garamond"/>
              </a:rPr>
              <a:t>60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43419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Garamond"/>
              </a:rPr>
              <a:t>90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38498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Garamond"/>
              </a:rPr>
              <a:t>120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357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Garamond"/>
              </a:rPr>
              <a:t>150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6022800"/>
            <a:ext cx="4753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429000"/>
            <a:ext cx="358920" cy="2593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3800" y="3789360"/>
            <a:ext cx="358920" cy="223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3860640"/>
            <a:ext cx="18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9080" y="59976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Garamond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59976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Garamond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59976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Garamond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5373720"/>
            <a:ext cx="341280" cy="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94000" y="5157720"/>
            <a:ext cx="341280" cy="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5445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aramond"/>
              </a:rPr>
              <a:t>26.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48000" y="48704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aramond"/>
              </a:rPr>
              <a:t>38.84%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5479920"/>
            <a:ext cx="934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aramond"/>
              </a:rPr>
              <a:t>28.34%</a:t>
            </a:r>
            <a:r>
              <a:rPr b="0" lang="en-US" sz="20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8160" y="5238720"/>
            <a:ext cx="324000" cy="695520"/>
          </a:xfrm>
          <a:custGeom>
            <a:avLst/>
            <a:gdLst/>
            <a:ahLst/>
            <a:rect l="l" t="t" r="r" b="b"/>
            <a:pathLst>
              <a:path w="901" h="1928">
                <a:moveTo>
                  <a:pt x="11477" y="13394"/>
                </a:moveTo>
                <a:cubicBezTo>
                  <a:pt x="11468" y="13387"/>
                  <a:pt x="11457" y="13380"/>
                  <a:pt x="11449" y="13372"/>
                </a:cubicBezTo>
                <a:cubicBezTo>
                  <a:pt x="11443" y="13366"/>
                  <a:pt x="11433" y="13363"/>
                  <a:pt x="11428" y="13357"/>
                </a:cubicBezTo>
                <a:cubicBezTo>
                  <a:pt x="11426" y="13355"/>
                  <a:pt x="11432" y="13352"/>
                  <a:pt x="11430" y="13350"/>
                </a:cubicBezTo>
                <a:cubicBezTo>
                  <a:pt x="11444" y="13352"/>
                  <a:pt x="11460" y="13352"/>
                  <a:pt x="11474" y="13354"/>
                </a:cubicBezTo>
                <a:cubicBezTo>
                  <a:pt x="11532" y="13363"/>
                  <a:pt x="11591" y="13376"/>
                  <a:pt x="11648" y="13390"/>
                </a:cubicBezTo>
                <a:cubicBezTo>
                  <a:pt x="11738" y="13412"/>
                  <a:pt x="11832" y="13438"/>
                  <a:pt x="11912" y="13485"/>
                </a:cubicBezTo>
                <a:cubicBezTo>
                  <a:pt x="11941" y="13502"/>
                  <a:pt x="11966" y="13526"/>
                  <a:pt x="11987" y="13552"/>
                </a:cubicBezTo>
                <a:cubicBezTo>
                  <a:pt x="11991" y="13560"/>
                  <a:pt x="11993" y="13563"/>
                  <a:pt x="11995" y="13569"/>
                </a:cubicBezTo>
                <a:cubicBezTo>
                  <a:pt x="11989" y="13573"/>
                  <a:pt x="11981" y="13587"/>
                  <a:pt x="11962" y="13594"/>
                </a:cubicBezTo>
                <a:cubicBezTo>
                  <a:pt x="11896" y="13617"/>
                  <a:pt x="11815" y="13613"/>
                  <a:pt x="11746" y="13616"/>
                </a:cubicBezTo>
                <a:cubicBezTo>
                  <a:pt x="11614" y="13623"/>
                  <a:pt x="11447" y="13614"/>
                  <a:pt x="11325" y="13673"/>
                </a:cubicBezTo>
                <a:cubicBezTo>
                  <a:pt x="11312" y="13680"/>
                  <a:pt x="11308" y="13681"/>
                  <a:pt x="11306" y="13691"/>
                </a:cubicBezTo>
                <a:cubicBezTo>
                  <a:pt x="11334" y="13706"/>
                  <a:pt x="11358" y="13723"/>
                  <a:pt x="11392" y="13735"/>
                </a:cubicBezTo>
                <a:cubicBezTo>
                  <a:pt x="11502" y="13774"/>
                  <a:pt x="11619" y="13798"/>
                  <a:pt x="11730" y="13833"/>
                </a:cubicBezTo>
                <a:cubicBezTo>
                  <a:pt x="11855" y="13872"/>
                  <a:pt x="11982" y="13912"/>
                  <a:pt x="12104" y="13961"/>
                </a:cubicBezTo>
                <a:cubicBezTo>
                  <a:pt x="12141" y="13976"/>
                  <a:pt x="12174" y="13991"/>
                  <a:pt x="12206" y="14012"/>
                </a:cubicBezTo>
                <a:cubicBezTo>
                  <a:pt x="12205" y="14013"/>
                  <a:pt x="12205" y="14015"/>
                  <a:pt x="12204" y="14016"/>
                </a:cubicBezTo>
                <a:cubicBezTo>
                  <a:pt x="12112" y="14034"/>
                  <a:pt x="12020" y="14041"/>
                  <a:pt x="11926" y="14047"/>
                </a:cubicBezTo>
                <a:cubicBezTo>
                  <a:pt x="11781" y="14057"/>
                  <a:pt x="11582" y="14036"/>
                  <a:pt x="11446" y="14099"/>
                </a:cubicBezTo>
                <a:cubicBezTo>
                  <a:pt x="11435" y="14104"/>
                  <a:pt x="11425" y="14119"/>
                  <a:pt x="11416" y="14123"/>
                </a:cubicBezTo>
                <a:cubicBezTo>
                  <a:pt x="11427" y="14130"/>
                  <a:pt x="11431" y="14143"/>
                  <a:pt x="11449" y="14151"/>
                </a:cubicBezTo>
                <a:cubicBezTo>
                  <a:pt x="11496" y="14172"/>
                  <a:pt x="11550" y="14184"/>
                  <a:pt x="11599" y="14198"/>
                </a:cubicBezTo>
                <a:cubicBezTo>
                  <a:pt x="11720" y="14234"/>
                  <a:pt x="11873" y="14272"/>
                  <a:pt x="11976" y="14349"/>
                </a:cubicBezTo>
                <a:cubicBezTo>
                  <a:pt x="11992" y="14361"/>
                  <a:pt x="11999" y="14379"/>
                  <a:pt x="12010" y="14390"/>
                </a:cubicBezTo>
                <a:cubicBezTo>
                  <a:pt x="11976" y="14398"/>
                  <a:pt x="11943" y="14404"/>
                  <a:pt x="11905" y="14408"/>
                </a:cubicBezTo>
                <a:cubicBezTo>
                  <a:pt x="11836" y="14415"/>
                  <a:pt x="11768" y="14416"/>
                  <a:pt x="11699" y="14419"/>
                </a:cubicBezTo>
                <a:cubicBezTo>
                  <a:pt x="11595" y="14424"/>
                  <a:pt x="11478" y="14432"/>
                  <a:pt x="11378" y="14466"/>
                </a:cubicBezTo>
                <a:cubicBezTo>
                  <a:pt x="11374" y="14469"/>
                  <a:pt x="11370" y="14471"/>
                  <a:pt x="11366" y="14474"/>
                </a:cubicBezTo>
                <a:cubicBezTo>
                  <a:pt x="11379" y="14488"/>
                  <a:pt x="11378" y="14504"/>
                  <a:pt x="11407" y="14520"/>
                </a:cubicBezTo>
                <a:cubicBezTo>
                  <a:pt x="11464" y="14551"/>
                  <a:pt x="11526" y="14575"/>
                  <a:pt x="11585" y="14601"/>
                </a:cubicBezTo>
                <a:cubicBezTo>
                  <a:pt x="11681" y="14644"/>
                  <a:pt x="11798" y="14679"/>
                  <a:pt x="11872" y="14758"/>
                </a:cubicBezTo>
                <a:cubicBezTo>
                  <a:pt x="11873" y="14763"/>
                  <a:pt x="11873" y="14767"/>
                  <a:pt x="11874" y="14772"/>
                </a:cubicBezTo>
                <a:cubicBezTo>
                  <a:pt x="11850" y="14784"/>
                  <a:pt x="11842" y="14798"/>
                  <a:pt x="11808" y="14802"/>
                </a:cubicBezTo>
                <a:cubicBezTo>
                  <a:pt x="11756" y="14808"/>
                  <a:pt x="11700" y="14804"/>
                  <a:pt x="11648" y="14801"/>
                </a:cubicBezTo>
                <a:cubicBezTo>
                  <a:pt x="11581" y="14798"/>
                  <a:pt x="11515" y="14792"/>
                  <a:pt x="11448" y="14801"/>
                </a:cubicBezTo>
                <a:cubicBezTo>
                  <a:pt x="11430" y="14803"/>
                  <a:pt x="11419" y="14809"/>
                  <a:pt x="11403" y="14812"/>
                </a:cubicBezTo>
                <a:cubicBezTo>
                  <a:pt x="11418" y="14816"/>
                  <a:pt x="11443" y="14829"/>
                  <a:pt x="11463" y="14833"/>
                </a:cubicBezTo>
                <a:cubicBezTo>
                  <a:pt x="11597" y="14860"/>
                  <a:pt x="11727" y="14887"/>
                  <a:pt x="11856" y="14936"/>
                </a:cubicBezTo>
                <a:cubicBezTo>
                  <a:pt x="11936" y="14967"/>
                  <a:pt x="12016" y="15000"/>
                  <a:pt x="12081" y="15056"/>
                </a:cubicBezTo>
                <a:cubicBezTo>
                  <a:pt x="12083" y="15060"/>
                  <a:pt x="12085" y="15063"/>
                  <a:pt x="12087" y="15067"/>
                </a:cubicBezTo>
                <a:cubicBezTo>
                  <a:pt x="12068" y="15074"/>
                  <a:pt x="12053" y="15086"/>
                  <a:pt x="12024" y="15088"/>
                </a:cubicBezTo>
                <a:cubicBezTo>
                  <a:pt x="11891" y="15098"/>
                  <a:pt x="11759" y="15074"/>
                  <a:pt x="11626" y="15084"/>
                </a:cubicBezTo>
                <a:cubicBezTo>
                  <a:pt x="11578" y="15088"/>
                  <a:pt x="11549" y="15104"/>
                  <a:pt x="11512" y="15117"/>
                </a:cubicBezTo>
                <a:cubicBezTo>
                  <a:pt x="11576" y="15152"/>
                  <a:pt x="11631" y="15166"/>
                  <a:pt x="11705" y="15187"/>
                </a:cubicBezTo>
                <a:cubicBezTo>
                  <a:pt x="11827" y="15222"/>
                  <a:pt x="11950" y="15249"/>
                  <a:pt x="12074" y="15277"/>
                </a:cubicBezTo>
              </a:path>
            </a:pathLst>
          </a:custGeom>
          <a:noFill/>
          <a:ln cap="rnd"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5479920"/>
            <a:ext cx="341280" cy="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1440" y="5535720"/>
            <a:ext cx="268200" cy="414360"/>
          </a:xfrm>
          <a:custGeom>
            <a:avLst/>
            <a:gdLst/>
            <a:ahLst/>
            <a:rect l="l" t="t" r="r" b="b"/>
            <a:pathLst>
              <a:path w="749" h="1153">
                <a:moveTo>
                  <a:pt x="7053" y="14091"/>
                </a:moveTo>
                <a:cubicBezTo>
                  <a:pt x="7052" y="14091"/>
                  <a:pt x="7046" y="14088"/>
                  <a:pt x="7042" y="14088"/>
                </a:cubicBezTo>
                <a:cubicBezTo>
                  <a:pt x="7035" y="14089"/>
                  <a:pt x="7030" y="14092"/>
                  <a:pt x="7024" y="14092"/>
                </a:cubicBezTo>
                <a:cubicBezTo>
                  <a:pt x="7025" y="14092"/>
                  <a:pt x="7021" y="14094"/>
                  <a:pt x="7021" y="14094"/>
                </a:cubicBezTo>
                <a:cubicBezTo>
                  <a:pt x="7024" y="14094"/>
                  <a:pt x="7020" y="14095"/>
                  <a:pt x="7023" y="14095"/>
                </a:cubicBezTo>
                <a:cubicBezTo>
                  <a:pt x="7025" y="14095"/>
                  <a:pt x="7021" y="14095"/>
                  <a:pt x="7024" y="14095"/>
                </a:cubicBezTo>
                <a:cubicBezTo>
                  <a:pt x="7027" y="14096"/>
                  <a:pt x="7029" y="14094"/>
                  <a:pt x="7032" y="14095"/>
                </a:cubicBezTo>
                <a:cubicBezTo>
                  <a:pt x="7048" y="14098"/>
                  <a:pt x="7065" y="14101"/>
                  <a:pt x="7081" y="14105"/>
                </a:cubicBezTo>
                <a:cubicBezTo>
                  <a:pt x="7127" y="14117"/>
                  <a:pt x="7174" y="14130"/>
                  <a:pt x="7219" y="14145"/>
                </a:cubicBezTo>
                <a:cubicBezTo>
                  <a:pt x="7278" y="14164"/>
                  <a:pt x="7337" y="14188"/>
                  <a:pt x="7392" y="14216"/>
                </a:cubicBezTo>
                <a:cubicBezTo>
                  <a:pt x="7462" y="14252"/>
                  <a:pt x="7526" y="14305"/>
                  <a:pt x="7585" y="14357"/>
                </a:cubicBezTo>
                <a:cubicBezTo>
                  <a:pt x="7590" y="14362"/>
                  <a:pt x="7592" y="14363"/>
                  <a:pt x="7594" y="14367"/>
                </a:cubicBezTo>
                <a:cubicBezTo>
                  <a:pt x="7584" y="14369"/>
                  <a:pt x="7576" y="14375"/>
                  <a:pt x="7562" y="14376"/>
                </a:cubicBezTo>
                <a:cubicBezTo>
                  <a:pt x="7507" y="14379"/>
                  <a:pt x="7450" y="14378"/>
                  <a:pt x="7395" y="14379"/>
                </a:cubicBezTo>
                <a:cubicBezTo>
                  <a:pt x="7260" y="14381"/>
                  <a:pt x="7122" y="14400"/>
                  <a:pt x="6993" y="14441"/>
                </a:cubicBezTo>
                <a:cubicBezTo>
                  <a:pt x="6960" y="14451"/>
                  <a:pt x="6938" y="14461"/>
                  <a:pt x="6916" y="14480"/>
                </a:cubicBezTo>
                <a:cubicBezTo>
                  <a:pt x="6916" y="14482"/>
                  <a:pt x="6917" y="14483"/>
                  <a:pt x="6917" y="14485"/>
                </a:cubicBezTo>
                <a:cubicBezTo>
                  <a:pt x="6934" y="14492"/>
                  <a:pt x="6948" y="14501"/>
                  <a:pt x="6966" y="14506"/>
                </a:cubicBezTo>
                <a:cubicBezTo>
                  <a:pt x="7020" y="14522"/>
                  <a:pt x="7076" y="14535"/>
                  <a:pt x="7130" y="14550"/>
                </a:cubicBezTo>
                <a:cubicBezTo>
                  <a:pt x="7281" y="14592"/>
                  <a:pt x="7443" y="14626"/>
                  <a:pt x="7585" y="14692"/>
                </a:cubicBezTo>
                <a:cubicBezTo>
                  <a:pt x="7601" y="14699"/>
                  <a:pt x="7610" y="14710"/>
                  <a:pt x="7621" y="14716"/>
                </a:cubicBezTo>
                <a:cubicBezTo>
                  <a:pt x="7597" y="14720"/>
                  <a:pt x="7574" y="14725"/>
                  <a:pt x="7549" y="14727"/>
                </a:cubicBezTo>
                <a:cubicBezTo>
                  <a:pt x="7472" y="14734"/>
                  <a:pt x="7396" y="14738"/>
                  <a:pt x="7319" y="14745"/>
                </a:cubicBezTo>
                <a:cubicBezTo>
                  <a:pt x="7238" y="14752"/>
                  <a:pt x="7156" y="14755"/>
                  <a:pt x="7075" y="14765"/>
                </a:cubicBezTo>
                <a:cubicBezTo>
                  <a:pt x="7020" y="14772"/>
                  <a:pt x="6951" y="14774"/>
                  <a:pt x="6899" y="14794"/>
                </a:cubicBezTo>
                <a:cubicBezTo>
                  <a:pt x="6882" y="14800"/>
                  <a:pt x="6878" y="14799"/>
                  <a:pt x="6873" y="14809"/>
                </a:cubicBezTo>
                <a:cubicBezTo>
                  <a:pt x="6905" y="14826"/>
                  <a:pt x="6930" y="14832"/>
                  <a:pt x="6968" y="14840"/>
                </a:cubicBezTo>
                <a:cubicBezTo>
                  <a:pt x="7129" y="14875"/>
                  <a:pt x="7292" y="14916"/>
                  <a:pt x="7441" y="14987"/>
                </a:cubicBezTo>
                <a:cubicBezTo>
                  <a:pt x="7487" y="15009"/>
                  <a:pt x="7508" y="15028"/>
                  <a:pt x="7538" y="15063"/>
                </a:cubicBezTo>
                <a:cubicBezTo>
                  <a:pt x="7502" y="15077"/>
                  <a:pt x="7471" y="15089"/>
                  <a:pt x="7428" y="15092"/>
                </a:cubicBezTo>
                <a:cubicBezTo>
                  <a:pt x="7319" y="15099"/>
                  <a:pt x="7211" y="15109"/>
                  <a:pt x="7102" y="15120"/>
                </a:cubicBezTo>
                <a:cubicBezTo>
                  <a:pt x="7044" y="15126"/>
                  <a:pt x="6987" y="15133"/>
                  <a:pt x="6930" y="15143"/>
                </a:cubicBezTo>
                <a:cubicBezTo>
                  <a:pt x="6914" y="15146"/>
                  <a:pt x="6897" y="15154"/>
                  <a:pt x="6886" y="15157"/>
                </a:cubicBezTo>
                <a:cubicBezTo>
                  <a:pt x="6922" y="15162"/>
                  <a:pt x="6957" y="15169"/>
                  <a:pt x="6993" y="15173"/>
                </a:cubicBezTo>
                <a:cubicBezTo>
                  <a:pt x="7125" y="15188"/>
                  <a:pt x="7258" y="15206"/>
                  <a:pt x="7389" y="15227"/>
                </a:cubicBezTo>
                <a:cubicBezTo>
                  <a:pt x="7417" y="15231"/>
                  <a:pt x="7445" y="15236"/>
                  <a:pt x="7473" y="15240"/>
                </a:cubicBezTo>
              </a:path>
            </a:pathLst>
          </a:custGeom>
          <a:noFill/>
          <a:ln cap="rnd"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19280" y="5373720"/>
            <a:ext cx="282600" cy="571320"/>
          </a:xfrm>
          <a:custGeom>
            <a:avLst/>
            <a:gdLst/>
            <a:ahLst/>
            <a:rect l="l" t="t" r="r" b="b"/>
            <a:pathLst>
              <a:path w="782" h="1587">
                <a:moveTo>
                  <a:pt x="16137" y="13804"/>
                </a:moveTo>
                <a:cubicBezTo>
                  <a:pt x="16129" y="13797"/>
                  <a:pt x="16126" y="13788"/>
                  <a:pt x="16117" y="13782"/>
                </a:cubicBezTo>
                <a:cubicBezTo>
                  <a:pt x="16100" y="13769"/>
                  <a:pt x="16064" y="13754"/>
                  <a:pt x="16055" y="13749"/>
                </a:cubicBezTo>
                <a:cubicBezTo>
                  <a:pt x="16108" y="13752"/>
                  <a:pt x="16159" y="13757"/>
                  <a:pt x="16212" y="13763"/>
                </a:cubicBezTo>
                <a:cubicBezTo>
                  <a:pt x="16324" y="13776"/>
                  <a:pt x="16430" y="13800"/>
                  <a:pt x="16538" y="13832"/>
                </a:cubicBezTo>
                <a:cubicBezTo>
                  <a:pt x="16600" y="13850"/>
                  <a:pt x="16631" y="13869"/>
                  <a:pt x="16679" y="13906"/>
                </a:cubicBezTo>
                <a:cubicBezTo>
                  <a:pt x="16652" y="13942"/>
                  <a:pt x="16652" y="13957"/>
                  <a:pt x="16598" y="13983"/>
                </a:cubicBezTo>
                <a:cubicBezTo>
                  <a:pt x="16442" y="14058"/>
                  <a:pt x="16239" y="14048"/>
                  <a:pt x="16072" y="14078"/>
                </a:cubicBezTo>
                <a:cubicBezTo>
                  <a:pt x="16051" y="14082"/>
                  <a:pt x="16032" y="14089"/>
                  <a:pt x="16013" y="14094"/>
                </a:cubicBezTo>
                <a:cubicBezTo>
                  <a:pt x="16063" y="14107"/>
                  <a:pt x="16116" y="14118"/>
                  <a:pt x="16169" y="14129"/>
                </a:cubicBezTo>
                <a:cubicBezTo>
                  <a:pt x="16282" y="14152"/>
                  <a:pt x="16390" y="14185"/>
                  <a:pt x="16498" y="14225"/>
                </a:cubicBezTo>
                <a:cubicBezTo>
                  <a:pt x="16547" y="14243"/>
                  <a:pt x="16606" y="14261"/>
                  <a:pt x="16638" y="14306"/>
                </a:cubicBezTo>
                <a:cubicBezTo>
                  <a:pt x="16644" y="14322"/>
                  <a:pt x="16647" y="14325"/>
                  <a:pt x="16644" y="14336"/>
                </a:cubicBezTo>
                <a:cubicBezTo>
                  <a:pt x="16611" y="14356"/>
                  <a:pt x="16584" y="14373"/>
                  <a:pt x="16545" y="14386"/>
                </a:cubicBezTo>
                <a:cubicBezTo>
                  <a:pt x="16474" y="14409"/>
                  <a:pt x="16404" y="14422"/>
                  <a:pt x="16331" y="14438"/>
                </a:cubicBezTo>
                <a:cubicBezTo>
                  <a:pt x="16196" y="14467"/>
                  <a:pt x="16025" y="14482"/>
                  <a:pt x="15906" y="14557"/>
                </a:cubicBezTo>
                <a:cubicBezTo>
                  <a:pt x="15904" y="14561"/>
                  <a:pt x="15901" y="14564"/>
                  <a:pt x="15899" y="14568"/>
                </a:cubicBezTo>
                <a:cubicBezTo>
                  <a:pt x="15936" y="14590"/>
                  <a:pt x="15966" y="14599"/>
                  <a:pt x="16013" y="14609"/>
                </a:cubicBezTo>
                <a:cubicBezTo>
                  <a:pt x="16176" y="14643"/>
                  <a:pt x="16477" y="14650"/>
                  <a:pt x="16600" y="14779"/>
                </a:cubicBezTo>
                <a:cubicBezTo>
                  <a:pt x="16621" y="14801"/>
                  <a:pt x="16609" y="14811"/>
                  <a:pt x="16618" y="14829"/>
                </a:cubicBezTo>
                <a:cubicBezTo>
                  <a:pt x="16589" y="14843"/>
                  <a:pt x="16567" y="14855"/>
                  <a:pt x="16534" y="14863"/>
                </a:cubicBezTo>
                <a:cubicBezTo>
                  <a:pt x="16363" y="14907"/>
                  <a:pt x="16183" y="14898"/>
                  <a:pt x="16015" y="14953"/>
                </a:cubicBezTo>
                <a:cubicBezTo>
                  <a:pt x="16044" y="14965"/>
                  <a:pt x="16070" y="14977"/>
                  <a:pt x="16109" y="14983"/>
                </a:cubicBezTo>
                <a:cubicBezTo>
                  <a:pt x="16227" y="15000"/>
                  <a:pt x="16346" y="15017"/>
                  <a:pt x="16463" y="15041"/>
                </a:cubicBezTo>
                <a:cubicBezTo>
                  <a:pt x="16529" y="15054"/>
                  <a:pt x="16583" y="15073"/>
                  <a:pt x="16644" y="15099"/>
                </a:cubicBezTo>
                <a:cubicBezTo>
                  <a:pt x="16635" y="15105"/>
                  <a:pt x="16626" y="15123"/>
                  <a:pt x="16593" y="15133"/>
                </a:cubicBezTo>
                <a:cubicBezTo>
                  <a:pt x="16540" y="15149"/>
                  <a:pt x="16480" y="15156"/>
                  <a:pt x="16426" y="15167"/>
                </a:cubicBezTo>
                <a:cubicBezTo>
                  <a:pt x="16350" y="15182"/>
                  <a:pt x="16262" y="15193"/>
                  <a:pt x="16191" y="15227"/>
                </a:cubicBezTo>
                <a:cubicBezTo>
                  <a:pt x="16190" y="15229"/>
                  <a:pt x="16189" y="15232"/>
                  <a:pt x="16188" y="15234"/>
                </a:cubicBezTo>
                <a:cubicBezTo>
                  <a:pt x="16225" y="15255"/>
                  <a:pt x="16256" y="15266"/>
                  <a:pt x="16299" y="15277"/>
                </a:cubicBezTo>
                <a:cubicBezTo>
                  <a:pt x="16387" y="15299"/>
                  <a:pt x="16478" y="15324"/>
                  <a:pt x="16568" y="15333"/>
                </a:cubicBezTo>
                <a:cubicBezTo>
                  <a:pt x="16592" y="15334"/>
                  <a:pt x="16616" y="15334"/>
                  <a:pt x="16640" y="15335"/>
                </a:cubicBezTo>
              </a:path>
            </a:pathLst>
          </a:custGeom>
          <a:noFill/>
          <a:ln cap="rnd"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4437000"/>
            <a:ext cx="358920" cy="504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5440" y="4437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Garamond"/>
              </a:rPr>
              <a:t>-Re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18160" y="5084640"/>
            <a:ext cx="358920" cy="50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89800" y="5157720"/>
            <a:ext cx="268200" cy="414360"/>
          </a:xfrm>
          <a:custGeom>
            <a:avLst/>
            <a:gdLst/>
            <a:ahLst/>
            <a:rect l="l" t="t" r="r" b="b"/>
            <a:pathLst>
              <a:path w="749" h="1153">
                <a:moveTo>
                  <a:pt x="7053" y="14091"/>
                </a:moveTo>
                <a:cubicBezTo>
                  <a:pt x="7052" y="14091"/>
                  <a:pt x="7046" y="14088"/>
                  <a:pt x="7042" y="14088"/>
                </a:cubicBezTo>
                <a:cubicBezTo>
                  <a:pt x="7035" y="14089"/>
                  <a:pt x="7030" y="14092"/>
                  <a:pt x="7024" y="14092"/>
                </a:cubicBezTo>
                <a:cubicBezTo>
                  <a:pt x="7025" y="14092"/>
                  <a:pt x="7021" y="14094"/>
                  <a:pt x="7021" y="14094"/>
                </a:cubicBezTo>
                <a:cubicBezTo>
                  <a:pt x="7024" y="14094"/>
                  <a:pt x="7020" y="14095"/>
                  <a:pt x="7023" y="14095"/>
                </a:cubicBezTo>
                <a:cubicBezTo>
                  <a:pt x="7025" y="14095"/>
                  <a:pt x="7021" y="14095"/>
                  <a:pt x="7024" y="14095"/>
                </a:cubicBezTo>
                <a:cubicBezTo>
                  <a:pt x="7027" y="14096"/>
                  <a:pt x="7029" y="14094"/>
                  <a:pt x="7032" y="14095"/>
                </a:cubicBezTo>
                <a:cubicBezTo>
                  <a:pt x="7048" y="14098"/>
                  <a:pt x="7065" y="14101"/>
                  <a:pt x="7081" y="14105"/>
                </a:cubicBezTo>
                <a:cubicBezTo>
                  <a:pt x="7127" y="14117"/>
                  <a:pt x="7174" y="14130"/>
                  <a:pt x="7219" y="14145"/>
                </a:cubicBezTo>
                <a:cubicBezTo>
                  <a:pt x="7278" y="14164"/>
                  <a:pt x="7337" y="14188"/>
                  <a:pt x="7392" y="14216"/>
                </a:cubicBezTo>
                <a:cubicBezTo>
                  <a:pt x="7462" y="14252"/>
                  <a:pt x="7526" y="14305"/>
                  <a:pt x="7585" y="14357"/>
                </a:cubicBezTo>
                <a:cubicBezTo>
                  <a:pt x="7590" y="14362"/>
                  <a:pt x="7592" y="14363"/>
                  <a:pt x="7594" y="14367"/>
                </a:cubicBezTo>
                <a:cubicBezTo>
                  <a:pt x="7584" y="14369"/>
                  <a:pt x="7576" y="14375"/>
                  <a:pt x="7562" y="14376"/>
                </a:cubicBezTo>
                <a:cubicBezTo>
                  <a:pt x="7507" y="14379"/>
                  <a:pt x="7450" y="14378"/>
                  <a:pt x="7395" y="14379"/>
                </a:cubicBezTo>
                <a:cubicBezTo>
                  <a:pt x="7260" y="14381"/>
                  <a:pt x="7122" y="14400"/>
                  <a:pt x="6993" y="14441"/>
                </a:cubicBezTo>
                <a:cubicBezTo>
                  <a:pt x="6960" y="14451"/>
                  <a:pt x="6938" y="14461"/>
                  <a:pt x="6916" y="14480"/>
                </a:cubicBezTo>
                <a:cubicBezTo>
                  <a:pt x="6916" y="14482"/>
                  <a:pt x="6917" y="14483"/>
                  <a:pt x="6917" y="14485"/>
                </a:cubicBezTo>
                <a:cubicBezTo>
                  <a:pt x="6934" y="14492"/>
                  <a:pt x="6948" y="14501"/>
                  <a:pt x="6966" y="14506"/>
                </a:cubicBezTo>
                <a:cubicBezTo>
                  <a:pt x="7020" y="14522"/>
                  <a:pt x="7076" y="14535"/>
                  <a:pt x="7130" y="14550"/>
                </a:cubicBezTo>
                <a:cubicBezTo>
                  <a:pt x="7281" y="14592"/>
                  <a:pt x="7443" y="14626"/>
                  <a:pt x="7585" y="14692"/>
                </a:cubicBezTo>
                <a:cubicBezTo>
                  <a:pt x="7601" y="14699"/>
                  <a:pt x="7610" y="14710"/>
                  <a:pt x="7621" y="14716"/>
                </a:cubicBezTo>
                <a:cubicBezTo>
                  <a:pt x="7597" y="14720"/>
                  <a:pt x="7574" y="14725"/>
                  <a:pt x="7549" y="14727"/>
                </a:cubicBezTo>
                <a:cubicBezTo>
                  <a:pt x="7472" y="14734"/>
                  <a:pt x="7396" y="14738"/>
                  <a:pt x="7319" y="14745"/>
                </a:cubicBezTo>
                <a:cubicBezTo>
                  <a:pt x="7238" y="14752"/>
                  <a:pt x="7156" y="14755"/>
                  <a:pt x="7075" y="14765"/>
                </a:cubicBezTo>
                <a:cubicBezTo>
                  <a:pt x="7020" y="14772"/>
                  <a:pt x="6951" y="14774"/>
                  <a:pt x="6899" y="14794"/>
                </a:cubicBezTo>
                <a:cubicBezTo>
                  <a:pt x="6882" y="14800"/>
                  <a:pt x="6878" y="14799"/>
                  <a:pt x="6873" y="14809"/>
                </a:cubicBezTo>
                <a:cubicBezTo>
                  <a:pt x="6905" y="14826"/>
                  <a:pt x="6930" y="14832"/>
                  <a:pt x="6968" y="14840"/>
                </a:cubicBezTo>
                <a:cubicBezTo>
                  <a:pt x="7129" y="14875"/>
                  <a:pt x="7292" y="14916"/>
                  <a:pt x="7441" y="14987"/>
                </a:cubicBezTo>
                <a:cubicBezTo>
                  <a:pt x="7487" y="15009"/>
                  <a:pt x="7508" y="15028"/>
                  <a:pt x="7538" y="15063"/>
                </a:cubicBezTo>
                <a:cubicBezTo>
                  <a:pt x="7502" y="15077"/>
                  <a:pt x="7471" y="15089"/>
                  <a:pt x="7428" y="15092"/>
                </a:cubicBezTo>
                <a:cubicBezTo>
                  <a:pt x="7319" y="15099"/>
                  <a:pt x="7211" y="15109"/>
                  <a:pt x="7102" y="15120"/>
                </a:cubicBezTo>
                <a:cubicBezTo>
                  <a:pt x="7044" y="15126"/>
                  <a:pt x="6987" y="15133"/>
                  <a:pt x="6930" y="15143"/>
                </a:cubicBezTo>
                <a:cubicBezTo>
                  <a:pt x="6914" y="15146"/>
                  <a:pt x="6897" y="15154"/>
                  <a:pt x="6886" y="15157"/>
                </a:cubicBezTo>
                <a:cubicBezTo>
                  <a:pt x="6922" y="15162"/>
                  <a:pt x="6957" y="15169"/>
                  <a:pt x="6993" y="15173"/>
                </a:cubicBezTo>
                <a:cubicBezTo>
                  <a:pt x="7125" y="15188"/>
                  <a:pt x="7258" y="15206"/>
                  <a:pt x="7389" y="15227"/>
                </a:cubicBezTo>
                <a:cubicBezTo>
                  <a:pt x="7417" y="15231"/>
                  <a:pt x="7445" y="15236"/>
                  <a:pt x="7473" y="15240"/>
                </a:cubicBezTo>
              </a:path>
            </a:pathLst>
          </a:custGeom>
          <a:noFill/>
          <a:ln cap="rnd"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34160" y="5157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Garamond"/>
              </a:rPr>
              <a:t>-Fuel exp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12430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Garamond"/>
              </a:rPr>
              <a:t>Rec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181944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Garamond"/>
              </a:rPr>
              <a:t>Fuel price volat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2133720"/>
            <a:ext cx="25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cc"/>
                </a:solidFill>
                <a:latin typeface="Garamond"/>
              </a:rPr>
              <a:t>(Graphs- fuel expense as a percentage of reven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050920" y="1339920"/>
            <a:ext cx="308160" cy="288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2050920" y="1916280"/>
            <a:ext cx="308160" cy="288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55640" y="4698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THE MAIN REASONS FOR THE CONTINENTAL FINANC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475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2565360"/>
            <a:ext cx="0" cy="647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1258920" y="1341360"/>
            <a:ext cx="6192720" cy="4808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475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74880" cy="936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55640" y="765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24000" y="3141720"/>
            <a:ext cx="107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60280"/>
            <a:ext cx="971640" cy="936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60280"/>
            <a:ext cx="9123480" cy="974880"/>
          </a:xfrm>
          <a:prstGeom prst="rect">
            <a:avLst/>
          </a:prstGeom>
          <a:solidFill>
            <a:srgbClr val="bbe0e3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64000" y="4698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FINANCIAL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>
            <a:alphaModFix amt="19000"/>
          </a:blip>
          <a:stretch/>
        </p:blipFill>
        <p:spPr>
          <a:xfrm>
            <a:off x="7380360" y="6386400"/>
            <a:ext cx="1763640" cy="4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324000" y="1919160"/>
          <a:ext cx="3095640" cy="1004760"/>
        </p:xfrm>
        <a:graphic>
          <a:graphicData uri="http://schemas.openxmlformats.org/drawingml/2006/table">
            <a:tbl>
              <a:tblPr/>
              <a:tblGrid>
                <a:gridCol w="593640"/>
                <a:gridCol w="1251000"/>
                <a:gridCol w="125100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4.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5.15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.0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1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.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98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.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0.99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2266920" y="36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Garamond"/>
              </a:rPr>
              <a:t>Profi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724360" y="1992240"/>
          <a:ext cx="3240360" cy="1004760"/>
        </p:xfrm>
        <a:graphic>
          <a:graphicData uri="http://schemas.openxmlformats.org/drawingml/2006/table">
            <a:tbl>
              <a:tblPr/>
              <a:tblGrid>
                <a:gridCol w="703440"/>
                <a:gridCol w="1198440"/>
                <a:gridCol w="1338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3.0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.79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3.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6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.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72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.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3.99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24000" y="5084640"/>
          <a:ext cx="3095640" cy="1008000"/>
        </p:xfrm>
        <a:graphic>
          <a:graphicData uri="http://schemas.openxmlformats.org/drawingml/2006/table">
            <a:tbl>
              <a:tblPr/>
              <a:tblGrid>
                <a:gridCol w="597960"/>
                <a:gridCol w="1248840"/>
                <a:gridCol w="1248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8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6.39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3.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3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6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.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42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.7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.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32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003640" y="5084640"/>
          <a:ext cx="3983040" cy="1030320"/>
        </p:xfrm>
        <a:graphic>
          <a:graphicData uri="http://schemas.openxmlformats.org/drawingml/2006/table">
            <a:tbl>
              <a:tblPr/>
              <a:tblGrid>
                <a:gridCol w="766800"/>
                <a:gridCol w="1608120"/>
                <a:gridCol w="1608120"/>
              </a:tblGrid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7.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4.89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476.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32.49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47.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3.16</a:t>
                      </a: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324000" y="1125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Operating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72360" y="1125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Net profi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42148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Return on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9440" y="422100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Return on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3276720" y="2923920"/>
            <a:ext cx="720720" cy="647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716360" y="2852280"/>
            <a:ext cx="863640" cy="792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131640" y="4221000"/>
            <a:ext cx="792360" cy="792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59280" y="4221000"/>
            <a:ext cx="790560" cy="648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2556000" y="4653000"/>
            <a:ext cx="426960" cy="380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8244000" y="4653000"/>
            <a:ext cx="426960" cy="380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2627280" y="1535040"/>
            <a:ext cx="426960" cy="381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8172360" y="1535040"/>
            <a:ext cx="426960" cy="381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250920" y="6308640"/>
            <a:ext cx="426960" cy="3812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68360" y="6308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Garamond"/>
              </a:rPr>
              <a:t>- United Air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32000" y="626112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Garamond"/>
              </a:rPr>
              <a:t>- Contin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1332000" y="4579920"/>
            <a:ext cx="323640" cy="433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0"/>
          <a:stretch/>
        </p:blipFill>
        <p:spPr>
          <a:xfrm>
            <a:off x="6659640" y="4581360"/>
            <a:ext cx="323640" cy="433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1"/>
          <a:stretch/>
        </p:blipFill>
        <p:spPr>
          <a:xfrm>
            <a:off x="1403280" y="1484280"/>
            <a:ext cx="324000" cy="433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2"/>
          <a:stretch/>
        </p:blipFill>
        <p:spPr>
          <a:xfrm>
            <a:off x="6877080" y="1484280"/>
            <a:ext cx="324000" cy="433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3"/>
          <a:stretch/>
        </p:blipFill>
        <p:spPr>
          <a:xfrm>
            <a:off x="3132000" y="6237360"/>
            <a:ext cx="324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1258920" y="1341360"/>
            <a:ext cx="6192720" cy="4808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475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74880" cy="93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55640" y="765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24000" y="3141720"/>
            <a:ext cx="107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60280"/>
            <a:ext cx="971640" cy="936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60280"/>
            <a:ext cx="9123480" cy="974880"/>
          </a:xfrm>
          <a:prstGeom prst="rect">
            <a:avLst/>
          </a:prstGeom>
          <a:solidFill>
            <a:srgbClr val="bbe0e3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0360" y="4698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FINANCIAL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>
            <a:alphaModFix amt="19000"/>
          </a:blip>
          <a:stretch/>
        </p:blipFill>
        <p:spPr>
          <a:xfrm>
            <a:off x="7380360" y="6386400"/>
            <a:ext cx="1763640" cy="471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284720" y="1773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Garamond"/>
              </a:rPr>
              <a:t>Liquidity</a:t>
            </a:r>
            <a:r>
              <a:rPr b="0" lang="pl-PL" sz="24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012000" y="4581360"/>
          <a:ext cx="2808000" cy="1082880"/>
        </p:xfrm>
        <a:graphic>
          <a:graphicData uri="http://schemas.openxmlformats.org/drawingml/2006/table">
            <a:tbl>
              <a:tblPr/>
              <a:tblGrid>
                <a:gridCol w="647640"/>
                <a:gridCol w="1028520"/>
                <a:gridCol w="1131840"/>
              </a:tblGrid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1.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0.7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0.9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0.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6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0.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0.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132000" y="3357720"/>
          <a:ext cx="3137040" cy="1004760"/>
        </p:xfrm>
        <a:graphic>
          <a:graphicData uri="http://schemas.openxmlformats.org/drawingml/2006/table">
            <a:tbl>
              <a:tblPr/>
              <a:tblGrid>
                <a:gridCol w="606600"/>
                <a:gridCol w="1265040"/>
                <a:gridCol w="12654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0.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0.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4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0.5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0.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0.</a:t>
                      </a: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6804000" y="3716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Current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62200" y="2565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Cash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252360" y="1773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Garamond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03280" y="2349360"/>
            <a:ext cx="0" cy="1366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932000" y="2349360"/>
            <a:ext cx="576360" cy="216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00720" y="2349360"/>
            <a:ext cx="1150920" cy="1079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0920" y="4797360"/>
          <a:ext cx="3136680" cy="1004760"/>
        </p:xfrm>
        <a:graphic>
          <a:graphicData uri="http://schemas.openxmlformats.org/drawingml/2006/table">
            <a:tbl>
              <a:tblPr/>
              <a:tblGrid>
                <a:gridCol w="606240"/>
                <a:gridCol w="1265400"/>
                <a:gridCol w="12650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4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5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42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2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cc"/>
                          </a:solidFill>
                          <a:latin typeface="Garamond"/>
                          <a:ea typeface="Times New Roman"/>
                        </a:rPr>
                        <a:t>4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250920" y="386064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Garamond"/>
              </a:rPr>
              <a:t>Basic earning per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1332000" y="4292640"/>
            <a:ext cx="323640" cy="433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4211640" y="2852640"/>
            <a:ext cx="324000" cy="433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6985080" y="4076640"/>
            <a:ext cx="323640" cy="433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2556000" y="4365720"/>
            <a:ext cx="42696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5364000" y="2924280"/>
            <a:ext cx="427320" cy="380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9"/>
          <a:stretch/>
        </p:blipFill>
        <p:spPr>
          <a:xfrm>
            <a:off x="8028000" y="4149720"/>
            <a:ext cx="426960" cy="380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0"/>
          <a:stretch/>
        </p:blipFill>
        <p:spPr>
          <a:xfrm>
            <a:off x="250920" y="6308640"/>
            <a:ext cx="426960" cy="381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68360" y="6308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Garamond"/>
              </a:rPr>
              <a:t>- United Air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626112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Garamond"/>
              </a:rPr>
              <a:t>- Contin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1"/>
          <a:stretch/>
        </p:blipFill>
        <p:spPr>
          <a:xfrm>
            <a:off x="3132000" y="6237360"/>
            <a:ext cx="324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8:49:08Z</dcterms:created>
  <dc:creator>Wojtek Solak</dc:creator>
  <dc:description/>
  <dc:language>en-US</dc:language>
  <cp:lastModifiedBy>Wojtek Solak</cp:lastModifiedBy>
  <dcterms:modified xsi:type="dcterms:W3CDTF">2010-11-21T14:42:31Z</dcterms:modified>
  <cp:revision>21</cp:revision>
  <dc:subject/>
  <dc:title>Slajd 1</dc:title>
</cp:coreProperties>
</file>