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3B1-FACB-4F58-9B0D-5561A696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4165-EC35-4FCF-9736-EB8E3BDD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91DF-B3A5-425C-9B60-0AFAD818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33A-C3F5-493F-A6EE-7E958933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9CD-4BE2-4111-A8E6-9DE68E3A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5AF1-42FE-4E60-A0DD-BF4FC937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AEC6-3ABE-42E1-BFDB-C5A813FA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1A36-697E-4F86-97C3-540C3A91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6CE9-907A-4892-910F-E2E8D0F4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9DC-B00E-4888-9CB7-77332692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049A-B9E1-4F49-8C80-E4A2C8C0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3D6B-D512-473F-9D90-D1BEC2B0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0015-EF24-44FE-96CF-847DF98B3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dnostki W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ydział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36232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ydział Ekonomii i Zarządz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ydział Handlu Zagraniczn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ydział Zarządzania w w Gospoda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wydziały" descr=""/>
          <p:cNvPicPr/>
          <p:nvPr/>
        </p:nvPicPr>
        <p:blipFill>
          <a:blip r:embed="rId1"/>
          <a:stretch/>
        </p:blipFill>
        <p:spPr>
          <a:xfrm>
            <a:off x="5562720" y="4495680"/>
            <a:ext cx="2674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8T08:20:38Z</dcterms:created>
  <dc:creator>Zachodniopomrska</dc:creator>
  <dc:description/>
  <dc:language>en-US</dc:language>
  <cp:lastModifiedBy>Mat</cp:lastModifiedBy>
  <dcterms:modified xsi:type="dcterms:W3CDTF">2002-05-28T22:00:12Z</dcterms:modified>
  <cp:revision>4</cp:revision>
  <dc:subject/>
  <dc:title>Jednostki WSH</dc:title>
</cp:coreProperties>
</file>