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7B4-84E2-4668-904C-B53132FF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9757-E37F-44FA-883B-10438573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5A3-B74B-4D8C-88BC-CC934F60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7FD8-754B-4AD4-8E78-70646807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664-FC21-4C08-91C0-7C94D319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D8EE-DEFA-4700-8DB5-FB961FCF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23B4-8D00-4EC0-A972-8CA13CAD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8499-C401-42F7-AEA7-9888589C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2364-1B72-4F9D-97D0-33EE0806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B83-5540-43FB-ABEF-0571E2AB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586-5153-417D-A3B8-E3D64A2C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D96-4F53-45EC-A116-237FD5BF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EC30-1FE5-4793-8E1C-FBBC424EE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jonalne kursy komputero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ziałalność firmy B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286000"/>
            <a:ext cx="83818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podstawowym działalności firmy BIOS zalicza si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kolenia informatyczne dla 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yczne przygotowanie nauczycie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ywidualne kursy komputerowe dla osób fizycz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edaż oprogramowania edukacyj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ktura organizacyjna firmy B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erta szkoleniow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rogramowanie komputerów (C/C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Grafika komputero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rojektowanie stron WW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ursy ECD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dstawy technik informatycznych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żytkowanie komputerów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zetwarzanie tekstów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Arkusze kalkulacyjn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Bazy danych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Grafika menedżerska i prezentecyjn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sługi w sieciach informatycznych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iele innych szkole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plecze technicz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57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pracowni komputer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zybkie łącza internet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ory multimedial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e klimatyzow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 na na terenie fir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king strzeż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zykładowy cennik usług (zł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38280" y="3657600"/>
            <a:ext cx="6400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ul. H.Gramowskiego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71-123 Szczec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tel. (91) 485-34-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ax (91) 485-34-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 firmy B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4T12:08:11Z</dcterms:created>
  <dc:creator>Mat</dc:creator>
  <dc:description/>
  <dc:language>en-US</dc:language>
  <cp:lastModifiedBy>Mat</cp:lastModifiedBy>
  <dcterms:modified xsi:type="dcterms:W3CDTF">2002-05-29T22:22:21Z</dcterms:modified>
  <cp:revision>15</cp:revision>
  <dc:subject/>
  <dc:title>Prezentacja programu PowerPoint</dc:title>
</cp:coreProperties>
</file>