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D10-4CC2-4DE1-87B4-6BB4410C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5C0-D888-4A0D-9828-D7A05410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CF8-9EA3-48D7-9828-3A2DC90B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870-7689-4883-B8F6-A038F963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F819-B4CA-4369-94CB-9E692350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C7D4-939D-4E71-B286-6613413F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99F2-4C12-4926-807D-5375553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E920-25BB-4426-A64B-FE955FF2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1C0F-B2A3-4542-9E95-69AEC4C5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20EA-9EBB-43E1-A488-5F841EC7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32E1-E2BA-4BD2-AFDB-512AC58B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8EB-A62E-49B4-98E2-137E64F6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F686-230B-4CF6-8F5C-DB02619F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99A0-03F6-4D6F-B8D7-B84EE9E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7F4A-E6D2-43BB-88BA-0BF39CA0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62E3-4C91-4D5E-B984-7B29158F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DFD4-C9D8-4219-9684-E59FF123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8D4-08C2-4750-862F-EFCC0153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2F6-0D98-4562-8F9F-DE51B0CD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97F-AE98-485D-9E35-A28E5550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14E-520C-497A-B31F-57F739AB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F9B-AED0-4F6C-89E3-5676F8F2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6D3-60DE-45AD-B1D1-B34B766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0A2-A7C2-4AE7-A073-05FF34B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D801-7C4F-4F91-BA12-BC85848E876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5649-D841-4770-ADB1-1702279E53E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CIA</a:t>
            </a: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	</a:t>
            </a: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Training Lt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A PowerPoint presenta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Presentation Agend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ffff"/>
                </a:solidFill>
                <a:latin typeface="Courier New"/>
              </a:rPr>
              <a:t>The Compan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ffff"/>
                </a:solidFill>
                <a:latin typeface="Courier New"/>
              </a:rPr>
              <a:t>The Peopl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ffff"/>
                </a:solidFill>
                <a:latin typeface="Courier New"/>
              </a:rPr>
              <a:t>The Produc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ffff"/>
                </a:solidFill>
                <a:latin typeface="Courier New"/>
              </a:rPr>
              <a:t>Sal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The Compan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8640" y="2063880"/>
          <a:ext cx="783252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063880"/>
                    <a:ext cx="783252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The Peopl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ff"/>
                </a:solidFill>
                <a:latin typeface="Courier New"/>
              </a:rPr>
              <a:t>Sales Staff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ff"/>
                </a:solidFill>
                <a:latin typeface="Courier New"/>
              </a:rPr>
              <a:t>Administration Staff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ff"/>
                </a:solidFill>
                <a:latin typeface="Courier New"/>
              </a:rPr>
              <a:t>Training Staff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Impact"/>
              </a:rPr>
              <a:t>The Produc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Open Learning Guid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Trainers Pack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Schools Edi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ECDL (European Computer Driving Licence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Training Cours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NVQ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10:23:36Z</dcterms:created>
  <dc:creator>Dana Lawson</dc:creator>
  <dc:description/>
  <dc:language>en-US</dc:language>
  <cp:lastModifiedBy>Jean Waldram</cp:lastModifiedBy>
  <dcterms:modified xsi:type="dcterms:W3CDTF">2003-01-17T14:56:52Z</dcterms:modified>
  <cp:revision>22</cp:revision>
  <dc:subject/>
  <dc:title>CIA Training Ltd</dc:title>
</cp:coreProperties>
</file>