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B355-FC06-4912-A22A-29EDDB36E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7D0C-E26F-4448-9C6E-8A0E59B0C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EDEF-0561-4C17-B46E-A5F2B4F57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4925-A4E1-4F82-B6F2-66893AC55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85DD6-7B3E-40F6-B072-BA92A0044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4F2C0-721C-4D96-A5B4-4723FBADE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8491A-7838-419D-A5BD-7DED0FFDB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ED08C-95C6-4B27-A5E1-B0E6A1725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245A6-5521-48C1-BFF1-78BEA942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B887E-A22C-4D56-92E5-8C5B20C46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8C6CA-AC5A-47A7-A8AD-289DF75A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3F89-4C26-4476-BF64-BCF7DA866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42802-F18F-4D62-8CDB-BB345007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194D8-52E4-44FD-B905-00B894F3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1DE1B-3EAD-4F1A-914A-C71CC29D5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A3AC2-A47C-4D8B-A802-3C4240D00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93B79-998C-442D-BFF0-13847F461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ED23-F93E-48B2-9B6F-796F921DD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0C05-86E3-42E9-8301-967217A79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4978-4D1F-4A75-98F0-899119F87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297F-A42A-4F12-BDAF-BB365274F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D358-C71E-4ACC-ACA3-91F1032D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54A5-0E36-46F7-B1BB-50A97159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DBAE-279F-4DE2-B53F-1C024314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B4144-FFD9-406C-89B4-98122F85421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0E024-E1AA-44F6-B753-0E68D90E597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2620800" y="2127240"/>
            <a:ext cx="3902400" cy="260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2620800" y="2127240"/>
            <a:ext cx="3902400" cy="260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2T11:08:15Z</dcterms:created>
  <dc:creator>Glen Millar</dc:creator>
  <dc:description>Copyright 2006 GMC</dc:description>
  <dc:language>en-US</dc:language>
  <cp:lastModifiedBy>Glen Millar</cp:lastModifiedBy>
  <dcterms:modified xsi:type="dcterms:W3CDTF">2006-02-22T12:16:21Z</dcterms:modified>
  <cp:revision>3</cp:revision>
  <dc:subject/>
  <dc:title>Mouse Over</dc:title>
</cp:coreProperties>
</file>