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A5A-F799-47BC-A881-BC2B9B7A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9E4-469C-4F64-B2C9-60C23D2C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5E7-48D1-46E5-8F14-1212D2D8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170-A182-4B3A-A5FF-BB8420E0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E64-57D5-4B12-A60D-059816E2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6462-00BC-40E6-B709-1A1A1283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406B-4CB3-406C-BE63-5B3FE8E1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A607-67F9-4630-9816-6092BA45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B6C2-097A-47F8-B3B8-A6D3B2DE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FD7C-5431-4FF8-ABB7-C47B9E11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0BD7-BBD0-40B9-BE7E-2AEB31E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920-05AC-463F-98A8-B579E9B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396A-6D8D-4A95-9A21-F1A2F78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9114-8DFB-4D24-9BD4-FAA812C7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B461-F79C-4527-BC31-94773F68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FF2D-3478-4B1B-B8CA-A14ADFD9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CFB-46C5-4438-9B90-989D943F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956-9EAF-42FD-9879-6082A02C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BA6-5E63-4E2A-8DF3-068925B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CFD-C3FE-4836-99DC-0A6DC3A9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B73-9A25-4005-8677-9F194571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800-5247-466F-A121-CB17851F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B7C-03DD-4B7A-B8BC-00660DFA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8FE-91BA-4E3D-A102-AE9B6C1F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1181-7384-4EB6-8BD7-4FED796A09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5C52-16E7-4A66-9CB9-9B31D651BD5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Times New Roman"/>
              </a:rPr>
              <a:t>Grosvenor Roo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Scheduled for 12 noon shar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Coffee served after meeting at 3 p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Dinner served at 8 p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Times New Roman"/>
              </a:rPr>
              <a:t>Chairmans speech at 10:30 p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Times New Roman"/>
              </a:rPr>
              <a:t>Avagon Boar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52760" y="2104920"/>
          <a:ext cx="581004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2104920"/>
                    <a:ext cx="581004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cc00"/>
                </a:solidFill>
                <a:latin typeface="Times New Roman"/>
              </a:rPr>
              <a:t>Net Profit v Revenu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4:49:21Z</dcterms:created>
  <dc:creator>Administrator</dc:creator>
  <dc:description/>
  <dc:language>en-US</dc:language>
  <cp:lastModifiedBy>  </cp:lastModifiedBy>
  <dcterms:modified xsi:type="dcterms:W3CDTF">2003-07-14T16:43:57Z</dcterms:modified>
  <cp:revision>20</cp:revision>
  <dc:subject/>
  <dc:title>PowerPoint Presentation</dc:title>
</cp:coreProperties>
</file>