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FE4-D600-4958-8446-32271102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D3C-052D-4B18-B1EF-3F672B85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AB3-77ED-49B1-AD8D-C9554B81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771-DFD3-44F8-9968-0B4A63F9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5062-D555-43E1-BF4A-7ABDC144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903-E9F4-4B3F-ACCC-A601C441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DB4F-CE07-46E6-95E5-445F8B78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789-C6B3-4F12-A09F-5F73FB81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94E-8F39-4F17-B002-FCF9A801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5DB-7B62-4EE5-B729-292A4564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48B-01D2-49A2-95CD-8D753964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B0E-D7B7-4DA4-9BA7-97AC1FCC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1647-AF76-4011-9B6F-920B9B596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Światłow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kterysty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438280"/>
            <a:ext cx="7391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Światłowód, to falowód służący do przesyłania promieniowania świetlnego. Pierwotnie miał postać metalowych rurek o wypolerowanych ściankach, służących do przesyłania promieniowania podczerwo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ecnie w formie włókien dielektrycznych - najczęściej szklanych, z otuliną z tworzywa sztucznego, charakteryzującego się mniejszym współczynnikiem załamania światła niż wartość tego współczynnika dla szkł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ktura organizacyjna producenta  - LASER S.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384200" y="2155680"/>
          <a:ext cx="637560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2155680"/>
                    <a:ext cx="637560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5T21:57:18Z</dcterms:created>
  <dc:creator>Mat</dc:creator>
  <dc:description/>
  <dc:language>en-US</dc:language>
  <cp:lastModifiedBy>Mat</cp:lastModifiedBy>
  <dcterms:modified xsi:type="dcterms:W3CDTF">2002-05-29T21:44:45Z</dcterms:modified>
  <cp:revision>8</cp:revision>
  <dc:subject/>
  <dc:title>Prezentacja programu PowerPoint</dc:title>
</cp:coreProperties>
</file>