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282-373F-44F4-864D-28E6F31E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790-FFA2-493E-918B-0716B7A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EBA-6279-4305-BAFE-95ADEB22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EB6-CA1E-47A3-800C-991C6825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7C2-488F-4B3A-A8C0-5686D123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C23-A8FC-4EE2-B0A7-56592D6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F84-B6FB-463B-8FBC-9974399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097-4DC3-46C2-9DE6-A0FACD5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DDC-4790-4D95-BCE9-3550883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F4B-13A2-4ACB-A862-6C91770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2D9-2044-4927-B9CF-516B8B0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E63-5EB3-48DC-AFB1-8B02104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3E95-CBA6-4C2F-A4E4-8D5EA71DD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uro nieruchom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S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fir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irma EKSPERT działa na rynku ogólnopolskim od 1.01.1990 roku i posiada licencję zawodową w zakresie pośrednidztwa w obrocie nieruchomości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ponujemy kompleksową obslugę w zakresie kupna, sprzedaży, wynajmu, dzierżawy wszelkich nieruchomoś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ruktura fir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eszk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ek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ział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eprowadz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dziba główna biura EKS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l. Nadmorska 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80-900 Gdań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el. (58)  647-45-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x (58) 647-46-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9:19:16Z</dcterms:created>
  <dc:creator>Zachodniopomrska</dc:creator>
  <dc:description/>
  <dc:language>en-US</dc:language>
  <cp:lastModifiedBy>Mat</cp:lastModifiedBy>
  <dcterms:modified xsi:type="dcterms:W3CDTF">2002-05-29T20:51:58Z</dcterms:modified>
  <cp:revision>5</cp:revision>
  <dc:subject/>
  <dc:title>Biuro nieruchomości</dc:title>
</cp:coreProperties>
</file>