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1D4-BCB8-4CA3-9268-B53B3429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F0A-9D6C-4285-B87A-E9A9366F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608-A605-4F4F-8CD3-D901D0B8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7AC-9247-406A-AADA-DFB524E9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428-878E-470A-B72B-19307FD6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B66-3837-4967-88C4-CFB26E54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D2E-3D00-48BD-99C3-E15976D4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47F5-8237-4EDA-8590-0CBB4B64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231-8832-4D6F-9E80-F7023C94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57F-95F9-4065-8A6E-8E269F9A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C31-CA27-414E-9C35-6E293732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1DB-B7B3-450C-BE33-F8102C58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C045-0CE7-45B3-BA0B-425BDAA6B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uro EKSP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erta - d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erta nr 1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743200"/>
            <a:ext cx="8153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ży dom pod la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pok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kuch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łazien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0 m2 powierzch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dom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42861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erta nr 2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327672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 na w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ożony wśród pól i las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hektaró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łazienki pola wokół 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pok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ynek gospodarc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hata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09:28:51Z</dcterms:created>
  <dc:creator>Zachodniopomrska</dc:creator>
  <dc:description/>
  <dc:language>en-US</dc:language>
  <cp:lastModifiedBy>Zachodniopomrska</cp:lastModifiedBy>
  <dcterms:modified xsi:type="dcterms:W3CDTF">2003-09-28T09:41:14Z</dcterms:modified>
  <cp:revision>5</cp:revision>
  <dc:subject/>
  <dc:title>Biuro EKSPERT</dc:title>
</cp:coreProperties>
</file>