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Neuropo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402408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de-DE" sz="13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1682363-CECA-4768-B92A-9251E28E0403}" type="slidenum">
              <a:rPr b="0" lang="de-DE" sz="13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BB261E3-40F8-47A6-AA29-94E73FA92233}" type="slidenum">
              <a:rPr b="0" lang="de-DE" sz="13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3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E3235E5-DC1D-480E-8F82-EA1506A61A52}" type="slidenum">
              <a:rPr b="0" lang="de-DE" sz="13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3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DEFAB74-7D85-4A00-AA44-F861B0006E9F}" type="slidenum">
              <a:rPr b="0" lang="de-DE" sz="13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3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52FAA70-6C45-4491-8B08-1E411FBA335E}" type="slidenum">
              <a:rPr b="0" lang="de-DE" sz="13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3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35AD5B4-CB7C-4406-8FF6-8A1A98C87903}" type="slidenum">
              <a:rPr b="0" lang="de-DE" sz="13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3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FF884B0-3AD2-40C6-A6F3-FC89D08CEA55}" type="slidenum">
              <a:rPr b="0" lang="de-DE" sz="13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3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44EFDD0-AECC-4C12-AA1F-77A9ECA9449C}" type="slidenum">
              <a:rPr b="0" lang="de-DE" sz="13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3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83FBC2E-23B0-42D7-81C9-4B083C4FD77F}" type="slidenum">
              <a:rPr b="0" lang="en-GB" sz="13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3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Unicode MS"/>
              </a:rPr>
              <a:t>Faktor ohne Wochengewichtung: Anzahl verkaufter Artikel / Umsatz in Micros Fixed Period (hier am Beispiel der Periode 51)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8ED348F-10D7-42C9-B8B1-260687C366CD}" type="slidenum">
              <a:rPr b="0" lang="de-DE" sz="13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3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EE94D11-F18C-4B2E-AD18-A6A9222F33F5}" type="slidenum">
              <a:rPr b="0" lang="de-DE" sz="13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3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84297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0360" y="3800880"/>
            <a:ext cx="84297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13940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0360" y="380088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0088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27140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0480" y="1139400"/>
            <a:ext cx="27140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0600" y="1139400"/>
            <a:ext cx="27140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0360" y="3800880"/>
            <a:ext cx="27140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0480" y="3800880"/>
            <a:ext cx="27140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0600" y="3800880"/>
            <a:ext cx="27140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41133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640" y="1139400"/>
            <a:ext cx="41133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8760" y="64800"/>
            <a:ext cx="833112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640" y="1139400"/>
            <a:ext cx="41133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0360" y="380088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41133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640" y="113940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9640" y="380088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640" y="113940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0360" y="3800880"/>
            <a:ext cx="84297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84297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0360" y="3800880"/>
            <a:ext cx="84297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9640" y="113940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60360" y="380088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9640" y="380088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27140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0480" y="1139400"/>
            <a:ext cx="27140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0600" y="1139400"/>
            <a:ext cx="27140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60360" y="3800880"/>
            <a:ext cx="27140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0480" y="3800880"/>
            <a:ext cx="27140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0600" y="3800880"/>
            <a:ext cx="27140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41133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139400"/>
            <a:ext cx="41133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760" y="64800"/>
            <a:ext cx="833112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139400"/>
            <a:ext cx="41133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0360" y="380088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41133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13940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0088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360" y="113940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139400"/>
            <a:ext cx="4113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0360" y="3800880"/>
            <a:ext cx="84297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kumente und Einstellungen\ijh\Desktop\Layout Micros\head_optimiert.jpg"/>
          <p:cNvPicPr/>
          <p:nvPr/>
        </p:nvPicPr>
        <p:blipFill>
          <a:blip r:embed="rId2"/>
          <a:stretch/>
        </p:blipFill>
        <p:spPr>
          <a:xfrm>
            <a:off x="0" y="0"/>
            <a:ext cx="9204480" cy="939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Neuropo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66760" indent="-266760">
              <a:spcBef>
                <a:spcPts val="700"/>
              </a:spcBef>
              <a:buClr>
                <a:srgbClr val="6f89b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1" marL="514440" indent="-246240">
              <a:spcBef>
                <a:spcPts val="700"/>
              </a:spcBef>
              <a:buClr>
                <a:srgbClr val="6f89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2" marL="704880" indent="-189000">
              <a:spcBef>
                <a:spcPts val="700"/>
              </a:spcBef>
              <a:buClr>
                <a:srgbClr val="6f89bd"/>
              </a:buClr>
              <a:buSzPct val="90000"/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3" marL="162072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3" name="Line 43"/>
          <p:cNvSpPr/>
          <p:nvPr/>
        </p:nvSpPr>
        <p:spPr>
          <a:xfrm>
            <a:off x="-1440" y="949320"/>
            <a:ext cx="9146880" cy="0"/>
          </a:xfrm>
          <a:prstGeom prst="line">
            <a:avLst/>
          </a:prstGeom>
          <a:ln w="28440">
            <a:solidFill>
              <a:srgbClr val="a8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4" name="Line 48"/>
          <p:cNvSpPr/>
          <p:nvPr/>
        </p:nvSpPr>
        <p:spPr>
          <a:xfrm>
            <a:off x="12600" y="6424560"/>
            <a:ext cx="9088560" cy="0"/>
          </a:xfrm>
          <a:prstGeom prst="line">
            <a:avLst/>
          </a:prstGeom>
          <a:ln w="12600">
            <a:solidFill>
              <a:srgbClr val="a8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  <p:pic>
        <p:nvPicPr>
          <p:cNvPr id="5" name="Picture 22" descr="C:\Dokumente und Einstellungen\ijh\Desktop\Layout Micros\footer.jpg"/>
          <p:cNvPicPr/>
          <p:nvPr/>
        </p:nvPicPr>
        <p:blipFill>
          <a:blip r:embed="rId3"/>
          <a:stretch/>
        </p:blipFill>
        <p:spPr>
          <a:xfrm>
            <a:off x="-1440" y="6416640"/>
            <a:ext cx="9144000" cy="441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MICROS-STRATEGIC ACCOUNTS1200pxl.bmp"/>
          <p:cNvPicPr/>
          <p:nvPr/>
        </p:nvPicPr>
        <p:blipFill>
          <a:blip r:embed="rId4"/>
          <a:stretch/>
        </p:blipFill>
        <p:spPr>
          <a:xfrm>
            <a:off x="6772320" y="6421320"/>
            <a:ext cx="228600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C:\Dokumente und Einstellungen\ijh\Desktop\Layout Micros\head_optimiert.jpg"/>
          <p:cNvPicPr/>
          <p:nvPr/>
        </p:nvPicPr>
        <p:blipFill>
          <a:blip r:embed="rId2"/>
          <a:stretch/>
        </p:blipFill>
        <p:spPr>
          <a:xfrm>
            <a:off x="0" y="0"/>
            <a:ext cx="9204480" cy="939960"/>
          </a:xfrm>
          <a:prstGeom prst="rect">
            <a:avLst/>
          </a:prstGeom>
          <a:ln w="0">
            <a:noFill/>
          </a:ln>
        </p:spPr>
      </p:pic>
      <p:sp>
        <p:nvSpPr>
          <p:cNvPr id="44" name="Line 43"/>
          <p:cNvSpPr/>
          <p:nvPr/>
        </p:nvSpPr>
        <p:spPr>
          <a:xfrm>
            <a:off x="-1440" y="949320"/>
            <a:ext cx="9146880" cy="0"/>
          </a:xfrm>
          <a:prstGeom prst="line">
            <a:avLst/>
          </a:prstGeom>
          <a:ln w="28440">
            <a:solidFill>
              <a:srgbClr val="a8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45" name="Line 48"/>
          <p:cNvSpPr/>
          <p:nvPr/>
        </p:nvSpPr>
        <p:spPr>
          <a:xfrm>
            <a:off x="12600" y="6424560"/>
            <a:ext cx="9088560" cy="0"/>
          </a:xfrm>
          <a:prstGeom prst="line">
            <a:avLst/>
          </a:prstGeom>
          <a:ln w="12600">
            <a:solidFill>
              <a:srgbClr val="a8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  <p:pic>
        <p:nvPicPr>
          <p:cNvPr id="46" name="Picture 22" descr="C:\Dokumente und Einstellungen\ijh\Desktop\Layout Micros\footer.jpg"/>
          <p:cNvPicPr/>
          <p:nvPr/>
        </p:nvPicPr>
        <p:blipFill>
          <a:blip r:embed="rId3"/>
          <a:stretch/>
        </p:blipFill>
        <p:spPr>
          <a:xfrm>
            <a:off x="-1440" y="6416640"/>
            <a:ext cx="9144000" cy="441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MICROS-STRATEGIC ACCOUNTS1200pxl.bmp"/>
          <p:cNvPicPr/>
          <p:nvPr/>
        </p:nvPicPr>
        <p:blipFill>
          <a:blip r:embed="rId4"/>
          <a:stretch/>
        </p:blipFill>
        <p:spPr>
          <a:xfrm>
            <a:off x="6772320" y="6421320"/>
            <a:ext cx="2286000" cy="360360"/>
          </a:xfrm>
          <a:prstGeom prst="rect">
            <a:avLst/>
          </a:prstGeom>
          <a:ln w="0">
            <a:noFill/>
          </a:ln>
        </p:spPr>
      </p:pic>
      <p:sp>
        <p:nvSpPr>
          <p:cNvPr id="48" name="Rechteck 8"/>
          <p:cNvSpPr/>
          <p:nvPr/>
        </p:nvSpPr>
        <p:spPr>
          <a:xfrm>
            <a:off x="1440" y="0"/>
            <a:ext cx="9144000" cy="9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  <p:pic>
        <p:nvPicPr>
          <p:cNvPr id="49" name="Picture 9" descr="C:\Dokumente und Einstellungen\ijh\Desktop\Layout Micros\hintergrund-optimiert.jpg"/>
          <p:cNvPicPr/>
          <p:nvPr/>
        </p:nvPicPr>
        <p:blipFill>
          <a:blip r:embed="rId5"/>
          <a:stretch/>
        </p:blipFill>
        <p:spPr>
          <a:xfrm>
            <a:off x="1440" y="960480"/>
            <a:ext cx="9144000" cy="5475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kumente und Einstellungen\ijh\Desktop\Layout Micros\footer_optimiert.jpg"/>
          <p:cNvPicPr/>
          <p:nvPr/>
        </p:nvPicPr>
        <p:blipFill>
          <a:blip r:embed="rId6"/>
          <a:stretch/>
        </p:blipFill>
        <p:spPr>
          <a:xfrm>
            <a:off x="0" y="6311880"/>
            <a:ext cx="9158400" cy="550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MICROS-STRATEGIC ACCOUNTS1200pxl.bmp"/>
          <p:cNvPicPr/>
          <p:nvPr/>
        </p:nvPicPr>
        <p:blipFill>
          <a:blip r:embed="rId7"/>
          <a:stretch/>
        </p:blipFill>
        <p:spPr>
          <a:xfrm>
            <a:off x="200160" y="131760"/>
            <a:ext cx="365760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64800"/>
            <a:ext cx="83311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Neuropo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66760" indent="-266760">
              <a:spcBef>
                <a:spcPts val="700"/>
              </a:spcBef>
              <a:buClr>
                <a:srgbClr val="6f89b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1" marL="514440" indent="-246240">
              <a:spcBef>
                <a:spcPts val="700"/>
              </a:spcBef>
              <a:buClr>
                <a:srgbClr val="6f89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2" marL="704880" indent="-189000">
              <a:spcBef>
                <a:spcPts val="700"/>
              </a:spcBef>
              <a:buClr>
                <a:srgbClr val="6f89bd"/>
              </a:buClr>
              <a:buSzPct val="90000"/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3" marL="162072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5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7600" y="2004840"/>
            <a:ext cx="76406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Neuropol"/>
              </a:rPr>
              <a:t>MPnC</a:t>
            </a:r>
            <a:br>
              <a:rPr sz="2800"/>
            </a:br>
            <a:endParaRPr b="0" lang="en-US" sz="96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7600" y="3875040"/>
            <a:ext cx="76456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Neuropol"/>
              </a:rPr>
              <a:t>M</a:t>
            </a:r>
            <a:r>
              <a:rPr b="1" lang="en-GB" sz="4800" spc="-1" strike="noStrike">
                <a:solidFill>
                  <a:srgbClr val="ffffff"/>
                </a:solidFill>
                <a:latin typeface="Neuropol"/>
              </a:rPr>
              <a:t>anagement </a:t>
            </a:r>
            <a:r>
              <a:rPr b="1" lang="en-GB" sz="4800" spc="-1" strike="noStrike">
                <a:solidFill>
                  <a:srgbClr val="ff0000"/>
                </a:solidFill>
                <a:latin typeface="Neuropol"/>
              </a:rPr>
              <a:t>P</a:t>
            </a:r>
            <a:r>
              <a:rPr b="1" lang="en-GB" sz="4800" spc="-1" strike="noStrike">
                <a:solidFill>
                  <a:srgbClr val="ffffff"/>
                </a:solidFill>
                <a:latin typeface="Neuropol"/>
              </a:rPr>
              <a:t>rojection a</a:t>
            </a:r>
            <a:r>
              <a:rPr b="1" lang="en-GB" sz="4800" spc="-1" strike="noStrike">
                <a:solidFill>
                  <a:srgbClr val="ff0000"/>
                </a:solidFill>
                <a:latin typeface="Neuropol"/>
              </a:rPr>
              <a:t>n</a:t>
            </a:r>
            <a:r>
              <a:rPr b="1" lang="en-GB" sz="4800" spc="-1" strike="noStrike">
                <a:solidFill>
                  <a:srgbClr val="ffffff"/>
                </a:solidFill>
                <a:latin typeface="Neuropol"/>
              </a:rPr>
              <a:t>d </a:t>
            </a:r>
            <a:r>
              <a:rPr b="1" lang="en-GB" sz="4800" spc="-1" strike="noStrike">
                <a:solidFill>
                  <a:srgbClr val="ff0000"/>
                </a:solidFill>
                <a:latin typeface="Neuropol"/>
              </a:rPr>
              <a:t>C</a:t>
            </a:r>
            <a:r>
              <a:rPr b="1" lang="en-GB" sz="4800" spc="-1" strike="noStrike">
                <a:solidFill>
                  <a:srgbClr val="ffffff"/>
                </a:solidFill>
                <a:latin typeface="Neuropol"/>
              </a:rPr>
              <a:t>ontrol</a:t>
            </a:r>
            <a:endParaRPr b="0" lang="en-US" sz="4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360" y="17316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working method – 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Neuropol"/>
              </a:rPr>
              <a:t>PROJECTION</a:t>
            </a:r>
            <a:endParaRPr b="0" lang="en-US" sz="28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360360" y="1139760"/>
            <a:ext cx="8429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Projection is the calculation of the combination of historical totales and the entered forecast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638360" y="1779480"/>
            <a:ext cx="5857920" cy="4507200"/>
          </a:xfrm>
          <a:prstGeom prst="rect">
            <a:avLst/>
          </a:prstGeom>
          <a:ln w="0">
            <a:noFill/>
          </a:ln>
        </p:spPr>
      </p:pic>
      <p:sp>
        <p:nvSpPr>
          <p:cNvPr id="126" name="Rounded Rectangle 6"/>
          <p:cNvSpPr/>
          <p:nvPr/>
        </p:nvSpPr>
        <p:spPr>
          <a:xfrm>
            <a:off x="1638360" y="2562120"/>
            <a:ext cx="2876400" cy="209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360" y="17316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working method– 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Neuropol"/>
              </a:rPr>
              <a:t> determination of requirements</a:t>
            </a:r>
            <a:endParaRPr b="0" lang="en-US" sz="28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28" name="Content Placeholder 2"/>
          <p:cNvSpPr/>
          <p:nvPr/>
        </p:nvSpPr>
        <p:spPr>
          <a:xfrm>
            <a:off x="360360" y="1139760"/>
            <a:ext cx="8429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OnExample of ORIGINAL chicken pieces: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Hold Time in 15 min for Orginal 4 = 1 hour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6000" y="2619360"/>
          <a:ext cx="7945560" cy="2428920"/>
        </p:xfrm>
        <a:graphic>
          <a:graphicData uri="http://schemas.openxmlformats.org/drawingml/2006/table">
            <a:tbl>
              <a:tblPr/>
              <a:tblGrid>
                <a:gridCol w="2163960"/>
                <a:gridCol w="714240"/>
                <a:gridCol w="714600"/>
                <a:gridCol w="752400"/>
                <a:gridCol w="704880"/>
                <a:gridCol w="723960"/>
                <a:gridCol w="704520"/>
                <a:gridCol w="752760"/>
                <a:gridCol w="714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INAL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:30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:00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:30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:00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forecast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displayed forecast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required Stock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86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86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86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86492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displayed determination of requirements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6:00 – 16:1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6:15 – 17:00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864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864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581960" y="1139760"/>
            <a:ext cx="1324080" cy="1257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7581960" y="5081760"/>
            <a:ext cx="128592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360" y="17316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working method– 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Neuropol"/>
              </a:rPr>
              <a:t>current stock</a:t>
            </a:r>
            <a:endParaRPr b="0" lang="en-US" sz="28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360360" y="1139760"/>
            <a:ext cx="8429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produced pieces – sold items (pieces) – wasted pieces since start of business day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- Independend from forecast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638360" y="1779480"/>
            <a:ext cx="5857920" cy="45072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4"/>
          <p:cNvSpPr/>
          <p:nvPr/>
        </p:nvSpPr>
        <p:spPr>
          <a:xfrm>
            <a:off x="1638360" y="2695680"/>
            <a:ext cx="2876400" cy="209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0360" y="17316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working method – 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Neuropol"/>
              </a:rPr>
              <a:t>to cook</a:t>
            </a:r>
            <a:endParaRPr b="0" lang="en-US" sz="28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360360" y="1139760"/>
            <a:ext cx="8429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REQUIRED STOCK – CURRENT STOCK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The calculation sample below assuming no sales and no waste.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61920" y="2509920"/>
          <a:ext cx="2181240" cy="1112760"/>
        </p:xfrm>
        <a:graphic>
          <a:graphicData uri="http://schemas.openxmlformats.org/drawingml/2006/table">
            <a:tbl>
              <a:tblPr/>
              <a:tblGrid>
                <a:gridCol w="1586160"/>
                <a:gridCol w="59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REQUIRED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eb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d5da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TO COOK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eb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61920" y="3814920"/>
          <a:ext cx="4467240" cy="1112760"/>
        </p:xfrm>
        <a:graphic>
          <a:graphicData uri="http://schemas.openxmlformats.org/drawingml/2006/table">
            <a:tbl>
              <a:tblPr/>
              <a:tblGrid>
                <a:gridCol w="1609920"/>
                <a:gridCol w="2857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REQUIRED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  </a:t>
                      </a: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eb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  </a:t>
                      </a: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d5da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TO COOK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3 (2)   </a:t>
                      </a: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 2 pc. in Fryer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eb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981000" y="5138640"/>
          <a:ext cx="2181240" cy="1112760"/>
        </p:xfrm>
        <a:graphic>
          <a:graphicData uri="http://schemas.openxmlformats.org/drawingml/2006/table">
            <a:tbl>
              <a:tblPr/>
              <a:tblGrid>
                <a:gridCol w="1586160"/>
                <a:gridCol w="59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REQUIRED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eb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d5da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TO COOK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f89bd"/>
                      </a:solidFill>
                    </a:lnL>
                    <a:lnR w="5760">
                      <a:solidFill>
                        <a:srgbClr val="6f89bd"/>
                      </a:solidFill>
                    </a:lnR>
                    <a:lnT w="5760">
                      <a:solidFill>
                        <a:srgbClr val="6f89bd"/>
                      </a:solidFill>
                    </a:lnT>
                    <a:lnB w="5760">
                      <a:solidFill>
                        <a:srgbClr val="6f89bd"/>
                      </a:solidFill>
                    </a:lnB>
                    <a:solidFill>
                      <a:srgbClr val="eb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0360" y="17316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working method – 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Neuropol"/>
              </a:rPr>
              <a:t>sold</a:t>
            </a:r>
            <a:endParaRPr b="0" lang="en-US" sz="28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42" name="Content Placeholder 2"/>
          <p:cNvSpPr/>
          <p:nvPr/>
        </p:nvSpPr>
        <p:spPr>
          <a:xfrm>
            <a:off x="360360" y="1139760"/>
            <a:ext cx="8429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Sales on point of sales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638360" y="1779480"/>
            <a:ext cx="5857920" cy="4507200"/>
          </a:xfrm>
          <a:prstGeom prst="rect">
            <a:avLst/>
          </a:prstGeom>
          <a:ln w="0">
            <a:noFill/>
          </a:ln>
        </p:spPr>
      </p:pic>
      <p:sp>
        <p:nvSpPr>
          <p:cNvPr id="144" name="Rounded Rectangle 4"/>
          <p:cNvSpPr/>
          <p:nvPr/>
        </p:nvSpPr>
        <p:spPr>
          <a:xfrm>
            <a:off x="1638360" y="5743440"/>
            <a:ext cx="2876400" cy="209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0360" y="17316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working method – 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Neuropol"/>
              </a:rPr>
              <a:t>waste</a:t>
            </a:r>
            <a:endParaRPr b="0" lang="en-US" sz="28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360360" y="1139760"/>
            <a:ext cx="8429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entered waste via POS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638360" y="1779480"/>
            <a:ext cx="5857920" cy="4507200"/>
          </a:xfrm>
          <a:prstGeom prst="rect">
            <a:avLst/>
          </a:prstGeom>
          <a:ln w="0">
            <a:noFill/>
          </a:ln>
        </p:spPr>
      </p:pic>
      <p:sp>
        <p:nvSpPr>
          <p:cNvPr id="148" name="Rounded Rectangle 4"/>
          <p:cNvSpPr/>
          <p:nvPr/>
        </p:nvSpPr>
        <p:spPr>
          <a:xfrm>
            <a:off x="1638360" y="3314880"/>
            <a:ext cx="2876400" cy="209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0360" y="17316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working method – 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Neuropol"/>
              </a:rPr>
              <a:t>VARIANCE</a:t>
            </a:r>
            <a:endParaRPr b="0" lang="en-US" sz="28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50" name="Content Placeholder 2"/>
          <p:cNvSpPr/>
          <p:nvPr/>
        </p:nvSpPr>
        <p:spPr>
          <a:xfrm>
            <a:off x="360360" y="1139760"/>
            <a:ext cx="8429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PROJECTION – SALES (Waste is excluded)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638360" y="1779480"/>
            <a:ext cx="5857920" cy="4507200"/>
          </a:xfrm>
          <a:prstGeom prst="rect">
            <a:avLst/>
          </a:prstGeom>
          <a:ln w="0">
            <a:noFill/>
          </a:ln>
        </p:spPr>
      </p:pic>
      <p:sp>
        <p:nvSpPr>
          <p:cNvPr id="152" name="Rounded Rectangle 4"/>
          <p:cNvSpPr/>
          <p:nvPr/>
        </p:nvSpPr>
        <p:spPr>
          <a:xfrm>
            <a:off x="1638360" y="3438360"/>
            <a:ext cx="2876400" cy="209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0360" y="1116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handling</a:t>
            </a: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report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dynamic MPNC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auto dynamic MPnC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hints:</a:t>
            </a: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	</a:t>
            </a:r>
            <a:br>
              <a:rPr sz="2800"/>
            </a:b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- realtime ordering of employee meals and waste</a:t>
            </a:r>
            <a:br>
              <a:rPr sz="2800"/>
            </a:b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- precise input of production details</a:t>
            </a:r>
            <a:br>
              <a:rPr sz="2800"/>
            </a:b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- realistic forecast</a:t>
            </a:r>
            <a:r>
              <a:rPr b="0" lang="de-DE" sz="2800" spc="-1" strike="noStrike">
                <a:solidFill>
                  <a:srgbClr val="00305c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305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360" y="16344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handling – 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Neuropol"/>
              </a:rPr>
              <a:t>a) REPORT</a:t>
            </a:r>
            <a:endParaRPr b="0" lang="en-US" sz="28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Printing the current MPnC form with start of the shift.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This form contains the expected projection per product group based on the values generated during the EOD (calculated with historical totals and available Forecast)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The production, the sales and the waste is entered manually in the available fields on the form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0360" y="18252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handling – 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Neuropol"/>
              </a:rPr>
              <a:t>b) DYNAMIC MPnC</a:t>
            </a:r>
            <a:endParaRPr b="0" lang="en-US" sz="28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A. production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- Input of details supplied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in packages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- Displayed values is 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pieces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- No half pieces supported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B. order process</a:t>
            </a: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C. enter waste</a:t>
            </a:r>
            <a:r>
              <a:rPr b="0" lang="de-DE" sz="2800" spc="-1" strike="noStrike">
                <a:solidFill>
                  <a:srgbClr val="00305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pic>
        <p:nvPicPr>
          <p:cNvPr id="159" name="Picture 3" descr="new_client.jpg"/>
          <p:cNvPicPr/>
          <p:nvPr/>
        </p:nvPicPr>
        <p:blipFill>
          <a:blip r:embed="rId1"/>
          <a:stretch/>
        </p:blipFill>
        <p:spPr>
          <a:xfrm>
            <a:off x="4065480" y="1092240"/>
            <a:ext cx="497376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8"/>
          <p:cNvSpPr/>
          <p:nvPr/>
        </p:nvSpPr>
        <p:spPr>
          <a:xfrm>
            <a:off x="1295280" y="180504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1295280" y="13716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360" y="6840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Neuropol"/>
              </a:rPr>
              <a:t>table of content</a:t>
            </a: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66760" indent="-266760">
              <a:spcBef>
                <a:spcPts val="1500"/>
              </a:spcBef>
              <a:buClr>
                <a:srgbClr val="4864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6492"/>
                </a:solidFill>
                <a:latin typeface="Arial"/>
              </a:rPr>
              <a:t>definition: MPnC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 lvl="1" marL="266760" indent="-266760">
              <a:spcBef>
                <a:spcPts val="1500"/>
              </a:spcBef>
              <a:buClr>
                <a:srgbClr val="4864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6492"/>
                </a:solidFill>
                <a:latin typeface="Arial"/>
              </a:rPr>
              <a:t>why MPnC?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 lvl="1" marL="266760" indent="-266760">
              <a:spcBef>
                <a:spcPts val="1500"/>
              </a:spcBef>
              <a:buClr>
                <a:srgbClr val="4864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6492"/>
                </a:solidFill>
                <a:latin typeface="Arial"/>
              </a:rPr>
              <a:t>the kinds of MPnC’s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 lvl="1" marL="266760" indent="-266760">
              <a:spcBef>
                <a:spcPts val="1500"/>
              </a:spcBef>
              <a:buClr>
                <a:srgbClr val="4864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6492"/>
                </a:solidFill>
                <a:latin typeface="Arial"/>
              </a:rPr>
              <a:t>pre requisites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 lvl="1" marL="266760" indent="-266760">
              <a:spcBef>
                <a:spcPts val="1500"/>
              </a:spcBef>
              <a:buClr>
                <a:srgbClr val="4864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working method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 lvl="1" marL="266760" indent="-266760">
              <a:spcBef>
                <a:spcPts val="1500"/>
              </a:spcBef>
              <a:buClr>
                <a:srgbClr val="4864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6492"/>
                </a:solidFill>
                <a:latin typeface="Arial"/>
              </a:rPr>
              <a:t>handling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 lvl="1" marL="266760" indent="-266760">
              <a:spcBef>
                <a:spcPts val="1500"/>
              </a:spcBef>
              <a:buClr>
                <a:srgbClr val="4864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360" y="18252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handling – 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Neuropol"/>
              </a:rPr>
              <a:t>bb) manually projection influences</a:t>
            </a:r>
            <a:endParaRPr b="0" lang="en-US" sz="28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Start projection editor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green field (shows current forecast calculated from EOD procedure per product and selected micros fixed period (15 min).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value enhamcements in the green field adjusting the forecast immediatly on all outputs (display in the kitchen, reports). 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at a predefined time (e.g. 01:00 PM) the futur projection will be enhanced according to the variances +/- between the forecast and the sales from the last half hour.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0360" y="18252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handling – 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Neuropol"/>
              </a:rPr>
              <a:t>c) auto DYNAMIC MPnC</a:t>
            </a:r>
            <a:endParaRPr b="0" lang="en-US" sz="2800" spc="-1" strike="noStrike">
              <a:solidFill>
                <a:srgbClr val="ffffff"/>
              </a:solidFill>
              <a:latin typeface="Neuropo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0360" y="6840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analysis</a:t>
            </a: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6492"/>
                </a:solidFill>
                <a:latin typeface="Arial"/>
              </a:rPr>
              <a:t>time period details per product group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6492"/>
                </a:solidFill>
                <a:latin typeface="Arial"/>
              </a:rPr>
              <a:t>projection variances analyses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6492"/>
                </a:solidFill>
                <a:latin typeface="Arial"/>
              </a:rPr>
              <a:t>HACCP production sheet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0360" y="6840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cost</a:t>
            </a: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6760" indent="-266760">
              <a:spcBef>
                <a:spcPts val="700"/>
              </a:spcBef>
              <a:buClr>
                <a:srgbClr val="4864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6492"/>
                </a:solidFill>
                <a:latin typeface="Arial"/>
              </a:rPr>
              <a:t>License fee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2" marL="704880" indent="-189000">
              <a:spcBef>
                <a:spcPts val="499"/>
              </a:spcBef>
              <a:buClr>
                <a:srgbClr val="486492"/>
              </a:buClr>
              <a:buSzPct val="90000"/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6492"/>
                </a:solidFill>
                <a:latin typeface="Arial"/>
              </a:rPr>
              <a:t>MPnC Server license [GMB-IFC-37-0003]</a:t>
            </a:r>
            <a:r>
              <a:rPr b="0" lang="en-US" sz="2000" spc="-1" strike="noStrike">
                <a:solidFill>
                  <a:srgbClr val="48649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8649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8649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86492"/>
                </a:solidFill>
                <a:latin typeface="Arial"/>
              </a:rPr>
              <a:t>100.00 €</a:t>
            </a:r>
            <a:br>
              <a:rPr sz="2000"/>
            </a:br>
            <a:r>
              <a:rPr b="0" lang="en-US" sz="2000" spc="-1" strike="noStrike">
                <a:solidFill>
                  <a:srgbClr val="486492"/>
                </a:solidFill>
                <a:latin typeface="Arial"/>
              </a:rPr>
              <a:t>(calculation &amp; reporting)</a:t>
            </a:r>
            <a:endParaRPr b="0" lang="en-US" sz="2000" spc="-1" strike="noStrike">
              <a:solidFill>
                <a:srgbClr val="00305c"/>
              </a:solidFill>
              <a:latin typeface="Arial"/>
            </a:endParaRPr>
          </a:p>
          <a:p>
            <a:pPr lvl="2" marL="704880" indent="-189000">
              <a:spcBef>
                <a:spcPts val="499"/>
              </a:spcBef>
              <a:buClr>
                <a:srgbClr val="486492"/>
              </a:buClr>
              <a:buSzPct val="90000"/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6492"/>
                </a:solidFill>
                <a:latin typeface="Arial"/>
              </a:rPr>
              <a:t>MPnC Client license per client [GMB-IFC-37-0004] </a:t>
            </a:r>
            <a:r>
              <a:rPr b="0" lang="en-US" sz="2000" spc="-1" strike="noStrike">
                <a:solidFill>
                  <a:srgbClr val="48649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86492"/>
                </a:solidFill>
                <a:latin typeface="Arial"/>
              </a:rPr>
              <a:t>100.00 €</a:t>
            </a:r>
            <a:endParaRPr b="0" lang="en-US" sz="2000" spc="-1" strike="noStrike">
              <a:solidFill>
                <a:srgbClr val="00305c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4864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6492"/>
                </a:solidFill>
                <a:latin typeface="Arial"/>
              </a:rPr>
              <a:t>Hardware: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lvl="2" marL="704880" indent="-189000">
              <a:spcBef>
                <a:spcPts val="499"/>
              </a:spcBef>
              <a:buClr>
                <a:srgbClr val="486492"/>
              </a:buClr>
              <a:buSzPct val="90000"/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6492"/>
                </a:solidFill>
                <a:latin typeface="Arial"/>
              </a:rPr>
              <a:t>Restaurant Display Controller</a:t>
            </a:r>
            <a:endParaRPr b="0" lang="en-US" sz="2000" spc="-1" strike="noStrike">
              <a:solidFill>
                <a:srgbClr val="00305c"/>
              </a:solidFill>
              <a:latin typeface="Arial"/>
            </a:endParaRPr>
          </a:p>
          <a:p>
            <a:pPr lvl="2" marL="704880" indent="-189000">
              <a:spcBef>
                <a:spcPts val="499"/>
              </a:spcBef>
              <a:buClr>
                <a:srgbClr val="486492"/>
              </a:buClr>
              <a:buSzPct val="90000"/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6492"/>
                </a:solidFill>
                <a:latin typeface="Arial"/>
              </a:rPr>
              <a:t>Micros Bump bar</a:t>
            </a:r>
            <a:endParaRPr b="0" lang="en-US" sz="2000" spc="-1" strike="noStrike">
              <a:solidFill>
                <a:srgbClr val="00305c"/>
              </a:solidFill>
              <a:latin typeface="Arial"/>
            </a:endParaRPr>
          </a:p>
          <a:p>
            <a:pPr lvl="2" marL="704880" indent="-189000">
              <a:spcBef>
                <a:spcPts val="499"/>
              </a:spcBef>
              <a:buClr>
                <a:srgbClr val="486492"/>
              </a:buClr>
              <a:buSzPct val="90000"/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6492"/>
                </a:solidFill>
                <a:latin typeface="Arial"/>
              </a:rPr>
              <a:t>LCD Screen</a:t>
            </a:r>
            <a:endParaRPr b="0" lang="en-US" sz="20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6840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definition: MPnC</a:t>
            </a: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6760" indent="-2667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Neuropol"/>
              </a:rPr>
              <a:t>M</a:t>
            </a:r>
            <a:r>
              <a:rPr b="0" lang="en-US" sz="3200" spc="-1" strike="noStrike">
                <a:solidFill>
                  <a:srgbClr val="486492"/>
                </a:solidFill>
                <a:latin typeface="Neuropol"/>
              </a:rPr>
              <a:t>anagement</a:t>
            </a:r>
            <a:r>
              <a:rPr b="0" lang="en-US" sz="3200" spc="-1" strike="noStrike">
                <a:solidFill>
                  <a:srgbClr val="00305c"/>
                </a:solidFill>
                <a:latin typeface="Neuropo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Neuropol"/>
              </a:rPr>
              <a:t>P</a:t>
            </a:r>
            <a:r>
              <a:rPr b="0" lang="en-US" sz="3200" spc="-1" strike="noStrike">
                <a:solidFill>
                  <a:srgbClr val="486492"/>
                </a:solidFill>
                <a:latin typeface="Neuropol"/>
              </a:rPr>
              <a:t>rojection</a:t>
            </a:r>
            <a:r>
              <a:rPr b="0" lang="en-US" sz="3200" spc="-1" strike="noStrike">
                <a:solidFill>
                  <a:srgbClr val="00305c"/>
                </a:solidFill>
                <a:latin typeface="Neuropol"/>
              </a:rPr>
              <a:t> </a:t>
            </a:r>
            <a:r>
              <a:rPr b="0" lang="en-US" sz="3200" spc="-1" strike="noStrike">
                <a:solidFill>
                  <a:srgbClr val="486492"/>
                </a:solidFill>
                <a:latin typeface="Neuropo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Neuropol"/>
              </a:rPr>
              <a:t>n</a:t>
            </a:r>
            <a:r>
              <a:rPr b="0" lang="en-US" sz="3200" spc="-1" strike="noStrike">
                <a:solidFill>
                  <a:srgbClr val="486492"/>
                </a:solidFill>
                <a:latin typeface="Neuropol"/>
              </a:rPr>
              <a:t>d</a:t>
            </a:r>
            <a:r>
              <a:rPr b="0" lang="en-US" sz="3200" spc="-1" strike="noStrike">
                <a:solidFill>
                  <a:srgbClr val="00305c"/>
                </a:solidFill>
                <a:latin typeface="Neuropo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Neuropol"/>
              </a:rPr>
              <a:t>C</a:t>
            </a:r>
            <a:r>
              <a:rPr b="0" lang="en-US" sz="3200" spc="-1" strike="noStrike">
                <a:solidFill>
                  <a:srgbClr val="486492"/>
                </a:solidFill>
                <a:latin typeface="Neuropol"/>
              </a:rPr>
              <a:t>ontrol</a:t>
            </a:r>
            <a:endParaRPr b="0" lang="en-US" sz="3200" spc="-1" strike="noStrike">
              <a:solidFill>
                <a:srgbClr val="00305c"/>
              </a:solidFill>
              <a:latin typeface="Arial"/>
            </a:endParaRPr>
          </a:p>
          <a:p>
            <a:pPr marL="266760" indent="-266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492"/>
                </a:solidFill>
                <a:latin typeface="Arial"/>
              </a:rPr>
              <a:t>[mæna</a:t>
            </a:r>
            <a:r>
              <a:rPr b="0" i="1" lang="en-US" sz="3200" spc="-1" strike="noStrike">
                <a:solidFill>
                  <a:srgbClr val="486492"/>
                </a:solidFill>
                <a:latin typeface="Arial"/>
              </a:rPr>
              <a:t>jh</a:t>
            </a:r>
            <a:r>
              <a:rPr b="0" lang="en-US" sz="3200" spc="-1" strike="noStrike">
                <a:solidFill>
                  <a:srgbClr val="486492"/>
                </a:solidFill>
                <a:latin typeface="Arial"/>
              </a:rPr>
              <a:t>mant pra</a:t>
            </a:r>
            <a:r>
              <a:rPr b="0" i="1" lang="en-US" sz="3200" spc="-1" strike="noStrike">
                <a:solidFill>
                  <a:srgbClr val="486492"/>
                </a:solidFill>
                <a:latin typeface="Arial"/>
              </a:rPr>
              <a:t>jh</a:t>
            </a:r>
            <a:r>
              <a:rPr b="0" lang="en-US" sz="3200" spc="-1" strike="noStrike">
                <a:solidFill>
                  <a:srgbClr val="486492"/>
                </a:solidFill>
                <a:latin typeface="Arial"/>
              </a:rPr>
              <a:t>ek</a:t>
            </a:r>
            <a:r>
              <a:rPr b="0" i="1" lang="en-US" sz="3200" spc="-1" strike="noStrike">
                <a:solidFill>
                  <a:srgbClr val="486492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486492"/>
                </a:solidFill>
                <a:latin typeface="Arial"/>
              </a:rPr>
              <a:t>an ænd kantr</a:t>
            </a:r>
            <a:r>
              <a:rPr b="0" i="1" lang="en-US" sz="3200" spc="-1" strike="noStrike">
                <a:solidFill>
                  <a:srgbClr val="486492"/>
                </a:solidFill>
                <a:latin typeface="Arial"/>
              </a:rPr>
              <a:t>ow</a:t>
            </a:r>
            <a:r>
              <a:rPr b="0" lang="en-US" sz="3200" spc="-1" strike="noStrike">
                <a:solidFill>
                  <a:srgbClr val="486492"/>
                </a:solidFill>
                <a:latin typeface="Arial"/>
              </a:rPr>
              <a:t>l]</a:t>
            </a:r>
            <a:endParaRPr b="0" lang="en-US" sz="3200" spc="-1" strike="noStrike">
              <a:solidFill>
                <a:srgbClr val="00305c"/>
              </a:solidFill>
              <a:latin typeface="Arial"/>
            </a:endParaRPr>
          </a:p>
          <a:p>
            <a:pPr marL="266760" indent="-2667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05c"/>
              </a:solidFill>
              <a:latin typeface="Arial"/>
            </a:endParaRPr>
          </a:p>
          <a:p>
            <a:pPr marL="266760" indent="-2667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05c"/>
              </a:solidFill>
              <a:latin typeface="Arial"/>
            </a:endParaRPr>
          </a:p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6492"/>
                </a:solidFill>
                <a:latin typeface="Arial"/>
              </a:rPr>
              <a:t>Management instrument which determines dynamically based on historical sales details the expected daily forecast of particular products.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The required stock of the items </a:t>
            </a:r>
            <a:r>
              <a:rPr b="0" lang="en-US" sz="2800" spc="-1" strike="noStrike">
                <a:solidFill>
                  <a:srgbClr val="486492"/>
                </a:solidFill>
                <a:latin typeface="Arial"/>
              </a:rPr>
              <a:t>is recurrent suggested</a:t>
            </a: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 in consideration of current </a:t>
            </a:r>
            <a:r>
              <a:rPr b="0" lang="en-US" sz="2800" spc="-1" strike="noStrike">
                <a:solidFill>
                  <a:srgbClr val="486492"/>
                </a:solidFill>
                <a:latin typeface="Arial"/>
              </a:rPr>
              <a:t>sales figures (production &amp; sales).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6840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why MPnC ?</a:t>
            </a: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0360" y="1139400"/>
            <a:ext cx="855504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optimze the production quantity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minimize Waste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dynamic adjustment on current situations (events)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integrated reports about the daily history of consumption and production </a:t>
            </a:r>
            <a:br>
              <a:rPr sz="2800"/>
            </a:b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(HACCP - </a:t>
            </a:r>
            <a:r>
              <a:rPr b="0" lang="en-US" sz="2400" spc="-1" strike="noStrike">
                <a:solidFill>
                  <a:srgbClr val="486492"/>
                </a:solidFill>
                <a:latin typeface="Arial"/>
              </a:rPr>
              <a:t>Hazard Analysis and Critical Control Point</a:t>
            </a: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supports managers daily planings </a:t>
            </a:r>
            <a:br>
              <a:rPr sz="2800"/>
            </a:br>
            <a:r>
              <a:rPr b="0" lang="de-DE" sz="2400" spc="-1" strike="noStrike">
                <a:solidFill>
                  <a:srgbClr val="486492"/>
                </a:solidFill>
                <a:latin typeface="Arial"/>
              </a:rPr>
              <a:t>(Defrost, prepare mise an place)</a:t>
            </a:r>
            <a:endParaRPr b="0" lang="en-US" sz="2400" spc="-1" strike="noStrike">
              <a:solidFill>
                <a:srgbClr val="00305c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automatic notice of use by time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6840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kinds of MPnC</a:t>
            </a: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the Classic in List Form</a:t>
            </a:r>
            <a:br>
              <a:rPr sz="2800"/>
            </a:b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Display of the half hour forecast and the expecting stock by product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dynamic MPnC</a:t>
            </a:r>
            <a:br>
              <a:rPr sz="2800"/>
            </a:b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Dynamic calculation and presentation at a Screen in the kitchen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48649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auto dynamic MPnC</a:t>
            </a:r>
            <a:br>
              <a:rPr sz="2800"/>
            </a:br>
            <a:r>
              <a:rPr b="0" lang="de-DE" sz="2800" spc="-1" strike="noStrike">
                <a:solidFill>
                  <a:srgbClr val="486492"/>
                </a:solidFill>
                <a:latin typeface="Arial"/>
              </a:rPr>
              <a:t>automatic forecast adjustment to the previous course of a day. </a:t>
            </a:r>
            <a:endParaRPr b="0" lang="en-US" sz="2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0360" y="6840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Pre requisites</a:t>
            </a: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a) software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MICROS RES 3700 version 4.1 HF3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forecast module 15 minutes basis (MICROS Labor Management, </a:t>
            </a:r>
            <a:br>
              <a:rPr sz="1800"/>
            </a:b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MICROS MyLabor, Third Party)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MICROS MFPluS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MPnC Plugin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MPnC Win32 or WinCE client software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b) hardware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MICROS RDC (Restaurant Display Controller)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Monitor / Screen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MICROS bump bar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Win32 or Win CE computer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c) administration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forecast creation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Real time feet production and waste by kitchen stuff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</p:txBody>
      </p:sp>
      <p:grpSp>
        <p:nvGrpSpPr>
          <p:cNvPr id="111" name="Group 5"/>
          <p:cNvGrpSpPr/>
          <p:nvPr/>
        </p:nvGrpSpPr>
        <p:grpSpPr>
          <a:xfrm>
            <a:off x="5138640" y="3038400"/>
            <a:ext cx="3757680" cy="2733840"/>
            <a:chOff x="5138640" y="3038400"/>
            <a:chExt cx="3757680" cy="2733840"/>
          </a:xfrm>
        </p:grpSpPr>
        <p:pic>
          <p:nvPicPr>
            <p:cNvPr id="112" name="Picture 4" descr=""/>
            <p:cNvPicPr/>
            <p:nvPr/>
          </p:nvPicPr>
          <p:blipFill>
            <a:blip r:embed="rId1"/>
            <a:stretch/>
          </p:blipFill>
          <p:spPr>
            <a:xfrm>
              <a:off x="5138640" y="3038400"/>
              <a:ext cx="3757680" cy="273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4" descr="new_client.jpg"/>
            <p:cNvPicPr/>
            <p:nvPr/>
          </p:nvPicPr>
          <p:blipFill>
            <a:blip r:embed="rId2"/>
            <a:stretch/>
          </p:blipFill>
          <p:spPr>
            <a:xfrm>
              <a:off x="5803200" y="3419640"/>
              <a:ext cx="1578960" cy="1578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360" y="6840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working method</a:t>
            </a:r>
            <a:endParaRPr b="0" lang="en-US" sz="4000" spc="-1" strike="noStrike">
              <a:solidFill>
                <a:srgbClr val="ffffff"/>
              </a:solidFill>
              <a:latin typeface="Neuropo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60360" y="1139400"/>
            <a:ext cx="84297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a) historical totals and weighted week revenue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facts:</a:t>
            </a: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- per product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- per MICROS fixed period (15 minutes)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- weekday comparison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- system sales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b) forecast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c) Week weight: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- Print Screen Plugin Connfig 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d) Client display </a:t>
            </a:r>
            <a:br>
              <a:rPr sz="1800"/>
            </a:b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    Optional enhancement to display 15 minutes based (15 minutes, 30 minutes   </a:t>
            </a:r>
            <a:br>
              <a:rPr sz="1800"/>
            </a:b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    60 min steps)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360" y="17316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working method – 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Neuropol"/>
              </a:rPr>
              <a:t>calculation sample Forecast (projection)</a:t>
            </a:r>
            <a:endParaRPr b="0" lang="en-US" sz="2800" spc="-1" strike="noStrike">
              <a:solidFill>
                <a:srgbClr val="ffffff"/>
              </a:solidFill>
              <a:latin typeface="Neuropo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1139760"/>
          <a:ext cx="8696160" cy="2751120"/>
        </p:xfrm>
        <a:graphic>
          <a:graphicData uri="http://schemas.openxmlformats.org/drawingml/2006/table">
            <a:tbl>
              <a:tblPr/>
              <a:tblGrid>
                <a:gridCol w="1924200"/>
                <a:gridCol w="1447560"/>
                <a:gridCol w="1409760"/>
                <a:gridCol w="1400040"/>
                <a:gridCol w="1390680"/>
                <a:gridCol w="1123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rical factor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w Friday, 27.06.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k 1: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day, 20.06.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k 2: Friday, 13.06.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k 3: Friday, 06.06.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k 3: Friday, 30.05.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ystem Sales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 period 51 (16:00 – 16:15)</a:t>
                      </a:r>
                      <a:endParaRPr b="0" lang="en-US" sz="10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210 €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80 € 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250 €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80 €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qty sold                  #1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#2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factor                      #1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(w/out week weight)               </a:t>
                      </a:r>
                      <a:r>
                        <a:rPr b="0" lang="de-DE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#2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0.0238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0.0762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0.0222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0.0722 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0.0217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0.0720 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0,0333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0.0667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weighted factor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#1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#2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0.00952 +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0.03048 +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0.0066 +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0.02166 +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15 %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0.00325 +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0.0108 +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15 %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0.00499 =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0.0099 =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02436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07284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257480" y="4106880"/>
          <a:ext cx="6933960" cy="1925640"/>
        </p:xfrm>
        <a:graphic>
          <a:graphicData uri="http://schemas.openxmlformats.org/drawingml/2006/table">
            <a:tbl>
              <a:tblPr/>
              <a:tblGrid>
                <a:gridCol w="2342880"/>
                <a:gridCol w="3419640"/>
                <a:gridCol w="11714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cast for today 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day, 27.06.  period  51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0.00 €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forecast inquiry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expected revenue  x  historical factor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product  #1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product  #2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.00 € x </a:t>
                      </a:r>
                      <a:r>
                        <a:rPr b="0" lang="de-DE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02436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  5.3592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.00 € x </a:t>
                      </a:r>
                      <a:r>
                        <a:rPr b="0" lang="de-DE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07284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6.0248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~   6 pieces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~ 16 pieces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MPnC Rounding :                    to 5.1 = 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from 5.1 = 6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360" y="173160"/>
            <a:ext cx="84312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Neuropol"/>
              </a:rPr>
              <a:t>working method – </a:t>
            </a:r>
            <a:br>
              <a:rPr sz="4000"/>
            </a:br>
            <a:r>
              <a:rPr b="0" lang="de-DE" sz="2800" spc="-1" strike="noStrike">
                <a:solidFill>
                  <a:srgbClr val="ffffff"/>
                </a:solidFill>
                <a:latin typeface="Neuropol"/>
              </a:rPr>
              <a:t>week weight</a:t>
            </a:r>
            <a:endParaRPr b="0" lang="en-US" sz="2800" spc="-1" strike="noStrike">
              <a:solidFill>
                <a:srgbClr val="ffffff"/>
              </a:solidFill>
              <a:latin typeface="Neuropo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2190600"/>
          <a:ext cx="8696160" cy="3027600"/>
        </p:xfrm>
        <a:graphic>
          <a:graphicData uri="http://schemas.openxmlformats.org/drawingml/2006/table">
            <a:tbl>
              <a:tblPr/>
              <a:tblGrid>
                <a:gridCol w="2181240"/>
                <a:gridCol w="1428840"/>
                <a:gridCol w="1447560"/>
                <a:gridCol w="1447920"/>
                <a:gridCol w="1438200"/>
                <a:gridCol w="752400"/>
              </a:tblGrid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k back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89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zinger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filet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</a:tr>
              <a:tr h="520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calculation of forcast without week weight method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(number of sold Items / number of week review -  in that sample 4 weeks = 25%)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zinger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filet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2.50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2.50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2.50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2.50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8.7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6.2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</a:tr>
              <a:tr h="36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calculation of forecastes with week weight method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zinger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filet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50 %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2.50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486492"/>
                          </a:solidFill>
                          <a:latin typeface="Arial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305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8"/>
                    </a:solidFill>
                  </a:tcPr>
                </a:tc>
              </a:tr>
            </a:tbl>
          </a:graphicData>
        </a:graphic>
      </p:graphicFrame>
      <p:sp>
        <p:nvSpPr>
          <p:cNvPr id="121" name="Content Placeholder 2"/>
          <p:cNvSpPr/>
          <p:nvPr/>
        </p:nvSpPr>
        <p:spPr>
          <a:xfrm>
            <a:off x="360360" y="1139760"/>
            <a:ext cx="8429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Because of a procuct promotion displaces the demand of a product significant. </a:t>
            </a:r>
            <a:br>
              <a:rPr sz="1800"/>
            </a:b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To head off this the MICROS MPnC workes with the week weighted method.</a:t>
            </a:r>
            <a:br>
              <a:rPr sz="1800"/>
            </a:b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Sample below descibes the calculation based on ‚zingers‘ and ‘filets‘.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</p:txBody>
      </p:sp>
      <p:sp>
        <p:nvSpPr>
          <p:cNvPr id="122" name="Content Placeholder 2"/>
          <p:cNvSpPr/>
          <p:nvPr/>
        </p:nvSpPr>
        <p:spPr>
          <a:xfrm>
            <a:off x="360360" y="5351400"/>
            <a:ext cx="8429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86492"/>
                </a:solidFill>
                <a:latin typeface="Arial"/>
              </a:rPr>
              <a:t>because of new sales items higher consumption with the zinger, less with the filet</a:t>
            </a:r>
            <a:endParaRPr b="0" lang="en-US" sz="1800" spc="-1" strike="noStrike">
              <a:solidFill>
                <a:srgbClr val="00305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2:56:08Z</dcterms:created>
  <dc:creator>Jens Radeske</dc:creator>
  <dc:description/>
  <dc:language>en-US</dc:language>
  <cp:lastModifiedBy>Jens Radeske</cp:lastModifiedBy>
  <dcterms:modified xsi:type="dcterms:W3CDTF">2009-01-21T14:42:58Z</dcterms:modified>
  <cp:revision>580</cp:revision>
  <dc:subject/>
  <dc:title>MICROS - FIDELIO PPT Master</dc:title>
</cp:coreProperties>
</file>