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00C-A8C2-4C92-8F88-D64F3ADC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EB2-6B90-438A-A579-CE5301A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8EA-2848-429D-BA6B-04F5C7E2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1A8-748F-45BA-82AA-C76F5019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625-40C2-4E75-802F-95439733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873-6AA6-40D8-A14E-751EE24F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1DE-9DA1-46FD-9B47-43C3896C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B89-255F-4F44-897D-4543ED03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0ED-8C51-43EB-8CD0-A46429B1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830-2502-4BB8-B0BD-E6C57C8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FCC-E3E9-4F49-8A1A-F4BBC6D9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BBB-6D89-4135-845D-F265C6BF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3F37-0580-497D-AAE2-7DD4AB35F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egocja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owy na wysokim szczeblu z przedstawicielami władz lotniczych Francj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ałatwienie wszelkich formalności do marca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sparcie kredy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anki zgodziły się udzielić kredytu w wysokośc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ilionó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zrost liczby pasażerów na liniach wewnętrznych w W. Brytanii przyspieszył negocjac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1:02:40Z</dcterms:created>
  <dc:creator>Administrator</dc:creator>
  <dc:description/>
  <dc:language>en-US</dc:language>
  <cp:lastModifiedBy>Wojciech Kulik</cp:lastModifiedBy>
  <dcterms:modified xsi:type="dcterms:W3CDTF">2005-12-20T13:30:14Z</dcterms:modified>
  <cp:revision>6</cp:revision>
  <dc:subject/>
  <dc:title>PowerPoint Presentation</dc:title>
</cp:coreProperties>
</file>