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A2E-CCC5-4F72-A694-3D5D2F0C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572-BD54-4EE6-9B97-AC0B446E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06F-704E-49E2-A578-49BADDC6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D55-C019-47F8-8E4A-FB72A2F7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F881-BAC7-40DD-AC1D-A4B4E667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C736-4B15-477A-96D1-E1DD1D59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92A5-3A68-4BEA-9A36-FE929DC2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F99E-B962-4125-B316-5C94808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0EE6-291C-4878-9C75-F97F9BEC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7759-7A13-49DA-AD47-8052C13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0039-C517-4D50-A0F2-0E9794B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3F8-5C76-4484-B75C-9FA70748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8FA2-9A85-4769-86EC-63EAF5C5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8082-B9C0-4E1D-B7D5-6B9A3387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353D-AEAC-46BA-B0B4-C88582EB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6289-DB5A-44B9-BC50-76CF508B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02F4-1988-45C0-B464-58FE61D2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918-7128-406F-A017-9262FEDD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C65-8D27-481D-B6EA-AEEB8AC3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3BD-C636-4044-A7EE-3F897D2E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78A-F2A6-4492-9D8B-D9CF9C75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EE8-29B3-43DB-9F0A-0FAC51B3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A17-9853-4613-8CCC-C622F0DE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4EF-F62B-4521-8440-399EA4B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5350-FD21-4FA6-9051-067F00F8DD1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14FD-53A2-49E9-8551-3837480064F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003366"/>
                </a:solidFill>
                <a:latin typeface="Times New Roman"/>
              </a:rPr>
              <a:t>Lekcja informatyki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4572000"/>
            <a:ext cx="8610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ieci komputerowe - wprowadz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Plan lekcj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efinicja sieci komputer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dział sieci komputer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odzaje kab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Definicja sieci komputerowej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3110040"/>
            <a:ext cx="777240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AN – sieci lokal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N – sieci miejsk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AN – sieci rozległ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133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ział ze względu na zasięg sie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Podział sieci komputerowy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51460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eć komputerowa jest mechanizmem umożliwiającym komunikowanie się komputerów znajdujących się w różnych miejscach za pomocą kanałów komunikacyjnych. Integralnym elementem owej komunikacji jest wzajemne udostępnionie sobie zasobów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962520" y="2209680"/>
            <a:ext cx="4266720" cy="2516040"/>
            <a:chOff x="3962520" y="2209680"/>
            <a:chExt cx="4266720" cy="2516040"/>
          </a:xfrm>
        </p:grpSpPr>
        <p:sp>
          <p:nvSpPr>
            <p:cNvPr id="138" name=""/>
            <p:cNvSpPr/>
            <p:nvPr/>
          </p:nvSpPr>
          <p:spPr>
            <a:xfrm flipV="1">
              <a:off x="4455360" y="36914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488560" y="36914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477840" y="36914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151400" y="36914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824960" y="36914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398200" y="33314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239960" y="33314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45" name="komp" descr=""/>
            <p:cNvPicPr/>
            <p:nvPr/>
          </p:nvPicPr>
          <p:blipFill>
            <a:blip r:embed="rId1"/>
            <a:stretch/>
          </p:blipFill>
          <p:spPr>
            <a:xfrm>
              <a:off x="6162120" y="4007520"/>
              <a:ext cx="6253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loter01" descr=""/>
            <p:cNvPicPr/>
            <p:nvPr/>
          </p:nvPicPr>
          <p:blipFill>
            <a:blip r:embed="rId2"/>
            <a:stretch/>
          </p:blipFill>
          <p:spPr>
            <a:xfrm>
              <a:off x="4006440" y="3961440"/>
              <a:ext cx="89856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Mainf020" descr=""/>
            <p:cNvPicPr/>
            <p:nvPr/>
          </p:nvPicPr>
          <p:blipFill>
            <a:blip r:embed="rId3"/>
            <a:stretch/>
          </p:blipFill>
          <p:spPr>
            <a:xfrm>
              <a:off x="5056200" y="2209680"/>
              <a:ext cx="799920" cy="13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komp2" descr=""/>
            <p:cNvPicPr/>
            <p:nvPr/>
          </p:nvPicPr>
          <p:blipFill>
            <a:blip r:embed="rId4"/>
            <a:stretch/>
          </p:blipFill>
          <p:spPr>
            <a:xfrm>
              <a:off x="5174640" y="3961440"/>
              <a:ext cx="66312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rint049" descr=""/>
            <p:cNvPicPr/>
            <p:nvPr/>
          </p:nvPicPr>
          <p:blipFill>
            <a:blip r:embed="rId5"/>
            <a:stretch/>
          </p:blipFill>
          <p:spPr>
            <a:xfrm>
              <a:off x="6701040" y="2750400"/>
              <a:ext cx="1123920" cy="76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62520" y="3691800"/>
              <a:ext cx="42667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51" name="komp" descr=""/>
            <p:cNvPicPr/>
            <p:nvPr/>
          </p:nvPicPr>
          <p:blipFill>
            <a:blip r:embed="rId6"/>
            <a:stretch/>
          </p:blipFill>
          <p:spPr>
            <a:xfrm>
              <a:off x="7509240" y="4007520"/>
              <a:ext cx="62496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komp" descr=""/>
            <p:cNvPicPr/>
            <p:nvPr/>
          </p:nvPicPr>
          <p:blipFill>
            <a:blip r:embed="rId7"/>
            <a:stretch/>
          </p:blipFill>
          <p:spPr>
            <a:xfrm>
              <a:off x="6836040" y="4007520"/>
              <a:ext cx="624960" cy="67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Kable koncentrycz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grentwist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6095880" cy="550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2120" y="25146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abel koncentryczn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to miedziany przewód izolowany, osadzony w zaizolowanym oplocie miedzionym lub aluminiowym. Stosowany do łączenia komputerów w sieciach daje lepszą ochronę przed zakłóceniami niż skręt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Skrętka dwużyłow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13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krętka dwużyłow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kłada się z dwóch przewodów, splecionych ze sob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124080"/>
            <a:ext cx="5638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aje skręt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Ekranowana skrętka dwużyło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Nieekranowana skrętka dwużyło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coax" descr=""/>
          <p:cNvPicPr/>
          <p:nvPr/>
        </p:nvPicPr>
        <p:blipFill>
          <a:blip r:embed="rId1"/>
          <a:stretch/>
        </p:blipFill>
        <p:spPr>
          <a:xfrm>
            <a:off x="5638680" y="4952880"/>
            <a:ext cx="281952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21:31:02Z</dcterms:created>
  <dc:creator>Mat</dc:creator>
  <dc:description/>
  <dc:language>en-US</dc:language>
  <cp:lastModifiedBy>Mat</cp:lastModifiedBy>
  <dcterms:modified xsi:type="dcterms:W3CDTF">2002-06-08T22:42:15Z</dcterms:modified>
  <cp:revision>17</cp:revision>
  <dc:subject/>
  <dc:title>Lekcja informatyki</dc:title>
</cp:coreProperties>
</file>