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677-469B-4473-9D4E-8457A974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3F6-C2B9-46CF-8DE2-9446AC4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C88-EF22-4CDC-962E-60B595A2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00E-4EDF-4654-BE1E-B90C5EA7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606-355F-40F5-9333-BAAD3515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68C-7206-413F-8864-2F30412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5C6C-3DBE-4F56-9E3B-A69F93A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571F-19FB-49FB-A049-525BEE7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F73-6B7C-4DDC-B620-D2AB97C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2C4-8782-4999-BDAA-D88573FD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215-C03B-48F7-847E-99E9B86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452-DA5D-4D63-9358-D38301C0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55F-930F-446A-8E50-B475AC8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DD0-AF11-4755-BEA5-7BD1C2DF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AF2-F04F-42FE-B12A-209C518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B811-47D8-4FE9-B8BD-832DF35D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D08D-A4C1-4616-9EF1-6E63E4DB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03A-FAF7-4412-96FC-E93A3A1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9C6-7B45-401D-BDA1-9DF7DF6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A58-47D3-4EDF-B396-2BB3EC9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3A9-BF4B-451E-B523-4D8BC25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443-90DA-4F00-9278-F50E8A6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06B-BF45-4CE7-95E9-1AF0851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385-BDBD-4CBD-A4B9-EF6C3E7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D2F-2A93-4143-A08C-A5B64A32860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AAD7-2B2E-4893-9384-AF0C02C28AD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Tele-IP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wdrożenia systemu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e Wdrożen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ększenie udziału na rynku telefonii 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prawnić zarządzanie z klienta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ększenie wysokości przychodów pochodzących od pojedynczego klie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mniejszenie liczby klientów odchodzących do innych operator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rdziej skuteczna oferta nowych usł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rządzanie kampani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walifikacja i dystrybucja potencjał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nały komunikacyj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rzeda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 i metod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noz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w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ury i eskalac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dejście do Wdrożenia C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wymaga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ybór oprogramow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poczęcie pro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cepcja bizneso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droż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sparcie po wdrożen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1096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zy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wymaga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kument specyfikacji wymaga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yfikacja i ocena czynników ry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yfikacja i ocena celów biznesowych oraz metod ich oce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ybór dostaw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yfikacja i ocena dostawc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ymagania dla dostawców/Prezentacje rozwiąza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zegląd ofert/Podpisanie kontra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5880" y="6451560"/>
            <a:ext cx="969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88040" y="6451560"/>
            <a:ext cx="9691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zy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poczęcie pro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rta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cepcja bizneso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yfikacja i opis procesów biznesowych, instalacja oprogramowania, migracja danych, szkolenia, rozszerze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droż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cja założeń zapisanych w fazie koncep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5880" y="6451560"/>
            <a:ext cx="9691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88040" y="6451560"/>
            <a:ext cx="9691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a Organizacyj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1484280"/>
            <a:ext cx="2592360" cy="57636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itet Sterują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5280" y="2997360"/>
            <a:ext cx="8497800" cy="1223640"/>
            <a:chOff x="395280" y="2997360"/>
            <a:chExt cx="8497800" cy="1223640"/>
          </a:xfrm>
        </p:grpSpPr>
        <p:sp>
          <p:nvSpPr>
            <p:cNvPr id="169" name=""/>
            <p:cNvSpPr/>
            <p:nvPr/>
          </p:nvSpPr>
          <p:spPr>
            <a:xfrm>
              <a:off x="395280" y="3645000"/>
              <a:ext cx="2592360" cy="576000"/>
            </a:xfrm>
            <a:prstGeom prst="flowChartPredefined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spół ds. Marketing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8000" y="3645000"/>
              <a:ext cx="2592360" cy="576000"/>
            </a:xfrm>
            <a:prstGeom prst="flowChartPredefined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spół ds. Sprzedaż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3645000"/>
              <a:ext cx="2592360" cy="576000"/>
            </a:xfrm>
            <a:prstGeom prst="flowChartPredefined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spół ds. Serwi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692360" y="2997360"/>
              <a:ext cx="5904000" cy="647640"/>
              <a:chOff x="1692360" y="2997360"/>
              <a:chExt cx="5904000" cy="6476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692360" y="2997360"/>
                <a:ext cx="5904000" cy="647640"/>
                <a:chOff x="1692360" y="2997360"/>
                <a:chExt cx="5904000" cy="647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643280" y="299736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692360" y="328464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96360" y="328464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92360" y="3284640"/>
                  <a:ext cx="295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643280" y="3284640"/>
                <a:ext cx="29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3348000" y="2060640"/>
            <a:ext cx="2592360" cy="936720"/>
            <a:chOff x="3348000" y="2060640"/>
            <a:chExt cx="2592360" cy="936720"/>
          </a:xfrm>
        </p:grpSpPr>
        <p:sp>
          <p:nvSpPr>
            <p:cNvPr id="180" name=""/>
            <p:cNvSpPr/>
            <p:nvPr/>
          </p:nvSpPr>
          <p:spPr>
            <a:xfrm>
              <a:off x="3348000" y="2421000"/>
              <a:ext cx="2592360" cy="576360"/>
            </a:xfrm>
            <a:prstGeom prst="flowChartPredefinedProcess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erownik Projek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3280" y="2060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5280" y="2421000"/>
            <a:ext cx="2952720" cy="576360"/>
            <a:chOff x="395280" y="2421000"/>
            <a:chExt cx="2952720" cy="576360"/>
          </a:xfrm>
        </p:grpSpPr>
        <p:sp>
          <p:nvSpPr>
            <p:cNvPr id="183" name=""/>
            <p:cNvSpPr/>
            <p:nvPr/>
          </p:nvSpPr>
          <p:spPr>
            <a:xfrm>
              <a:off x="395280" y="2421000"/>
              <a:ext cx="2592360" cy="576360"/>
            </a:xfrm>
            <a:prstGeom prst="flowChartPredefinedProcess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kretarz Projek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7640" y="2708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68360" y="4221000"/>
            <a:ext cx="5470560" cy="2376720"/>
            <a:chOff x="468360" y="4221000"/>
            <a:chExt cx="5470560" cy="2376720"/>
          </a:xfrm>
        </p:grpSpPr>
        <p:sp>
          <p:nvSpPr>
            <p:cNvPr id="186" name=""/>
            <p:cNvSpPr/>
            <p:nvPr/>
          </p:nvSpPr>
          <p:spPr>
            <a:xfrm>
              <a:off x="3635280" y="458136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Kierownik Zd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5280" y="530064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złonek Zd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5280" y="602136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złonek Zd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68360" y="4221000"/>
              <a:ext cx="2519280" cy="2376720"/>
              <a:chOff x="468360" y="4221000"/>
              <a:chExt cx="2519280" cy="2376720"/>
            </a:xfrm>
          </p:grpSpPr>
          <p:sp>
            <p:nvSpPr>
              <p:cNvPr id="190" name=""/>
              <p:cNvSpPr/>
              <p:nvPr/>
            </p:nvSpPr>
            <p:spPr>
              <a:xfrm>
                <a:off x="684360" y="4581360"/>
                <a:ext cx="2303280" cy="576360"/>
              </a:xfrm>
              <a:prstGeom prst="flowChartPredefined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Kierownik Zd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4360" y="5300640"/>
                <a:ext cx="2303280" cy="576360"/>
              </a:xfrm>
              <a:prstGeom prst="flowChartPredefined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Członek Zd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4360" y="6021360"/>
                <a:ext cx="2303280" cy="576360"/>
              </a:xfrm>
              <a:prstGeom prst="flowChartPredefined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Członek Zd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468360" y="4221000"/>
                <a:ext cx="216000" cy="2087640"/>
                <a:chOff x="468360" y="4221000"/>
                <a:chExt cx="216000" cy="20876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68360" y="4869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8360" y="558972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8360" y="630864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836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419640" y="4221000"/>
              <a:ext cx="215640" cy="2087640"/>
              <a:chOff x="3419640" y="4221000"/>
              <a:chExt cx="215640" cy="208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19640" y="4869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19640" y="5589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19640" y="6308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19640" y="42210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72360" y="4221000"/>
            <a:ext cx="2519280" cy="2376720"/>
            <a:chOff x="6372360" y="4221000"/>
            <a:chExt cx="2519280" cy="2376720"/>
          </a:xfrm>
        </p:grpSpPr>
        <p:sp>
          <p:nvSpPr>
            <p:cNvPr id="204" name=""/>
            <p:cNvSpPr/>
            <p:nvPr/>
          </p:nvSpPr>
          <p:spPr>
            <a:xfrm>
              <a:off x="6588000" y="458136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Kierownik ZdS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88000" y="530064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złonek ZdS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8000" y="6021360"/>
              <a:ext cx="2303640" cy="576360"/>
            </a:xfrm>
            <a:prstGeom prst="flowChartPredefinedProcess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złonek ZdS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372360" y="4221000"/>
              <a:ext cx="215640" cy="2087640"/>
              <a:chOff x="6372360" y="4221000"/>
              <a:chExt cx="215640" cy="2087640"/>
            </a:xfrm>
          </p:grpSpPr>
          <p:sp>
            <p:nvSpPr>
              <p:cNvPr id="208" name=""/>
              <p:cNvSpPr/>
              <p:nvPr/>
            </p:nvSpPr>
            <p:spPr>
              <a:xfrm>
                <a:off x="6372360" y="4869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72360" y="5589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72360" y="6308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72360" y="42210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dżet i Harmono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844640"/>
          <a:ext cx="770436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770436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ytania i Odpowiedz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381480" y="2624040"/>
          <a:ext cx="238104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2624040"/>
                    <a:ext cx="23810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641120" y="5157720"/>
            <a:ext cx="3379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38:02Z</dcterms:created>
  <dc:creator>BCC</dc:creator>
  <dc:description/>
  <dc:language>en-US</dc:language>
  <cp:lastModifiedBy>BCC</cp:lastModifiedBy>
  <dcterms:modified xsi:type="dcterms:W3CDTF">2005-09-26T09:24:26Z</dcterms:modified>
  <cp:revision>34</cp:revision>
  <dc:subject/>
  <dc:title>Tele-IP</dc:title>
</cp:coreProperties>
</file>