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D606-6111-4E97-973D-C32097A8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723A-B89E-430D-B4B4-89BDB359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E102-6DC2-4CE0-A6FF-C154E103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528B-BE41-4DB0-9B0A-2A64CFD3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599-2F57-4B96-A74B-CD7EAE27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709D-0DB6-4EF9-B778-2A66D080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C7A9-6377-4464-8FE4-529CBA79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A6B4-45D8-4B6E-BC68-10E3DDCF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F481-574F-406C-85FB-05B994FF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F03C-6291-4948-A2A5-02A13566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0CDE-AA60-4A28-AAC5-10421299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E90F-FF9A-4A5C-982F-7B04A553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409F-5D6D-47F0-9EF0-C71787F40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kres tematyczny szkole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owanie w  C/C+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uktura programu w języku C/C+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ypy danych, deklaracje, operatory, wyraże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rukcje warunkowe, wyboru, iterac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blice jednowymiarowe, wielowymiar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nkcje - definicje, przekazywanie paramet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skaźniki, operacje na wskaźnik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uk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fika komputerow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Podstawowe pojęcia związane z grafiką komputer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ormaty zapisu grafik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Narzędzia malarskie, retuszerskie,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Tworzenie i wykorzystanie warst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iltry i efekty specjal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Animacja grafiki internet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Wektoryzacja, rastryz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Projektowanie znaków graficz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Zagadnienia związane ze skanowan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21:15Z</dcterms:created>
  <dc:creator>Lukasz</dc:creator>
  <dc:description/>
  <dc:language>en-US</dc:language>
  <cp:lastModifiedBy>Mat</cp:lastModifiedBy>
  <dcterms:modified xsi:type="dcterms:W3CDTF">2002-05-28T01:19:14Z</dcterms:modified>
  <cp:revision>4</cp:revision>
  <dc:subject/>
  <dc:title>Zakres tematyczny szkoleń</dc:title>
</cp:coreProperties>
</file>