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1143000"/>
          </a:xfrm>
          <a:prstGeom prst="rect">
            <a:avLst/>
          </a:prstGeom>
          <a:gradFill rotWithShape="0">
            <a:gsLst>
              <a:gs pos="0">
                <a:srgbClr val="8e01fc"/>
              </a:gs>
              <a:gs pos="100000">
                <a:srgbClr val="2a00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90440"/>
            <a:ext cx="8763120" cy="447840"/>
            <a:chOff x="0" y="190440"/>
            <a:chExt cx="8763120" cy="447840"/>
          </a:xfrm>
        </p:grpSpPr>
        <p:grpSp>
          <p:nvGrpSpPr>
            <p:cNvPr id="2" name=""/>
            <p:cNvGrpSpPr/>
            <p:nvPr/>
          </p:nvGrpSpPr>
          <p:grpSpPr>
            <a:xfrm>
              <a:off x="0" y="609480"/>
              <a:ext cx="6934320" cy="25560"/>
              <a:chOff x="0" y="609480"/>
              <a:chExt cx="6934320" cy="2556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609480"/>
                <a:ext cx="593568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924520" y="609480"/>
                <a:ext cx="10098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6880320" y="190440"/>
              <a:ext cx="1882800" cy="447840"/>
              <a:chOff x="6880320" y="190440"/>
              <a:chExt cx="1882800" cy="447840"/>
            </a:xfrm>
          </p:grpSpPr>
          <p:sp>
            <p:nvSpPr>
              <p:cNvPr id="6" name=""/>
              <p:cNvSpPr/>
              <p:nvPr/>
            </p:nvSpPr>
            <p:spPr>
              <a:xfrm>
                <a:off x="6962760" y="190440"/>
                <a:ext cx="1800360" cy="447840"/>
              </a:xfrm>
              <a:custGeom>
                <a:avLst/>
                <a:gdLst/>
                <a:ahLst/>
                <a:rect l="l" t="t" r="r" b="b"/>
                <a:pathLst>
                  <a:path w="1134" h="282">
                    <a:moveTo>
                      <a:pt x="0" y="48"/>
                    </a:moveTo>
                    <a:lnTo>
                      <a:pt x="43" y="35"/>
                    </a:lnTo>
                    <a:lnTo>
                      <a:pt x="220" y="159"/>
                    </a:lnTo>
                    <a:lnTo>
                      <a:pt x="232" y="166"/>
                    </a:lnTo>
                    <a:lnTo>
                      <a:pt x="242" y="169"/>
                    </a:lnTo>
                    <a:lnTo>
                      <a:pt x="250" y="170"/>
                    </a:lnTo>
                    <a:lnTo>
                      <a:pt x="257" y="170"/>
                    </a:lnTo>
                    <a:lnTo>
                      <a:pt x="265" y="170"/>
                    </a:lnTo>
                    <a:lnTo>
                      <a:pt x="285" y="165"/>
                    </a:lnTo>
                    <a:lnTo>
                      <a:pt x="901" y="18"/>
                    </a:lnTo>
                    <a:lnTo>
                      <a:pt x="933" y="12"/>
                    </a:lnTo>
                    <a:lnTo>
                      <a:pt x="961" y="6"/>
                    </a:lnTo>
                    <a:lnTo>
                      <a:pt x="979" y="4"/>
                    </a:lnTo>
                    <a:lnTo>
                      <a:pt x="1003" y="2"/>
                    </a:lnTo>
                    <a:lnTo>
                      <a:pt x="1023" y="0"/>
                    </a:lnTo>
                    <a:lnTo>
                      <a:pt x="1042" y="2"/>
                    </a:lnTo>
                    <a:lnTo>
                      <a:pt x="1070" y="6"/>
                    </a:lnTo>
                    <a:lnTo>
                      <a:pt x="1088" y="11"/>
                    </a:lnTo>
                    <a:lnTo>
                      <a:pt x="1105" y="19"/>
                    </a:lnTo>
                    <a:lnTo>
                      <a:pt x="1124" y="28"/>
                    </a:lnTo>
                    <a:lnTo>
                      <a:pt x="1133" y="47"/>
                    </a:lnTo>
                    <a:lnTo>
                      <a:pt x="1127" y="63"/>
                    </a:lnTo>
                    <a:lnTo>
                      <a:pt x="1115" y="76"/>
                    </a:lnTo>
                    <a:lnTo>
                      <a:pt x="1100" y="88"/>
                    </a:lnTo>
                    <a:lnTo>
                      <a:pt x="1073" y="104"/>
                    </a:lnTo>
                    <a:lnTo>
                      <a:pt x="1039" y="118"/>
                    </a:lnTo>
                    <a:lnTo>
                      <a:pt x="1019" y="126"/>
                    </a:lnTo>
                    <a:lnTo>
                      <a:pt x="996" y="133"/>
                    </a:lnTo>
                    <a:lnTo>
                      <a:pt x="955" y="143"/>
                    </a:lnTo>
                    <a:lnTo>
                      <a:pt x="898" y="156"/>
                    </a:lnTo>
                    <a:lnTo>
                      <a:pt x="414" y="265"/>
                    </a:lnTo>
                    <a:lnTo>
                      <a:pt x="365" y="274"/>
                    </a:lnTo>
                    <a:lnTo>
                      <a:pt x="332" y="280"/>
                    </a:lnTo>
                    <a:lnTo>
                      <a:pt x="293" y="280"/>
                    </a:lnTo>
                    <a:lnTo>
                      <a:pt x="255" y="280"/>
                    </a:lnTo>
                    <a:lnTo>
                      <a:pt x="107" y="281"/>
                    </a:lnTo>
                    <a:lnTo>
                      <a:pt x="69" y="280"/>
                    </a:lnTo>
                    <a:lnTo>
                      <a:pt x="66" y="279"/>
                    </a:lnTo>
                    <a:lnTo>
                      <a:pt x="62" y="275"/>
                    </a:lnTo>
                    <a:lnTo>
                      <a:pt x="58" y="275"/>
                    </a:lnTo>
                    <a:lnTo>
                      <a:pt x="53" y="271"/>
                    </a:lnTo>
                    <a:lnTo>
                      <a:pt x="53" y="267"/>
                    </a:lnTo>
                    <a:lnTo>
                      <a:pt x="56" y="262"/>
                    </a:lnTo>
                    <a:lnTo>
                      <a:pt x="62" y="257"/>
                    </a:lnTo>
                    <a:lnTo>
                      <a:pt x="78" y="245"/>
                    </a:lnTo>
                    <a:lnTo>
                      <a:pt x="94" y="238"/>
                    </a:lnTo>
                    <a:lnTo>
                      <a:pt x="99" y="236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04160" y="468360"/>
                <a:ext cx="355680" cy="117360"/>
              </a:xfrm>
              <a:custGeom>
                <a:avLst/>
                <a:gdLst/>
                <a:ahLst/>
                <a:rect l="l" t="t" r="r" b="b"/>
                <a:pathLst>
                  <a:path w="224" h="74">
                    <a:moveTo>
                      <a:pt x="0" y="49"/>
                    </a:moveTo>
                    <a:lnTo>
                      <a:pt x="60" y="55"/>
                    </a:lnTo>
                    <a:lnTo>
                      <a:pt x="90" y="73"/>
                    </a:lnTo>
                    <a:lnTo>
                      <a:pt x="119" y="68"/>
                    </a:lnTo>
                    <a:lnTo>
                      <a:pt x="144" y="65"/>
                    </a:lnTo>
                    <a:lnTo>
                      <a:pt x="150" y="71"/>
                    </a:lnTo>
                    <a:lnTo>
                      <a:pt x="211" y="66"/>
                    </a:lnTo>
                    <a:lnTo>
                      <a:pt x="220" y="54"/>
                    </a:lnTo>
                    <a:lnTo>
                      <a:pt x="222" y="48"/>
                    </a:lnTo>
                    <a:lnTo>
                      <a:pt x="223" y="40"/>
                    </a:lnTo>
                    <a:lnTo>
                      <a:pt x="222" y="31"/>
                    </a:lnTo>
                    <a:lnTo>
                      <a:pt x="221" y="25"/>
                    </a:lnTo>
                    <a:lnTo>
                      <a:pt x="218" y="18"/>
                    </a:lnTo>
                    <a:lnTo>
                      <a:pt x="211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880320" y="542880"/>
                <a:ext cx="374400" cy="50760"/>
              </a:xfrm>
              <a:custGeom>
                <a:avLst/>
                <a:gdLst/>
                <a:ahLst/>
                <a:rect l="l" t="t" r="r" b="b"/>
                <a:pathLst>
                  <a:path w="236" h="32">
                    <a:moveTo>
                      <a:pt x="235" y="13"/>
                    </a:moveTo>
                    <a:lnTo>
                      <a:pt x="233" y="15"/>
                    </a:lnTo>
                    <a:lnTo>
                      <a:pt x="232" y="17"/>
                    </a:lnTo>
                    <a:lnTo>
                      <a:pt x="228" y="19"/>
                    </a:lnTo>
                    <a:lnTo>
                      <a:pt x="222" y="23"/>
                    </a:lnTo>
                    <a:lnTo>
                      <a:pt x="213" y="26"/>
                    </a:lnTo>
                    <a:lnTo>
                      <a:pt x="202" y="28"/>
                    </a:lnTo>
                    <a:lnTo>
                      <a:pt x="184" y="30"/>
                    </a:lnTo>
                    <a:lnTo>
                      <a:pt x="164" y="31"/>
                    </a:lnTo>
                    <a:lnTo>
                      <a:pt x="146" y="31"/>
                    </a:lnTo>
                    <a:lnTo>
                      <a:pt x="138" y="30"/>
                    </a:lnTo>
                    <a:lnTo>
                      <a:pt x="120" y="28"/>
                    </a:lnTo>
                    <a:lnTo>
                      <a:pt x="0" y="10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20" y="4"/>
                    </a:lnTo>
                    <a:lnTo>
                      <a:pt x="35" y="1"/>
                    </a:lnTo>
                    <a:lnTo>
                      <a:pt x="51" y="0"/>
                    </a:lnTo>
                    <a:lnTo>
                      <a:pt x="23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054920" y="289080"/>
                <a:ext cx="812880" cy="176040"/>
              </a:xfrm>
              <a:custGeom>
                <a:avLst/>
                <a:gdLst/>
                <a:ahLst/>
                <a:rect l="l" t="t" r="r" b="b"/>
                <a:pathLst>
                  <a:path w="512" h="111">
                    <a:moveTo>
                      <a:pt x="511" y="72"/>
                    </a:moveTo>
                    <a:lnTo>
                      <a:pt x="46" y="0"/>
                    </a:lnTo>
                    <a:lnTo>
                      <a:pt x="0" y="14"/>
                    </a:lnTo>
                    <a:lnTo>
                      <a:pt x="184" y="67"/>
                    </a:lnTo>
                    <a:lnTo>
                      <a:pt x="292" y="110"/>
                    </a:lnTo>
                    <a:lnTo>
                      <a:pt x="511" y="7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07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7175520" y="6400800"/>
            <a:ext cx="1593720" cy="374760"/>
            <a:chOff x="7175520" y="6400800"/>
            <a:chExt cx="1593720" cy="374760"/>
          </a:xfrm>
        </p:grpSpPr>
        <p:sp>
          <p:nvSpPr>
            <p:cNvPr id="13" name=""/>
            <p:cNvSpPr/>
            <p:nvPr/>
          </p:nvSpPr>
          <p:spPr>
            <a:xfrm>
              <a:off x="7175520" y="6407280"/>
              <a:ext cx="11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ff0000"/>
                  </a:solidFill>
                  <a:latin typeface="Times New Roman"/>
                </a:rPr>
                <a:t>Avalonai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05920" y="6519960"/>
              <a:ext cx="180720" cy="15084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85280" y="6515280"/>
              <a:ext cx="18396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33000" y="6400800"/>
              <a:ext cx="18252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Nowe połączenie Dublin/Paryż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002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Jan Kowals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14 stycznia 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tower" descr=""/>
          <p:cNvPicPr/>
          <p:nvPr/>
        </p:nvPicPr>
        <p:blipFill>
          <a:blip r:embed="rId1"/>
          <a:stretch/>
        </p:blipFill>
        <p:spPr>
          <a:xfrm>
            <a:off x="6629400" y="792000"/>
            <a:ext cx="1135080" cy="27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5272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Dziękuję za uwag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5960" y="3506760"/>
            <a:ext cx="8528040" cy="1754280"/>
            <a:chOff x="75960" y="3506760"/>
            <a:chExt cx="8528040" cy="1754280"/>
          </a:xfrm>
        </p:grpSpPr>
        <p:sp>
          <p:nvSpPr>
            <p:cNvPr id="140" name=""/>
            <p:cNvSpPr/>
            <p:nvPr/>
          </p:nvSpPr>
          <p:spPr>
            <a:xfrm>
              <a:off x="609480" y="3886200"/>
              <a:ext cx="2286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Q&amp;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5960" y="3506760"/>
              <a:ext cx="8528040" cy="1754280"/>
              <a:chOff x="75960" y="3506760"/>
              <a:chExt cx="8528040" cy="1754280"/>
            </a:xfrm>
          </p:grpSpPr>
          <p:sp>
            <p:nvSpPr>
              <p:cNvPr id="142" name=""/>
              <p:cNvSpPr/>
              <p:nvPr/>
            </p:nvSpPr>
            <p:spPr>
              <a:xfrm flipH="1">
                <a:off x="75600" y="3726000"/>
                <a:ext cx="8528040" cy="1535040"/>
              </a:xfrm>
              <a:custGeom>
                <a:avLst/>
                <a:gdLst/>
                <a:ahLst/>
                <a:rect l="l" t="t" r="r" b="b"/>
                <a:pathLst>
                  <a:path w="5372" h="1933">
                    <a:moveTo>
                      <a:pt x="5239" y="951"/>
                    </a:moveTo>
                    <a:lnTo>
                      <a:pt x="5217" y="972"/>
                    </a:lnTo>
                    <a:lnTo>
                      <a:pt x="5194" y="991"/>
                    </a:lnTo>
                    <a:lnTo>
                      <a:pt x="5173" y="1009"/>
                    </a:lnTo>
                    <a:lnTo>
                      <a:pt x="5152" y="1026"/>
                    </a:lnTo>
                    <a:lnTo>
                      <a:pt x="5132" y="1045"/>
                    </a:lnTo>
                    <a:lnTo>
                      <a:pt x="5110" y="1062"/>
                    </a:lnTo>
                    <a:lnTo>
                      <a:pt x="5089" y="1078"/>
                    </a:lnTo>
                    <a:lnTo>
                      <a:pt x="5067" y="1093"/>
                    </a:lnTo>
                    <a:lnTo>
                      <a:pt x="5045" y="1110"/>
                    </a:lnTo>
                    <a:lnTo>
                      <a:pt x="5021" y="1125"/>
                    </a:lnTo>
                    <a:lnTo>
                      <a:pt x="4997" y="1140"/>
                    </a:lnTo>
                    <a:lnTo>
                      <a:pt x="4971" y="1155"/>
                    </a:lnTo>
                    <a:lnTo>
                      <a:pt x="4944" y="1170"/>
                    </a:lnTo>
                    <a:lnTo>
                      <a:pt x="4914" y="1185"/>
                    </a:lnTo>
                    <a:lnTo>
                      <a:pt x="4883" y="1200"/>
                    </a:lnTo>
                    <a:lnTo>
                      <a:pt x="4849" y="1215"/>
                    </a:lnTo>
                    <a:lnTo>
                      <a:pt x="4818" y="1228"/>
                    </a:lnTo>
                    <a:lnTo>
                      <a:pt x="4789" y="1241"/>
                    </a:lnTo>
                    <a:lnTo>
                      <a:pt x="4759" y="1252"/>
                    </a:lnTo>
                    <a:lnTo>
                      <a:pt x="4730" y="1264"/>
                    </a:lnTo>
                    <a:lnTo>
                      <a:pt x="4702" y="1275"/>
                    </a:lnTo>
                    <a:lnTo>
                      <a:pt x="4673" y="1284"/>
                    </a:lnTo>
                    <a:lnTo>
                      <a:pt x="4646" y="1293"/>
                    </a:lnTo>
                    <a:lnTo>
                      <a:pt x="4618" y="1303"/>
                    </a:lnTo>
                    <a:lnTo>
                      <a:pt x="4590" y="1310"/>
                    </a:lnTo>
                    <a:lnTo>
                      <a:pt x="4564" y="1320"/>
                    </a:lnTo>
                    <a:lnTo>
                      <a:pt x="4536" y="1327"/>
                    </a:lnTo>
                    <a:lnTo>
                      <a:pt x="4510" y="1333"/>
                    </a:lnTo>
                    <a:lnTo>
                      <a:pt x="4483" y="1340"/>
                    </a:lnTo>
                    <a:lnTo>
                      <a:pt x="4457" y="1346"/>
                    </a:lnTo>
                    <a:lnTo>
                      <a:pt x="4430" y="1351"/>
                    </a:lnTo>
                    <a:lnTo>
                      <a:pt x="4404" y="1357"/>
                    </a:lnTo>
                    <a:lnTo>
                      <a:pt x="4378" y="1363"/>
                    </a:lnTo>
                    <a:lnTo>
                      <a:pt x="4352" y="1368"/>
                    </a:lnTo>
                    <a:lnTo>
                      <a:pt x="4326" y="1374"/>
                    </a:lnTo>
                    <a:lnTo>
                      <a:pt x="4299" y="1379"/>
                    </a:lnTo>
                    <a:lnTo>
                      <a:pt x="4274" y="1383"/>
                    </a:lnTo>
                    <a:lnTo>
                      <a:pt x="4247" y="1389"/>
                    </a:lnTo>
                    <a:lnTo>
                      <a:pt x="4220" y="1393"/>
                    </a:lnTo>
                    <a:lnTo>
                      <a:pt x="4194" y="1398"/>
                    </a:lnTo>
                    <a:lnTo>
                      <a:pt x="4167" y="1402"/>
                    </a:lnTo>
                    <a:lnTo>
                      <a:pt x="4141" y="1408"/>
                    </a:lnTo>
                    <a:lnTo>
                      <a:pt x="4113" y="1413"/>
                    </a:lnTo>
                    <a:lnTo>
                      <a:pt x="4086" y="1417"/>
                    </a:lnTo>
                    <a:lnTo>
                      <a:pt x="4058" y="1423"/>
                    </a:lnTo>
                    <a:lnTo>
                      <a:pt x="4030" y="1428"/>
                    </a:lnTo>
                    <a:lnTo>
                      <a:pt x="4002" y="1434"/>
                    </a:lnTo>
                    <a:lnTo>
                      <a:pt x="3973" y="1439"/>
                    </a:lnTo>
                    <a:lnTo>
                      <a:pt x="3637" y="1510"/>
                    </a:lnTo>
                    <a:lnTo>
                      <a:pt x="3643" y="1606"/>
                    </a:lnTo>
                    <a:lnTo>
                      <a:pt x="3646" y="1697"/>
                    </a:lnTo>
                    <a:lnTo>
                      <a:pt x="3643" y="1778"/>
                    </a:lnTo>
                    <a:lnTo>
                      <a:pt x="3631" y="1834"/>
                    </a:lnTo>
                    <a:lnTo>
                      <a:pt x="3610" y="1839"/>
                    </a:lnTo>
                    <a:lnTo>
                      <a:pt x="3586" y="1845"/>
                    </a:lnTo>
                    <a:lnTo>
                      <a:pt x="3562" y="1851"/>
                    </a:lnTo>
                    <a:lnTo>
                      <a:pt x="3534" y="1854"/>
                    </a:lnTo>
                    <a:lnTo>
                      <a:pt x="3506" y="1858"/>
                    </a:lnTo>
                    <a:lnTo>
                      <a:pt x="3478" y="1862"/>
                    </a:lnTo>
                    <a:lnTo>
                      <a:pt x="3449" y="1864"/>
                    </a:lnTo>
                    <a:lnTo>
                      <a:pt x="3420" y="1864"/>
                    </a:lnTo>
                    <a:lnTo>
                      <a:pt x="3390" y="1864"/>
                    </a:lnTo>
                    <a:lnTo>
                      <a:pt x="3361" y="1864"/>
                    </a:lnTo>
                    <a:lnTo>
                      <a:pt x="3334" y="1860"/>
                    </a:lnTo>
                    <a:lnTo>
                      <a:pt x="3306" y="1856"/>
                    </a:lnTo>
                    <a:lnTo>
                      <a:pt x="3281" y="1851"/>
                    </a:lnTo>
                    <a:lnTo>
                      <a:pt x="3257" y="1843"/>
                    </a:lnTo>
                    <a:lnTo>
                      <a:pt x="3236" y="1834"/>
                    </a:lnTo>
                    <a:lnTo>
                      <a:pt x="3216" y="1823"/>
                    </a:lnTo>
                    <a:lnTo>
                      <a:pt x="3209" y="1778"/>
                    </a:lnTo>
                    <a:lnTo>
                      <a:pt x="3205" y="1725"/>
                    </a:lnTo>
                    <a:lnTo>
                      <a:pt x="3203" y="1669"/>
                    </a:lnTo>
                    <a:lnTo>
                      <a:pt x="3202" y="1608"/>
                    </a:lnTo>
                    <a:lnTo>
                      <a:pt x="3112" y="1623"/>
                    </a:lnTo>
                    <a:lnTo>
                      <a:pt x="3117" y="1694"/>
                    </a:lnTo>
                    <a:lnTo>
                      <a:pt x="3121" y="1778"/>
                    </a:lnTo>
                    <a:lnTo>
                      <a:pt x="3120" y="1853"/>
                    </a:lnTo>
                    <a:lnTo>
                      <a:pt x="3110" y="1894"/>
                    </a:lnTo>
                    <a:lnTo>
                      <a:pt x="3091" y="1905"/>
                    </a:lnTo>
                    <a:lnTo>
                      <a:pt x="3069" y="1914"/>
                    </a:lnTo>
                    <a:lnTo>
                      <a:pt x="3046" y="1922"/>
                    </a:lnTo>
                    <a:lnTo>
                      <a:pt x="3021" y="1927"/>
                    </a:lnTo>
                    <a:lnTo>
                      <a:pt x="2996" y="1931"/>
                    </a:lnTo>
                    <a:lnTo>
                      <a:pt x="2969" y="1933"/>
                    </a:lnTo>
                    <a:lnTo>
                      <a:pt x="2941" y="1931"/>
                    </a:lnTo>
                    <a:lnTo>
                      <a:pt x="2915" y="1929"/>
                    </a:lnTo>
                    <a:lnTo>
                      <a:pt x="2887" y="1925"/>
                    </a:lnTo>
                    <a:lnTo>
                      <a:pt x="2861" y="1920"/>
                    </a:lnTo>
                    <a:lnTo>
                      <a:pt x="2834" y="1914"/>
                    </a:lnTo>
                    <a:lnTo>
                      <a:pt x="2810" y="1905"/>
                    </a:lnTo>
                    <a:lnTo>
                      <a:pt x="2785" y="1896"/>
                    </a:lnTo>
                    <a:lnTo>
                      <a:pt x="2764" y="1882"/>
                    </a:lnTo>
                    <a:lnTo>
                      <a:pt x="2743" y="1871"/>
                    </a:lnTo>
                    <a:lnTo>
                      <a:pt x="2726" y="1856"/>
                    </a:lnTo>
                    <a:lnTo>
                      <a:pt x="2723" y="1813"/>
                    </a:lnTo>
                    <a:lnTo>
                      <a:pt x="2722" y="1767"/>
                    </a:lnTo>
                    <a:lnTo>
                      <a:pt x="2721" y="1720"/>
                    </a:lnTo>
                    <a:lnTo>
                      <a:pt x="2722" y="1677"/>
                    </a:lnTo>
                    <a:lnTo>
                      <a:pt x="2704" y="1679"/>
                    </a:lnTo>
                    <a:lnTo>
                      <a:pt x="2686" y="1681"/>
                    </a:lnTo>
                    <a:lnTo>
                      <a:pt x="2667" y="1682"/>
                    </a:lnTo>
                    <a:lnTo>
                      <a:pt x="2647" y="1684"/>
                    </a:lnTo>
                    <a:lnTo>
                      <a:pt x="2626" y="1684"/>
                    </a:lnTo>
                    <a:lnTo>
                      <a:pt x="2603" y="1686"/>
                    </a:lnTo>
                    <a:lnTo>
                      <a:pt x="2580" y="1688"/>
                    </a:lnTo>
                    <a:lnTo>
                      <a:pt x="2554" y="1688"/>
                    </a:lnTo>
                    <a:lnTo>
                      <a:pt x="2528" y="1690"/>
                    </a:lnTo>
                    <a:lnTo>
                      <a:pt x="2499" y="1692"/>
                    </a:lnTo>
                    <a:lnTo>
                      <a:pt x="2469" y="1692"/>
                    </a:lnTo>
                    <a:lnTo>
                      <a:pt x="2437" y="1694"/>
                    </a:lnTo>
                    <a:lnTo>
                      <a:pt x="2403" y="1695"/>
                    </a:lnTo>
                    <a:lnTo>
                      <a:pt x="2366" y="1697"/>
                    </a:lnTo>
                    <a:lnTo>
                      <a:pt x="2327" y="1701"/>
                    </a:lnTo>
                    <a:lnTo>
                      <a:pt x="2285" y="1703"/>
                    </a:lnTo>
                    <a:lnTo>
                      <a:pt x="2259" y="1705"/>
                    </a:lnTo>
                    <a:lnTo>
                      <a:pt x="2233" y="1707"/>
                    </a:lnTo>
                    <a:lnTo>
                      <a:pt x="2208" y="1709"/>
                    </a:lnTo>
                    <a:lnTo>
                      <a:pt x="2181" y="1709"/>
                    </a:lnTo>
                    <a:lnTo>
                      <a:pt x="2156" y="1710"/>
                    </a:lnTo>
                    <a:lnTo>
                      <a:pt x="2130" y="1710"/>
                    </a:lnTo>
                    <a:lnTo>
                      <a:pt x="2105" y="1712"/>
                    </a:lnTo>
                    <a:lnTo>
                      <a:pt x="2080" y="1712"/>
                    </a:lnTo>
                    <a:lnTo>
                      <a:pt x="2055" y="1712"/>
                    </a:lnTo>
                    <a:lnTo>
                      <a:pt x="2029" y="1714"/>
                    </a:lnTo>
                    <a:lnTo>
                      <a:pt x="2005" y="1714"/>
                    </a:lnTo>
                    <a:lnTo>
                      <a:pt x="1979" y="1714"/>
                    </a:lnTo>
                    <a:lnTo>
                      <a:pt x="1954" y="1712"/>
                    </a:lnTo>
                    <a:lnTo>
                      <a:pt x="1930" y="1712"/>
                    </a:lnTo>
                    <a:lnTo>
                      <a:pt x="1905" y="1712"/>
                    </a:lnTo>
                    <a:lnTo>
                      <a:pt x="1881" y="1710"/>
                    </a:lnTo>
                    <a:lnTo>
                      <a:pt x="1856" y="1710"/>
                    </a:lnTo>
                    <a:lnTo>
                      <a:pt x="1832" y="1709"/>
                    </a:lnTo>
                    <a:lnTo>
                      <a:pt x="1808" y="1707"/>
                    </a:lnTo>
                    <a:lnTo>
                      <a:pt x="1784" y="1705"/>
                    </a:lnTo>
                    <a:lnTo>
                      <a:pt x="1760" y="1701"/>
                    </a:lnTo>
                    <a:lnTo>
                      <a:pt x="1736" y="1699"/>
                    </a:lnTo>
                    <a:lnTo>
                      <a:pt x="1712" y="1695"/>
                    </a:lnTo>
                    <a:lnTo>
                      <a:pt x="1689" y="1694"/>
                    </a:lnTo>
                    <a:lnTo>
                      <a:pt x="1665" y="1690"/>
                    </a:lnTo>
                    <a:lnTo>
                      <a:pt x="1642" y="1686"/>
                    </a:lnTo>
                    <a:lnTo>
                      <a:pt x="1618" y="1681"/>
                    </a:lnTo>
                    <a:lnTo>
                      <a:pt x="1596" y="1677"/>
                    </a:lnTo>
                    <a:lnTo>
                      <a:pt x="1572" y="1671"/>
                    </a:lnTo>
                    <a:lnTo>
                      <a:pt x="1550" y="1666"/>
                    </a:lnTo>
                    <a:lnTo>
                      <a:pt x="1526" y="1660"/>
                    </a:lnTo>
                    <a:lnTo>
                      <a:pt x="1504" y="1654"/>
                    </a:lnTo>
                    <a:lnTo>
                      <a:pt x="537" y="1383"/>
                    </a:lnTo>
                    <a:lnTo>
                      <a:pt x="528" y="1355"/>
                    </a:lnTo>
                    <a:lnTo>
                      <a:pt x="523" y="1336"/>
                    </a:lnTo>
                    <a:lnTo>
                      <a:pt x="517" y="1320"/>
                    </a:lnTo>
                    <a:lnTo>
                      <a:pt x="511" y="1297"/>
                    </a:lnTo>
                    <a:lnTo>
                      <a:pt x="0" y="925"/>
                    </a:lnTo>
                    <a:lnTo>
                      <a:pt x="154" y="891"/>
                    </a:lnTo>
                    <a:lnTo>
                      <a:pt x="1022" y="1164"/>
                    </a:lnTo>
                    <a:lnTo>
                      <a:pt x="1035" y="1172"/>
                    </a:lnTo>
                    <a:lnTo>
                      <a:pt x="1041" y="1181"/>
                    </a:lnTo>
                    <a:lnTo>
                      <a:pt x="1041" y="1189"/>
                    </a:lnTo>
                    <a:lnTo>
                      <a:pt x="1038" y="1198"/>
                    </a:lnTo>
                    <a:lnTo>
                      <a:pt x="1032" y="1207"/>
                    </a:lnTo>
                    <a:lnTo>
                      <a:pt x="1024" y="1219"/>
                    </a:lnTo>
                    <a:lnTo>
                      <a:pt x="1016" y="1230"/>
                    </a:lnTo>
                    <a:lnTo>
                      <a:pt x="1009" y="1241"/>
                    </a:lnTo>
                    <a:lnTo>
                      <a:pt x="1012" y="1264"/>
                    </a:lnTo>
                    <a:lnTo>
                      <a:pt x="1019" y="1282"/>
                    </a:lnTo>
                    <a:lnTo>
                      <a:pt x="1027" y="1299"/>
                    </a:lnTo>
                    <a:lnTo>
                      <a:pt x="1036" y="1314"/>
                    </a:lnTo>
                    <a:lnTo>
                      <a:pt x="1046" y="1329"/>
                    </a:lnTo>
                    <a:lnTo>
                      <a:pt x="1057" y="1340"/>
                    </a:lnTo>
                    <a:lnTo>
                      <a:pt x="1067" y="1351"/>
                    </a:lnTo>
                    <a:lnTo>
                      <a:pt x="1076" y="1361"/>
                    </a:lnTo>
                    <a:lnTo>
                      <a:pt x="1087" y="1359"/>
                    </a:lnTo>
                    <a:lnTo>
                      <a:pt x="1099" y="1357"/>
                    </a:lnTo>
                    <a:lnTo>
                      <a:pt x="1112" y="1355"/>
                    </a:lnTo>
                    <a:lnTo>
                      <a:pt x="1123" y="1353"/>
                    </a:lnTo>
                    <a:lnTo>
                      <a:pt x="1135" y="1350"/>
                    </a:lnTo>
                    <a:lnTo>
                      <a:pt x="1147" y="1348"/>
                    </a:lnTo>
                    <a:lnTo>
                      <a:pt x="1160" y="1344"/>
                    </a:lnTo>
                    <a:lnTo>
                      <a:pt x="1172" y="1342"/>
                    </a:lnTo>
                    <a:lnTo>
                      <a:pt x="1184" y="1338"/>
                    </a:lnTo>
                    <a:lnTo>
                      <a:pt x="1195" y="1336"/>
                    </a:lnTo>
                    <a:lnTo>
                      <a:pt x="1208" y="1333"/>
                    </a:lnTo>
                    <a:lnTo>
                      <a:pt x="1219" y="1329"/>
                    </a:lnTo>
                    <a:lnTo>
                      <a:pt x="1230" y="1327"/>
                    </a:lnTo>
                    <a:lnTo>
                      <a:pt x="1241" y="1325"/>
                    </a:lnTo>
                    <a:lnTo>
                      <a:pt x="1252" y="1322"/>
                    </a:lnTo>
                    <a:lnTo>
                      <a:pt x="1262" y="1320"/>
                    </a:lnTo>
                    <a:lnTo>
                      <a:pt x="1791" y="1215"/>
                    </a:lnTo>
                    <a:lnTo>
                      <a:pt x="1817" y="1209"/>
                    </a:lnTo>
                    <a:lnTo>
                      <a:pt x="1842" y="1206"/>
                    </a:lnTo>
                    <a:lnTo>
                      <a:pt x="1867" y="1200"/>
                    </a:lnTo>
                    <a:lnTo>
                      <a:pt x="1892" y="1194"/>
                    </a:lnTo>
                    <a:lnTo>
                      <a:pt x="1917" y="1191"/>
                    </a:lnTo>
                    <a:lnTo>
                      <a:pt x="1942" y="1185"/>
                    </a:lnTo>
                    <a:lnTo>
                      <a:pt x="1969" y="1181"/>
                    </a:lnTo>
                    <a:lnTo>
                      <a:pt x="1995" y="1178"/>
                    </a:lnTo>
                    <a:lnTo>
                      <a:pt x="2024" y="1172"/>
                    </a:lnTo>
                    <a:lnTo>
                      <a:pt x="2053" y="1168"/>
                    </a:lnTo>
                    <a:lnTo>
                      <a:pt x="2084" y="1164"/>
                    </a:lnTo>
                    <a:lnTo>
                      <a:pt x="2117" y="1161"/>
                    </a:lnTo>
                    <a:lnTo>
                      <a:pt x="2153" y="1157"/>
                    </a:lnTo>
                    <a:lnTo>
                      <a:pt x="2189" y="1153"/>
                    </a:lnTo>
                    <a:lnTo>
                      <a:pt x="2230" y="1150"/>
                    </a:lnTo>
                    <a:lnTo>
                      <a:pt x="2273" y="1146"/>
                    </a:lnTo>
                    <a:lnTo>
                      <a:pt x="2260" y="1144"/>
                    </a:lnTo>
                    <a:lnTo>
                      <a:pt x="2246" y="1142"/>
                    </a:lnTo>
                    <a:lnTo>
                      <a:pt x="2232" y="1140"/>
                    </a:lnTo>
                    <a:lnTo>
                      <a:pt x="2218" y="1138"/>
                    </a:lnTo>
                    <a:lnTo>
                      <a:pt x="2205" y="1136"/>
                    </a:lnTo>
                    <a:lnTo>
                      <a:pt x="2191" y="1135"/>
                    </a:lnTo>
                    <a:lnTo>
                      <a:pt x="2179" y="1133"/>
                    </a:lnTo>
                    <a:lnTo>
                      <a:pt x="2166" y="1129"/>
                    </a:lnTo>
                    <a:lnTo>
                      <a:pt x="2154" y="1127"/>
                    </a:lnTo>
                    <a:lnTo>
                      <a:pt x="2141" y="1125"/>
                    </a:lnTo>
                    <a:lnTo>
                      <a:pt x="2130" y="1121"/>
                    </a:lnTo>
                    <a:lnTo>
                      <a:pt x="2119" y="1120"/>
                    </a:lnTo>
                    <a:lnTo>
                      <a:pt x="2108" y="1116"/>
                    </a:lnTo>
                    <a:lnTo>
                      <a:pt x="2097" y="1114"/>
                    </a:lnTo>
                    <a:lnTo>
                      <a:pt x="2087" y="1110"/>
                    </a:lnTo>
                    <a:lnTo>
                      <a:pt x="2078" y="1108"/>
                    </a:lnTo>
                    <a:lnTo>
                      <a:pt x="2069" y="1099"/>
                    </a:lnTo>
                    <a:lnTo>
                      <a:pt x="2062" y="1084"/>
                    </a:lnTo>
                    <a:lnTo>
                      <a:pt x="2055" y="1065"/>
                    </a:lnTo>
                    <a:lnTo>
                      <a:pt x="2049" y="1041"/>
                    </a:lnTo>
                    <a:lnTo>
                      <a:pt x="2044" y="1011"/>
                    </a:lnTo>
                    <a:lnTo>
                      <a:pt x="2040" y="972"/>
                    </a:lnTo>
                    <a:lnTo>
                      <a:pt x="2035" y="925"/>
                    </a:lnTo>
                    <a:lnTo>
                      <a:pt x="2031" y="869"/>
                    </a:lnTo>
                    <a:lnTo>
                      <a:pt x="2015" y="871"/>
                    </a:lnTo>
                    <a:lnTo>
                      <a:pt x="1997" y="871"/>
                    </a:lnTo>
                    <a:lnTo>
                      <a:pt x="1977" y="871"/>
                    </a:lnTo>
                    <a:lnTo>
                      <a:pt x="1956" y="871"/>
                    </a:lnTo>
                    <a:lnTo>
                      <a:pt x="1936" y="871"/>
                    </a:lnTo>
                    <a:lnTo>
                      <a:pt x="1917" y="871"/>
                    </a:lnTo>
                    <a:lnTo>
                      <a:pt x="1898" y="871"/>
                    </a:lnTo>
                    <a:lnTo>
                      <a:pt x="1882" y="869"/>
                    </a:lnTo>
                    <a:lnTo>
                      <a:pt x="1845" y="746"/>
                    </a:lnTo>
                    <a:lnTo>
                      <a:pt x="891" y="71"/>
                    </a:lnTo>
                    <a:lnTo>
                      <a:pt x="877" y="44"/>
                    </a:lnTo>
                    <a:lnTo>
                      <a:pt x="892" y="43"/>
                    </a:lnTo>
                    <a:lnTo>
                      <a:pt x="907" y="41"/>
                    </a:lnTo>
                    <a:lnTo>
                      <a:pt x="923" y="41"/>
                    </a:lnTo>
                    <a:lnTo>
                      <a:pt x="939" y="39"/>
                    </a:lnTo>
                    <a:lnTo>
                      <a:pt x="956" y="39"/>
                    </a:lnTo>
                    <a:lnTo>
                      <a:pt x="973" y="37"/>
                    </a:lnTo>
                    <a:lnTo>
                      <a:pt x="990" y="35"/>
                    </a:lnTo>
                    <a:lnTo>
                      <a:pt x="1006" y="35"/>
                    </a:lnTo>
                    <a:lnTo>
                      <a:pt x="1023" y="33"/>
                    </a:lnTo>
                    <a:lnTo>
                      <a:pt x="1039" y="31"/>
                    </a:lnTo>
                    <a:lnTo>
                      <a:pt x="1054" y="28"/>
                    </a:lnTo>
                    <a:lnTo>
                      <a:pt x="1070" y="24"/>
                    </a:lnTo>
                    <a:lnTo>
                      <a:pt x="1084" y="20"/>
                    </a:lnTo>
                    <a:lnTo>
                      <a:pt x="1098" y="15"/>
                    </a:lnTo>
                    <a:lnTo>
                      <a:pt x="1111" y="7"/>
                    </a:lnTo>
                    <a:lnTo>
                      <a:pt x="1123" y="0"/>
                    </a:lnTo>
                    <a:lnTo>
                      <a:pt x="2060" y="501"/>
                    </a:lnTo>
                    <a:lnTo>
                      <a:pt x="2558" y="714"/>
                    </a:lnTo>
                    <a:lnTo>
                      <a:pt x="3359" y="977"/>
                    </a:lnTo>
                    <a:lnTo>
                      <a:pt x="3398" y="970"/>
                    </a:lnTo>
                    <a:lnTo>
                      <a:pt x="3438" y="961"/>
                    </a:lnTo>
                    <a:lnTo>
                      <a:pt x="3477" y="953"/>
                    </a:lnTo>
                    <a:lnTo>
                      <a:pt x="3515" y="946"/>
                    </a:lnTo>
                    <a:lnTo>
                      <a:pt x="3553" y="938"/>
                    </a:lnTo>
                    <a:lnTo>
                      <a:pt x="3592" y="931"/>
                    </a:lnTo>
                    <a:lnTo>
                      <a:pt x="3630" y="923"/>
                    </a:lnTo>
                    <a:lnTo>
                      <a:pt x="3668" y="916"/>
                    </a:lnTo>
                    <a:lnTo>
                      <a:pt x="3706" y="908"/>
                    </a:lnTo>
                    <a:lnTo>
                      <a:pt x="3743" y="901"/>
                    </a:lnTo>
                    <a:lnTo>
                      <a:pt x="3781" y="895"/>
                    </a:lnTo>
                    <a:lnTo>
                      <a:pt x="3819" y="888"/>
                    </a:lnTo>
                    <a:lnTo>
                      <a:pt x="3857" y="880"/>
                    </a:lnTo>
                    <a:lnTo>
                      <a:pt x="3895" y="875"/>
                    </a:lnTo>
                    <a:lnTo>
                      <a:pt x="3931" y="867"/>
                    </a:lnTo>
                    <a:lnTo>
                      <a:pt x="3969" y="862"/>
                    </a:lnTo>
                    <a:lnTo>
                      <a:pt x="3993" y="858"/>
                    </a:lnTo>
                    <a:lnTo>
                      <a:pt x="4015" y="854"/>
                    </a:lnTo>
                    <a:lnTo>
                      <a:pt x="4038" y="850"/>
                    </a:lnTo>
                    <a:lnTo>
                      <a:pt x="4060" y="847"/>
                    </a:lnTo>
                    <a:lnTo>
                      <a:pt x="4083" y="843"/>
                    </a:lnTo>
                    <a:lnTo>
                      <a:pt x="4104" y="839"/>
                    </a:lnTo>
                    <a:lnTo>
                      <a:pt x="4127" y="835"/>
                    </a:lnTo>
                    <a:lnTo>
                      <a:pt x="4148" y="832"/>
                    </a:lnTo>
                    <a:lnTo>
                      <a:pt x="4170" y="828"/>
                    </a:lnTo>
                    <a:lnTo>
                      <a:pt x="4192" y="824"/>
                    </a:lnTo>
                    <a:lnTo>
                      <a:pt x="4213" y="820"/>
                    </a:lnTo>
                    <a:lnTo>
                      <a:pt x="4235" y="817"/>
                    </a:lnTo>
                    <a:lnTo>
                      <a:pt x="4255" y="813"/>
                    </a:lnTo>
                    <a:lnTo>
                      <a:pt x="4277" y="809"/>
                    </a:lnTo>
                    <a:lnTo>
                      <a:pt x="4298" y="805"/>
                    </a:lnTo>
                    <a:lnTo>
                      <a:pt x="4319" y="800"/>
                    </a:lnTo>
                    <a:lnTo>
                      <a:pt x="4340" y="796"/>
                    </a:lnTo>
                    <a:lnTo>
                      <a:pt x="4360" y="792"/>
                    </a:lnTo>
                    <a:lnTo>
                      <a:pt x="4381" y="789"/>
                    </a:lnTo>
                    <a:lnTo>
                      <a:pt x="4402" y="785"/>
                    </a:lnTo>
                    <a:lnTo>
                      <a:pt x="4423" y="781"/>
                    </a:lnTo>
                    <a:lnTo>
                      <a:pt x="4443" y="777"/>
                    </a:lnTo>
                    <a:lnTo>
                      <a:pt x="4464" y="776"/>
                    </a:lnTo>
                    <a:lnTo>
                      <a:pt x="4484" y="772"/>
                    </a:lnTo>
                    <a:lnTo>
                      <a:pt x="4505" y="768"/>
                    </a:lnTo>
                    <a:lnTo>
                      <a:pt x="4525" y="764"/>
                    </a:lnTo>
                    <a:lnTo>
                      <a:pt x="4546" y="761"/>
                    </a:lnTo>
                    <a:lnTo>
                      <a:pt x="4567" y="757"/>
                    </a:lnTo>
                    <a:lnTo>
                      <a:pt x="4587" y="755"/>
                    </a:lnTo>
                    <a:lnTo>
                      <a:pt x="4608" y="751"/>
                    </a:lnTo>
                    <a:lnTo>
                      <a:pt x="4628" y="749"/>
                    </a:lnTo>
                    <a:lnTo>
                      <a:pt x="4649" y="746"/>
                    </a:lnTo>
                    <a:lnTo>
                      <a:pt x="4675" y="742"/>
                    </a:lnTo>
                    <a:lnTo>
                      <a:pt x="4700" y="738"/>
                    </a:lnTo>
                    <a:lnTo>
                      <a:pt x="4724" y="736"/>
                    </a:lnTo>
                    <a:lnTo>
                      <a:pt x="4749" y="734"/>
                    </a:lnTo>
                    <a:lnTo>
                      <a:pt x="4771" y="731"/>
                    </a:lnTo>
                    <a:lnTo>
                      <a:pt x="4795" y="729"/>
                    </a:lnTo>
                    <a:lnTo>
                      <a:pt x="4816" y="727"/>
                    </a:lnTo>
                    <a:lnTo>
                      <a:pt x="4838" y="725"/>
                    </a:lnTo>
                    <a:lnTo>
                      <a:pt x="4859" y="723"/>
                    </a:lnTo>
                    <a:lnTo>
                      <a:pt x="4880" y="723"/>
                    </a:lnTo>
                    <a:lnTo>
                      <a:pt x="4901" y="721"/>
                    </a:lnTo>
                    <a:lnTo>
                      <a:pt x="4921" y="721"/>
                    </a:lnTo>
                    <a:lnTo>
                      <a:pt x="4942" y="719"/>
                    </a:lnTo>
                    <a:lnTo>
                      <a:pt x="4961" y="719"/>
                    </a:lnTo>
                    <a:lnTo>
                      <a:pt x="4982" y="718"/>
                    </a:lnTo>
                    <a:lnTo>
                      <a:pt x="5002" y="718"/>
                    </a:lnTo>
                    <a:lnTo>
                      <a:pt x="5021" y="716"/>
                    </a:lnTo>
                    <a:lnTo>
                      <a:pt x="5042" y="716"/>
                    </a:lnTo>
                    <a:lnTo>
                      <a:pt x="5062" y="714"/>
                    </a:lnTo>
                    <a:lnTo>
                      <a:pt x="5084" y="714"/>
                    </a:lnTo>
                    <a:lnTo>
                      <a:pt x="5104" y="712"/>
                    </a:lnTo>
                    <a:lnTo>
                      <a:pt x="5126" y="712"/>
                    </a:lnTo>
                    <a:lnTo>
                      <a:pt x="5147" y="710"/>
                    </a:lnTo>
                    <a:lnTo>
                      <a:pt x="5170" y="710"/>
                    </a:lnTo>
                    <a:lnTo>
                      <a:pt x="5192" y="708"/>
                    </a:lnTo>
                    <a:lnTo>
                      <a:pt x="5216" y="706"/>
                    </a:lnTo>
                    <a:lnTo>
                      <a:pt x="5240" y="705"/>
                    </a:lnTo>
                    <a:lnTo>
                      <a:pt x="5265" y="703"/>
                    </a:lnTo>
                    <a:lnTo>
                      <a:pt x="5290" y="701"/>
                    </a:lnTo>
                    <a:lnTo>
                      <a:pt x="5317" y="697"/>
                    </a:lnTo>
                    <a:lnTo>
                      <a:pt x="5343" y="695"/>
                    </a:lnTo>
                    <a:lnTo>
                      <a:pt x="5372" y="691"/>
                    </a:lnTo>
                    <a:lnTo>
                      <a:pt x="5371" y="731"/>
                    </a:lnTo>
                    <a:lnTo>
                      <a:pt x="5365" y="766"/>
                    </a:lnTo>
                    <a:lnTo>
                      <a:pt x="5354" y="802"/>
                    </a:lnTo>
                    <a:lnTo>
                      <a:pt x="5338" y="835"/>
                    </a:lnTo>
                    <a:lnTo>
                      <a:pt x="5319" y="865"/>
                    </a:lnTo>
                    <a:lnTo>
                      <a:pt x="5295" y="895"/>
                    </a:lnTo>
                    <a:lnTo>
                      <a:pt x="5269" y="923"/>
                    </a:lnTo>
                    <a:lnTo>
                      <a:pt x="5239" y="9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5600" y="3726000"/>
                <a:ext cx="8528040" cy="1535040"/>
              </a:xfrm>
              <a:custGeom>
                <a:avLst/>
                <a:gdLst/>
                <a:ahLst/>
                <a:rect l="l" t="t" r="r" b="b"/>
                <a:pathLst>
                  <a:path w="5372" h="1933">
                    <a:moveTo>
                      <a:pt x="5239" y="951"/>
                    </a:moveTo>
                    <a:lnTo>
                      <a:pt x="5239" y="951"/>
                    </a:lnTo>
                    <a:lnTo>
                      <a:pt x="5217" y="972"/>
                    </a:lnTo>
                    <a:lnTo>
                      <a:pt x="5194" y="991"/>
                    </a:lnTo>
                    <a:lnTo>
                      <a:pt x="5173" y="1009"/>
                    </a:lnTo>
                    <a:lnTo>
                      <a:pt x="5152" y="1026"/>
                    </a:lnTo>
                    <a:lnTo>
                      <a:pt x="5132" y="1045"/>
                    </a:lnTo>
                    <a:lnTo>
                      <a:pt x="5110" y="1062"/>
                    </a:lnTo>
                    <a:lnTo>
                      <a:pt x="5089" y="1078"/>
                    </a:lnTo>
                    <a:lnTo>
                      <a:pt x="5067" y="1093"/>
                    </a:lnTo>
                    <a:lnTo>
                      <a:pt x="5045" y="1110"/>
                    </a:lnTo>
                    <a:lnTo>
                      <a:pt x="5021" y="1125"/>
                    </a:lnTo>
                    <a:lnTo>
                      <a:pt x="4997" y="1140"/>
                    </a:lnTo>
                    <a:lnTo>
                      <a:pt x="4971" y="1155"/>
                    </a:lnTo>
                    <a:lnTo>
                      <a:pt x="4944" y="1170"/>
                    </a:lnTo>
                    <a:lnTo>
                      <a:pt x="4914" y="1185"/>
                    </a:lnTo>
                    <a:lnTo>
                      <a:pt x="4883" y="1200"/>
                    </a:lnTo>
                    <a:lnTo>
                      <a:pt x="4849" y="1215"/>
                    </a:lnTo>
                    <a:lnTo>
                      <a:pt x="4849" y="1215"/>
                    </a:lnTo>
                    <a:lnTo>
                      <a:pt x="4818" y="1228"/>
                    </a:lnTo>
                    <a:lnTo>
                      <a:pt x="4789" y="1241"/>
                    </a:lnTo>
                    <a:lnTo>
                      <a:pt x="4759" y="1252"/>
                    </a:lnTo>
                    <a:lnTo>
                      <a:pt x="4730" y="1264"/>
                    </a:lnTo>
                    <a:lnTo>
                      <a:pt x="4702" y="1275"/>
                    </a:lnTo>
                    <a:lnTo>
                      <a:pt x="4673" y="1284"/>
                    </a:lnTo>
                    <a:lnTo>
                      <a:pt x="4646" y="1293"/>
                    </a:lnTo>
                    <a:lnTo>
                      <a:pt x="4618" y="1303"/>
                    </a:lnTo>
                    <a:lnTo>
                      <a:pt x="4590" y="1310"/>
                    </a:lnTo>
                    <a:lnTo>
                      <a:pt x="4564" y="1320"/>
                    </a:lnTo>
                    <a:lnTo>
                      <a:pt x="4536" y="1327"/>
                    </a:lnTo>
                    <a:lnTo>
                      <a:pt x="4510" y="1333"/>
                    </a:lnTo>
                    <a:lnTo>
                      <a:pt x="4483" y="1340"/>
                    </a:lnTo>
                    <a:lnTo>
                      <a:pt x="4457" y="1346"/>
                    </a:lnTo>
                    <a:lnTo>
                      <a:pt x="4430" y="1351"/>
                    </a:lnTo>
                    <a:lnTo>
                      <a:pt x="4404" y="1357"/>
                    </a:lnTo>
                    <a:lnTo>
                      <a:pt x="4378" y="1363"/>
                    </a:lnTo>
                    <a:lnTo>
                      <a:pt x="4352" y="1368"/>
                    </a:lnTo>
                    <a:lnTo>
                      <a:pt x="4326" y="1374"/>
                    </a:lnTo>
                    <a:lnTo>
                      <a:pt x="4299" y="1379"/>
                    </a:lnTo>
                    <a:lnTo>
                      <a:pt x="4274" y="1383"/>
                    </a:lnTo>
                    <a:lnTo>
                      <a:pt x="4247" y="1389"/>
                    </a:lnTo>
                    <a:lnTo>
                      <a:pt x="4220" y="1393"/>
                    </a:lnTo>
                    <a:lnTo>
                      <a:pt x="4194" y="1398"/>
                    </a:lnTo>
                    <a:lnTo>
                      <a:pt x="4167" y="1402"/>
                    </a:lnTo>
                    <a:lnTo>
                      <a:pt x="4141" y="1408"/>
                    </a:lnTo>
                    <a:lnTo>
                      <a:pt x="4113" y="1413"/>
                    </a:lnTo>
                    <a:lnTo>
                      <a:pt x="4086" y="1417"/>
                    </a:lnTo>
                    <a:lnTo>
                      <a:pt x="4058" y="1423"/>
                    </a:lnTo>
                    <a:lnTo>
                      <a:pt x="4030" y="1428"/>
                    </a:lnTo>
                    <a:lnTo>
                      <a:pt x="4002" y="1434"/>
                    </a:lnTo>
                    <a:lnTo>
                      <a:pt x="3973" y="1439"/>
                    </a:lnTo>
                    <a:lnTo>
                      <a:pt x="3637" y="1510"/>
                    </a:lnTo>
                    <a:lnTo>
                      <a:pt x="3637" y="1510"/>
                    </a:lnTo>
                    <a:lnTo>
                      <a:pt x="3643" y="1606"/>
                    </a:lnTo>
                    <a:lnTo>
                      <a:pt x="3646" y="1697"/>
                    </a:lnTo>
                    <a:lnTo>
                      <a:pt x="3643" y="1778"/>
                    </a:lnTo>
                    <a:lnTo>
                      <a:pt x="3631" y="1834"/>
                    </a:lnTo>
                    <a:lnTo>
                      <a:pt x="3631" y="1834"/>
                    </a:lnTo>
                    <a:lnTo>
                      <a:pt x="3610" y="1839"/>
                    </a:lnTo>
                    <a:lnTo>
                      <a:pt x="3586" y="1845"/>
                    </a:lnTo>
                    <a:lnTo>
                      <a:pt x="3562" y="1851"/>
                    </a:lnTo>
                    <a:lnTo>
                      <a:pt x="3534" y="1854"/>
                    </a:lnTo>
                    <a:lnTo>
                      <a:pt x="3506" y="1858"/>
                    </a:lnTo>
                    <a:lnTo>
                      <a:pt x="3478" y="1862"/>
                    </a:lnTo>
                    <a:lnTo>
                      <a:pt x="3449" y="1864"/>
                    </a:lnTo>
                    <a:lnTo>
                      <a:pt x="3420" y="1864"/>
                    </a:lnTo>
                    <a:lnTo>
                      <a:pt x="3390" y="1864"/>
                    </a:lnTo>
                    <a:lnTo>
                      <a:pt x="3361" y="1864"/>
                    </a:lnTo>
                    <a:lnTo>
                      <a:pt x="3334" y="1860"/>
                    </a:lnTo>
                    <a:lnTo>
                      <a:pt x="3306" y="1856"/>
                    </a:lnTo>
                    <a:lnTo>
                      <a:pt x="3281" y="1851"/>
                    </a:lnTo>
                    <a:lnTo>
                      <a:pt x="3257" y="1843"/>
                    </a:lnTo>
                    <a:lnTo>
                      <a:pt x="3236" y="1834"/>
                    </a:lnTo>
                    <a:lnTo>
                      <a:pt x="3216" y="1823"/>
                    </a:lnTo>
                    <a:lnTo>
                      <a:pt x="3216" y="1823"/>
                    </a:lnTo>
                    <a:lnTo>
                      <a:pt x="3209" y="1778"/>
                    </a:lnTo>
                    <a:lnTo>
                      <a:pt x="3205" y="1725"/>
                    </a:lnTo>
                    <a:lnTo>
                      <a:pt x="3203" y="1669"/>
                    </a:lnTo>
                    <a:lnTo>
                      <a:pt x="3202" y="1608"/>
                    </a:lnTo>
                    <a:lnTo>
                      <a:pt x="3112" y="1623"/>
                    </a:lnTo>
                    <a:lnTo>
                      <a:pt x="3112" y="1623"/>
                    </a:lnTo>
                    <a:lnTo>
                      <a:pt x="3117" y="1694"/>
                    </a:lnTo>
                    <a:lnTo>
                      <a:pt x="3121" y="1778"/>
                    </a:lnTo>
                    <a:lnTo>
                      <a:pt x="3120" y="1853"/>
                    </a:lnTo>
                    <a:lnTo>
                      <a:pt x="3110" y="1894"/>
                    </a:lnTo>
                    <a:lnTo>
                      <a:pt x="3110" y="1894"/>
                    </a:lnTo>
                    <a:lnTo>
                      <a:pt x="3091" y="1905"/>
                    </a:lnTo>
                    <a:lnTo>
                      <a:pt x="3069" y="1914"/>
                    </a:lnTo>
                    <a:lnTo>
                      <a:pt x="3046" y="1922"/>
                    </a:lnTo>
                    <a:lnTo>
                      <a:pt x="3021" y="1927"/>
                    </a:lnTo>
                    <a:lnTo>
                      <a:pt x="2996" y="1931"/>
                    </a:lnTo>
                    <a:lnTo>
                      <a:pt x="2969" y="1933"/>
                    </a:lnTo>
                    <a:lnTo>
                      <a:pt x="2941" y="1931"/>
                    </a:lnTo>
                    <a:lnTo>
                      <a:pt x="2915" y="1929"/>
                    </a:lnTo>
                    <a:lnTo>
                      <a:pt x="2887" y="1925"/>
                    </a:lnTo>
                    <a:lnTo>
                      <a:pt x="2861" y="1920"/>
                    </a:lnTo>
                    <a:lnTo>
                      <a:pt x="2834" y="1914"/>
                    </a:lnTo>
                    <a:lnTo>
                      <a:pt x="2810" y="1905"/>
                    </a:lnTo>
                    <a:lnTo>
                      <a:pt x="2785" y="1896"/>
                    </a:lnTo>
                    <a:lnTo>
                      <a:pt x="2764" y="1882"/>
                    </a:lnTo>
                    <a:lnTo>
                      <a:pt x="2743" y="1871"/>
                    </a:lnTo>
                    <a:lnTo>
                      <a:pt x="2726" y="1856"/>
                    </a:lnTo>
                    <a:lnTo>
                      <a:pt x="2726" y="1856"/>
                    </a:lnTo>
                    <a:lnTo>
                      <a:pt x="2723" y="1813"/>
                    </a:lnTo>
                    <a:lnTo>
                      <a:pt x="2722" y="1767"/>
                    </a:lnTo>
                    <a:lnTo>
                      <a:pt x="2721" y="1720"/>
                    </a:lnTo>
                    <a:lnTo>
                      <a:pt x="2722" y="1677"/>
                    </a:lnTo>
                    <a:lnTo>
                      <a:pt x="2722" y="1677"/>
                    </a:lnTo>
                    <a:lnTo>
                      <a:pt x="2704" y="1679"/>
                    </a:lnTo>
                    <a:lnTo>
                      <a:pt x="2686" y="1681"/>
                    </a:lnTo>
                    <a:lnTo>
                      <a:pt x="2667" y="1682"/>
                    </a:lnTo>
                    <a:lnTo>
                      <a:pt x="2647" y="1684"/>
                    </a:lnTo>
                    <a:lnTo>
                      <a:pt x="2626" y="1684"/>
                    </a:lnTo>
                    <a:lnTo>
                      <a:pt x="2603" y="1686"/>
                    </a:lnTo>
                    <a:lnTo>
                      <a:pt x="2580" y="1688"/>
                    </a:lnTo>
                    <a:lnTo>
                      <a:pt x="2554" y="1688"/>
                    </a:lnTo>
                    <a:lnTo>
                      <a:pt x="2528" y="1690"/>
                    </a:lnTo>
                    <a:lnTo>
                      <a:pt x="2499" y="1692"/>
                    </a:lnTo>
                    <a:lnTo>
                      <a:pt x="2469" y="1692"/>
                    </a:lnTo>
                    <a:lnTo>
                      <a:pt x="2437" y="1694"/>
                    </a:lnTo>
                    <a:lnTo>
                      <a:pt x="2403" y="1695"/>
                    </a:lnTo>
                    <a:lnTo>
                      <a:pt x="2366" y="1697"/>
                    </a:lnTo>
                    <a:lnTo>
                      <a:pt x="2327" y="1701"/>
                    </a:lnTo>
                    <a:lnTo>
                      <a:pt x="2285" y="1703"/>
                    </a:lnTo>
                    <a:lnTo>
                      <a:pt x="2285" y="1703"/>
                    </a:lnTo>
                    <a:lnTo>
                      <a:pt x="2259" y="1705"/>
                    </a:lnTo>
                    <a:lnTo>
                      <a:pt x="2233" y="1707"/>
                    </a:lnTo>
                    <a:lnTo>
                      <a:pt x="2208" y="1709"/>
                    </a:lnTo>
                    <a:lnTo>
                      <a:pt x="2181" y="1709"/>
                    </a:lnTo>
                    <a:lnTo>
                      <a:pt x="2156" y="1710"/>
                    </a:lnTo>
                    <a:lnTo>
                      <a:pt x="2130" y="1710"/>
                    </a:lnTo>
                    <a:lnTo>
                      <a:pt x="2105" y="1712"/>
                    </a:lnTo>
                    <a:lnTo>
                      <a:pt x="2080" y="1712"/>
                    </a:lnTo>
                    <a:lnTo>
                      <a:pt x="2055" y="1712"/>
                    </a:lnTo>
                    <a:lnTo>
                      <a:pt x="2029" y="1714"/>
                    </a:lnTo>
                    <a:lnTo>
                      <a:pt x="2005" y="1714"/>
                    </a:lnTo>
                    <a:lnTo>
                      <a:pt x="1979" y="1714"/>
                    </a:lnTo>
                    <a:lnTo>
                      <a:pt x="1954" y="1712"/>
                    </a:lnTo>
                    <a:lnTo>
                      <a:pt x="1930" y="1712"/>
                    </a:lnTo>
                    <a:lnTo>
                      <a:pt x="1905" y="1712"/>
                    </a:lnTo>
                    <a:lnTo>
                      <a:pt x="1881" y="1710"/>
                    </a:lnTo>
                    <a:lnTo>
                      <a:pt x="1856" y="1710"/>
                    </a:lnTo>
                    <a:lnTo>
                      <a:pt x="1832" y="1709"/>
                    </a:lnTo>
                    <a:lnTo>
                      <a:pt x="1808" y="1707"/>
                    </a:lnTo>
                    <a:lnTo>
                      <a:pt x="1784" y="1705"/>
                    </a:lnTo>
                    <a:lnTo>
                      <a:pt x="1760" y="1701"/>
                    </a:lnTo>
                    <a:lnTo>
                      <a:pt x="1736" y="1699"/>
                    </a:lnTo>
                    <a:lnTo>
                      <a:pt x="1712" y="1695"/>
                    </a:lnTo>
                    <a:lnTo>
                      <a:pt x="1689" y="1694"/>
                    </a:lnTo>
                    <a:lnTo>
                      <a:pt x="1665" y="1690"/>
                    </a:lnTo>
                    <a:lnTo>
                      <a:pt x="1642" y="1686"/>
                    </a:lnTo>
                    <a:lnTo>
                      <a:pt x="1618" y="1681"/>
                    </a:lnTo>
                    <a:lnTo>
                      <a:pt x="1596" y="1677"/>
                    </a:lnTo>
                    <a:lnTo>
                      <a:pt x="1572" y="1671"/>
                    </a:lnTo>
                    <a:lnTo>
                      <a:pt x="1550" y="1666"/>
                    </a:lnTo>
                    <a:lnTo>
                      <a:pt x="1526" y="1660"/>
                    </a:lnTo>
                    <a:lnTo>
                      <a:pt x="1504" y="1654"/>
                    </a:lnTo>
                    <a:lnTo>
                      <a:pt x="537" y="1383"/>
                    </a:lnTo>
                    <a:lnTo>
                      <a:pt x="537" y="1383"/>
                    </a:lnTo>
                    <a:lnTo>
                      <a:pt x="528" y="1355"/>
                    </a:lnTo>
                    <a:lnTo>
                      <a:pt x="523" y="1336"/>
                    </a:lnTo>
                    <a:lnTo>
                      <a:pt x="517" y="1320"/>
                    </a:lnTo>
                    <a:lnTo>
                      <a:pt x="511" y="1297"/>
                    </a:lnTo>
                    <a:lnTo>
                      <a:pt x="0" y="925"/>
                    </a:lnTo>
                    <a:lnTo>
                      <a:pt x="154" y="891"/>
                    </a:lnTo>
                    <a:lnTo>
                      <a:pt x="1022" y="1164"/>
                    </a:lnTo>
                    <a:lnTo>
                      <a:pt x="1022" y="1164"/>
                    </a:lnTo>
                    <a:lnTo>
                      <a:pt x="1035" y="1172"/>
                    </a:lnTo>
                    <a:lnTo>
                      <a:pt x="1041" y="1181"/>
                    </a:lnTo>
                    <a:lnTo>
                      <a:pt x="1041" y="1189"/>
                    </a:lnTo>
                    <a:lnTo>
                      <a:pt x="1038" y="1198"/>
                    </a:lnTo>
                    <a:lnTo>
                      <a:pt x="1032" y="1207"/>
                    </a:lnTo>
                    <a:lnTo>
                      <a:pt x="1024" y="1219"/>
                    </a:lnTo>
                    <a:lnTo>
                      <a:pt x="1016" y="1230"/>
                    </a:lnTo>
                    <a:lnTo>
                      <a:pt x="1009" y="1241"/>
                    </a:lnTo>
                    <a:lnTo>
                      <a:pt x="1009" y="1241"/>
                    </a:lnTo>
                    <a:lnTo>
                      <a:pt x="1012" y="1264"/>
                    </a:lnTo>
                    <a:lnTo>
                      <a:pt x="1019" y="1282"/>
                    </a:lnTo>
                    <a:lnTo>
                      <a:pt x="1027" y="1299"/>
                    </a:lnTo>
                    <a:lnTo>
                      <a:pt x="1036" y="1314"/>
                    </a:lnTo>
                    <a:lnTo>
                      <a:pt x="1046" y="1329"/>
                    </a:lnTo>
                    <a:lnTo>
                      <a:pt x="1057" y="1340"/>
                    </a:lnTo>
                    <a:lnTo>
                      <a:pt x="1067" y="1351"/>
                    </a:lnTo>
                    <a:lnTo>
                      <a:pt x="1076" y="1361"/>
                    </a:lnTo>
                    <a:lnTo>
                      <a:pt x="1076" y="1361"/>
                    </a:lnTo>
                    <a:lnTo>
                      <a:pt x="1087" y="1359"/>
                    </a:lnTo>
                    <a:lnTo>
                      <a:pt x="1099" y="1357"/>
                    </a:lnTo>
                    <a:lnTo>
                      <a:pt x="1112" y="1355"/>
                    </a:lnTo>
                    <a:lnTo>
                      <a:pt x="1123" y="1353"/>
                    </a:lnTo>
                    <a:lnTo>
                      <a:pt x="1135" y="1350"/>
                    </a:lnTo>
                    <a:lnTo>
                      <a:pt x="1147" y="1348"/>
                    </a:lnTo>
                    <a:lnTo>
                      <a:pt x="1160" y="1344"/>
                    </a:lnTo>
                    <a:lnTo>
                      <a:pt x="1172" y="1342"/>
                    </a:lnTo>
                    <a:lnTo>
                      <a:pt x="1184" y="1338"/>
                    </a:lnTo>
                    <a:lnTo>
                      <a:pt x="1195" y="1336"/>
                    </a:lnTo>
                    <a:lnTo>
                      <a:pt x="1208" y="1333"/>
                    </a:lnTo>
                    <a:lnTo>
                      <a:pt x="1219" y="1329"/>
                    </a:lnTo>
                    <a:lnTo>
                      <a:pt x="1230" y="1327"/>
                    </a:lnTo>
                    <a:lnTo>
                      <a:pt x="1241" y="1325"/>
                    </a:lnTo>
                    <a:lnTo>
                      <a:pt x="1252" y="1322"/>
                    </a:lnTo>
                    <a:lnTo>
                      <a:pt x="1262" y="1320"/>
                    </a:lnTo>
                    <a:lnTo>
                      <a:pt x="1791" y="1215"/>
                    </a:lnTo>
                    <a:lnTo>
                      <a:pt x="1791" y="1215"/>
                    </a:lnTo>
                    <a:lnTo>
                      <a:pt x="1817" y="1209"/>
                    </a:lnTo>
                    <a:lnTo>
                      <a:pt x="1842" y="1206"/>
                    </a:lnTo>
                    <a:lnTo>
                      <a:pt x="1867" y="1200"/>
                    </a:lnTo>
                    <a:lnTo>
                      <a:pt x="1892" y="1194"/>
                    </a:lnTo>
                    <a:lnTo>
                      <a:pt x="1917" y="1191"/>
                    </a:lnTo>
                    <a:lnTo>
                      <a:pt x="1942" y="1185"/>
                    </a:lnTo>
                    <a:lnTo>
                      <a:pt x="1969" y="1181"/>
                    </a:lnTo>
                    <a:lnTo>
                      <a:pt x="1995" y="1178"/>
                    </a:lnTo>
                    <a:lnTo>
                      <a:pt x="2024" y="1172"/>
                    </a:lnTo>
                    <a:lnTo>
                      <a:pt x="2053" y="1168"/>
                    </a:lnTo>
                    <a:lnTo>
                      <a:pt x="2084" y="1164"/>
                    </a:lnTo>
                    <a:lnTo>
                      <a:pt x="2117" y="1161"/>
                    </a:lnTo>
                    <a:lnTo>
                      <a:pt x="2153" y="1157"/>
                    </a:lnTo>
                    <a:lnTo>
                      <a:pt x="2189" y="1153"/>
                    </a:lnTo>
                    <a:lnTo>
                      <a:pt x="2230" y="1150"/>
                    </a:lnTo>
                    <a:lnTo>
                      <a:pt x="2273" y="1146"/>
                    </a:lnTo>
                    <a:lnTo>
                      <a:pt x="2273" y="1146"/>
                    </a:lnTo>
                    <a:lnTo>
                      <a:pt x="2260" y="1144"/>
                    </a:lnTo>
                    <a:lnTo>
                      <a:pt x="2246" y="1142"/>
                    </a:lnTo>
                    <a:lnTo>
                      <a:pt x="2232" y="1140"/>
                    </a:lnTo>
                    <a:lnTo>
                      <a:pt x="2218" y="1138"/>
                    </a:lnTo>
                    <a:lnTo>
                      <a:pt x="2205" y="1136"/>
                    </a:lnTo>
                    <a:lnTo>
                      <a:pt x="2191" y="1135"/>
                    </a:lnTo>
                    <a:lnTo>
                      <a:pt x="2179" y="1133"/>
                    </a:lnTo>
                    <a:lnTo>
                      <a:pt x="2166" y="1129"/>
                    </a:lnTo>
                    <a:lnTo>
                      <a:pt x="2154" y="1127"/>
                    </a:lnTo>
                    <a:lnTo>
                      <a:pt x="2141" y="1125"/>
                    </a:lnTo>
                    <a:lnTo>
                      <a:pt x="2130" y="1121"/>
                    </a:lnTo>
                    <a:lnTo>
                      <a:pt x="2119" y="1120"/>
                    </a:lnTo>
                    <a:lnTo>
                      <a:pt x="2108" y="1116"/>
                    </a:lnTo>
                    <a:lnTo>
                      <a:pt x="2097" y="1114"/>
                    </a:lnTo>
                    <a:lnTo>
                      <a:pt x="2087" y="1110"/>
                    </a:lnTo>
                    <a:lnTo>
                      <a:pt x="2078" y="1108"/>
                    </a:lnTo>
                    <a:lnTo>
                      <a:pt x="2078" y="1108"/>
                    </a:lnTo>
                    <a:lnTo>
                      <a:pt x="2069" y="1099"/>
                    </a:lnTo>
                    <a:lnTo>
                      <a:pt x="2062" y="1084"/>
                    </a:lnTo>
                    <a:lnTo>
                      <a:pt x="2055" y="1065"/>
                    </a:lnTo>
                    <a:lnTo>
                      <a:pt x="2049" y="1041"/>
                    </a:lnTo>
                    <a:lnTo>
                      <a:pt x="2044" y="1011"/>
                    </a:lnTo>
                    <a:lnTo>
                      <a:pt x="2040" y="972"/>
                    </a:lnTo>
                    <a:lnTo>
                      <a:pt x="2035" y="925"/>
                    </a:lnTo>
                    <a:lnTo>
                      <a:pt x="2031" y="869"/>
                    </a:lnTo>
                    <a:lnTo>
                      <a:pt x="2031" y="869"/>
                    </a:lnTo>
                    <a:lnTo>
                      <a:pt x="2015" y="871"/>
                    </a:lnTo>
                    <a:lnTo>
                      <a:pt x="1997" y="871"/>
                    </a:lnTo>
                    <a:lnTo>
                      <a:pt x="1977" y="871"/>
                    </a:lnTo>
                    <a:lnTo>
                      <a:pt x="1956" y="871"/>
                    </a:lnTo>
                    <a:lnTo>
                      <a:pt x="1936" y="871"/>
                    </a:lnTo>
                    <a:lnTo>
                      <a:pt x="1917" y="871"/>
                    </a:lnTo>
                    <a:lnTo>
                      <a:pt x="1898" y="871"/>
                    </a:lnTo>
                    <a:lnTo>
                      <a:pt x="1882" y="869"/>
                    </a:lnTo>
                    <a:lnTo>
                      <a:pt x="1845" y="746"/>
                    </a:lnTo>
                    <a:lnTo>
                      <a:pt x="891" y="71"/>
                    </a:lnTo>
                    <a:lnTo>
                      <a:pt x="877" y="44"/>
                    </a:lnTo>
                    <a:lnTo>
                      <a:pt x="877" y="44"/>
                    </a:lnTo>
                    <a:lnTo>
                      <a:pt x="892" y="43"/>
                    </a:lnTo>
                    <a:lnTo>
                      <a:pt x="907" y="41"/>
                    </a:lnTo>
                    <a:lnTo>
                      <a:pt x="923" y="41"/>
                    </a:lnTo>
                    <a:lnTo>
                      <a:pt x="939" y="39"/>
                    </a:lnTo>
                    <a:lnTo>
                      <a:pt x="956" y="39"/>
                    </a:lnTo>
                    <a:lnTo>
                      <a:pt x="973" y="37"/>
                    </a:lnTo>
                    <a:lnTo>
                      <a:pt x="990" y="35"/>
                    </a:lnTo>
                    <a:lnTo>
                      <a:pt x="1006" y="35"/>
                    </a:lnTo>
                    <a:lnTo>
                      <a:pt x="1023" y="33"/>
                    </a:lnTo>
                    <a:lnTo>
                      <a:pt x="1039" y="31"/>
                    </a:lnTo>
                    <a:lnTo>
                      <a:pt x="1054" y="28"/>
                    </a:lnTo>
                    <a:lnTo>
                      <a:pt x="1070" y="24"/>
                    </a:lnTo>
                    <a:lnTo>
                      <a:pt x="1084" y="20"/>
                    </a:lnTo>
                    <a:lnTo>
                      <a:pt x="1098" y="15"/>
                    </a:lnTo>
                    <a:lnTo>
                      <a:pt x="1111" y="7"/>
                    </a:lnTo>
                    <a:lnTo>
                      <a:pt x="1123" y="0"/>
                    </a:lnTo>
                    <a:lnTo>
                      <a:pt x="2060" y="501"/>
                    </a:lnTo>
                    <a:lnTo>
                      <a:pt x="2558" y="714"/>
                    </a:lnTo>
                    <a:lnTo>
                      <a:pt x="3359" y="977"/>
                    </a:lnTo>
                    <a:lnTo>
                      <a:pt x="3359" y="977"/>
                    </a:lnTo>
                    <a:lnTo>
                      <a:pt x="3398" y="970"/>
                    </a:lnTo>
                    <a:lnTo>
                      <a:pt x="3438" y="961"/>
                    </a:lnTo>
                    <a:lnTo>
                      <a:pt x="3477" y="953"/>
                    </a:lnTo>
                    <a:lnTo>
                      <a:pt x="3515" y="946"/>
                    </a:lnTo>
                    <a:lnTo>
                      <a:pt x="3553" y="938"/>
                    </a:lnTo>
                    <a:lnTo>
                      <a:pt x="3592" y="931"/>
                    </a:lnTo>
                    <a:lnTo>
                      <a:pt x="3630" y="923"/>
                    </a:lnTo>
                    <a:lnTo>
                      <a:pt x="3668" y="916"/>
                    </a:lnTo>
                    <a:lnTo>
                      <a:pt x="3706" y="908"/>
                    </a:lnTo>
                    <a:lnTo>
                      <a:pt x="3743" y="901"/>
                    </a:lnTo>
                    <a:lnTo>
                      <a:pt x="3781" y="895"/>
                    </a:lnTo>
                    <a:lnTo>
                      <a:pt x="3819" y="888"/>
                    </a:lnTo>
                    <a:lnTo>
                      <a:pt x="3857" y="880"/>
                    </a:lnTo>
                    <a:lnTo>
                      <a:pt x="3895" y="875"/>
                    </a:lnTo>
                    <a:lnTo>
                      <a:pt x="3931" y="867"/>
                    </a:lnTo>
                    <a:lnTo>
                      <a:pt x="3969" y="862"/>
                    </a:lnTo>
                    <a:lnTo>
                      <a:pt x="3969" y="862"/>
                    </a:lnTo>
                    <a:lnTo>
                      <a:pt x="3993" y="858"/>
                    </a:lnTo>
                    <a:lnTo>
                      <a:pt x="4015" y="854"/>
                    </a:lnTo>
                    <a:lnTo>
                      <a:pt x="4038" y="850"/>
                    </a:lnTo>
                    <a:lnTo>
                      <a:pt x="4060" y="847"/>
                    </a:lnTo>
                    <a:lnTo>
                      <a:pt x="4083" y="843"/>
                    </a:lnTo>
                    <a:lnTo>
                      <a:pt x="4104" y="839"/>
                    </a:lnTo>
                    <a:lnTo>
                      <a:pt x="4127" y="835"/>
                    </a:lnTo>
                    <a:lnTo>
                      <a:pt x="4148" y="832"/>
                    </a:lnTo>
                    <a:lnTo>
                      <a:pt x="4170" y="828"/>
                    </a:lnTo>
                    <a:lnTo>
                      <a:pt x="4192" y="824"/>
                    </a:lnTo>
                    <a:lnTo>
                      <a:pt x="4213" y="820"/>
                    </a:lnTo>
                    <a:lnTo>
                      <a:pt x="4235" y="817"/>
                    </a:lnTo>
                    <a:lnTo>
                      <a:pt x="4255" y="813"/>
                    </a:lnTo>
                    <a:lnTo>
                      <a:pt x="4277" y="809"/>
                    </a:lnTo>
                    <a:lnTo>
                      <a:pt x="4298" y="805"/>
                    </a:lnTo>
                    <a:lnTo>
                      <a:pt x="4319" y="800"/>
                    </a:lnTo>
                    <a:lnTo>
                      <a:pt x="4340" y="796"/>
                    </a:lnTo>
                    <a:lnTo>
                      <a:pt x="4360" y="792"/>
                    </a:lnTo>
                    <a:lnTo>
                      <a:pt x="4381" y="789"/>
                    </a:lnTo>
                    <a:lnTo>
                      <a:pt x="4402" y="785"/>
                    </a:lnTo>
                    <a:lnTo>
                      <a:pt x="4423" y="781"/>
                    </a:lnTo>
                    <a:lnTo>
                      <a:pt x="4443" y="777"/>
                    </a:lnTo>
                    <a:lnTo>
                      <a:pt x="4464" y="776"/>
                    </a:lnTo>
                    <a:lnTo>
                      <a:pt x="4484" y="772"/>
                    </a:lnTo>
                    <a:lnTo>
                      <a:pt x="4505" y="768"/>
                    </a:lnTo>
                    <a:lnTo>
                      <a:pt x="4525" y="764"/>
                    </a:lnTo>
                    <a:lnTo>
                      <a:pt x="4546" y="761"/>
                    </a:lnTo>
                    <a:lnTo>
                      <a:pt x="4567" y="757"/>
                    </a:lnTo>
                    <a:lnTo>
                      <a:pt x="4587" y="755"/>
                    </a:lnTo>
                    <a:lnTo>
                      <a:pt x="4608" y="751"/>
                    </a:lnTo>
                    <a:lnTo>
                      <a:pt x="4628" y="749"/>
                    </a:lnTo>
                    <a:lnTo>
                      <a:pt x="4649" y="746"/>
                    </a:lnTo>
                    <a:lnTo>
                      <a:pt x="4649" y="746"/>
                    </a:lnTo>
                    <a:lnTo>
                      <a:pt x="4675" y="742"/>
                    </a:lnTo>
                    <a:lnTo>
                      <a:pt x="4700" y="738"/>
                    </a:lnTo>
                    <a:lnTo>
                      <a:pt x="4724" y="736"/>
                    </a:lnTo>
                    <a:lnTo>
                      <a:pt x="4749" y="734"/>
                    </a:lnTo>
                    <a:lnTo>
                      <a:pt x="4771" y="731"/>
                    </a:lnTo>
                    <a:lnTo>
                      <a:pt x="4795" y="729"/>
                    </a:lnTo>
                    <a:lnTo>
                      <a:pt x="4816" y="727"/>
                    </a:lnTo>
                    <a:lnTo>
                      <a:pt x="4838" y="725"/>
                    </a:lnTo>
                    <a:lnTo>
                      <a:pt x="4859" y="723"/>
                    </a:lnTo>
                    <a:lnTo>
                      <a:pt x="4880" y="723"/>
                    </a:lnTo>
                    <a:lnTo>
                      <a:pt x="4901" y="721"/>
                    </a:lnTo>
                    <a:lnTo>
                      <a:pt x="4921" y="721"/>
                    </a:lnTo>
                    <a:lnTo>
                      <a:pt x="4942" y="719"/>
                    </a:lnTo>
                    <a:lnTo>
                      <a:pt x="4961" y="719"/>
                    </a:lnTo>
                    <a:lnTo>
                      <a:pt x="4982" y="718"/>
                    </a:lnTo>
                    <a:lnTo>
                      <a:pt x="5002" y="718"/>
                    </a:lnTo>
                    <a:lnTo>
                      <a:pt x="5021" y="716"/>
                    </a:lnTo>
                    <a:lnTo>
                      <a:pt x="5042" y="716"/>
                    </a:lnTo>
                    <a:lnTo>
                      <a:pt x="5062" y="714"/>
                    </a:lnTo>
                    <a:lnTo>
                      <a:pt x="5084" y="714"/>
                    </a:lnTo>
                    <a:lnTo>
                      <a:pt x="5104" y="712"/>
                    </a:lnTo>
                    <a:lnTo>
                      <a:pt x="5126" y="712"/>
                    </a:lnTo>
                    <a:lnTo>
                      <a:pt x="5147" y="710"/>
                    </a:lnTo>
                    <a:lnTo>
                      <a:pt x="5170" y="710"/>
                    </a:lnTo>
                    <a:lnTo>
                      <a:pt x="5192" y="708"/>
                    </a:lnTo>
                    <a:lnTo>
                      <a:pt x="5216" y="706"/>
                    </a:lnTo>
                    <a:lnTo>
                      <a:pt x="5240" y="705"/>
                    </a:lnTo>
                    <a:lnTo>
                      <a:pt x="5265" y="703"/>
                    </a:lnTo>
                    <a:lnTo>
                      <a:pt x="5290" y="701"/>
                    </a:lnTo>
                    <a:lnTo>
                      <a:pt x="5317" y="697"/>
                    </a:lnTo>
                    <a:lnTo>
                      <a:pt x="5343" y="695"/>
                    </a:lnTo>
                    <a:lnTo>
                      <a:pt x="5372" y="691"/>
                    </a:lnTo>
                    <a:lnTo>
                      <a:pt x="5372" y="691"/>
                    </a:lnTo>
                    <a:lnTo>
                      <a:pt x="5371" y="731"/>
                    </a:lnTo>
                    <a:lnTo>
                      <a:pt x="5365" y="766"/>
                    </a:lnTo>
                    <a:lnTo>
                      <a:pt x="5354" y="802"/>
                    </a:lnTo>
                    <a:lnTo>
                      <a:pt x="5338" y="835"/>
                    </a:lnTo>
                    <a:lnTo>
                      <a:pt x="5319" y="865"/>
                    </a:lnTo>
                    <a:lnTo>
                      <a:pt x="5295" y="895"/>
                    </a:lnTo>
                    <a:lnTo>
                      <a:pt x="5269" y="923"/>
                    </a:lnTo>
                    <a:lnTo>
                      <a:pt x="5239" y="9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5612760" y="3584520"/>
                <a:ext cx="2629080" cy="957240"/>
              </a:xfrm>
              <a:custGeom>
                <a:avLst/>
                <a:gdLst/>
                <a:ahLst/>
                <a:rect l="l" t="t" r="r" b="b"/>
                <a:pathLst>
                  <a:path w="1656" h="1206">
                    <a:moveTo>
                      <a:pt x="262" y="1206"/>
                    </a:moveTo>
                    <a:lnTo>
                      <a:pt x="0" y="41"/>
                    </a:lnTo>
                    <a:lnTo>
                      <a:pt x="242" y="0"/>
                    </a:lnTo>
                    <a:lnTo>
                      <a:pt x="242" y="0"/>
                    </a:lnTo>
                    <a:lnTo>
                      <a:pt x="250" y="0"/>
                    </a:lnTo>
                    <a:lnTo>
                      <a:pt x="258" y="4"/>
                    </a:lnTo>
                    <a:lnTo>
                      <a:pt x="266" y="11"/>
                    </a:lnTo>
                    <a:lnTo>
                      <a:pt x="275" y="21"/>
                    </a:lnTo>
                    <a:lnTo>
                      <a:pt x="282" y="32"/>
                    </a:lnTo>
                    <a:lnTo>
                      <a:pt x="290" y="41"/>
                    </a:lnTo>
                    <a:lnTo>
                      <a:pt x="297" y="52"/>
                    </a:lnTo>
                    <a:lnTo>
                      <a:pt x="305" y="64"/>
                    </a:lnTo>
                    <a:lnTo>
                      <a:pt x="305" y="64"/>
                    </a:lnTo>
                    <a:lnTo>
                      <a:pt x="327" y="94"/>
                    </a:lnTo>
                    <a:lnTo>
                      <a:pt x="348" y="124"/>
                    </a:lnTo>
                    <a:lnTo>
                      <a:pt x="370" y="153"/>
                    </a:lnTo>
                    <a:lnTo>
                      <a:pt x="391" y="183"/>
                    </a:lnTo>
                    <a:lnTo>
                      <a:pt x="412" y="213"/>
                    </a:lnTo>
                    <a:lnTo>
                      <a:pt x="433" y="243"/>
                    </a:lnTo>
                    <a:lnTo>
                      <a:pt x="454" y="273"/>
                    </a:lnTo>
                    <a:lnTo>
                      <a:pt x="476" y="303"/>
                    </a:lnTo>
                    <a:lnTo>
                      <a:pt x="497" y="333"/>
                    </a:lnTo>
                    <a:lnTo>
                      <a:pt x="519" y="363"/>
                    </a:lnTo>
                    <a:lnTo>
                      <a:pt x="540" y="395"/>
                    </a:lnTo>
                    <a:lnTo>
                      <a:pt x="562" y="425"/>
                    </a:lnTo>
                    <a:lnTo>
                      <a:pt x="583" y="454"/>
                    </a:lnTo>
                    <a:lnTo>
                      <a:pt x="605" y="484"/>
                    </a:lnTo>
                    <a:lnTo>
                      <a:pt x="626" y="514"/>
                    </a:lnTo>
                    <a:lnTo>
                      <a:pt x="648" y="544"/>
                    </a:lnTo>
                    <a:lnTo>
                      <a:pt x="669" y="574"/>
                    </a:lnTo>
                    <a:lnTo>
                      <a:pt x="690" y="604"/>
                    </a:lnTo>
                    <a:lnTo>
                      <a:pt x="712" y="634"/>
                    </a:lnTo>
                    <a:lnTo>
                      <a:pt x="733" y="664"/>
                    </a:lnTo>
                    <a:lnTo>
                      <a:pt x="755" y="694"/>
                    </a:lnTo>
                    <a:lnTo>
                      <a:pt x="776" y="722"/>
                    </a:lnTo>
                    <a:lnTo>
                      <a:pt x="798" y="752"/>
                    </a:lnTo>
                    <a:lnTo>
                      <a:pt x="819" y="782"/>
                    </a:lnTo>
                    <a:lnTo>
                      <a:pt x="842" y="810"/>
                    </a:lnTo>
                    <a:lnTo>
                      <a:pt x="863" y="840"/>
                    </a:lnTo>
                    <a:lnTo>
                      <a:pt x="885" y="870"/>
                    </a:lnTo>
                    <a:lnTo>
                      <a:pt x="907" y="898"/>
                    </a:lnTo>
                    <a:lnTo>
                      <a:pt x="929" y="926"/>
                    </a:lnTo>
                    <a:lnTo>
                      <a:pt x="951" y="956"/>
                    </a:lnTo>
                    <a:lnTo>
                      <a:pt x="972" y="984"/>
                    </a:lnTo>
                    <a:lnTo>
                      <a:pt x="995" y="1012"/>
                    </a:lnTo>
                    <a:lnTo>
                      <a:pt x="995" y="1012"/>
                    </a:lnTo>
                    <a:lnTo>
                      <a:pt x="1004" y="1025"/>
                    </a:lnTo>
                    <a:lnTo>
                      <a:pt x="1014" y="1036"/>
                    </a:lnTo>
                    <a:lnTo>
                      <a:pt x="1025" y="1045"/>
                    </a:lnTo>
                    <a:lnTo>
                      <a:pt x="1036" y="1053"/>
                    </a:lnTo>
                    <a:lnTo>
                      <a:pt x="1046" y="1060"/>
                    </a:lnTo>
                    <a:lnTo>
                      <a:pt x="1057" y="1066"/>
                    </a:lnTo>
                    <a:lnTo>
                      <a:pt x="1067" y="1068"/>
                    </a:lnTo>
                    <a:lnTo>
                      <a:pt x="1079" y="1068"/>
                    </a:lnTo>
                    <a:lnTo>
                      <a:pt x="1532" y="1012"/>
                    </a:lnTo>
                    <a:lnTo>
                      <a:pt x="1532" y="1012"/>
                    </a:lnTo>
                    <a:lnTo>
                      <a:pt x="1542" y="997"/>
                    </a:lnTo>
                    <a:lnTo>
                      <a:pt x="1551" y="982"/>
                    </a:lnTo>
                    <a:lnTo>
                      <a:pt x="1561" y="971"/>
                    </a:lnTo>
                    <a:lnTo>
                      <a:pt x="1571" y="959"/>
                    </a:lnTo>
                    <a:lnTo>
                      <a:pt x="1581" y="950"/>
                    </a:lnTo>
                    <a:lnTo>
                      <a:pt x="1593" y="941"/>
                    </a:lnTo>
                    <a:lnTo>
                      <a:pt x="1604" y="933"/>
                    </a:lnTo>
                    <a:lnTo>
                      <a:pt x="1615" y="926"/>
                    </a:lnTo>
                    <a:lnTo>
                      <a:pt x="1656" y="1053"/>
                    </a:lnTo>
                    <a:lnTo>
                      <a:pt x="1656" y="1053"/>
                    </a:lnTo>
                    <a:lnTo>
                      <a:pt x="1639" y="1051"/>
                    </a:lnTo>
                    <a:lnTo>
                      <a:pt x="1622" y="1047"/>
                    </a:lnTo>
                    <a:lnTo>
                      <a:pt x="1605" y="1045"/>
                    </a:lnTo>
                    <a:lnTo>
                      <a:pt x="1589" y="1042"/>
                    </a:lnTo>
                    <a:lnTo>
                      <a:pt x="1572" y="1038"/>
                    </a:lnTo>
                    <a:lnTo>
                      <a:pt x="1558" y="1030"/>
                    </a:lnTo>
                    <a:lnTo>
                      <a:pt x="1544" y="1023"/>
                    </a:lnTo>
                    <a:lnTo>
                      <a:pt x="1530" y="10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7748280" y="4684680"/>
                <a:ext cx="246240" cy="139680"/>
              </a:xfrm>
              <a:custGeom>
                <a:avLst/>
                <a:gdLst/>
                <a:ahLst/>
                <a:rect l="l" t="t" r="r" b="b"/>
                <a:pathLst>
                  <a:path w="155" h="176">
                    <a:moveTo>
                      <a:pt x="155" y="176"/>
                    </a:moveTo>
                    <a:lnTo>
                      <a:pt x="49" y="143"/>
                    </a:lnTo>
                    <a:lnTo>
                      <a:pt x="49" y="143"/>
                    </a:lnTo>
                    <a:lnTo>
                      <a:pt x="39" y="135"/>
                    </a:lnTo>
                    <a:lnTo>
                      <a:pt x="30" y="124"/>
                    </a:lnTo>
                    <a:lnTo>
                      <a:pt x="22" y="107"/>
                    </a:lnTo>
                    <a:lnTo>
                      <a:pt x="14" y="86"/>
                    </a:lnTo>
                    <a:lnTo>
                      <a:pt x="8" y="66"/>
                    </a:lnTo>
                    <a:lnTo>
                      <a:pt x="4" y="43"/>
                    </a:lnTo>
                    <a:lnTo>
                      <a:pt x="1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6798960" y="3506760"/>
                <a:ext cx="655920" cy="258840"/>
              </a:xfrm>
              <a:custGeom>
                <a:avLst/>
                <a:gdLst/>
                <a:ahLst/>
                <a:rect l="l" t="t" r="r" b="b"/>
                <a:pathLst>
                  <a:path w="413" h="325">
                    <a:moveTo>
                      <a:pt x="413" y="280"/>
                    </a:moveTo>
                    <a:lnTo>
                      <a:pt x="116" y="17"/>
                    </a:lnTo>
                    <a:lnTo>
                      <a:pt x="105" y="11"/>
                    </a:lnTo>
                    <a:lnTo>
                      <a:pt x="92" y="5"/>
                    </a:lnTo>
                    <a:lnTo>
                      <a:pt x="79" y="4"/>
                    </a:lnTo>
                    <a:lnTo>
                      <a:pt x="67" y="0"/>
                    </a:lnTo>
                    <a:lnTo>
                      <a:pt x="56" y="0"/>
                    </a:lnTo>
                    <a:lnTo>
                      <a:pt x="44" y="0"/>
                    </a:lnTo>
                    <a:lnTo>
                      <a:pt x="35" y="0"/>
                    </a:lnTo>
                    <a:lnTo>
                      <a:pt x="27" y="2"/>
                    </a:lnTo>
                    <a:lnTo>
                      <a:pt x="20" y="5"/>
                    </a:lnTo>
                    <a:lnTo>
                      <a:pt x="15" y="9"/>
                    </a:lnTo>
                    <a:lnTo>
                      <a:pt x="9" y="15"/>
                    </a:lnTo>
                    <a:lnTo>
                      <a:pt x="4" y="20"/>
                    </a:lnTo>
                    <a:lnTo>
                      <a:pt x="1" y="30"/>
                    </a:lnTo>
                    <a:lnTo>
                      <a:pt x="0" y="39"/>
                    </a:lnTo>
                    <a:lnTo>
                      <a:pt x="0" y="50"/>
                    </a:lnTo>
                    <a:lnTo>
                      <a:pt x="2" y="65"/>
                    </a:lnTo>
                    <a:lnTo>
                      <a:pt x="151" y="321"/>
                    </a:lnTo>
                    <a:lnTo>
                      <a:pt x="167" y="323"/>
                    </a:lnTo>
                    <a:lnTo>
                      <a:pt x="183" y="323"/>
                    </a:lnTo>
                    <a:lnTo>
                      <a:pt x="199" y="325"/>
                    </a:lnTo>
                    <a:lnTo>
                      <a:pt x="215" y="323"/>
                    </a:lnTo>
                    <a:lnTo>
                      <a:pt x="231" y="323"/>
                    </a:lnTo>
                    <a:lnTo>
                      <a:pt x="248" y="321"/>
                    </a:lnTo>
                    <a:lnTo>
                      <a:pt x="264" y="320"/>
                    </a:lnTo>
                    <a:lnTo>
                      <a:pt x="280" y="316"/>
                    </a:lnTo>
                    <a:lnTo>
                      <a:pt x="297" y="314"/>
                    </a:lnTo>
                    <a:lnTo>
                      <a:pt x="314" y="310"/>
                    </a:lnTo>
                    <a:lnTo>
                      <a:pt x="330" y="305"/>
                    </a:lnTo>
                    <a:lnTo>
                      <a:pt x="347" y="301"/>
                    </a:lnTo>
                    <a:lnTo>
                      <a:pt x="363" y="295"/>
                    </a:lnTo>
                    <a:lnTo>
                      <a:pt x="379" y="292"/>
                    </a:lnTo>
                    <a:lnTo>
                      <a:pt x="397" y="286"/>
                    </a:lnTo>
                    <a:lnTo>
                      <a:pt x="413" y="2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6798960" y="3506760"/>
                <a:ext cx="655920" cy="258840"/>
              </a:xfrm>
              <a:custGeom>
                <a:avLst/>
                <a:gdLst/>
                <a:ahLst/>
                <a:rect l="l" t="t" r="r" b="b"/>
                <a:pathLst>
                  <a:path w="413" h="325">
                    <a:moveTo>
                      <a:pt x="413" y="280"/>
                    </a:moveTo>
                    <a:lnTo>
                      <a:pt x="116" y="17"/>
                    </a:lnTo>
                    <a:lnTo>
                      <a:pt x="116" y="17"/>
                    </a:lnTo>
                    <a:lnTo>
                      <a:pt x="105" y="11"/>
                    </a:lnTo>
                    <a:lnTo>
                      <a:pt x="92" y="5"/>
                    </a:lnTo>
                    <a:lnTo>
                      <a:pt x="79" y="4"/>
                    </a:lnTo>
                    <a:lnTo>
                      <a:pt x="67" y="0"/>
                    </a:lnTo>
                    <a:lnTo>
                      <a:pt x="56" y="0"/>
                    </a:lnTo>
                    <a:lnTo>
                      <a:pt x="44" y="0"/>
                    </a:lnTo>
                    <a:lnTo>
                      <a:pt x="35" y="0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0" y="5"/>
                    </a:lnTo>
                    <a:lnTo>
                      <a:pt x="15" y="9"/>
                    </a:lnTo>
                    <a:lnTo>
                      <a:pt x="9" y="15"/>
                    </a:lnTo>
                    <a:lnTo>
                      <a:pt x="4" y="20"/>
                    </a:lnTo>
                    <a:lnTo>
                      <a:pt x="1" y="30"/>
                    </a:lnTo>
                    <a:lnTo>
                      <a:pt x="0" y="39"/>
                    </a:lnTo>
                    <a:lnTo>
                      <a:pt x="0" y="50"/>
                    </a:lnTo>
                    <a:lnTo>
                      <a:pt x="2" y="65"/>
                    </a:lnTo>
                    <a:lnTo>
                      <a:pt x="151" y="321"/>
                    </a:lnTo>
                    <a:lnTo>
                      <a:pt x="151" y="321"/>
                    </a:lnTo>
                    <a:lnTo>
                      <a:pt x="167" y="323"/>
                    </a:lnTo>
                    <a:lnTo>
                      <a:pt x="183" y="323"/>
                    </a:lnTo>
                    <a:lnTo>
                      <a:pt x="199" y="325"/>
                    </a:lnTo>
                    <a:lnTo>
                      <a:pt x="215" y="323"/>
                    </a:lnTo>
                    <a:lnTo>
                      <a:pt x="231" y="323"/>
                    </a:lnTo>
                    <a:lnTo>
                      <a:pt x="248" y="321"/>
                    </a:lnTo>
                    <a:lnTo>
                      <a:pt x="264" y="320"/>
                    </a:lnTo>
                    <a:lnTo>
                      <a:pt x="280" y="316"/>
                    </a:lnTo>
                    <a:lnTo>
                      <a:pt x="297" y="314"/>
                    </a:lnTo>
                    <a:lnTo>
                      <a:pt x="314" y="310"/>
                    </a:lnTo>
                    <a:lnTo>
                      <a:pt x="330" y="305"/>
                    </a:lnTo>
                    <a:lnTo>
                      <a:pt x="347" y="301"/>
                    </a:lnTo>
                    <a:lnTo>
                      <a:pt x="363" y="295"/>
                    </a:lnTo>
                    <a:lnTo>
                      <a:pt x="379" y="292"/>
                    </a:lnTo>
                    <a:lnTo>
                      <a:pt x="397" y="286"/>
                    </a:lnTo>
                    <a:lnTo>
                      <a:pt x="413" y="2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78840" y="3902040"/>
                <a:ext cx="4522680" cy="385920"/>
              </a:xfrm>
              <a:custGeom>
                <a:avLst/>
                <a:gdLst/>
                <a:ahLst/>
                <a:rect l="l" t="t" r="r" b="b"/>
                <a:pathLst>
                  <a:path w="2849" h="486">
                    <a:moveTo>
                      <a:pt x="0" y="486"/>
                    </a:moveTo>
                    <a:lnTo>
                      <a:pt x="553" y="393"/>
                    </a:lnTo>
                    <a:lnTo>
                      <a:pt x="553" y="393"/>
                    </a:lnTo>
                    <a:lnTo>
                      <a:pt x="608" y="367"/>
                    </a:lnTo>
                    <a:lnTo>
                      <a:pt x="665" y="341"/>
                    </a:lnTo>
                    <a:lnTo>
                      <a:pt x="720" y="316"/>
                    </a:lnTo>
                    <a:lnTo>
                      <a:pt x="775" y="292"/>
                    </a:lnTo>
                    <a:lnTo>
                      <a:pt x="829" y="269"/>
                    </a:lnTo>
                    <a:lnTo>
                      <a:pt x="884" y="249"/>
                    </a:lnTo>
                    <a:lnTo>
                      <a:pt x="938" y="228"/>
                    </a:lnTo>
                    <a:lnTo>
                      <a:pt x="994" y="208"/>
                    </a:lnTo>
                    <a:lnTo>
                      <a:pt x="1048" y="191"/>
                    </a:lnTo>
                    <a:lnTo>
                      <a:pt x="1102" y="172"/>
                    </a:lnTo>
                    <a:lnTo>
                      <a:pt x="1156" y="155"/>
                    </a:lnTo>
                    <a:lnTo>
                      <a:pt x="1209" y="140"/>
                    </a:lnTo>
                    <a:lnTo>
                      <a:pt x="1263" y="126"/>
                    </a:lnTo>
                    <a:lnTo>
                      <a:pt x="1317" y="112"/>
                    </a:lnTo>
                    <a:lnTo>
                      <a:pt x="1371" y="99"/>
                    </a:lnTo>
                    <a:lnTo>
                      <a:pt x="1424" y="86"/>
                    </a:lnTo>
                    <a:lnTo>
                      <a:pt x="1478" y="77"/>
                    </a:lnTo>
                    <a:lnTo>
                      <a:pt x="1531" y="66"/>
                    </a:lnTo>
                    <a:lnTo>
                      <a:pt x="1584" y="56"/>
                    </a:lnTo>
                    <a:lnTo>
                      <a:pt x="1637" y="47"/>
                    </a:lnTo>
                    <a:lnTo>
                      <a:pt x="1689" y="39"/>
                    </a:lnTo>
                    <a:lnTo>
                      <a:pt x="1742" y="32"/>
                    </a:lnTo>
                    <a:lnTo>
                      <a:pt x="1796" y="26"/>
                    </a:lnTo>
                    <a:lnTo>
                      <a:pt x="1848" y="21"/>
                    </a:lnTo>
                    <a:lnTo>
                      <a:pt x="1901" y="15"/>
                    </a:lnTo>
                    <a:lnTo>
                      <a:pt x="1953" y="11"/>
                    </a:lnTo>
                    <a:lnTo>
                      <a:pt x="2005" y="8"/>
                    </a:lnTo>
                    <a:lnTo>
                      <a:pt x="2058" y="6"/>
                    </a:lnTo>
                    <a:lnTo>
                      <a:pt x="2110" y="2"/>
                    </a:lnTo>
                    <a:lnTo>
                      <a:pt x="2162" y="2"/>
                    </a:lnTo>
                    <a:lnTo>
                      <a:pt x="2214" y="0"/>
                    </a:lnTo>
                    <a:lnTo>
                      <a:pt x="2267" y="0"/>
                    </a:lnTo>
                    <a:lnTo>
                      <a:pt x="2267" y="0"/>
                    </a:lnTo>
                    <a:lnTo>
                      <a:pt x="2288" y="2"/>
                    </a:lnTo>
                    <a:lnTo>
                      <a:pt x="2307" y="6"/>
                    </a:lnTo>
                    <a:lnTo>
                      <a:pt x="2327" y="11"/>
                    </a:lnTo>
                    <a:lnTo>
                      <a:pt x="2345" y="19"/>
                    </a:lnTo>
                    <a:lnTo>
                      <a:pt x="2364" y="28"/>
                    </a:lnTo>
                    <a:lnTo>
                      <a:pt x="2381" y="39"/>
                    </a:lnTo>
                    <a:lnTo>
                      <a:pt x="2397" y="51"/>
                    </a:lnTo>
                    <a:lnTo>
                      <a:pt x="2414" y="64"/>
                    </a:lnTo>
                    <a:lnTo>
                      <a:pt x="2429" y="77"/>
                    </a:lnTo>
                    <a:lnTo>
                      <a:pt x="2444" y="92"/>
                    </a:lnTo>
                    <a:lnTo>
                      <a:pt x="2460" y="105"/>
                    </a:lnTo>
                    <a:lnTo>
                      <a:pt x="2474" y="120"/>
                    </a:lnTo>
                    <a:lnTo>
                      <a:pt x="2489" y="135"/>
                    </a:lnTo>
                    <a:lnTo>
                      <a:pt x="2504" y="148"/>
                    </a:lnTo>
                    <a:lnTo>
                      <a:pt x="2518" y="161"/>
                    </a:lnTo>
                    <a:lnTo>
                      <a:pt x="2533" y="172"/>
                    </a:lnTo>
                    <a:lnTo>
                      <a:pt x="2677" y="266"/>
                    </a:lnTo>
                    <a:lnTo>
                      <a:pt x="2677" y="266"/>
                    </a:lnTo>
                    <a:lnTo>
                      <a:pt x="2688" y="273"/>
                    </a:lnTo>
                    <a:lnTo>
                      <a:pt x="2701" y="281"/>
                    </a:lnTo>
                    <a:lnTo>
                      <a:pt x="2714" y="288"/>
                    </a:lnTo>
                    <a:lnTo>
                      <a:pt x="2727" y="298"/>
                    </a:lnTo>
                    <a:lnTo>
                      <a:pt x="2742" y="307"/>
                    </a:lnTo>
                    <a:lnTo>
                      <a:pt x="2756" y="318"/>
                    </a:lnTo>
                    <a:lnTo>
                      <a:pt x="2769" y="329"/>
                    </a:lnTo>
                    <a:lnTo>
                      <a:pt x="2783" y="342"/>
                    </a:lnTo>
                    <a:lnTo>
                      <a:pt x="2796" y="355"/>
                    </a:lnTo>
                    <a:lnTo>
                      <a:pt x="2808" y="369"/>
                    </a:lnTo>
                    <a:lnTo>
                      <a:pt x="2819" y="384"/>
                    </a:lnTo>
                    <a:lnTo>
                      <a:pt x="2828" y="398"/>
                    </a:lnTo>
                    <a:lnTo>
                      <a:pt x="2837" y="413"/>
                    </a:lnTo>
                    <a:lnTo>
                      <a:pt x="2843" y="430"/>
                    </a:lnTo>
                    <a:lnTo>
                      <a:pt x="2847" y="447"/>
                    </a:lnTo>
                    <a:lnTo>
                      <a:pt x="2849" y="4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1073160" y="4216320"/>
                <a:ext cx="33120" cy="58680"/>
              </a:xfrm>
              <a:custGeom>
                <a:avLst/>
                <a:gdLst/>
                <a:ahLst/>
                <a:rect l="l" t="t" r="r" b="b"/>
                <a:pathLst>
                  <a:path w="21" h="74">
                    <a:moveTo>
                      <a:pt x="19" y="0"/>
                    </a:moveTo>
                    <a:lnTo>
                      <a:pt x="4" y="13"/>
                    </a:lnTo>
                    <a:lnTo>
                      <a:pt x="0" y="39"/>
                    </a:lnTo>
                    <a:lnTo>
                      <a:pt x="5" y="63"/>
                    </a:lnTo>
                    <a:lnTo>
                      <a:pt x="21" y="7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84040" y="4189320"/>
                <a:ext cx="792000" cy="85680"/>
              </a:xfrm>
              <a:custGeom>
                <a:avLst/>
                <a:gdLst/>
                <a:ahLst/>
                <a:rect l="l" t="t" r="r" b="b"/>
                <a:pathLst>
                  <a:path w="499" h="108">
                    <a:moveTo>
                      <a:pt x="499" y="0"/>
                    </a:moveTo>
                    <a:lnTo>
                      <a:pt x="468" y="0"/>
                    </a:lnTo>
                    <a:lnTo>
                      <a:pt x="438" y="0"/>
                    </a:lnTo>
                    <a:lnTo>
                      <a:pt x="407" y="0"/>
                    </a:lnTo>
                    <a:lnTo>
                      <a:pt x="377" y="2"/>
                    </a:lnTo>
                    <a:lnTo>
                      <a:pt x="345" y="2"/>
                    </a:lnTo>
                    <a:lnTo>
                      <a:pt x="314" y="4"/>
                    </a:lnTo>
                    <a:lnTo>
                      <a:pt x="283" y="6"/>
                    </a:lnTo>
                    <a:lnTo>
                      <a:pt x="252" y="7"/>
                    </a:lnTo>
                    <a:lnTo>
                      <a:pt x="220" y="9"/>
                    </a:lnTo>
                    <a:lnTo>
                      <a:pt x="189" y="11"/>
                    </a:lnTo>
                    <a:lnTo>
                      <a:pt x="157" y="15"/>
                    </a:lnTo>
                    <a:lnTo>
                      <a:pt x="126" y="17"/>
                    </a:lnTo>
                    <a:lnTo>
                      <a:pt x="94" y="21"/>
                    </a:lnTo>
                    <a:lnTo>
                      <a:pt x="62" y="24"/>
                    </a:lnTo>
                    <a:lnTo>
                      <a:pt x="31" y="28"/>
                    </a:lnTo>
                    <a:lnTo>
                      <a:pt x="0" y="34"/>
                    </a:lnTo>
                    <a:lnTo>
                      <a:pt x="2" y="108"/>
                    </a:lnTo>
                    <a:lnTo>
                      <a:pt x="33" y="103"/>
                    </a:lnTo>
                    <a:lnTo>
                      <a:pt x="64" y="99"/>
                    </a:lnTo>
                    <a:lnTo>
                      <a:pt x="96" y="95"/>
                    </a:lnTo>
                    <a:lnTo>
                      <a:pt x="126" y="92"/>
                    </a:lnTo>
                    <a:lnTo>
                      <a:pt x="157" y="90"/>
                    </a:lnTo>
                    <a:lnTo>
                      <a:pt x="189" y="86"/>
                    </a:lnTo>
                    <a:lnTo>
                      <a:pt x="220" y="84"/>
                    </a:lnTo>
                    <a:lnTo>
                      <a:pt x="252" y="82"/>
                    </a:lnTo>
                    <a:lnTo>
                      <a:pt x="283" y="80"/>
                    </a:lnTo>
                    <a:lnTo>
                      <a:pt x="314" y="79"/>
                    </a:lnTo>
                    <a:lnTo>
                      <a:pt x="345" y="77"/>
                    </a:lnTo>
                    <a:lnTo>
                      <a:pt x="377" y="77"/>
                    </a:lnTo>
                    <a:lnTo>
                      <a:pt x="407" y="75"/>
                    </a:lnTo>
                    <a:lnTo>
                      <a:pt x="438" y="75"/>
                    </a:lnTo>
                    <a:lnTo>
                      <a:pt x="468" y="75"/>
                    </a:lnTo>
                    <a:lnTo>
                      <a:pt x="499" y="75"/>
                    </a:lnTo>
                    <a:lnTo>
                      <a:pt x="4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250200" y="4189320"/>
                <a:ext cx="33480" cy="58680"/>
              </a:xfrm>
              <a:custGeom>
                <a:avLst/>
                <a:gdLst/>
                <a:ahLst/>
                <a:rect l="l" t="t" r="r" b="b"/>
                <a:pathLst>
                  <a:path w="21" h="75">
                    <a:moveTo>
                      <a:pt x="0" y="75"/>
                    </a:moveTo>
                    <a:lnTo>
                      <a:pt x="15" y="64"/>
                    </a:lnTo>
                    <a:lnTo>
                      <a:pt x="21" y="37"/>
                    </a:lnTo>
                    <a:lnTo>
                      <a:pt x="15" y="11"/>
                    </a:lnTo>
                    <a:lnTo>
                      <a:pt x="0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664920" y="3943440"/>
                <a:ext cx="300240" cy="61920"/>
              </a:xfrm>
              <a:custGeom>
                <a:avLst/>
                <a:gdLst/>
                <a:ahLst/>
                <a:rect l="l" t="t" r="r" b="b"/>
                <a:pathLst>
                  <a:path w="189" h="78">
                    <a:moveTo>
                      <a:pt x="105" y="0"/>
                    </a:moveTo>
                    <a:lnTo>
                      <a:pt x="0" y="0"/>
                    </a:lnTo>
                    <a:lnTo>
                      <a:pt x="0" y="78"/>
                    </a:lnTo>
                    <a:lnTo>
                      <a:pt x="189" y="71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798480" y="3940200"/>
                <a:ext cx="172800" cy="6480"/>
              </a:xfrm>
              <a:custGeom>
                <a:avLst/>
                <a:gdLst/>
                <a:ahLst/>
                <a:rect l="l" t="t" r="r" b="b"/>
                <a:pathLst>
                  <a:path w="109" h="7">
                    <a:moveTo>
                      <a:pt x="8" y="4"/>
                    </a:moveTo>
                    <a:lnTo>
                      <a:pt x="4" y="7"/>
                    </a:lnTo>
                    <a:lnTo>
                      <a:pt x="109" y="7"/>
                    </a:lnTo>
                    <a:lnTo>
                      <a:pt x="10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958320" y="394344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84">
                    <a:moveTo>
                      <a:pt x="4" y="74"/>
                    </a:moveTo>
                    <a:lnTo>
                      <a:pt x="8" y="7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0" y="78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4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44040" y="3995640"/>
                <a:ext cx="320760" cy="12960"/>
              </a:xfrm>
              <a:custGeom>
                <a:avLst/>
                <a:gdLst/>
                <a:ahLst/>
                <a:rect l="l" t="t" r="r" b="b"/>
                <a:pathLst>
                  <a:path w="202" h="15">
                    <a:moveTo>
                      <a:pt x="187" y="7"/>
                    </a:moveTo>
                    <a:lnTo>
                      <a:pt x="189" y="0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89" y="7"/>
                    </a:lnTo>
                    <a:lnTo>
                      <a:pt x="191" y="0"/>
                    </a:lnTo>
                    <a:lnTo>
                      <a:pt x="189" y="7"/>
                    </a:lnTo>
                    <a:lnTo>
                      <a:pt x="202" y="7"/>
                    </a:lnTo>
                    <a:lnTo>
                      <a:pt x="191" y="0"/>
                    </a:lnTo>
                    <a:lnTo>
                      <a:pt x="18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661320" y="3940200"/>
                <a:ext cx="140040" cy="61920"/>
              </a:xfrm>
              <a:custGeom>
                <a:avLst/>
                <a:gdLst/>
                <a:ahLst/>
                <a:rect l="l" t="t" r="r" b="b"/>
                <a:pathLst>
                  <a:path w="88" h="78">
                    <a:moveTo>
                      <a:pt x="2" y="7"/>
                    </a:moveTo>
                    <a:lnTo>
                      <a:pt x="0" y="7"/>
                    </a:lnTo>
                    <a:lnTo>
                      <a:pt x="84" y="78"/>
                    </a:lnTo>
                    <a:lnTo>
                      <a:pt x="88" y="7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164680" y="4303800"/>
                <a:ext cx="32040" cy="58680"/>
              </a:xfrm>
              <a:custGeom>
                <a:avLst/>
                <a:gdLst/>
                <a:ahLst/>
                <a:rect l="l" t="t" r="r" b="b"/>
                <a:pathLst>
                  <a:path w="20" h="75">
                    <a:moveTo>
                      <a:pt x="18" y="0"/>
                    </a:moveTo>
                    <a:lnTo>
                      <a:pt x="4" y="13"/>
                    </a:lnTo>
                    <a:lnTo>
                      <a:pt x="0" y="39"/>
                    </a:lnTo>
                    <a:lnTo>
                      <a:pt x="5" y="64"/>
                    </a:lnTo>
                    <a:lnTo>
                      <a:pt x="20" y="7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1551960" y="4251240"/>
                <a:ext cx="615960" cy="111240"/>
              </a:xfrm>
              <a:custGeom>
                <a:avLst/>
                <a:gdLst/>
                <a:ahLst/>
                <a:rect l="l" t="t" r="r" b="b"/>
                <a:pathLst>
                  <a:path w="388" h="140">
                    <a:moveTo>
                      <a:pt x="387" y="37"/>
                    </a:moveTo>
                    <a:lnTo>
                      <a:pt x="386" y="0"/>
                    </a:lnTo>
                    <a:lnTo>
                      <a:pt x="0" y="65"/>
                    </a:lnTo>
                    <a:lnTo>
                      <a:pt x="2" y="140"/>
                    </a:lnTo>
                    <a:lnTo>
                      <a:pt x="388" y="74"/>
                    </a:lnTo>
                    <a:lnTo>
                      <a:pt x="38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1520280" y="425124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22" h="74">
                    <a:moveTo>
                      <a:pt x="2" y="74"/>
                    </a:moveTo>
                    <a:lnTo>
                      <a:pt x="17" y="61"/>
                    </a:lnTo>
                    <a:lnTo>
                      <a:pt x="22" y="35"/>
                    </a:lnTo>
                    <a:lnTo>
                      <a:pt x="15" y="11"/>
                    </a:lnTo>
                    <a:lnTo>
                      <a:pt x="0" y="0"/>
                    </a:lnTo>
                    <a:lnTo>
                      <a:pt x="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3790800" y="4440240"/>
                <a:ext cx="31680" cy="58680"/>
              </a:xfrm>
              <a:custGeom>
                <a:avLst/>
                <a:gdLst/>
                <a:ahLst/>
                <a:rect l="l" t="t" r="r" b="b"/>
                <a:pathLst>
                  <a:path w="20" h="75">
                    <a:moveTo>
                      <a:pt x="18" y="0"/>
                    </a:moveTo>
                    <a:lnTo>
                      <a:pt x="4" y="13"/>
                    </a:lnTo>
                    <a:lnTo>
                      <a:pt x="0" y="39"/>
                    </a:lnTo>
                    <a:lnTo>
                      <a:pt x="5" y="64"/>
                    </a:lnTo>
                    <a:lnTo>
                      <a:pt x="20" y="7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2828520" y="4362480"/>
                <a:ext cx="965160" cy="136440"/>
              </a:xfrm>
              <a:custGeom>
                <a:avLst/>
                <a:gdLst/>
                <a:ahLst/>
                <a:rect l="l" t="t" r="r" b="b"/>
                <a:pathLst>
                  <a:path w="608" h="172">
                    <a:moveTo>
                      <a:pt x="607" y="37"/>
                    </a:moveTo>
                    <a:lnTo>
                      <a:pt x="606" y="0"/>
                    </a:lnTo>
                    <a:lnTo>
                      <a:pt x="0" y="97"/>
                    </a:lnTo>
                    <a:lnTo>
                      <a:pt x="2" y="172"/>
                    </a:lnTo>
                    <a:lnTo>
                      <a:pt x="608" y="75"/>
                    </a:lnTo>
                    <a:lnTo>
                      <a:pt x="60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796840" y="436248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22" h="75">
                    <a:moveTo>
                      <a:pt x="2" y="75"/>
                    </a:moveTo>
                    <a:lnTo>
                      <a:pt x="16" y="61"/>
                    </a:lnTo>
                    <a:lnTo>
                      <a:pt x="22" y="35"/>
                    </a:lnTo>
                    <a:lnTo>
                      <a:pt x="15" y="11"/>
                    </a:lnTo>
                    <a:lnTo>
                      <a:pt x="0" y="0"/>
                    </a:lnTo>
                    <a:lnTo>
                      <a:pt x="2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566440" y="4114800"/>
                <a:ext cx="17640" cy="30240"/>
              </a:xfrm>
              <a:custGeom>
                <a:avLst/>
                <a:gdLst/>
                <a:ahLst/>
                <a:rect l="l" t="t" r="r" b="b"/>
                <a:pathLst>
                  <a:path w="11" h="38">
                    <a:moveTo>
                      <a:pt x="11" y="0"/>
                    </a:moveTo>
                    <a:lnTo>
                      <a:pt x="3" y="6"/>
                    </a:lnTo>
                    <a:lnTo>
                      <a:pt x="0" y="19"/>
                    </a:lnTo>
                    <a:lnTo>
                      <a:pt x="3" y="32"/>
                    </a:lnTo>
                    <a:lnTo>
                      <a:pt x="11" y="3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2072880" y="4076640"/>
                <a:ext cx="493560" cy="68400"/>
              </a:xfrm>
              <a:custGeom>
                <a:avLst/>
                <a:gdLst/>
                <a:ahLst/>
                <a:rect l="l" t="t" r="r" b="b"/>
                <a:pathLst>
                  <a:path w="311" h="86">
                    <a:moveTo>
                      <a:pt x="311" y="19"/>
                    </a:moveTo>
                    <a:lnTo>
                      <a:pt x="311" y="0"/>
                    </a:lnTo>
                    <a:lnTo>
                      <a:pt x="0" y="48"/>
                    </a:lnTo>
                    <a:lnTo>
                      <a:pt x="0" y="86"/>
                    </a:lnTo>
                    <a:lnTo>
                      <a:pt x="311" y="37"/>
                    </a:lnTo>
                    <a:lnTo>
                      <a:pt x="31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2057400" y="407664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0" y="37"/>
                    </a:moveTo>
                    <a:lnTo>
                      <a:pt x="7" y="32"/>
                    </a:lnTo>
                    <a:lnTo>
                      <a:pt x="10" y="19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1823400" y="4046400"/>
                <a:ext cx="17640" cy="30240"/>
              </a:xfrm>
              <a:custGeom>
                <a:avLst/>
                <a:gdLst/>
                <a:ahLst/>
                <a:rect l="l" t="t" r="r" b="b"/>
                <a:pathLst>
                  <a:path w="11" h="38">
                    <a:moveTo>
                      <a:pt x="11" y="0"/>
                    </a:moveTo>
                    <a:lnTo>
                      <a:pt x="3" y="6"/>
                    </a:lnTo>
                    <a:lnTo>
                      <a:pt x="0" y="19"/>
                    </a:lnTo>
                    <a:lnTo>
                      <a:pt x="3" y="32"/>
                    </a:lnTo>
                    <a:lnTo>
                      <a:pt x="11" y="3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1261440" y="4014720"/>
                <a:ext cx="561960" cy="61920"/>
              </a:xfrm>
              <a:custGeom>
                <a:avLst/>
                <a:gdLst/>
                <a:ahLst/>
                <a:rect l="l" t="t" r="r" b="b"/>
                <a:pathLst>
                  <a:path w="354" h="79">
                    <a:moveTo>
                      <a:pt x="354" y="19"/>
                    </a:moveTo>
                    <a:lnTo>
                      <a:pt x="354" y="0"/>
                    </a:lnTo>
                    <a:lnTo>
                      <a:pt x="0" y="41"/>
                    </a:lnTo>
                    <a:lnTo>
                      <a:pt x="0" y="79"/>
                    </a:lnTo>
                    <a:lnTo>
                      <a:pt x="354" y="38"/>
                    </a:lnTo>
                    <a:lnTo>
                      <a:pt x="3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1245960" y="4014720"/>
                <a:ext cx="15840" cy="28800"/>
              </a:xfrm>
              <a:custGeom>
                <a:avLst/>
                <a:gdLst/>
                <a:ahLst/>
                <a:rect l="l" t="t" r="r" b="b"/>
                <a:pathLst>
                  <a:path w="10" h="38">
                    <a:moveTo>
                      <a:pt x="0" y="38"/>
                    </a:moveTo>
                    <a:lnTo>
                      <a:pt x="7" y="32"/>
                    </a:lnTo>
                    <a:lnTo>
                      <a:pt x="10" y="19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653160" y="4702320"/>
                <a:ext cx="33120" cy="60120"/>
              </a:xfrm>
              <a:custGeom>
                <a:avLst/>
                <a:gdLst/>
                <a:ahLst/>
                <a:rect l="l" t="t" r="r" b="b"/>
                <a:pathLst>
                  <a:path w="21" h="75">
                    <a:moveTo>
                      <a:pt x="17" y="0"/>
                    </a:moveTo>
                    <a:lnTo>
                      <a:pt x="9" y="4"/>
                    </a:lnTo>
                    <a:lnTo>
                      <a:pt x="3" y="13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1" y="54"/>
                    </a:lnTo>
                    <a:lnTo>
                      <a:pt x="6" y="65"/>
                    </a:lnTo>
                    <a:lnTo>
                      <a:pt x="12" y="73"/>
                    </a:lnTo>
                    <a:lnTo>
                      <a:pt x="21" y="7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5004720" y="4514760"/>
                <a:ext cx="1654200" cy="247680"/>
              </a:xfrm>
              <a:custGeom>
                <a:avLst/>
                <a:gdLst/>
                <a:ahLst/>
                <a:rect l="l" t="t" r="r" b="b"/>
                <a:pathLst>
                  <a:path w="1042" h="313">
                    <a:moveTo>
                      <a:pt x="1040" y="38"/>
                    </a:moveTo>
                    <a:lnTo>
                      <a:pt x="1038" y="0"/>
                    </a:lnTo>
                    <a:lnTo>
                      <a:pt x="0" y="238"/>
                    </a:lnTo>
                    <a:lnTo>
                      <a:pt x="4" y="313"/>
                    </a:lnTo>
                    <a:lnTo>
                      <a:pt x="1042" y="75"/>
                    </a:lnTo>
                    <a:lnTo>
                      <a:pt x="104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4976280" y="451476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22" h="75">
                    <a:moveTo>
                      <a:pt x="4" y="75"/>
                    </a:moveTo>
                    <a:lnTo>
                      <a:pt x="12" y="72"/>
                    </a:lnTo>
                    <a:lnTo>
                      <a:pt x="18" y="62"/>
                    </a:lnTo>
                    <a:lnTo>
                      <a:pt x="21" y="49"/>
                    </a:lnTo>
                    <a:lnTo>
                      <a:pt x="22" y="34"/>
                    </a:lnTo>
                    <a:lnTo>
                      <a:pt x="20" y="21"/>
                    </a:lnTo>
                    <a:lnTo>
                      <a:pt x="15" y="10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4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6400800" y="1066680"/>
            <a:ext cx="1185840" cy="708120"/>
            <a:chOff x="6400800" y="1066680"/>
            <a:chExt cx="1185840" cy="708120"/>
          </a:xfrm>
        </p:grpSpPr>
        <p:grpSp>
          <p:nvGrpSpPr>
            <p:cNvPr id="173" name=""/>
            <p:cNvGrpSpPr/>
            <p:nvPr/>
          </p:nvGrpSpPr>
          <p:grpSpPr>
            <a:xfrm>
              <a:off x="6400800" y="1066680"/>
              <a:ext cx="1143000" cy="708120"/>
              <a:chOff x="6400800" y="1066680"/>
              <a:chExt cx="1143000" cy="708120"/>
            </a:xfrm>
          </p:grpSpPr>
          <p:sp>
            <p:nvSpPr>
              <p:cNvPr id="174" name=""/>
              <p:cNvSpPr/>
              <p:nvPr/>
            </p:nvSpPr>
            <p:spPr>
              <a:xfrm>
                <a:off x="6400800" y="1066680"/>
                <a:ext cx="1143000" cy="708120"/>
              </a:xfrm>
              <a:custGeom>
                <a:avLst/>
                <a:gdLst/>
                <a:ahLst/>
                <a:rect l="l" t="t" r="r" b="b"/>
                <a:pathLst>
                  <a:path w="5760" h="3565">
                    <a:moveTo>
                      <a:pt x="5125" y="2877"/>
                    </a:moveTo>
                    <a:lnTo>
                      <a:pt x="5156" y="2930"/>
                    </a:lnTo>
                    <a:lnTo>
                      <a:pt x="5187" y="2981"/>
                    </a:lnTo>
                    <a:lnTo>
                      <a:pt x="5219" y="3031"/>
                    </a:lnTo>
                    <a:lnTo>
                      <a:pt x="5251" y="3080"/>
                    </a:lnTo>
                    <a:lnTo>
                      <a:pt x="5285" y="3129"/>
                    </a:lnTo>
                    <a:lnTo>
                      <a:pt x="5319" y="3175"/>
                    </a:lnTo>
                    <a:lnTo>
                      <a:pt x="5354" y="3220"/>
                    </a:lnTo>
                    <a:lnTo>
                      <a:pt x="5392" y="3264"/>
                    </a:lnTo>
                    <a:lnTo>
                      <a:pt x="5430" y="3306"/>
                    </a:lnTo>
                    <a:lnTo>
                      <a:pt x="5471" y="3346"/>
                    </a:lnTo>
                    <a:lnTo>
                      <a:pt x="5513" y="3385"/>
                    </a:lnTo>
                    <a:lnTo>
                      <a:pt x="5558" y="3423"/>
                    </a:lnTo>
                    <a:lnTo>
                      <a:pt x="5604" y="3458"/>
                    </a:lnTo>
                    <a:lnTo>
                      <a:pt x="5653" y="3492"/>
                    </a:lnTo>
                    <a:lnTo>
                      <a:pt x="5705" y="3524"/>
                    </a:lnTo>
                    <a:lnTo>
                      <a:pt x="5760" y="3555"/>
                    </a:lnTo>
                    <a:lnTo>
                      <a:pt x="5742" y="3558"/>
                    </a:lnTo>
                    <a:lnTo>
                      <a:pt x="5726" y="3562"/>
                    </a:lnTo>
                    <a:lnTo>
                      <a:pt x="5709" y="3563"/>
                    </a:lnTo>
                    <a:lnTo>
                      <a:pt x="5693" y="3565"/>
                    </a:lnTo>
                    <a:lnTo>
                      <a:pt x="5678" y="3565"/>
                    </a:lnTo>
                    <a:lnTo>
                      <a:pt x="5662" y="3565"/>
                    </a:lnTo>
                    <a:lnTo>
                      <a:pt x="5648" y="3564"/>
                    </a:lnTo>
                    <a:lnTo>
                      <a:pt x="5632" y="3563"/>
                    </a:lnTo>
                    <a:lnTo>
                      <a:pt x="5618" y="3561"/>
                    </a:lnTo>
                    <a:lnTo>
                      <a:pt x="5605" y="3557"/>
                    </a:lnTo>
                    <a:lnTo>
                      <a:pt x="5591" y="3554"/>
                    </a:lnTo>
                    <a:lnTo>
                      <a:pt x="5577" y="3551"/>
                    </a:lnTo>
                    <a:lnTo>
                      <a:pt x="5563" y="3546"/>
                    </a:lnTo>
                    <a:lnTo>
                      <a:pt x="5551" y="3542"/>
                    </a:lnTo>
                    <a:lnTo>
                      <a:pt x="5538" y="3536"/>
                    </a:lnTo>
                    <a:lnTo>
                      <a:pt x="5525" y="3531"/>
                    </a:lnTo>
                    <a:lnTo>
                      <a:pt x="5504" y="3521"/>
                    </a:lnTo>
                    <a:lnTo>
                      <a:pt x="5482" y="3509"/>
                    </a:lnTo>
                    <a:lnTo>
                      <a:pt x="5459" y="3496"/>
                    </a:lnTo>
                    <a:lnTo>
                      <a:pt x="5436" y="3483"/>
                    </a:lnTo>
                    <a:lnTo>
                      <a:pt x="5413" y="3467"/>
                    </a:lnTo>
                    <a:lnTo>
                      <a:pt x="5388" y="3453"/>
                    </a:lnTo>
                    <a:lnTo>
                      <a:pt x="5363" y="3438"/>
                    </a:lnTo>
                    <a:lnTo>
                      <a:pt x="5338" y="3421"/>
                    </a:lnTo>
                    <a:lnTo>
                      <a:pt x="5312" y="3406"/>
                    </a:lnTo>
                    <a:lnTo>
                      <a:pt x="5286" y="3390"/>
                    </a:lnTo>
                    <a:lnTo>
                      <a:pt x="5260" y="3376"/>
                    </a:lnTo>
                    <a:lnTo>
                      <a:pt x="5233" y="3362"/>
                    </a:lnTo>
                    <a:lnTo>
                      <a:pt x="5206" y="3347"/>
                    </a:lnTo>
                    <a:lnTo>
                      <a:pt x="5179" y="3335"/>
                    </a:lnTo>
                    <a:lnTo>
                      <a:pt x="5151" y="3324"/>
                    </a:lnTo>
                    <a:lnTo>
                      <a:pt x="5123" y="3314"/>
                    </a:lnTo>
                    <a:lnTo>
                      <a:pt x="5099" y="3307"/>
                    </a:lnTo>
                    <a:lnTo>
                      <a:pt x="5075" y="3301"/>
                    </a:lnTo>
                    <a:lnTo>
                      <a:pt x="5051" y="3296"/>
                    </a:lnTo>
                    <a:lnTo>
                      <a:pt x="5027" y="3292"/>
                    </a:lnTo>
                    <a:lnTo>
                      <a:pt x="5002" y="3289"/>
                    </a:lnTo>
                    <a:lnTo>
                      <a:pt x="4978" y="3288"/>
                    </a:lnTo>
                    <a:lnTo>
                      <a:pt x="4954" y="3287"/>
                    </a:lnTo>
                    <a:lnTo>
                      <a:pt x="4929" y="3287"/>
                    </a:lnTo>
                    <a:lnTo>
                      <a:pt x="4904" y="3288"/>
                    </a:lnTo>
                    <a:lnTo>
                      <a:pt x="4879" y="3290"/>
                    </a:lnTo>
                    <a:lnTo>
                      <a:pt x="4854" y="3294"/>
                    </a:lnTo>
                    <a:lnTo>
                      <a:pt x="4829" y="3297"/>
                    </a:lnTo>
                    <a:lnTo>
                      <a:pt x="4802" y="3301"/>
                    </a:lnTo>
                    <a:lnTo>
                      <a:pt x="4777" y="3306"/>
                    </a:lnTo>
                    <a:lnTo>
                      <a:pt x="4751" y="3310"/>
                    </a:lnTo>
                    <a:lnTo>
                      <a:pt x="4724" y="3317"/>
                    </a:lnTo>
                    <a:lnTo>
                      <a:pt x="4698" y="3322"/>
                    </a:lnTo>
                    <a:lnTo>
                      <a:pt x="4670" y="3329"/>
                    </a:lnTo>
                    <a:lnTo>
                      <a:pt x="4644" y="3335"/>
                    </a:lnTo>
                    <a:lnTo>
                      <a:pt x="4616" y="3343"/>
                    </a:lnTo>
                    <a:lnTo>
                      <a:pt x="4588" y="3350"/>
                    </a:lnTo>
                    <a:lnTo>
                      <a:pt x="4560" y="3357"/>
                    </a:lnTo>
                    <a:lnTo>
                      <a:pt x="4532" y="3365"/>
                    </a:lnTo>
                    <a:lnTo>
                      <a:pt x="4503" y="3373"/>
                    </a:lnTo>
                    <a:lnTo>
                      <a:pt x="4473" y="3380"/>
                    </a:lnTo>
                    <a:lnTo>
                      <a:pt x="4445" y="3387"/>
                    </a:lnTo>
                    <a:lnTo>
                      <a:pt x="4414" y="3395"/>
                    </a:lnTo>
                    <a:lnTo>
                      <a:pt x="4384" y="3402"/>
                    </a:lnTo>
                    <a:lnTo>
                      <a:pt x="4354" y="3409"/>
                    </a:lnTo>
                    <a:lnTo>
                      <a:pt x="4323" y="3416"/>
                    </a:lnTo>
                    <a:lnTo>
                      <a:pt x="4291" y="3422"/>
                    </a:lnTo>
                    <a:lnTo>
                      <a:pt x="4259" y="3428"/>
                    </a:lnTo>
                    <a:lnTo>
                      <a:pt x="4211" y="3436"/>
                    </a:lnTo>
                    <a:lnTo>
                      <a:pt x="4165" y="3446"/>
                    </a:lnTo>
                    <a:lnTo>
                      <a:pt x="4122" y="3456"/>
                    </a:lnTo>
                    <a:lnTo>
                      <a:pt x="4079" y="3466"/>
                    </a:lnTo>
                    <a:lnTo>
                      <a:pt x="4038" y="3477"/>
                    </a:lnTo>
                    <a:lnTo>
                      <a:pt x="3998" y="3487"/>
                    </a:lnTo>
                    <a:lnTo>
                      <a:pt x="3961" y="3496"/>
                    </a:lnTo>
                    <a:lnTo>
                      <a:pt x="3925" y="3503"/>
                    </a:lnTo>
                    <a:lnTo>
                      <a:pt x="3889" y="3511"/>
                    </a:lnTo>
                    <a:lnTo>
                      <a:pt x="3856" y="3517"/>
                    </a:lnTo>
                    <a:lnTo>
                      <a:pt x="3824" y="3520"/>
                    </a:lnTo>
                    <a:lnTo>
                      <a:pt x="3792" y="3522"/>
                    </a:lnTo>
                    <a:lnTo>
                      <a:pt x="3761" y="3521"/>
                    </a:lnTo>
                    <a:lnTo>
                      <a:pt x="3731" y="3519"/>
                    </a:lnTo>
                    <a:lnTo>
                      <a:pt x="3703" y="3512"/>
                    </a:lnTo>
                    <a:lnTo>
                      <a:pt x="3674" y="3503"/>
                    </a:lnTo>
                    <a:lnTo>
                      <a:pt x="3659" y="3496"/>
                    </a:lnTo>
                    <a:lnTo>
                      <a:pt x="3652" y="3486"/>
                    </a:lnTo>
                    <a:lnTo>
                      <a:pt x="3651" y="3475"/>
                    </a:lnTo>
                    <a:lnTo>
                      <a:pt x="3655" y="3464"/>
                    </a:lnTo>
                    <a:lnTo>
                      <a:pt x="3665" y="3451"/>
                    </a:lnTo>
                    <a:lnTo>
                      <a:pt x="3678" y="3436"/>
                    </a:lnTo>
                    <a:lnTo>
                      <a:pt x="3694" y="3422"/>
                    </a:lnTo>
                    <a:lnTo>
                      <a:pt x="3711" y="3407"/>
                    </a:lnTo>
                    <a:lnTo>
                      <a:pt x="3730" y="3391"/>
                    </a:lnTo>
                    <a:lnTo>
                      <a:pt x="3749" y="3375"/>
                    </a:lnTo>
                    <a:lnTo>
                      <a:pt x="3766" y="3360"/>
                    </a:lnTo>
                    <a:lnTo>
                      <a:pt x="3782" y="3343"/>
                    </a:lnTo>
                    <a:lnTo>
                      <a:pt x="3795" y="3327"/>
                    </a:lnTo>
                    <a:lnTo>
                      <a:pt x="3804" y="3310"/>
                    </a:lnTo>
                    <a:lnTo>
                      <a:pt x="3808" y="3295"/>
                    </a:lnTo>
                    <a:lnTo>
                      <a:pt x="3807" y="3279"/>
                    </a:lnTo>
                    <a:lnTo>
                      <a:pt x="3800" y="3266"/>
                    </a:lnTo>
                    <a:lnTo>
                      <a:pt x="3792" y="3255"/>
                    </a:lnTo>
                    <a:lnTo>
                      <a:pt x="3778" y="3246"/>
                    </a:lnTo>
                    <a:lnTo>
                      <a:pt x="3764" y="3239"/>
                    </a:lnTo>
                    <a:lnTo>
                      <a:pt x="3747" y="3232"/>
                    </a:lnTo>
                    <a:lnTo>
                      <a:pt x="3727" y="3228"/>
                    </a:lnTo>
                    <a:lnTo>
                      <a:pt x="3707" y="3223"/>
                    </a:lnTo>
                    <a:lnTo>
                      <a:pt x="3685" y="3221"/>
                    </a:lnTo>
                    <a:lnTo>
                      <a:pt x="3663" y="3219"/>
                    </a:lnTo>
                    <a:lnTo>
                      <a:pt x="3641" y="3219"/>
                    </a:lnTo>
                    <a:lnTo>
                      <a:pt x="3619" y="3219"/>
                    </a:lnTo>
                    <a:lnTo>
                      <a:pt x="3597" y="3220"/>
                    </a:lnTo>
                    <a:lnTo>
                      <a:pt x="3576" y="3222"/>
                    </a:lnTo>
                    <a:lnTo>
                      <a:pt x="3557" y="3224"/>
                    </a:lnTo>
                    <a:lnTo>
                      <a:pt x="3540" y="3227"/>
                    </a:lnTo>
                    <a:lnTo>
                      <a:pt x="3524" y="3230"/>
                    </a:lnTo>
                    <a:lnTo>
                      <a:pt x="3499" y="3236"/>
                    </a:lnTo>
                    <a:lnTo>
                      <a:pt x="3474" y="3245"/>
                    </a:lnTo>
                    <a:lnTo>
                      <a:pt x="3449" y="3254"/>
                    </a:lnTo>
                    <a:lnTo>
                      <a:pt x="3424" y="3264"/>
                    </a:lnTo>
                    <a:lnTo>
                      <a:pt x="3400" y="3275"/>
                    </a:lnTo>
                    <a:lnTo>
                      <a:pt x="3376" y="3286"/>
                    </a:lnTo>
                    <a:lnTo>
                      <a:pt x="3352" y="3298"/>
                    </a:lnTo>
                    <a:lnTo>
                      <a:pt x="3329" y="3310"/>
                    </a:lnTo>
                    <a:lnTo>
                      <a:pt x="3304" y="3323"/>
                    </a:lnTo>
                    <a:lnTo>
                      <a:pt x="3281" y="3336"/>
                    </a:lnTo>
                    <a:lnTo>
                      <a:pt x="3258" y="3350"/>
                    </a:lnTo>
                    <a:lnTo>
                      <a:pt x="3235" y="3364"/>
                    </a:lnTo>
                    <a:lnTo>
                      <a:pt x="3213" y="3377"/>
                    </a:lnTo>
                    <a:lnTo>
                      <a:pt x="3190" y="3391"/>
                    </a:lnTo>
                    <a:lnTo>
                      <a:pt x="3167" y="3405"/>
                    </a:lnTo>
                    <a:lnTo>
                      <a:pt x="3144" y="3419"/>
                    </a:lnTo>
                    <a:lnTo>
                      <a:pt x="3121" y="3432"/>
                    </a:lnTo>
                    <a:lnTo>
                      <a:pt x="3098" y="3446"/>
                    </a:lnTo>
                    <a:lnTo>
                      <a:pt x="3076" y="3458"/>
                    </a:lnTo>
                    <a:lnTo>
                      <a:pt x="3053" y="3472"/>
                    </a:lnTo>
                    <a:lnTo>
                      <a:pt x="3028" y="3484"/>
                    </a:lnTo>
                    <a:lnTo>
                      <a:pt x="3005" y="3495"/>
                    </a:lnTo>
                    <a:lnTo>
                      <a:pt x="2982" y="3506"/>
                    </a:lnTo>
                    <a:lnTo>
                      <a:pt x="2958" y="3516"/>
                    </a:lnTo>
                    <a:lnTo>
                      <a:pt x="2934" y="3525"/>
                    </a:lnTo>
                    <a:lnTo>
                      <a:pt x="2910" y="3534"/>
                    </a:lnTo>
                    <a:lnTo>
                      <a:pt x="2885" y="3541"/>
                    </a:lnTo>
                    <a:lnTo>
                      <a:pt x="2860" y="3547"/>
                    </a:lnTo>
                    <a:lnTo>
                      <a:pt x="2836" y="3553"/>
                    </a:lnTo>
                    <a:lnTo>
                      <a:pt x="2810" y="3557"/>
                    </a:lnTo>
                    <a:lnTo>
                      <a:pt x="2784" y="3561"/>
                    </a:lnTo>
                    <a:lnTo>
                      <a:pt x="2758" y="3562"/>
                    </a:lnTo>
                    <a:lnTo>
                      <a:pt x="2726" y="3561"/>
                    </a:lnTo>
                    <a:lnTo>
                      <a:pt x="2696" y="3554"/>
                    </a:lnTo>
                    <a:lnTo>
                      <a:pt x="2668" y="3544"/>
                    </a:lnTo>
                    <a:lnTo>
                      <a:pt x="2639" y="3530"/>
                    </a:lnTo>
                    <a:lnTo>
                      <a:pt x="2613" y="3513"/>
                    </a:lnTo>
                    <a:lnTo>
                      <a:pt x="2586" y="3495"/>
                    </a:lnTo>
                    <a:lnTo>
                      <a:pt x="2560" y="3474"/>
                    </a:lnTo>
                    <a:lnTo>
                      <a:pt x="2535" y="3452"/>
                    </a:lnTo>
                    <a:lnTo>
                      <a:pt x="2508" y="3429"/>
                    </a:lnTo>
                    <a:lnTo>
                      <a:pt x="2483" y="3406"/>
                    </a:lnTo>
                    <a:lnTo>
                      <a:pt x="2457" y="3384"/>
                    </a:lnTo>
                    <a:lnTo>
                      <a:pt x="2430" y="3363"/>
                    </a:lnTo>
                    <a:lnTo>
                      <a:pt x="2403" y="3344"/>
                    </a:lnTo>
                    <a:lnTo>
                      <a:pt x="2374" y="3327"/>
                    </a:lnTo>
                    <a:lnTo>
                      <a:pt x="2346" y="3313"/>
                    </a:lnTo>
                    <a:lnTo>
                      <a:pt x="2315" y="3302"/>
                    </a:lnTo>
                    <a:lnTo>
                      <a:pt x="2289" y="3296"/>
                    </a:lnTo>
                    <a:lnTo>
                      <a:pt x="2267" y="3292"/>
                    </a:lnTo>
                    <a:lnTo>
                      <a:pt x="2245" y="3289"/>
                    </a:lnTo>
                    <a:lnTo>
                      <a:pt x="2226" y="3288"/>
                    </a:lnTo>
                    <a:lnTo>
                      <a:pt x="2207" y="3288"/>
                    </a:lnTo>
                    <a:lnTo>
                      <a:pt x="2188" y="3289"/>
                    </a:lnTo>
                    <a:lnTo>
                      <a:pt x="2171" y="3291"/>
                    </a:lnTo>
                    <a:lnTo>
                      <a:pt x="2153" y="3294"/>
                    </a:lnTo>
                    <a:lnTo>
                      <a:pt x="2136" y="3297"/>
                    </a:lnTo>
                    <a:lnTo>
                      <a:pt x="2117" y="3300"/>
                    </a:lnTo>
                    <a:lnTo>
                      <a:pt x="2098" y="3303"/>
                    </a:lnTo>
                    <a:lnTo>
                      <a:pt x="2078" y="3307"/>
                    </a:lnTo>
                    <a:lnTo>
                      <a:pt x="2059" y="3309"/>
                    </a:lnTo>
                    <a:lnTo>
                      <a:pt x="2035" y="3312"/>
                    </a:lnTo>
                    <a:lnTo>
                      <a:pt x="2012" y="3313"/>
                    </a:lnTo>
                    <a:lnTo>
                      <a:pt x="1986" y="3314"/>
                    </a:lnTo>
                    <a:lnTo>
                      <a:pt x="1955" y="3314"/>
                    </a:lnTo>
                    <a:lnTo>
                      <a:pt x="1922" y="3312"/>
                    </a:lnTo>
                    <a:lnTo>
                      <a:pt x="1888" y="3310"/>
                    </a:lnTo>
                    <a:lnTo>
                      <a:pt x="1853" y="3307"/>
                    </a:lnTo>
                    <a:lnTo>
                      <a:pt x="1817" y="3303"/>
                    </a:lnTo>
                    <a:lnTo>
                      <a:pt x="1780" y="3299"/>
                    </a:lnTo>
                    <a:lnTo>
                      <a:pt x="1743" y="3295"/>
                    </a:lnTo>
                    <a:lnTo>
                      <a:pt x="1706" y="3290"/>
                    </a:lnTo>
                    <a:lnTo>
                      <a:pt x="1669" y="3287"/>
                    </a:lnTo>
                    <a:lnTo>
                      <a:pt x="1632" y="3284"/>
                    </a:lnTo>
                    <a:lnTo>
                      <a:pt x="1596" y="3281"/>
                    </a:lnTo>
                    <a:lnTo>
                      <a:pt x="1560" y="3280"/>
                    </a:lnTo>
                    <a:lnTo>
                      <a:pt x="1525" y="3280"/>
                    </a:lnTo>
                    <a:lnTo>
                      <a:pt x="1491" y="3283"/>
                    </a:lnTo>
                    <a:lnTo>
                      <a:pt x="1459" y="3286"/>
                    </a:lnTo>
                    <a:lnTo>
                      <a:pt x="1428" y="3291"/>
                    </a:lnTo>
                    <a:lnTo>
                      <a:pt x="1398" y="3299"/>
                    </a:lnTo>
                    <a:lnTo>
                      <a:pt x="1367" y="3308"/>
                    </a:lnTo>
                    <a:lnTo>
                      <a:pt x="1336" y="3318"/>
                    </a:lnTo>
                    <a:lnTo>
                      <a:pt x="1305" y="3329"/>
                    </a:lnTo>
                    <a:lnTo>
                      <a:pt x="1275" y="3341"/>
                    </a:lnTo>
                    <a:lnTo>
                      <a:pt x="1244" y="3354"/>
                    </a:lnTo>
                    <a:lnTo>
                      <a:pt x="1213" y="3367"/>
                    </a:lnTo>
                    <a:lnTo>
                      <a:pt x="1182" y="3381"/>
                    </a:lnTo>
                    <a:lnTo>
                      <a:pt x="1151" y="3395"/>
                    </a:lnTo>
                    <a:lnTo>
                      <a:pt x="1122" y="3409"/>
                    </a:lnTo>
                    <a:lnTo>
                      <a:pt x="1091" y="3422"/>
                    </a:lnTo>
                    <a:lnTo>
                      <a:pt x="1060" y="3435"/>
                    </a:lnTo>
                    <a:lnTo>
                      <a:pt x="1029" y="3447"/>
                    </a:lnTo>
                    <a:lnTo>
                      <a:pt x="1000" y="3460"/>
                    </a:lnTo>
                    <a:lnTo>
                      <a:pt x="969" y="3471"/>
                    </a:lnTo>
                    <a:lnTo>
                      <a:pt x="938" y="3479"/>
                    </a:lnTo>
                    <a:lnTo>
                      <a:pt x="919" y="3485"/>
                    </a:lnTo>
                    <a:lnTo>
                      <a:pt x="900" y="3489"/>
                    </a:lnTo>
                    <a:lnTo>
                      <a:pt x="880" y="3492"/>
                    </a:lnTo>
                    <a:lnTo>
                      <a:pt x="860" y="3495"/>
                    </a:lnTo>
                    <a:lnTo>
                      <a:pt x="840" y="3497"/>
                    </a:lnTo>
                    <a:lnTo>
                      <a:pt x="819" y="3498"/>
                    </a:lnTo>
                    <a:lnTo>
                      <a:pt x="799" y="3499"/>
                    </a:lnTo>
                    <a:lnTo>
                      <a:pt x="779" y="3500"/>
                    </a:lnTo>
                    <a:lnTo>
                      <a:pt x="758" y="3500"/>
                    </a:lnTo>
                    <a:lnTo>
                      <a:pt x="737" y="3500"/>
                    </a:lnTo>
                    <a:lnTo>
                      <a:pt x="716" y="3499"/>
                    </a:lnTo>
                    <a:lnTo>
                      <a:pt x="696" y="3499"/>
                    </a:lnTo>
                    <a:lnTo>
                      <a:pt x="675" y="3498"/>
                    </a:lnTo>
                    <a:lnTo>
                      <a:pt x="654" y="3497"/>
                    </a:lnTo>
                    <a:lnTo>
                      <a:pt x="635" y="3497"/>
                    </a:lnTo>
                    <a:lnTo>
                      <a:pt x="615" y="3496"/>
                    </a:lnTo>
                    <a:lnTo>
                      <a:pt x="0" y="0"/>
                    </a:lnTo>
                    <a:lnTo>
                      <a:pt x="11" y="5"/>
                    </a:lnTo>
                    <a:lnTo>
                      <a:pt x="23" y="11"/>
                    </a:lnTo>
                    <a:lnTo>
                      <a:pt x="34" y="18"/>
                    </a:lnTo>
                    <a:lnTo>
                      <a:pt x="46" y="23"/>
                    </a:lnTo>
                    <a:lnTo>
                      <a:pt x="57" y="30"/>
                    </a:lnTo>
                    <a:lnTo>
                      <a:pt x="69" y="36"/>
                    </a:lnTo>
                    <a:lnTo>
                      <a:pt x="80" y="42"/>
                    </a:lnTo>
                    <a:lnTo>
                      <a:pt x="92" y="48"/>
                    </a:lnTo>
                    <a:lnTo>
                      <a:pt x="103" y="54"/>
                    </a:lnTo>
                    <a:lnTo>
                      <a:pt x="115" y="59"/>
                    </a:lnTo>
                    <a:lnTo>
                      <a:pt x="128" y="65"/>
                    </a:lnTo>
                    <a:lnTo>
                      <a:pt x="139" y="70"/>
                    </a:lnTo>
                    <a:lnTo>
                      <a:pt x="151" y="75"/>
                    </a:lnTo>
                    <a:lnTo>
                      <a:pt x="163" y="79"/>
                    </a:lnTo>
                    <a:lnTo>
                      <a:pt x="176" y="82"/>
                    </a:lnTo>
                    <a:lnTo>
                      <a:pt x="188" y="86"/>
                    </a:lnTo>
                    <a:lnTo>
                      <a:pt x="211" y="90"/>
                    </a:lnTo>
                    <a:lnTo>
                      <a:pt x="234" y="92"/>
                    </a:lnTo>
                    <a:lnTo>
                      <a:pt x="256" y="95"/>
                    </a:lnTo>
                    <a:lnTo>
                      <a:pt x="279" y="95"/>
                    </a:lnTo>
                    <a:lnTo>
                      <a:pt x="301" y="95"/>
                    </a:lnTo>
                    <a:lnTo>
                      <a:pt x="323" y="93"/>
                    </a:lnTo>
                    <a:lnTo>
                      <a:pt x="345" y="91"/>
                    </a:lnTo>
                    <a:lnTo>
                      <a:pt x="367" y="89"/>
                    </a:lnTo>
                    <a:lnTo>
                      <a:pt x="389" y="88"/>
                    </a:lnTo>
                    <a:lnTo>
                      <a:pt x="411" y="87"/>
                    </a:lnTo>
                    <a:lnTo>
                      <a:pt x="433" y="86"/>
                    </a:lnTo>
                    <a:lnTo>
                      <a:pt x="456" y="86"/>
                    </a:lnTo>
                    <a:lnTo>
                      <a:pt x="478" y="86"/>
                    </a:lnTo>
                    <a:lnTo>
                      <a:pt x="500" y="88"/>
                    </a:lnTo>
                    <a:lnTo>
                      <a:pt x="522" y="91"/>
                    </a:lnTo>
                    <a:lnTo>
                      <a:pt x="545" y="97"/>
                    </a:lnTo>
                    <a:lnTo>
                      <a:pt x="591" y="110"/>
                    </a:lnTo>
                    <a:lnTo>
                      <a:pt x="635" y="124"/>
                    </a:lnTo>
                    <a:lnTo>
                      <a:pt x="677" y="141"/>
                    </a:lnTo>
                    <a:lnTo>
                      <a:pt x="720" y="158"/>
                    </a:lnTo>
                    <a:lnTo>
                      <a:pt x="761" y="177"/>
                    </a:lnTo>
                    <a:lnTo>
                      <a:pt x="803" y="197"/>
                    </a:lnTo>
                    <a:lnTo>
                      <a:pt x="843" y="216"/>
                    </a:lnTo>
                    <a:lnTo>
                      <a:pt x="883" y="235"/>
                    </a:lnTo>
                    <a:lnTo>
                      <a:pt x="924" y="255"/>
                    </a:lnTo>
                    <a:lnTo>
                      <a:pt x="964" y="275"/>
                    </a:lnTo>
                    <a:lnTo>
                      <a:pt x="1006" y="292"/>
                    </a:lnTo>
                    <a:lnTo>
                      <a:pt x="1048" y="310"/>
                    </a:lnTo>
                    <a:lnTo>
                      <a:pt x="1090" y="326"/>
                    </a:lnTo>
                    <a:lnTo>
                      <a:pt x="1134" y="341"/>
                    </a:lnTo>
                    <a:lnTo>
                      <a:pt x="1178" y="354"/>
                    </a:lnTo>
                    <a:lnTo>
                      <a:pt x="1224" y="365"/>
                    </a:lnTo>
                    <a:lnTo>
                      <a:pt x="1251" y="369"/>
                    </a:lnTo>
                    <a:lnTo>
                      <a:pt x="1282" y="374"/>
                    </a:lnTo>
                    <a:lnTo>
                      <a:pt x="1315" y="376"/>
                    </a:lnTo>
                    <a:lnTo>
                      <a:pt x="1349" y="377"/>
                    </a:lnTo>
                    <a:lnTo>
                      <a:pt x="1386" y="377"/>
                    </a:lnTo>
                    <a:lnTo>
                      <a:pt x="1423" y="376"/>
                    </a:lnTo>
                    <a:lnTo>
                      <a:pt x="1460" y="375"/>
                    </a:lnTo>
                    <a:lnTo>
                      <a:pt x="1498" y="373"/>
                    </a:lnTo>
                    <a:lnTo>
                      <a:pt x="1536" y="369"/>
                    </a:lnTo>
                    <a:lnTo>
                      <a:pt x="1574" y="366"/>
                    </a:lnTo>
                    <a:lnTo>
                      <a:pt x="1610" y="362"/>
                    </a:lnTo>
                    <a:lnTo>
                      <a:pt x="1645" y="357"/>
                    </a:lnTo>
                    <a:lnTo>
                      <a:pt x="1678" y="353"/>
                    </a:lnTo>
                    <a:lnTo>
                      <a:pt x="1710" y="348"/>
                    </a:lnTo>
                    <a:lnTo>
                      <a:pt x="1739" y="343"/>
                    </a:lnTo>
                    <a:lnTo>
                      <a:pt x="1765" y="338"/>
                    </a:lnTo>
                    <a:lnTo>
                      <a:pt x="1811" y="330"/>
                    </a:lnTo>
                    <a:lnTo>
                      <a:pt x="1854" y="321"/>
                    </a:lnTo>
                    <a:lnTo>
                      <a:pt x="1893" y="312"/>
                    </a:lnTo>
                    <a:lnTo>
                      <a:pt x="1928" y="304"/>
                    </a:lnTo>
                    <a:lnTo>
                      <a:pt x="1961" y="296"/>
                    </a:lnTo>
                    <a:lnTo>
                      <a:pt x="1991" y="288"/>
                    </a:lnTo>
                    <a:lnTo>
                      <a:pt x="2020" y="280"/>
                    </a:lnTo>
                    <a:lnTo>
                      <a:pt x="2046" y="273"/>
                    </a:lnTo>
                    <a:lnTo>
                      <a:pt x="2073" y="266"/>
                    </a:lnTo>
                    <a:lnTo>
                      <a:pt x="2099" y="259"/>
                    </a:lnTo>
                    <a:lnTo>
                      <a:pt x="2125" y="254"/>
                    </a:lnTo>
                    <a:lnTo>
                      <a:pt x="2151" y="248"/>
                    </a:lnTo>
                    <a:lnTo>
                      <a:pt x="2178" y="243"/>
                    </a:lnTo>
                    <a:lnTo>
                      <a:pt x="2207" y="238"/>
                    </a:lnTo>
                    <a:lnTo>
                      <a:pt x="2238" y="235"/>
                    </a:lnTo>
                    <a:lnTo>
                      <a:pt x="2271" y="232"/>
                    </a:lnTo>
                    <a:lnTo>
                      <a:pt x="2285" y="232"/>
                    </a:lnTo>
                    <a:lnTo>
                      <a:pt x="2300" y="234"/>
                    </a:lnTo>
                    <a:lnTo>
                      <a:pt x="2315" y="238"/>
                    </a:lnTo>
                    <a:lnTo>
                      <a:pt x="2328" y="244"/>
                    </a:lnTo>
                    <a:lnTo>
                      <a:pt x="2342" y="251"/>
                    </a:lnTo>
                    <a:lnTo>
                      <a:pt x="2357" y="258"/>
                    </a:lnTo>
                    <a:lnTo>
                      <a:pt x="2370" y="267"/>
                    </a:lnTo>
                    <a:lnTo>
                      <a:pt x="2384" y="276"/>
                    </a:lnTo>
                    <a:lnTo>
                      <a:pt x="2398" y="286"/>
                    </a:lnTo>
                    <a:lnTo>
                      <a:pt x="2412" y="295"/>
                    </a:lnTo>
                    <a:lnTo>
                      <a:pt x="2426" y="304"/>
                    </a:lnTo>
                    <a:lnTo>
                      <a:pt x="2440" y="313"/>
                    </a:lnTo>
                    <a:lnTo>
                      <a:pt x="2453" y="321"/>
                    </a:lnTo>
                    <a:lnTo>
                      <a:pt x="2468" y="329"/>
                    </a:lnTo>
                    <a:lnTo>
                      <a:pt x="2483" y="335"/>
                    </a:lnTo>
                    <a:lnTo>
                      <a:pt x="2497" y="340"/>
                    </a:lnTo>
                    <a:lnTo>
                      <a:pt x="2511" y="343"/>
                    </a:lnTo>
                    <a:lnTo>
                      <a:pt x="2523" y="346"/>
                    </a:lnTo>
                    <a:lnTo>
                      <a:pt x="2536" y="348"/>
                    </a:lnTo>
                    <a:lnTo>
                      <a:pt x="2549" y="351"/>
                    </a:lnTo>
                    <a:lnTo>
                      <a:pt x="2562" y="353"/>
                    </a:lnTo>
                    <a:lnTo>
                      <a:pt x="2576" y="354"/>
                    </a:lnTo>
                    <a:lnTo>
                      <a:pt x="2590" y="356"/>
                    </a:lnTo>
                    <a:lnTo>
                      <a:pt x="2603" y="357"/>
                    </a:lnTo>
                    <a:lnTo>
                      <a:pt x="2617" y="358"/>
                    </a:lnTo>
                    <a:lnTo>
                      <a:pt x="2630" y="360"/>
                    </a:lnTo>
                    <a:lnTo>
                      <a:pt x="2644" y="362"/>
                    </a:lnTo>
                    <a:lnTo>
                      <a:pt x="2658" y="364"/>
                    </a:lnTo>
                    <a:lnTo>
                      <a:pt x="2671" y="366"/>
                    </a:lnTo>
                    <a:lnTo>
                      <a:pt x="2684" y="368"/>
                    </a:lnTo>
                    <a:lnTo>
                      <a:pt x="2697" y="370"/>
                    </a:lnTo>
                    <a:lnTo>
                      <a:pt x="2711" y="374"/>
                    </a:lnTo>
                    <a:lnTo>
                      <a:pt x="2726" y="378"/>
                    </a:lnTo>
                    <a:lnTo>
                      <a:pt x="2741" y="384"/>
                    </a:lnTo>
                    <a:lnTo>
                      <a:pt x="2756" y="389"/>
                    </a:lnTo>
                    <a:lnTo>
                      <a:pt x="2770" y="395"/>
                    </a:lnTo>
                    <a:lnTo>
                      <a:pt x="2784" y="400"/>
                    </a:lnTo>
                    <a:lnTo>
                      <a:pt x="2799" y="407"/>
                    </a:lnTo>
                    <a:lnTo>
                      <a:pt x="2813" y="412"/>
                    </a:lnTo>
                    <a:lnTo>
                      <a:pt x="2827" y="419"/>
                    </a:lnTo>
                    <a:lnTo>
                      <a:pt x="2842" y="424"/>
                    </a:lnTo>
                    <a:lnTo>
                      <a:pt x="2856" y="430"/>
                    </a:lnTo>
                    <a:lnTo>
                      <a:pt x="2870" y="434"/>
                    </a:lnTo>
                    <a:lnTo>
                      <a:pt x="2885" y="438"/>
                    </a:lnTo>
                    <a:lnTo>
                      <a:pt x="2900" y="442"/>
                    </a:lnTo>
                    <a:lnTo>
                      <a:pt x="2915" y="445"/>
                    </a:lnTo>
                    <a:lnTo>
                      <a:pt x="2931" y="446"/>
                    </a:lnTo>
                    <a:lnTo>
                      <a:pt x="2946" y="447"/>
                    </a:lnTo>
                    <a:lnTo>
                      <a:pt x="2976" y="447"/>
                    </a:lnTo>
                    <a:lnTo>
                      <a:pt x="3004" y="445"/>
                    </a:lnTo>
                    <a:lnTo>
                      <a:pt x="3033" y="442"/>
                    </a:lnTo>
                    <a:lnTo>
                      <a:pt x="3063" y="436"/>
                    </a:lnTo>
                    <a:lnTo>
                      <a:pt x="3091" y="430"/>
                    </a:lnTo>
                    <a:lnTo>
                      <a:pt x="3120" y="423"/>
                    </a:lnTo>
                    <a:lnTo>
                      <a:pt x="3148" y="414"/>
                    </a:lnTo>
                    <a:lnTo>
                      <a:pt x="3177" y="407"/>
                    </a:lnTo>
                    <a:lnTo>
                      <a:pt x="3205" y="398"/>
                    </a:lnTo>
                    <a:lnTo>
                      <a:pt x="3234" y="389"/>
                    </a:lnTo>
                    <a:lnTo>
                      <a:pt x="3263" y="381"/>
                    </a:lnTo>
                    <a:lnTo>
                      <a:pt x="3291" y="374"/>
                    </a:lnTo>
                    <a:lnTo>
                      <a:pt x="3321" y="366"/>
                    </a:lnTo>
                    <a:lnTo>
                      <a:pt x="3350" y="360"/>
                    </a:lnTo>
                    <a:lnTo>
                      <a:pt x="3378" y="355"/>
                    </a:lnTo>
                    <a:lnTo>
                      <a:pt x="3408" y="352"/>
                    </a:lnTo>
                    <a:lnTo>
                      <a:pt x="3429" y="351"/>
                    </a:lnTo>
                    <a:lnTo>
                      <a:pt x="3451" y="349"/>
                    </a:lnTo>
                    <a:lnTo>
                      <a:pt x="3472" y="349"/>
                    </a:lnTo>
                    <a:lnTo>
                      <a:pt x="3491" y="349"/>
                    </a:lnTo>
                    <a:lnTo>
                      <a:pt x="3512" y="351"/>
                    </a:lnTo>
                    <a:lnTo>
                      <a:pt x="3533" y="353"/>
                    </a:lnTo>
                    <a:lnTo>
                      <a:pt x="3553" y="355"/>
                    </a:lnTo>
                    <a:lnTo>
                      <a:pt x="3573" y="358"/>
                    </a:lnTo>
                    <a:lnTo>
                      <a:pt x="3594" y="362"/>
                    </a:lnTo>
                    <a:lnTo>
                      <a:pt x="3613" y="365"/>
                    </a:lnTo>
                    <a:lnTo>
                      <a:pt x="3633" y="369"/>
                    </a:lnTo>
                    <a:lnTo>
                      <a:pt x="3653" y="374"/>
                    </a:lnTo>
                    <a:lnTo>
                      <a:pt x="3674" y="379"/>
                    </a:lnTo>
                    <a:lnTo>
                      <a:pt x="3694" y="385"/>
                    </a:lnTo>
                    <a:lnTo>
                      <a:pt x="3714" y="390"/>
                    </a:lnTo>
                    <a:lnTo>
                      <a:pt x="3734" y="396"/>
                    </a:lnTo>
                    <a:lnTo>
                      <a:pt x="3750" y="400"/>
                    </a:lnTo>
                    <a:lnTo>
                      <a:pt x="3764" y="404"/>
                    </a:lnTo>
                    <a:lnTo>
                      <a:pt x="3780" y="410"/>
                    </a:lnTo>
                    <a:lnTo>
                      <a:pt x="3796" y="414"/>
                    </a:lnTo>
                    <a:lnTo>
                      <a:pt x="3811" y="420"/>
                    </a:lnTo>
                    <a:lnTo>
                      <a:pt x="3827" y="426"/>
                    </a:lnTo>
                    <a:lnTo>
                      <a:pt x="3842" y="432"/>
                    </a:lnTo>
                    <a:lnTo>
                      <a:pt x="3858" y="438"/>
                    </a:lnTo>
                    <a:lnTo>
                      <a:pt x="3873" y="446"/>
                    </a:lnTo>
                    <a:lnTo>
                      <a:pt x="3887" y="454"/>
                    </a:lnTo>
                    <a:lnTo>
                      <a:pt x="3900" y="463"/>
                    </a:lnTo>
                    <a:lnTo>
                      <a:pt x="3914" y="471"/>
                    </a:lnTo>
                    <a:lnTo>
                      <a:pt x="3926" y="481"/>
                    </a:lnTo>
                    <a:lnTo>
                      <a:pt x="3938" y="491"/>
                    </a:lnTo>
                    <a:lnTo>
                      <a:pt x="3948" y="502"/>
                    </a:lnTo>
                    <a:lnTo>
                      <a:pt x="3958" y="514"/>
                    </a:lnTo>
                    <a:lnTo>
                      <a:pt x="3977" y="549"/>
                    </a:lnTo>
                    <a:lnTo>
                      <a:pt x="3993" y="588"/>
                    </a:lnTo>
                    <a:lnTo>
                      <a:pt x="4004" y="628"/>
                    </a:lnTo>
                    <a:lnTo>
                      <a:pt x="4014" y="668"/>
                    </a:lnTo>
                    <a:lnTo>
                      <a:pt x="4024" y="710"/>
                    </a:lnTo>
                    <a:lnTo>
                      <a:pt x="4035" y="749"/>
                    </a:lnTo>
                    <a:lnTo>
                      <a:pt x="4050" y="788"/>
                    </a:lnTo>
                    <a:lnTo>
                      <a:pt x="4070" y="823"/>
                    </a:lnTo>
                    <a:lnTo>
                      <a:pt x="4082" y="840"/>
                    </a:lnTo>
                    <a:lnTo>
                      <a:pt x="4094" y="856"/>
                    </a:lnTo>
                    <a:lnTo>
                      <a:pt x="4107" y="871"/>
                    </a:lnTo>
                    <a:lnTo>
                      <a:pt x="4120" y="888"/>
                    </a:lnTo>
                    <a:lnTo>
                      <a:pt x="4135" y="902"/>
                    </a:lnTo>
                    <a:lnTo>
                      <a:pt x="4149" y="918"/>
                    </a:lnTo>
                    <a:lnTo>
                      <a:pt x="4164" y="932"/>
                    </a:lnTo>
                    <a:lnTo>
                      <a:pt x="4180" y="945"/>
                    </a:lnTo>
                    <a:lnTo>
                      <a:pt x="4195" y="958"/>
                    </a:lnTo>
                    <a:lnTo>
                      <a:pt x="4212" y="971"/>
                    </a:lnTo>
                    <a:lnTo>
                      <a:pt x="4229" y="984"/>
                    </a:lnTo>
                    <a:lnTo>
                      <a:pt x="4246" y="995"/>
                    </a:lnTo>
                    <a:lnTo>
                      <a:pt x="4263" y="1004"/>
                    </a:lnTo>
                    <a:lnTo>
                      <a:pt x="4282" y="1014"/>
                    </a:lnTo>
                    <a:lnTo>
                      <a:pt x="4300" y="1023"/>
                    </a:lnTo>
                    <a:lnTo>
                      <a:pt x="4318" y="1031"/>
                    </a:lnTo>
                    <a:lnTo>
                      <a:pt x="4328" y="1034"/>
                    </a:lnTo>
                    <a:lnTo>
                      <a:pt x="4340" y="1037"/>
                    </a:lnTo>
                    <a:lnTo>
                      <a:pt x="4352" y="1041"/>
                    </a:lnTo>
                    <a:lnTo>
                      <a:pt x="4366" y="1043"/>
                    </a:lnTo>
                    <a:lnTo>
                      <a:pt x="4379" y="1044"/>
                    </a:lnTo>
                    <a:lnTo>
                      <a:pt x="4393" y="1046"/>
                    </a:lnTo>
                    <a:lnTo>
                      <a:pt x="4407" y="1047"/>
                    </a:lnTo>
                    <a:lnTo>
                      <a:pt x="4422" y="1048"/>
                    </a:lnTo>
                    <a:lnTo>
                      <a:pt x="4437" y="1048"/>
                    </a:lnTo>
                    <a:lnTo>
                      <a:pt x="4451" y="1048"/>
                    </a:lnTo>
                    <a:lnTo>
                      <a:pt x="4466" y="1048"/>
                    </a:lnTo>
                    <a:lnTo>
                      <a:pt x="4480" y="1047"/>
                    </a:lnTo>
                    <a:lnTo>
                      <a:pt x="4493" y="1046"/>
                    </a:lnTo>
                    <a:lnTo>
                      <a:pt x="4505" y="1044"/>
                    </a:lnTo>
                    <a:lnTo>
                      <a:pt x="4517" y="1042"/>
                    </a:lnTo>
                    <a:lnTo>
                      <a:pt x="4528" y="1040"/>
                    </a:lnTo>
                    <a:lnTo>
                      <a:pt x="4517" y="1132"/>
                    </a:lnTo>
                    <a:lnTo>
                      <a:pt x="4502" y="1224"/>
                    </a:lnTo>
                    <a:lnTo>
                      <a:pt x="4485" y="1317"/>
                    </a:lnTo>
                    <a:lnTo>
                      <a:pt x="4467" y="1410"/>
                    </a:lnTo>
                    <a:lnTo>
                      <a:pt x="4449" y="1502"/>
                    </a:lnTo>
                    <a:lnTo>
                      <a:pt x="4432" y="1596"/>
                    </a:lnTo>
                    <a:lnTo>
                      <a:pt x="4417" y="1687"/>
                    </a:lnTo>
                    <a:lnTo>
                      <a:pt x="4406" y="1779"/>
                    </a:lnTo>
                    <a:lnTo>
                      <a:pt x="4410" y="1807"/>
                    </a:lnTo>
                    <a:lnTo>
                      <a:pt x="4417" y="1837"/>
                    </a:lnTo>
                    <a:lnTo>
                      <a:pt x="4429" y="1872"/>
                    </a:lnTo>
                    <a:lnTo>
                      <a:pt x="4444" y="1904"/>
                    </a:lnTo>
                    <a:lnTo>
                      <a:pt x="4461" y="1936"/>
                    </a:lnTo>
                    <a:lnTo>
                      <a:pt x="4480" y="1965"/>
                    </a:lnTo>
                    <a:lnTo>
                      <a:pt x="4501" y="1987"/>
                    </a:lnTo>
                    <a:lnTo>
                      <a:pt x="4523" y="2002"/>
                    </a:lnTo>
                    <a:lnTo>
                      <a:pt x="4549" y="2017"/>
                    </a:lnTo>
                    <a:lnTo>
                      <a:pt x="4576" y="2031"/>
                    </a:lnTo>
                    <a:lnTo>
                      <a:pt x="4602" y="2047"/>
                    </a:lnTo>
                    <a:lnTo>
                      <a:pt x="4628" y="2065"/>
                    </a:lnTo>
                    <a:lnTo>
                      <a:pt x="4654" y="2084"/>
                    </a:lnTo>
                    <a:lnTo>
                      <a:pt x="4679" y="2102"/>
                    </a:lnTo>
                    <a:lnTo>
                      <a:pt x="4704" y="2123"/>
                    </a:lnTo>
                    <a:lnTo>
                      <a:pt x="4730" y="2145"/>
                    </a:lnTo>
                    <a:lnTo>
                      <a:pt x="4754" y="2168"/>
                    </a:lnTo>
                    <a:lnTo>
                      <a:pt x="4777" y="2192"/>
                    </a:lnTo>
                    <a:lnTo>
                      <a:pt x="4800" y="2217"/>
                    </a:lnTo>
                    <a:lnTo>
                      <a:pt x="4822" y="2243"/>
                    </a:lnTo>
                    <a:lnTo>
                      <a:pt x="4844" y="2269"/>
                    </a:lnTo>
                    <a:lnTo>
                      <a:pt x="4865" y="2297"/>
                    </a:lnTo>
                    <a:lnTo>
                      <a:pt x="4885" y="2325"/>
                    </a:lnTo>
                    <a:lnTo>
                      <a:pt x="4903" y="2355"/>
                    </a:lnTo>
                    <a:lnTo>
                      <a:pt x="4920" y="2384"/>
                    </a:lnTo>
                    <a:lnTo>
                      <a:pt x="4935" y="2413"/>
                    </a:lnTo>
                    <a:lnTo>
                      <a:pt x="4951" y="2444"/>
                    </a:lnTo>
                    <a:lnTo>
                      <a:pt x="4966" y="2476"/>
                    </a:lnTo>
                    <a:lnTo>
                      <a:pt x="4980" y="2509"/>
                    </a:lnTo>
                    <a:lnTo>
                      <a:pt x="4995" y="2543"/>
                    </a:lnTo>
                    <a:lnTo>
                      <a:pt x="5008" y="2577"/>
                    </a:lnTo>
                    <a:lnTo>
                      <a:pt x="5022" y="2611"/>
                    </a:lnTo>
                    <a:lnTo>
                      <a:pt x="5035" y="2646"/>
                    </a:lnTo>
                    <a:lnTo>
                      <a:pt x="5049" y="2680"/>
                    </a:lnTo>
                    <a:lnTo>
                      <a:pt x="5062" y="2716"/>
                    </a:lnTo>
                    <a:lnTo>
                      <a:pt x="5075" y="2748"/>
                    </a:lnTo>
                    <a:lnTo>
                      <a:pt x="5087" y="2783"/>
                    </a:lnTo>
                    <a:lnTo>
                      <a:pt x="5100" y="2814"/>
                    </a:lnTo>
                    <a:lnTo>
                      <a:pt x="5112" y="2846"/>
                    </a:lnTo>
                    <a:lnTo>
                      <a:pt x="5125" y="2877"/>
                    </a:lnTo>
                    <a:close/>
                  </a:path>
                </a:pathLst>
              </a:custGeom>
              <a:solidFill>
                <a:srgbClr val="ea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892920" y="1133280"/>
                <a:ext cx="357120" cy="609480"/>
              </a:xfrm>
              <a:custGeom>
                <a:avLst/>
                <a:gdLst/>
                <a:ahLst/>
                <a:rect l="l" t="t" r="r" b="b"/>
                <a:pathLst>
                  <a:path w="1797" h="3069">
                    <a:moveTo>
                      <a:pt x="0" y="0"/>
                    </a:moveTo>
                    <a:lnTo>
                      <a:pt x="15" y="2"/>
                    </a:lnTo>
                    <a:lnTo>
                      <a:pt x="30" y="5"/>
                    </a:lnTo>
                    <a:lnTo>
                      <a:pt x="45" y="7"/>
                    </a:lnTo>
                    <a:lnTo>
                      <a:pt x="61" y="11"/>
                    </a:lnTo>
                    <a:lnTo>
                      <a:pt x="75" y="13"/>
                    </a:lnTo>
                    <a:lnTo>
                      <a:pt x="90" y="16"/>
                    </a:lnTo>
                    <a:lnTo>
                      <a:pt x="104" y="18"/>
                    </a:lnTo>
                    <a:lnTo>
                      <a:pt x="120" y="20"/>
                    </a:lnTo>
                    <a:lnTo>
                      <a:pt x="135" y="24"/>
                    </a:lnTo>
                    <a:lnTo>
                      <a:pt x="150" y="26"/>
                    </a:lnTo>
                    <a:lnTo>
                      <a:pt x="165" y="29"/>
                    </a:lnTo>
                    <a:lnTo>
                      <a:pt x="179" y="31"/>
                    </a:lnTo>
                    <a:lnTo>
                      <a:pt x="195" y="35"/>
                    </a:lnTo>
                    <a:lnTo>
                      <a:pt x="210" y="37"/>
                    </a:lnTo>
                    <a:lnTo>
                      <a:pt x="224" y="40"/>
                    </a:lnTo>
                    <a:lnTo>
                      <a:pt x="240" y="42"/>
                    </a:lnTo>
                    <a:lnTo>
                      <a:pt x="253" y="95"/>
                    </a:lnTo>
                    <a:lnTo>
                      <a:pt x="262" y="149"/>
                    </a:lnTo>
                    <a:lnTo>
                      <a:pt x="271" y="204"/>
                    </a:lnTo>
                    <a:lnTo>
                      <a:pt x="280" y="259"/>
                    </a:lnTo>
                    <a:lnTo>
                      <a:pt x="291" y="312"/>
                    </a:lnTo>
                    <a:lnTo>
                      <a:pt x="308" y="362"/>
                    </a:lnTo>
                    <a:lnTo>
                      <a:pt x="330" y="411"/>
                    </a:lnTo>
                    <a:lnTo>
                      <a:pt x="360" y="453"/>
                    </a:lnTo>
                    <a:lnTo>
                      <a:pt x="392" y="489"/>
                    </a:lnTo>
                    <a:lnTo>
                      <a:pt x="424" y="520"/>
                    </a:lnTo>
                    <a:lnTo>
                      <a:pt x="461" y="551"/>
                    </a:lnTo>
                    <a:lnTo>
                      <a:pt x="498" y="580"/>
                    </a:lnTo>
                    <a:lnTo>
                      <a:pt x="538" y="607"/>
                    </a:lnTo>
                    <a:lnTo>
                      <a:pt x="577" y="633"/>
                    </a:lnTo>
                    <a:lnTo>
                      <a:pt x="619" y="658"/>
                    </a:lnTo>
                    <a:lnTo>
                      <a:pt x="660" y="683"/>
                    </a:lnTo>
                    <a:lnTo>
                      <a:pt x="702" y="707"/>
                    </a:lnTo>
                    <a:lnTo>
                      <a:pt x="743" y="733"/>
                    </a:lnTo>
                    <a:lnTo>
                      <a:pt x="784" y="759"/>
                    </a:lnTo>
                    <a:lnTo>
                      <a:pt x="824" y="785"/>
                    </a:lnTo>
                    <a:lnTo>
                      <a:pt x="862" y="813"/>
                    </a:lnTo>
                    <a:lnTo>
                      <a:pt x="898" y="842"/>
                    </a:lnTo>
                    <a:lnTo>
                      <a:pt x="934" y="874"/>
                    </a:lnTo>
                    <a:lnTo>
                      <a:pt x="967" y="908"/>
                    </a:lnTo>
                    <a:lnTo>
                      <a:pt x="985" y="930"/>
                    </a:lnTo>
                    <a:lnTo>
                      <a:pt x="1002" y="953"/>
                    </a:lnTo>
                    <a:lnTo>
                      <a:pt x="1018" y="978"/>
                    </a:lnTo>
                    <a:lnTo>
                      <a:pt x="1033" y="1003"/>
                    </a:lnTo>
                    <a:lnTo>
                      <a:pt x="1046" y="1028"/>
                    </a:lnTo>
                    <a:lnTo>
                      <a:pt x="1059" y="1055"/>
                    </a:lnTo>
                    <a:lnTo>
                      <a:pt x="1070" y="1082"/>
                    </a:lnTo>
                    <a:lnTo>
                      <a:pt x="1081" y="1110"/>
                    </a:lnTo>
                    <a:lnTo>
                      <a:pt x="1091" y="1137"/>
                    </a:lnTo>
                    <a:lnTo>
                      <a:pt x="1100" y="1166"/>
                    </a:lnTo>
                    <a:lnTo>
                      <a:pt x="1108" y="1194"/>
                    </a:lnTo>
                    <a:lnTo>
                      <a:pt x="1117" y="1223"/>
                    </a:lnTo>
                    <a:lnTo>
                      <a:pt x="1125" y="1251"/>
                    </a:lnTo>
                    <a:lnTo>
                      <a:pt x="1132" y="1280"/>
                    </a:lnTo>
                    <a:lnTo>
                      <a:pt x="1139" y="1308"/>
                    </a:lnTo>
                    <a:lnTo>
                      <a:pt x="1146" y="1337"/>
                    </a:lnTo>
                    <a:lnTo>
                      <a:pt x="1148" y="1361"/>
                    </a:lnTo>
                    <a:lnTo>
                      <a:pt x="1144" y="1384"/>
                    </a:lnTo>
                    <a:lnTo>
                      <a:pt x="1136" y="1410"/>
                    </a:lnTo>
                    <a:lnTo>
                      <a:pt x="1126" y="1434"/>
                    </a:lnTo>
                    <a:lnTo>
                      <a:pt x="1116" y="1458"/>
                    </a:lnTo>
                    <a:lnTo>
                      <a:pt x="1110" y="1481"/>
                    </a:lnTo>
                    <a:lnTo>
                      <a:pt x="1107" y="1504"/>
                    </a:lnTo>
                    <a:lnTo>
                      <a:pt x="1112" y="1527"/>
                    </a:lnTo>
                    <a:lnTo>
                      <a:pt x="1119" y="1546"/>
                    </a:lnTo>
                    <a:lnTo>
                      <a:pt x="1127" y="1567"/>
                    </a:lnTo>
                    <a:lnTo>
                      <a:pt x="1136" y="1590"/>
                    </a:lnTo>
                    <a:lnTo>
                      <a:pt x="1146" y="1613"/>
                    </a:lnTo>
                    <a:lnTo>
                      <a:pt x="1156" y="1636"/>
                    </a:lnTo>
                    <a:lnTo>
                      <a:pt x="1167" y="1660"/>
                    </a:lnTo>
                    <a:lnTo>
                      <a:pt x="1179" y="1682"/>
                    </a:lnTo>
                    <a:lnTo>
                      <a:pt x="1191" y="1704"/>
                    </a:lnTo>
                    <a:lnTo>
                      <a:pt x="1204" y="1723"/>
                    </a:lnTo>
                    <a:lnTo>
                      <a:pt x="1217" y="1740"/>
                    </a:lnTo>
                    <a:lnTo>
                      <a:pt x="1232" y="1755"/>
                    </a:lnTo>
                    <a:lnTo>
                      <a:pt x="1246" y="1766"/>
                    </a:lnTo>
                    <a:lnTo>
                      <a:pt x="1261" y="1773"/>
                    </a:lnTo>
                    <a:lnTo>
                      <a:pt x="1277" y="1775"/>
                    </a:lnTo>
                    <a:lnTo>
                      <a:pt x="1292" y="1773"/>
                    </a:lnTo>
                    <a:lnTo>
                      <a:pt x="1309" y="1766"/>
                    </a:lnTo>
                    <a:lnTo>
                      <a:pt x="1332" y="1738"/>
                    </a:lnTo>
                    <a:lnTo>
                      <a:pt x="1337" y="1704"/>
                    </a:lnTo>
                    <a:lnTo>
                      <a:pt x="1328" y="1664"/>
                    </a:lnTo>
                    <a:lnTo>
                      <a:pt x="1310" y="1621"/>
                    </a:lnTo>
                    <a:lnTo>
                      <a:pt x="1288" y="1575"/>
                    </a:lnTo>
                    <a:lnTo>
                      <a:pt x="1266" y="1529"/>
                    </a:lnTo>
                    <a:lnTo>
                      <a:pt x="1248" y="1483"/>
                    </a:lnTo>
                    <a:lnTo>
                      <a:pt x="1240" y="1440"/>
                    </a:lnTo>
                    <a:lnTo>
                      <a:pt x="1242" y="1419"/>
                    </a:lnTo>
                    <a:lnTo>
                      <a:pt x="1244" y="1393"/>
                    </a:lnTo>
                    <a:lnTo>
                      <a:pt x="1249" y="1366"/>
                    </a:lnTo>
                    <a:lnTo>
                      <a:pt x="1256" y="1339"/>
                    </a:lnTo>
                    <a:lnTo>
                      <a:pt x="1264" y="1317"/>
                    </a:lnTo>
                    <a:lnTo>
                      <a:pt x="1272" y="1302"/>
                    </a:lnTo>
                    <a:lnTo>
                      <a:pt x="1281" y="1296"/>
                    </a:lnTo>
                    <a:lnTo>
                      <a:pt x="1291" y="1304"/>
                    </a:lnTo>
                    <a:lnTo>
                      <a:pt x="1313" y="1343"/>
                    </a:lnTo>
                    <a:lnTo>
                      <a:pt x="1328" y="1383"/>
                    </a:lnTo>
                    <a:lnTo>
                      <a:pt x="1338" y="1426"/>
                    </a:lnTo>
                    <a:lnTo>
                      <a:pt x="1347" y="1470"/>
                    </a:lnTo>
                    <a:lnTo>
                      <a:pt x="1354" y="1515"/>
                    </a:lnTo>
                    <a:lnTo>
                      <a:pt x="1361" y="1560"/>
                    </a:lnTo>
                    <a:lnTo>
                      <a:pt x="1371" y="1604"/>
                    </a:lnTo>
                    <a:lnTo>
                      <a:pt x="1384" y="1646"/>
                    </a:lnTo>
                    <a:lnTo>
                      <a:pt x="1398" y="1673"/>
                    </a:lnTo>
                    <a:lnTo>
                      <a:pt x="1413" y="1701"/>
                    </a:lnTo>
                    <a:lnTo>
                      <a:pt x="1430" y="1727"/>
                    </a:lnTo>
                    <a:lnTo>
                      <a:pt x="1448" y="1752"/>
                    </a:lnTo>
                    <a:lnTo>
                      <a:pt x="1466" y="1778"/>
                    </a:lnTo>
                    <a:lnTo>
                      <a:pt x="1483" y="1804"/>
                    </a:lnTo>
                    <a:lnTo>
                      <a:pt x="1500" y="1832"/>
                    </a:lnTo>
                    <a:lnTo>
                      <a:pt x="1513" y="1859"/>
                    </a:lnTo>
                    <a:lnTo>
                      <a:pt x="1523" y="1885"/>
                    </a:lnTo>
                    <a:lnTo>
                      <a:pt x="1530" y="1914"/>
                    </a:lnTo>
                    <a:lnTo>
                      <a:pt x="1535" y="1941"/>
                    </a:lnTo>
                    <a:lnTo>
                      <a:pt x="1541" y="1970"/>
                    </a:lnTo>
                    <a:lnTo>
                      <a:pt x="1545" y="1999"/>
                    </a:lnTo>
                    <a:lnTo>
                      <a:pt x="1551" y="2027"/>
                    </a:lnTo>
                    <a:lnTo>
                      <a:pt x="1556" y="2055"/>
                    </a:lnTo>
                    <a:lnTo>
                      <a:pt x="1565" y="2082"/>
                    </a:lnTo>
                    <a:lnTo>
                      <a:pt x="1575" y="2110"/>
                    </a:lnTo>
                    <a:lnTo>
                      <a:pt x="1585" y="2137"/>
                    </a:lnTo>
                    <a:lnTo>
                      <a:pt x="1596" y="2163"/>
                    </a:lnTo>
                    <a:lnTo>
                      <a:pt x="1607" y="2190"/>
                    </a:lnTo>
                    <a:lnTo>
                      <a:pt x="1619" y="2217"/>
                    </a:lnTo>
                    <a:lnTo>
                      <a:pt x="1630" y="2244"/>
                    </a:lnTo>
                    <a:lnTo>
                      <a:pt x="1642" y="2270"/>
                    </a:lnTo>
                    <a:lnTo>
                      <a:pt x="1654" y="2296"/>
                    </a:lnTo>
                    <a:lnTo>
                      <a:pt x="1666" y="2324"/>
                    </a:lnTo>
                    <a:lnTo>
                      <a:pt x="1678" y="2350"/>
                    </a:lnTo>
                    <a:lnTo>
                      <a:pt x="1690" y="2377"/>
                    </a:lnTo>
                    <a:lnTo>
                      <a:pt x="1702" y="2403"/>
                    </a:lnTo>
                    <a:lnTo>
                      <a:pt x="1713" y="2429"/>
                    </a:lnTo>
                    <a:lnTo>
                      <a:pt x="1724" y="2457"/>
                    </a:lnTo>
                    <a:lnTo>
                      <a:pt x="1735" y="2483"/>
                    </a:lnTo>
                    <a:lnTo>
                      <a:pt x="1745" y="2511"/>
                    </a:lnTo>
                    <a:lnTo>
                      <a:pt x="1754" y="2536"/>
                    </a:lnTo>
                    <a:lnTo>
                      <a:pt x="1764" y="2561"/>
                    </a:lnTo>
                    <a:lnTo>
                      <a:pt x="1774" y="2587"/>
                    </a:lnTo>
                    <a:lnTo>
                      <a:pt x="1783" y="2612"/>
                    </a:lnTo>
                    <a:lnTo>
                      <a:pt x="1790" y="2638"/>
                    </a:lnTo>
                    <a:lnTo>
                      <a:pt x="1796" y="2665"/>
                    </a:lnTo>
                    <a:lnTo>
                      <a:pt x="1797" y="2691"/>
                    </a:lnTo>
                    <a:lnTo>
                      <a:pt x="1796" y="2717"/>
                    </a:lnTo>
                    <a:lnTo>
                      <a:pt x="1788" y="2751"/>
                    </a:lnTo>
                    <a:lnTo>
                      <a:pt x="1777" y="2784"/>
                    </a:lnTo>
                    <a:lnTo>
                      <a:pt x="1763" y="2816"/>
                    </a:lnTo>
                    <a:lnTo>
                      <a:pt x="1746" y="2848"/>
                    </a:lnTo>
                    <a:lnTo>
                      <a:pt x="1728" y="2879"/>
                    </a:lnTo>
                    <a:lnTo>
                      <a:pt x="1710" y="2911"/>
                    </a:lnTo>
                    <a:lnTo>
                      <a:pt x="1692" y="2943"/>
                    </a:lnTo>
                    <a:lnTo>
                      <a:pt x="1676" y="2974"/>
                    </a:lnTo>
                    <a:lnTo>
                      <a:pt x="1685" y="2935"/>
                    </a:lnTo>
                    <a:lnTo>
                      <a:pt x="1699" y="2892"/>
                    </a:lnTo>
                    <a:lnTo>
                      <a:pt x="1717" y="2847"/>
                    </a:lnTo>
                    <a:lnTo>
                      <a:pt x="1732" y="2802"/>
                    </a:lnTo>
                    <a:lnTo>
                      <a:pt x="1743" y="2761"/>
                    </a:lnTo>
                    <a:lnTo>
                      <a:pt x="1745" y="2726"/>
                    </a:lnTo>
                    <a:lnTo>
                      <a:pt x="1735" y="2700"/>
                    </a:lnTo>
                    <a:lnTo>
                      <a:pt x="1710" y="2683"/>
                    </a:lnTo>
                    <a:lnTo>
                      <a:pt x="1679" y="2682"/>
                    </a:lnTo>
                    <a:lnTo>
                      <a:pt x="1655" y="2699"/>
                    </a:lnTo>
                    <a:lnTo>
                      <a:pt x="1635" y="2729"/>
                    </a:lnTo>
                    <a:lnTo>
                      <a:pt x="1621" y="2768"/>
                    </a:lnTo>
                    <a:lnTo>
                      <a:pt x="1608" y="2813"/>
                    </a:lnTo>
                    <a:lnTo>
                      <a:pt x="1595" y="2859"/>
                    </a:lnTo>
                    <a:lnTo>
                      <a:pt x="1581" y="2903"/>
                    </a:lnTo>
                    <a:lnTo>
                      <a:pt x="1565" y="2939"/>
                    </a:lnTo>
                    <a:lnTo>
                      <a:pt x="1545" y="2956"/>
                    </a:lnTo>
                    <a:lnTo>
                      <a:pt x="1526" y="2972"/>
                    </a:lnTo>
                    <a:lnTo>
                      <a:pt x="1507" y="2989"/>
                    </a:lnTo>
                    <a:lnTo>
                      <a:pt x="1488" y="3004"/>
                    </a:lnTo>
                    <a:lnTo>
                      <a:pt x="1468" y="3021"/>
                    </a:lnTo>
                    <a:lnTo>
                      <a:pt x="1449" y="3037"/>
                    </a:lnTo>
                    <a:lnTo>
                      <a:pt x="1430" y="3052"/>
                    </a:lnTo>
                    <a:lnTo>
                      <a:pt x="1411" y="3069"/>
                    </a:lnTo>
                    <a:lnTo>
                      <a:pt x="1432" y="3020"/>
                    </a:lnTo>
                    <a:lnTo>
                      <a:pt x="1454" y="2971"/>
                    </a:lnTo>
                    <a:lnTo>
                      <a:pt x="1476" y="2922"/>
                    </a:lnTo>
                    <a:lnTo>
                      <a:pt x="1498" y="2873"/>
                    </a:lnTo>
                    <a:lnTo>
                      <a:pt x="1520" y="2824"/>
                    </a:lnTo>
                    <a:lnTo>
                      <a:pt x="1540" y="2776"/>
                    </a:lnTo>
                    <a:lnTo>
                      <a:pt x="1558" y="2725"/>
                    </a:lnTo>
                    <a:lnTo>
                      <a:pt x="1574" y="2674"/>
                    </a:lnTo>
                    <a:lnTo>
                      <a:pt x="1584" y="2637"/>
                    </a:lnTo>
                    <a:lnTo>
                      <a:pt x="1592" y="2599"/>
                    </a:lnTo>
                    <a:lnTo>
                      <a:pt x="1600" y="2560"/>
                    </a:lnTo>
                    <a:lnTo>
                      <a:pt x="1607" y="2521"/>
                    </a:lnTo>
                    <a:lnTo>
                      <a:pt x="1611" y="2482"/>
                    </a:lnTo>
                    <a:lnTo>
                      <a:pt x="1613" y="2443"/>
                    </a:lnTo>
                    <a:lnTo>
                      <a:pt x="1612" y="2404"/>
                    </a:lnTo>
                    <a:lnTo>
                      <a:pt x="1608" y="2366"/>
                    </a:lnTo>
                    <a:lnTo>
                      <a:pt x="1602" y="2335"/>
                    </a:lnTo>
                    <a:lnTo>
                      <a:pt x="1591" y="2300"/>
                    </a:lnTo>
                    <a:lnTo>
                      <a:pt x="1578" y="2262"/>
                    </a:lnTo>
                    <a:lnTo>
                      <a:pt x="1563" y="2227"/>
                    </a:lnTo>
                    <a:lnTo>
                      <a:pt x="1546" y="2199"/>
                    </a:lnTo>
                    <a:lnTo>
                      <a:pt x="1529" y="2180"/>
                    </a:lnTo>
                    <a:lnTo>
                      <a:pt x="1512" y="2173"/>
                    </a:lnTo>
                    <a:lnTo>
                      <a:pt x="1497" y="2185"/>
                    </a:lnTo>
                    <a:lnTo>
                      <a:pt x="1470" y="2239"/>
                    </a:lnTo>
                    <a:lnTo>
                      <a:pt x="1457" y="2300"/>
                    </a:lnTo>
                    <a:lnTo>
                      <a:pt x="1454" y="2366"/>
                    </a:lnTo>
                    <a:lnTo>
                      <a:pt x="1456" y="2433"/>
                    </a:lnTo>
                    <a:lnTo>
                      <a:pt x="1461" y="2502"/>
                    </a:lnTo>
                    <a:lnTo>
                      <a:pt x="1467" y="2571"/>
                    </a:lnTo>
                    <a:lnTo>
                      <a:pt x="1468" y="2637"/>
                    </a:lnTo>
                    <a:lnTo>
                      <a:pt x="1463" y="2700"/>
                    </a:lnTo>
                    <a:lnTo>
                      <a:pt x="1454" y="2733"/>
                    </a:lnTo>
                    <a:lnTo>
                      <a:pt x="1442" y="2765"/>
                    </a:lnTo>
                    <a:lnTo>
                      <a:pt x="1426" y="2794"/>
                    </a:lnTo>
                    <a:lnTo>
                      <a:pt x="1410" y="2823"/>
                    </a:lnTo>
                    <a:lnTo>
                      <a:pt x="1394" y="2852"/>
                    </a:lnTo>
                    <a:lnTo>
                      <a:pt x="1379" y="2882"/>
                    </a:lnTo>
                    <a:lnTo>
                      <a:pt x="1368" y="2914"/>
                    </a:lnTo>
                    <a:lnTo>
                      <a:pt x="1360" y="2948"/>
                    </a:lnTo>
                    <a:lnTo>
                      <a:pt x="1355" y="2910"/>
                    </a:lnTo>
                    <a:lnTo>
                      <a:pt x="1356" y="2870"/>
                    </a:lnTo>
                    <a:lnTo>
                      <a:pt x="1362" y="2827"/>
                    </a:lnTo>
                    <a:lnTo>
                      <a:pt x="1372" y="2785"/>
                    </a:lnTo>
                    <a:lnTo>
                      <a:pt x="1382" y="2743"/>
                    </a:lnTo>
                    <a:lnTo>
                      <a:pt x="1389" y="2701"/>
                    </a:lnTo>
                    <a:lnTo>
                      <a:pt x="1390" y="2660"/>
                    </a:lnTo>
                    <a:lnTo>
                      <a:pt x="1384" y="2623"/>
                    </a:lnTo>
                    <a:lnTo>
                      <a:pt x="1377" y="2600"/>
                    </a:lnTo>
                    <a:lnTo>
                      <a:pt x="1366" y="2577"/>
                    </a:lnTo>
                    <a:lnTo>
                      <a:pt x="1354" y="2556"/>
                    </a:lnTo>
                    <a:lnTo>
                      <a:pt x="1339" y="2534"/>
                    </a:lnTo>
                    <a:lnTo>
                      <a:pt x="1324" y="2513"/>
                    </a:lnTo>
                    <a:lnTo>
                      <a:pt x="1308" y="2492"/>
                    </a:lnTo>
                    <a:lnTo>
                      <a:pt x="1291" y="2471"/>
                    </a:lnTo>
                    <a:lnTo>
                      <a:pt x="1273" y="2451"/>
                    </a:lnTo>
                    <a:lnTo>
                      <a:pt x="1257" y="2430"/>
                    </a:lnTo>
                    <a:lnTo>
                      <a:pt x="1239" y="2410"/>
                    </a:lnTo>
                    <a:lnTo>
                      <a:pt x="1224" y="2389"/>
                    </a:lnTo>
                    <a:lnTo>
                      <a:pt x="1209" y="2368"/>
                    </a:lnTo>
                    <a:lnTo>
                      <a:pt x="1194" y="2347"/>
                    </a:lnTo>
                    <a:lnTo>
                      <a:pt x="1181" y="2325"/>
                    </a:lnTo>
                    <a:lnTo>
                      <a:pt x="1171" y="2303"/>
                    </a:lnTo>
                    <a:lnTo>
                      <a:pt x="1162" y="2280"/>
                    </a:lnTo>
                    <a:lnTo>
                      <a:pt x="1150" y="2241"/>
                    </a:lnTo>
                    <a:lnTo>
                      <a:pt x="1138" y="2204"/>
                    </a:lnTo>
                    <a:lnTo>
                      <a:pt x="1125" y="2166"/>
                    </a:lnTo>
                    <a:lnTo>
                      <a:pt x="1112" y="2128"/>
                    </a:lnTo>
                    <a:lnTo>
                      <a:pt x="1099" y="2091"/>
                    </a:lnTo>
                    <a:lnTo>
                      <a:pt x="1084" y="2052"/>
                    </a:lnTo>
                    <a:lnTo>
                      <a:pt x="1071" y="2015"/>
                    </a:lnTo>
                    <a:lnTo>
                      <a:pt x="1058" y="1978"/>
                    </a:lnTo>
                    <a:lnTo>
                      <a:pt x="1045" y="1939"/>
                    </a:lnTo>
                    <a:lnTo>
                      <a:pt x="1032" y="1902"/>
                    </a:lnTo>
                    <a:lnTo>
                      <a:pt x="1019" y="1863"/>
                    </a:lnTo>
                    <a:lnTo>
                      <a:pt x="1007" y="1826"/>
                    </a:lnTo>
                    <a:lnTo>
                      <a:pt x="995" y="1788"/>
                    </a:lnTo>
                    <a:lnTo>
                      <a:pt x="985" y="1749"/>
                    </a:lnTo>
                    <a:lnTo>
                      <a:pt x="975" y="1711"/>
                    </a:lnTo>
                    <a:lnTo>
                      <a:pt x="967" y="1672"/>
                    </a:lnTo>
                    <a:lnTo>
                      <a:pt x="960" y="1624"/>
                    </a:lnTo>
                    <a:lnTo>
                      <a:pt x="959" y="1575"/>
                    </a:lnTo>
                    <a:lnTo>
                      <a:pt x="961" y="1526"/>
                    </a:lnTo>
                    <a:lnTo>
                      <a:pt x="964" y="1477"/>
                    </a:lnTo>
                    <a:lnTo>
                      <a:pt x="967" y="1428"/>
                    </a:lnTo>
                    <a:lnTo>
                      <a:pt x="967" y="1380"/>
                    </a:lnTo>
                    <a:lnTo>
                      <a:pt x="961" y="1333"/>
                    </a:lnTo>
                    <a:lnTo>
                      <a:pt x="949" y="1286"/>
                    </a:lnTo>
                    <a:lnTo>
                      <a:pt x="940" y="1264"/>
                    </a:lnTo>
                    <a:lnTo>
                      <a:pt x="929" y="1244"/>
                    </a:lnTo>
                    <a:lnTo>
                      <a:pt x="916" y="1223"/>
                    </a:lnTo>
                    <a:lnTo>
                      <a:pt x="903" y="1204"/>
                    </a:lnTo>
                    <a:lnTo>
                      <a:pt x="887" y="1185"/>
                    </a:lnTo>
                    <a:lnTo>
                      <a:pt x="872" y="1167"/>
                    </a:lnTo>
                    <a:lnTo>
                      <a:pt x="856" y="1148"/>
                    </a:lnTo>
                    <a:lnTo>
                      <a:pt x="839" y="1130"/>
                    </a:lnTo>
                    <a:lnTo>
                      <a:pt x="821" y="1113"/>
                    </a:lnTo>
                    <a:lnTo>
                      <a:pt x="805" y="1095"/>
                    </a:lnTo>
                    <a:lnTo>
                      <a:pt x="787" y="1078"/>
                    </a:lnTo>
                    <a:lnTo>
                      <a:pt x="771" y="1060"/>
                    </a:lnTo>
                    <a:lnTo>
                      <a:pt x="754" y="1042"/>
                    </a:lnTo>
                    <a:lnTo>
                      <a:pt x="738" y="1025"/>
                    </a:lnTo>
                    <a:lnTo>
                      <a:pt x="724" y="1006"/>
                    </a:lnTo>
                    <a:lnTo>
                      <a:pt x="709" y="986"/>
                    </a:lnTo>
                    <a:lnTo>
                      <a:pt x="690" y="952"/>
                    </a:lnTo>
                    <a:lnTo>
                      <a:pt x="673" y="917"/>
                    </a:lnTo>
                    <a:lnTo>
                      <a:pt x="658" y="880"/>
                    </a:lnTo>
                    <a:lnTo>
                      <a:pt x="642" y="842"/>
                    </a:lnTo>
                    <a:lnTo>
                      <a:pt x="627" y="806"/>
                    </a:lnTo>
                    <a:lnTo>
                      <a:pt x="609" y="772"/>
                    </a:lnTo>
                    <a:lnTo>
                      <a:pt x="588" y="740"/>
                    </a:lnTo>
                    <a:lnTo>
                      <a:pt x="564" y="712"/>
                    </a:lnTo>
                    <a:lnTo>
                      <a:pt x="543" y="693"/>
                    </a:lnTo>
                    <a:lnTo>
                      <a:pt x="520" y="675"/>
                    </a:lnTo>
                    <a:lnTo>
                      <a:pt x="497" y="660"/>
                    </a:lnTo>
                    <a:lnTo>
                      <a:pt x="472" y="646"/>
                    </a:lnTo>
                    <a:lnTo>
                      <a:pt x="446" y="633"/>
                    </a:lnTo>
                    <a:lnTo>
                      <a:pt x="420" y="620"/>
                    </a:lnTo>
                    <a:lnTo>
                      <a:pt x="394" y="608"/>
                    </a:lnTo>
                    <a:lnTo>
                      <a:pt x="367" y="596"/>
                    </a:lnTo>
                    <a:lnTo>
                      <a:pt x="341" y="584"/>
                    </a:lnTo>
                    <a:lnTo>
                      <a:pt x="315" y="571"/>
                    </a:lnTo>
                    <a:lnTo>
                      <a:pt x="289" y="558"/>
                    </a:lnTo>
                    <a:lnTo>
                      <a:pt x="265" y="544"/>
                    </a:lnTo>
                    <a:lnTo>
                      <a:pt x="241" y="528"/>
                    </a:lnTo>
                    <a:lnTo>
                      <a:pt x="219" y="511"/>
                    </a:lnTo>
                    <a:lnTo>
                      <a:pt x="199" y="492"/>
                    </a:lnTo>
                    <a:lnTo>
                      <a:pt x="180" y="471"/>
                    </a:lnTo>
                    <a:lnTo>
                      <a:pt x="162" y="446"/>
                    </a:lnTo>
                    <a:lnTo>
                      <a:pt x="145" y="419"/>
                    </a:lnTo>
                    <a:lnTo>
                      <a:pt x="130" y="392"/>
                    </a:lnTo>
                    <a:lnTo>
                      <a:pt x="117" y="363"/>
                    </a:lnTo>
                    <a:lnTo>
                      <a:pt x="104" y="335"/>
                    </a:lnTo>
                    <a:lnTo>
                      <a:pt x="93" y="305"/>
                    </a:lnTo>
                    <a:lnTo>
                      <a:pt x="82" y="275"/>
                    </a:lnTo>
                    <a:lnTo>
                      <a:pt x="74" y="245"/>
                    </a:lnTo>
                    <a:lnTo>
                      <a:pt x="64" y="214"/>
                    </a:lnTo>
                    <a:lnTo>
                      <a:pt x="56" y="183"/>
                    </a:lnTo>
                    <a:lnTo>
                      <a:pt x="47" y="152"/>
                    </a:lnTo>
                    <a:lnTo>
                      <a:pt x="39" y="120"/>
                    </a:lnTo>
                    <a:lnTo>
                      <a:pt x="30" y="90"/>
                    </a:lnTo>
                    <a:lnTo>
                      <a:pt x="21" y="60"/>
                    </a:lnTo>
                    <a:lnTo>
                      <a:pt x="11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984720" y="1136520"/>
                <a:ext cx="559080" cy="638280"/>
              </a:xfrm>
              <a:custGeom>
                <a:avLst/>
                <a:gdLst/>
                <a:ahLst/>
                <a:rect l="l" t="t" r="r" b="b"/>
                <a:pathLst>
                  <a:path w="2816" h="3217">
                    <a:moveTo>
                      <a:pt x="2181" y="2529"/>
                    </a:moveTo>
                    <a:lnTo>
                      <a:pt x="2212" y="2582"/>
                    </a:lnTo>
                    <a:lnTo>
                      <a:pt x="2243" y="2633"/>
                    </a:lnTo>
                    <a:lnTo>
                      <a:pt x="2275" y="2683"/>
                    </a:lnTo>
                    <a:lnTo>
                      <a:pt x="2307" y="2732"/>
                    </a:lnTo>
                    <a:lnTo>
                      <a:pt x="2341" y="2781"/>
                    </a:lnTo>
                    <a:lnTo>
                      <a:pt x="2375" y="2827"/>
                    </a:lnTo>
                    <a:lnTo>
                      <a:pt x="2410" y="2872"/>
                    </a:lnTo>
                    <a:lnTo>
                      <a:pt x="2448" y="2916"/>
                    </a:lnTo>
                    <a:lnTo>
                      <a:pt x="2486" y="2958"/>
                    </a:lnTo>
                    <a:lnTo>
                      <a:pt x="2527" y="2998"/>
                    </a:lnTo>
                    <a:lnTo>
                      <a:pt x="2569" y="3037"/>
                    </a:lnTo>
                    <a:lnTo>
                      <a:pt x="2614" y="3075"/>
                    </a:lnTo>
                    <a:lnTo>
                      <a:pt x="2660" y="3110"/>
                    </a:lnTo>
                    <a:lnTo>
                      <a:pt x="2709" y="3144"/>
                    </a:lnTo>
                    <a:lnTo>
                      <a:pt x="2761" y="3176"/>
                    </a:lnTo>
                    <a:lnTo>
                      <a:pt x="2816" y="3207"/>
                    </a:lnTo>
                    <a:lnTo>
                      <a:pt x="2798" y="3210"/>
                    </a:lnTo>
                    <a:lnTo>
                      <a:pt x="2782" y="3214"/>
                    </a:lnTo>
                    <a:lnTo>
                      <a:pt x="2765" y="3215"/>
                    </a:lnTo>
                    <a:lnTo>
                      <a:pt x="2749" y="3217"/>
                    </a:lnTo>
                    <a:lnTo>
                      <a:pt x="2734" y="3217"/>
                    </a:lnTo>
                    <a:lnTo>
                      <a:pt x="2718" y="3217"/>
                    </a:lnTo>
                    <a:lnTo>
                      <a:pt x="2704" y="3216"/>
                    </a:lnTo>
                    <a:lnTo>
                      <a:pt x="2688" y="3215"/>
                    </a:lnTo>
                    <a:lnTo>
                      <a:pt x="2674" y="3213"/>
                    </a:lnTo>
                    <a:lnTo>
                      <a:pt x="2661" y="3209"/>
                    </a:lnTo>
                    <a:lnTo>
                      <a:pt x="2647" y="3206"/>
                    </a:lnTo>
                    <a:lnTo>
                      <a:pt x="2633" y="3203"/>
                    </a:lnTo>
                    <a:lnTo>
                      <a:pt x="2619" y="3198"/>
                    </a:lnTo>
                    <a:lnTo>
                      <a:pt x="2607" y="3194"/>
                    </a:lnTo>
                    <a:lnTo>
                      <a:pt x="2594" y="3188"/>
                    </a:lnTo>
                    <a:lnTo>
                      <a:pt x="2581" y="3183"/>
                    </a:lnTo>
                    <a:lnTo>
                      <a:pt x="2560" y="3173"/>
                    </a:lnTo>
                    <a:lnTo>
                      <a:pt x="2538" y="3161"/>
                    </a:lnTo>
                    <a:lnTo>
                      <a:pt x="2515" y="3148"/>
                    </a:lnTo>
                    <a:lnTo>
                      <a:pt x="2492" y="3135"/>
                    </a:lnTo>
                    <a:lnTo>
                      <a:pt x="2469" y="3119"/>
                    </a:lnTo>
                    <a:lnTo>
                      <a:pt x="2444" y="3105"/>
                    </a:lnTo>
                    <a:lnTo>
                      <a:pt x="2419" y="3090"/>
                    </a:lnTo>
                    <a:lnTo>
                      <a:pt x="2394" y="3073"/>
                    </a:lnTo>
                    <a:lnTo>
                      <a:pt x="2368" y="3058"/>
                    </a:lnTo>
                    <a:lnTo>
                      <a:pt x="2342" y="3042"/>
                    </a:lnTo>
                    <a:lnTo>
                      <a:pt x="2316" y="3028"/>
                    </a:lnTo>
                    <a:lnTo>
                      <a:pt x="2289" y="3014"/>
                    </a:lnTo>
                    <a:lnTo>
                      <a:pt x="2262" y="2999"/>
                    </a:lnTo>
                    <a:lnTo>
                      <a:pt x="2235" y="2987"/>
                    </a:lnTo>
                    <a:lnTo>
                      <a:pt x="2207" y="2976"/>
                    </a:lnTo>
                    <a:lnTo>
                      <a:pt x="2179" y="2966"/>
                    </a:lnTo>
                    <a:lnTo>
                      <a:pt x="2155" y="2959"/>
                    </a:lnTo>
                    <a:lnTo>
                      <a:pt x="2131" y="2953"/>
                    </a:lnTo>
                    <a:lnTo>
                      <a:pt x="2107" y="2948"/>
                    </a:lnTo>
                    <a:lnTo>
                      <a:pt x="2083" y="2944"/>
                    </a:lnTo>
                    <a:lnTo>
                      <a:pt x="2058" y="2941"/>
                    </a:lnTo>
                    <a:lnTo>
                      <a:pt x="2034" y="2940"/>
                    </a:lnTo>
                    <a:lnTo>
                      <a:pt x="2009" y="2939"/>
                    </a:lnTo>
                    <a:lnTo>
                      <a:pt x="1985" y="2939"/>
                    </a:lnTo>
                    <a:lnTo>
                      <a:pt x="1959" y="2940"/>
                    </a:lnTo>
                    <a:lnTo>
                      <a:pt x="1934" y="2942"/>
                    </a:lnTo>
                    <a:lnTo>
                      <a:pt x="1909" y="2946"/>
                    </a:lnTo>
                    <a:lnTo>
                      <a:pt x="1883" y="2949"/>
                    </a:lnTo>
                    <a:lnTo>
                      <a:pt x="1858" y="2952"/>
                    </a:lnTo>
                    <a:lnTo>
                      <a:pt x="1832" y="2958"/>
                    </a:lnTo>
                    <a:lnTo>
                      <a:pt x="1805" y="2962"/>
                    </a:lnTo>
                    <a:lnTo>
                      <a:pt x="1779" y="2968"/>
                    </a:lnTo>
                    <a:lnTo>
                      <a:pt x="1753" y="2974"/>
                    </a:lnTo>
                    <a:lnTo>
                      <a:pt x="1725" y="2981"/>
                    </a:lnTo>
                    <a:lnTo>
                      <a:pt x="1699" y="2987"/>
                    </a:lnTo>
                    <a:lnTo>
                      <a:pt x="1671" y="2994"/>
                    </a:lnTo>
                    <a:lnTo>
                      <a:pt x="1643" y="3002"/>
                    </a:lnTo>
                    <a:lnTo>
                      <a:pt x="1615" y="3009"/>
                    </a:lnTo>
                    <a:lnTo>
                      <a:pt x="1587" y="3016"/>
                    </a:lnTo>
                    <a:lnTo>
                      <a:pt x="1558" y="3024"/>
                    </a:lnTo>
                    <a:lnTo>
                      <a:pt x="1528" y="3031"/>
                    </a:lnTo>
                    <a:lnTo>
                      <a:pt x="1499" y="3039"/>
                    </a:lnTo>
                    <a:lnTo>
                      <a:pt x="1469" y="3046"/>
                    </a:lnTo>
                    <a:lnTo>
                      <a:pt x="1439" y="3053"/>
                    </a:lnTo>
                    <a:lnTo>
                      <a:pt x="1408" y="3060"/>
                    </a:lnTo>
                    <a:lnTo>
                      <a:pt x="1378" y="3066"/>
                    </a:lnTo>
                    <a:lnTo>
                      <a:pt x="1346" y="3073"/>
                    </a:lnTo>
                    <a:lnTo>
                      <a:pt x="1314" y="3079"/>
                    </a:lnTo>
                    <a:lnTo>
                      <a:pt x="1314" y="2990"/>
                    </a:lnTo>
                    <a:lnTo>
                      <a:pt x="1306" y="2906"/>
                    </a:lnTo>
                    <a:lnTo>
                      <a:pt x="1293" y="2828"/>
                    </a:lnTo>
                    <a:lnTo>
                      <a:pt x="1274" y="2753"/>
                    </a:lnTo>
                    <a:lnTo>
                      <a:pt x="1251" y="2684"/>
                    </a:lnTo>
                    <a:lnTo>
                      <a:pt x="1223" y="2617"/>
                    </a:lnTo>
                    <a:lnTo>
                      <a:pt x="1192" y="2552"/>
                    </a:lnTo>
                    <a:lnTo>
                      <a:pt x="1158" y="2491"/>
                    </a:lnTo>
                    <a:lnTo>
                      <a:pt x="1123" y="2430"/>
                    </a:lnTo>
                    <a:lnTo>
                      <a:pt x="1085" y="2371"/>
                    </a:lnTo>
                    <a:lnTo>
                      <a:pt x="1047" y="2313"/>
                    </a:lnTo>
                    <a:lnTo>
                      <a:pt x="1009" y="2253"/>
                    </a:lnTo>
                    <a:lnTo>
                      <a:pt x="972" y="2194"/>
                    </a:lnTo>
                    <a:lnTo>
                      <a:pt x="936" y="2133"/>
                    </a:lnTo>
                    <a:lnTo>
                      <a:pt x="903" y="2071"/>
                    </a:lnTo>
                    <a:lnTo>
                      <a:pt x="872" y="2006"/>
                    </a:lnTo>
                    <a:lnTo>
                      <a:pt x="843" y="1940"/>
                    </a:lnTo>
                    <a:lnTo>
                      <a:pt x="817" y="1874"/>
                    </a:lnTo>
                    <a:lnTo>
                      <a:pt x="790" y="1808"/>
                    </a:lnTo>
                    <a:lnTo>
                      <a:pt x="766" y="1743"/>
                    </a:lnTo>
                    <a:lnTo>
                      <a:pt x="742" y="1677"/>
                    </a:lnTo>
                    <a:lnTo>
                      <a:pt x="720" y="1613"/>
                    </a:lnTo>
                    <a:lnTo>
                      <a:pt x="697" y="1548"/>
                    </a:lnTo>
                    <a:lnTo>
                      <a:pt x="675" y="1482"/>
                    </a:lnTo>
                    <a:lnTo>
                      <a:pt x="652" y="1417"/>
                    </a:lnTo>
                    <a:lnTo>
                      <a:pt x="630" y="1352"/>
                    </a:lnTo>
                    <a:lnTo>
                      <a:pt x="607" y="1287"/>
                    </a:lnTo>
                    <a:lnTo>
                      <a:pt x="583" y="1221"/>
                    </a:lnTo>
                    <a:lnTo>
                      <a:pt x="558" y="1156"/>
                    </a:lnTo>
                    <a:lnTo>
                      <a:pt x="533" y="1091"/>
                    </a:lnTo>
                    <a:lnTo>
                      <a:pt x="507" y="1025"/>
                    </a:lnTo>
                    <a:lnTo>
                      <a:pt x="478" y="959"/>
                    </a:lnTo>
                    <a:lnTo>
                      <a:pt x="464" y="932"/>
                    </a:lnTo>
                    <a:lnTo>
                      <a:pt x="446" y="905"/>
                    </a:lnTo>
                    <a:lnTo>
                      <a:pt x="426" y="876"/>
                    </a:lnTo>
                    <a:lnTo>
                      <a:pt x="403" y="848"/>
                    </a:lnTo>
                    <a:lnTo>
                      <a:pt x="378" y="819"/>
                    </a:lnTo>
                    <a:lnTo>
                      <a:pt x="353" y="791"/>
                    </a:lnTo>
                    <a:lnTo>
                      <a:pt x="325" y="761"/>
                    </a:lnTo>
                    <a:lnTo>
                      <a:pt x="298" y="732"/>
                    </a:lnTo>
                    <a:lnTo>
                      <a:pt x="270" y="703"/>
                    </a:lnTo>
                    <a:lnTo>
                      <a:pt x="243" y="674"/>
                    </a:lnTo>
                    <a:lnTo>
                      <a:pt x="216" y="644"/>
                    </a:lnTo>
                    <a:lnTo>
                      <a:pt x="192" y="616"/>
                    </a:lnTo>
                    <a:lnTo>
                      <a:pt x="169" y="587"/>
                    </a:lnTo>
                    <a:lnTo>
                      <a:pt x="149" y="560"/>
                    </a:lnTo>
                    <a:lnTo>
                      <a:pt x="132" y="532"/>
                    </a:lnTo>
                    <a:lnTo>
                      <a:pt x="119" y="505"/>
                    </a:lnTo>
                    <a:lnTo>
                      <a:pt x="99" y="452"/>
                    </a:lnTo>
                    <a:lnTo>
                      <a:pt x="83" y="401"/>
                    </a:lnTo>
                    <a:lnTo>
                      <a:pt x="71" y="352"/>
                    </a:lnTo>
                    <a:lnTo>
                      <a:pt x="60" y="303"/>
                    </a:lnTo>
                    <a:lnTo>
                      <a:pt x="49" y="253"/>
                    </a:lnTo>
                    <a:lnTo>
                      <a:pt x="36" y="203"/>
                    </a:lnTo>
                    <a:lnTo>
                      <a:pt x="21" y="151"/>
                    </a:lnTo>
                    <a:lnTo>
                      <a:pt x="0" y="98"/>
                    </a:lnTo>
                    <a:lnTo>
                      <a:pt x="29" y="98"/>
                    </a:lnTo>
                    <a:lnTo>
                      <a:pt x="58" y="96"/>
                    </a:lnTo>
                    <a:lnTo>
                      <a:pt x="88" y="93"/>
                    </a:lnTo>
                    <a:lnTo>
                      <a:pt x="116" y="87"/>
                    </a:lnTo>
                    <a:lnTo>
                      <a:pt x="145" y="81"/>
                    </a:lnTo>
                    <a:lnTo>
                      <a:pt x="175" y="74"/>
                    </a:lnTo>
                    <a:lnTo>
                      <a:pt x="203" y="65"/>
                    </a:lnTo>
                    <a:lnTo>
                      <a:pt x="232" y="58"/>
                    </a:lnTo>
                    <a:lnTo>
                      <a:pt x="260" y="49"/>
                    </a:lnTo>
                    <a:lnTo>
                      <a:pt x="289" y="40"/>
                    </a:lnTo>
                    <a:lnTo>
                      <a:pt x="318" y="32"/>
                    </a:lnTo>
                    <a:lnTo>
                      <a:pt x="346" y="25"/>
                    </a:lnTo>
                    <a:lnTo>
                      <a:pt x="376" y="17"/>
                    </a:lnTo>
                    <a:lnTo>
                      <a:pt x="404" y="11"/>
                    </a:lnTo>
                    <a:lnTo>
                      <a:pt x="433" y="6"/>
                    </a:lnTo>
                    <a:lnTo>
                      <a:pt x="463" y="3"/>
                    </a:lnTo>
                    <a:lnTo>
                      <a:pt x="484" y="1"/>
                    </a:lnTo>
                    <a:lnTo>
                      <a:pt x="505" y="0"/>
                    </a:lnTo>
                    <a:lnTo>
                      <a:pt x="525" y="0"/>
                    </a:lnTo>
                    <a:lnTo>
                      <a:pt x="546" y="1"/>
                    </a:lnTo>
                    <a:lnTo>
                      <a:pt x="566" y="3"/>
                    </a:lnTo>
                    <a:lnTo>
                      <a:pt x="587" y="4"/>
                    </a:lnTo>
                    <a:lnTo>
                      <a:pt x="607" y="7"/>
                    </a:lnTo>
                    <a:lnTo>
                      <a:pt x="628" y="9"/>
                    </a:lnTo>
                    <a:lnTo>
                      <a:pt x="647" y="12"/>
                    </a:lnTo>
                    <a:lnTo>
                      <a:pt x="667" y="16"/>
                    </a:lnTo>
                    <a:lnTo>
                      <a:pt x="688" y="20"/>
                    </a:lnTo>
                    <a:lnTo>
                      <a:pt x="708" y="25"/>
                    </a:lnTo>
                    <a:lnTo>
                      <a:pt x="728" y="30"/>
                    </a:lnTo>
                    <a:lnTo>
                      <a:pt x="749" y="36"/>
                    </a:lnTo>
                    <a:lnTo>
                      <a:pt x="768" y="41"/>
                    </a:lnTo>
                    <a:lnTo>
                      <a:pt x="789" y="47"/>
                    </a:lnTo>
                    <a:lnTo>
                      <a:pt x="804" y="51"/>
                    </a:lnTo>
                    <a:lnTo>
                      <a:pt x="819" y="55"/>
                    </a:lnTo>
                    <a:lnTo>
                      <a:pt x="834" y="61"/>
                    </a:lnTo>
                    <a:lnTo>
                      <a:pt x="850" y="65"/>
                    </a:lnTo>
                    <a:lnTo>
                      <a:pt x="865" y="71"/>
                    </a:lnTo>
                    <a:lnTo>
                      <a:pt x="881" y="77"/>
                    </a:lnTo>
                    <a:lnTo>
                      <a:pt x="896" y="83"/>
                    </a:lnTo>
                    <a:lnTo>
                      <a:pt x="911" y="89"/>
                    </a:lnTo>
                    <a:lnTo>
                      <a:pt x="927" y="97"/>
                    </a:lnTo>
                    <a:lnTo>
                      <a:pt x="941" y="105"/>
                    </a:lnTo>
                    <a:lnTo>
                      <a:pt x="954" y="114"/>
                    </a:lnTo>
                    <a:lnTo>
                      <a:pt x="967" y="122"/>
                    </a:lnTo>
                    <a:lnTo>
                      <a:pt x="980" y="132"/>
                    </a:lnTo>
                    <a:lnTo>
                      <a:pt x="992" y="142"/>
                    </a:lnTo>
                    <a:lnTo>
                      <a:pt x="1002" y="153"/>
                    </a:lnTo>
                    <a:lnTo>
                      <a:pt x="1011" y="165"/>
                    </a:lnTo>
                    <a:lnTo>
                      <a:pt x="1031" y="200"/>
                    </a:lnTo>
                    <a:lnTo>
                      <a:pt x="1047" y="239"/>
                    </a:lnTo>
                    <a:lnTo>
                      <a:pt x="1058" y="278"/>
                    </a:lnTo>
                    <a:lnTo>
                      <a:pt x="1068" y="320"/>
                    </a:lnTo>
                    <a:lnTo>
                      <a:pt x="1077" y="362"/>
                    </a:lnTo>
                    <a:lnTo>
                      <a:pt x="1088" y="401"/>
                    </a:lnTo>
                    <a:lnTo>
                      <a:pt x="1104" y="440"/>
                    </a:lnTo>
                    <a:lnTo>
                      <a:pt x="1124" y="475"/>
                    </a:lnTo>
                    <a:lnTo>
                      <a:pt x="1136" y="492"/>
                    </a:lnTo>
                    <a:lnTo>
                      <a:pt x="1148" y="508"/>
                    </a:lnTo>
                    <a:lnTo>
                      <a:pt x="1161" y="523"/>
                    </a:lnTo>
                    <a:lnTo>
                      <a:pt x="1174" y="539"/>
                    </a:lnTo>
                    <a:lnTo>
                      <a:pt x="1189" y="554"/>
                    </a:lnTo>
                    <a:lnTo>
                      <a:pt x="1203" y="569"/>
                    </a:lnTo>
                    <a:lnTo>
                      <a:pt x="1218" y="583"/>
                    </a:lnTo>
                    <a:lnTo>
                      <a:pt x="1234" y="596"/>
                    </a:lnTo>
                    <a:lnTo>
                      <a:pt x="1250" y="609"/>
                    </a:lnTo>
                    <a:lnTo>
                      <a:pt x="1267" y="622"/>
                    </a:lnTo>
                    <a:lnTo>
                      <a:pt x="1283" y="634"/>
                    </a:lnTo>
                    <a:lnTo>
                      <a:pt x="1301" y="645"/>
                    </a:lnTo>
                    <a:lnTo>
                      <a:pt x="1318" y="655"/>
                    </a:lnTo>
                    <a:lnTo>
                      <a:pt x="1336" y="665"/>
                    </a:lnTo>
                    <a:lnTo>
                      <a:pt x="1355" y="674"/>
                    </a:lnTo>
                    <a:lnTo>
                      <a:pt x="1373" y="682"/>
                    </a:lnTo>
                    <a:lnTo>
                      <a:pt x="1383" y="685"/>
                    </a:lnTo>
                    <a:lnTo>
                      <a:pt x="1395" y="688"/>
                    </a:lnTo>
                    <a:lnTo>
                      <a:pt x="1407" y="692"/>
                    </a:lnTo>
                    <a:lnTo>
                      <a:pt x="1421" y="694"/>
                    </a:lnTo>
                    <a:lnTo>
                      <a:pt x="1434" y="696"/>
                    </a:lnTo>
                    <a:lnTo>
                      <a:pt x="1448" y="697"/>
                    </a:lnTo>
                    <a:lnTo>
                      <a:pt x="1462" y="698"/>
                    </a:lnTo>
                    <a:lnTo>
                      <a:pt x="1478" y="699"/>
                    </a:lnTo>
                    <a:lnTo>
                      <a:pt x="1492" y="700"/>
                    </a:lnTo>
                    <a:lnTo>
                      <a:pt x="1507" y="700"/>
                    </a:lnTo>
                    <a:lnTo>
                      <a:pt x="1522" y="699"/>
                    </a:lnTo>
                    <a:lnTo>
                      <a:pt x="1536" y="699"/>
                    </a:lnTo>
                    <a:lnTo>
                      <a:pt x="1549" y="698"/>
                    </a:lnTo>
                    <a:lnTo>
                      <a:pt x="1561" y="696"/>
                    </a:lnTo>
                    <a:lnTo>
                      <a:pt x="1573" y="694"/>
                    </a:lnTo>
                    <a:lnTo>
                      <a:pt x="1584" y="692"/>
                    </a:lnTo>
                    <a:lnTo>
                      <a:pt x="1573" y="784"/>
                    </a:lnTo>
                    <a:lnTo>
                      <a:pt x="1558" y="876"/>
                    </a:lnTo>
                    <a:lnTo>
                      <a:pt x="1541" y="969"/>
                    </a:lnTo>
                    <a:lnTo>
                      <a:pt x="1523" y="1062"/>
                    </a:lnTo>
                    <a:lnTo>
                      <a:pt x="1505" y="1154"/>
                    </a:lnTo>
                    <a:lnTo>
                      <a:pt x="1488" y="1248"/>
                    </a:lnTo>
                    <a:lnTo>
                      <a:pt x="1473" y="1339"/>
                    </a:lnTo>
                    <a:lnTo>
                      <a:pt x="1462" y="1431"/>
                    </a:lnTo>
                    <a:lnTo>
                      <a:pt x="1466" y="1459"/>
                    </a:lnTo>
                    <a:lnTo>
                      <a:pt x="1473" y="1489"/>
                    </a:lnTo>
                    <a:lnTo>
                      <a:pt x="1485" y="1524"/>
                    </a:lnTo>
                    <a:lnTo>
                      <a:pt x="1500" y="1556"/>
                    </a:lnTo>
                    <a:lnTo>
                      <a:pt x="1517" y="1588"/>
                    </a:lnTo>
                    <a:lnTo>
                      <a:pt x="1536" y="1617"/>
                    </a:lnTo>
                    <a:lnTo>
                      <a:pt x="1557" y="1639"/>
                    </a:lnTo>
                    <a:lnTo>
                      <a:pt x="1579" y="1654"/>
                    </a:lnTo>
                    <a:lnTo>
                      <a:pt x="1605" y="1669"/>
                    </a:lnTo>
                    <a:lnTo>
                      <a:pt x="1632" y="1683"/>
                    </a:lnTo>
                    <a:lnTo>
                      <a:pt x="1658" y="1699"/>
                    </a:lnTo>
                    <a:lnTo>
                      <a:pt x="1684" y="1717"/>
                    </a:lnTo>
                    <a:lnTo>
                      <a:pt x="1710" y="1736"/>
                    </a:lnTo>
                    <a:lnTo>
                      <a:pt x="1735" y="1754"/>
                    </a:lnTo>
                    <a:lnTo>
                      <a:pt x="1760" y="1775"/>
                    </a:lnTo>
                    <a:lnTo>
                      <a:pt x="1786" y="1797"/>
                    </a:lnTo>
                    <a:lnTo>
                      <a:pt x="1810" y="1820"/>
                    </a:lnTo>
                    <a:lnTo>
                      <a:pt x="1833" y="1844"/>
                    </a:lnTo>
                    <a:lnTo>
                      <a:pt x="1856" y="1869"/>
                    </a:lnTo>
                    <a:lnTo>
                      <a:pt x="1878" y="1895"/>
                    </a:lnTo>
                    <a:lnTo>
                      <a:pt x="1900" y="1921"/>
                    </a:lnTo>
                    <a:lnTo>
                      <a:pt x="1921" y="1949"/>
                    </a:lnTo>
                    <a:lnTo>
                      <a:pt x="1941" y="1977"/>
                    </a:lnTo>
                    <a:lnTo>
                      <a:pt x="1959" y="2007"/>
                    </a:lnTo>
                    <a:lnTo>
                      <a:pt x="1976" y="2036"/>
                    </a:lnTo>
                    <a:lnTo>
                      <a:pt x="1991" y="2065"/>
                    </a:lnTo>
                    <a:lnTo>
                      <a:pt x="2007" y="2096"/>
                    </a:lnTo>
                    <a:lnTo>
                      <a:pt x="2022" y="2128"/>
                    </a:lnTo>
                    <a:lnTo>
                      <a:pt x="2036" y="2161"/>
                    </a:lnTo>
                    <a:lnTo>
                      <a:pt x="2051" y="2195"/>
                    </a:lnTo>
                    <a:lnTo>
                      <a:pt x="2064" y="2229"/>
                    </a:lnTo>
                    <a:lnTo>
                      <a:pt x="2078" y="2263"/>
                    </a:lnTo>
                    <a:lnTo>
                      <a:pt x="2091" y="2298"/>
                    </a:lnTo>
                    <a:lnTo>
                      <a:pt x="2105" y="2332"/>
                    </a:lnTo>
                    <a:lnTo>
                      <a:pt x="2118" y="2368"/>
                    </a:lnTo>
                    <a:lnTo>
                      <a:pt x="2131" y="2400"/>
                    </a:lnTo>
                    <a:lnTo>
                      <a:pt x="2143" y="2435"/>
                    </a:lnTo>
                    <a:lnTo>
                      <a:pt x="2156" y="2466"/>
                    </a:lnTo>
                    <a:lnTo>
                      <a:pt x="2168" y="2498"/>
                    </a:lnTo>
                    <a:lnTo>
                      <a:pt x="2181" y="252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00800" y="1066680"/>
                <a:ext cx="547560" cy="706320"/>
              </a:xfrm>
              <a:custGeom>
                <a:avLst/>
                <a:gdLst/>
                <a:ahLst/>
                <a:rect l="l" t="t" r="r" b="b"/>
                <a:pathLst>
                  <a:path w="2758" h="3562">
                    <a:moveTo>
                      <a:pt x="2758" y="3562"/>
                    </a:moveTo>
                    <a:lnTo>
                      <a:pt x="2726" y="3561"/>
                    </a:lnTo>
                    <a:lnTo>
                      <a:pt x="2696" y="3554"/>
                    </a:lnTo>
                    <a:lnTo>
                      <a:pt x="2668" y="3544"/>
                    </a:lnTo>
                    <a:lnTo>
                      <a:pt x="2639" y="3530"/>
                    </a:lnTo>
                    <a:lnTo>
                      <a:pt x="2613" y="3513"/>
                    </a:lnTo>
                    <a:lnTo>
                      <a:pt x="2586" y="3495"/>
                    </a:lnTo>
                    <a:lnTo>
                      <a:pt x="2560" y="3474"/>
                    </a:lnTo>
                    <a:lnTo>
                      <a:pt x="2535" y="3452"/>
                    </a:lnTo>
                    <a:lnTo>
                      <a:pt x="2508" y="3429"/>
                    </a:lnTo>
                    <a:lnTo>
                      <a:pt x="2483" y="3406"/>
                    </a:lnTo>
                    <a:lnTo>
                      <a:pt x="2457" y="3384"/>
                    </a:lnTo>
                    <a:lnTo>
                      <a:pt x="2430" y="3363"/>
                    </a:lnTo>
                    <a:lnTo>
                      <a:pt x="2403" y="3344"/>
                    </a:lnTo>
                    <a:lnTo>
                      <a:pt x="2374" y="3327"/>
                    </a:lnTo>
                    <a:lnTo>
                      <a:pt x="2346" y="3313"/>
                    </a:lnTo>
                    <a:lnTo>
                      <a:pt x="2315" y="3302"/>
                    </a:lnTo>
                    <a:lnTo>
                      <a:pt x="2289" y="3296"/>
                    </a:lnTo>
                    <a:lnTo>
                      <a:pt x="2267" y="3292"/>
                    </a:lnTo>
                    <a:lnTo>
                      <a:pt x="2245" y="3289"/>
                    </a:lnTo>
                    <a:lnTo>
                      <a:pt x="2226" y="3288"/>
                    </a:lnTo>
                    <a:lnTo>
                      <a:pt x="2207" y="3288"/>
                    </a:lnTo>
                    <a:lnTo>
                      <a:pt x="2188" y="3289"/>
                    </a:lnTo>
                    <a:lnTo>
                      <a:pt x="2171" y="3291"/>
                    </a:lnTo>
                    <a:lnTo>
                      <a:pt x="2153" y="3294"/>
                    </a:lnTo>
                    <a:lnTo>
                      <a:pt x="2136" y="3297"/>
                    </a:lnTo>
                    <a:lnTo>
                      <a:pt x="2117" y="3300"/>
                    </a:lnTo>
                    <a:lnTo>
                      <a:pt x="2098" y="3303"/>
                    </a:lnTo>
                    <a:lnTo>
                      <a:pt x="2078" y="3307"/>
                    </a:lnTo>
                    <a:lnTo>
                      <a:pt x="2059" y="3309"/>
                    </a:lnTo>
                    <a:lnTo>
                      <a:pt x="2035" y="3312"/>
                    </a:lnTo>
                    <a:lnTo>
                      <a:pt x="2012" y="3313"/>
                    </a:lnTo>
                    <a:lnTo>
                      <a:pt x="1986" y="3314"/>
                    </a:lnTo>
                    <a:lnTo>
                      <a:pt x="1955" y="3314"/>
                    </a:lnTo>
                    <a:lnTo>
                      <a:pt x="1922" y="3312"/>
                    </a:lnTo>
                    <a:lnTo>
                      <a:pt x="1888" y="3310"/>
                    </a:lnTo>
                    <a:lnTo>
                      <a:pt x="1853" y="3307"/>
                    </a:lnTo>
                    <a:lnTo>
                      <a:pt x="1817" y="3303"/>
                    </a:lnTo>
                    <a:lnTo>
                      <a:pt x="1780" y="3299"/>
                    </a:lnTo>
                    <a:lnTo>
                      <a:pt x="1743" y="3295"/>
                    </a:lnTo>
                    <a:lnTo>
                      <a:pt x="1706" y="3290"/>
                    </a:lnTo>
                    <a:lnTo>
                      <a:pt x="1669" y="3287"/>
                    </a:lnTo>
                    <a:lnTo>
                      <a:pt x="1632" y="3284"/>
                    </a:lnTo>
                    <a:lnTo>
                      <a:pt x="1596" y="3281"/>
                    </a:lnTo>
                    <a:lnTo>
                      <a:pt x="1560" y="3280"/>
                    </a:lnTo>
                    <a:lnTo>
                      <a:pt x="1525" y="3280"/>
                    </a:lnTo>
                    <a:lnTo>
                      <a:pt x="1491" y="3283"/>
                    </a:lnTo>
                    <a:lnTo>
                      <a:pt x="1459" y="3286"/>
                    </a:lnTo>
                    <a:lnTo>
                      <a:pt x="1428" y="3291"/>
                    </a:lnTo>
                    <a:lnTo>
                      <a:pt x="1398" y="3299"/>
                    </a:lnTo>
                    <a:lnTo>
                      <a:pt x="1367" y="3308"/>
                    </a:lnTo>
                    <a:lnTo>
                      <a:pt x="1336" y="3318"/>
                    </a:lnTo>
                    <a:lnTo>
                      <a:pt x="1305" y="3329"/>
                    </a:lnTo>
                    <a:lnTo>
                      <a:pt x="1275" y="3341"/>
                    </a:lnTo>
                    <a:lnTo>
                      <a:pt x="1244" y="3354"/>
                    </a:lnTo>
                    <a:lnTo>
                      <a:pt x="1213" y="3367"/>
                    </a:lnTo>
                    <a:lnTo>
                      <a:pt x="1182" y="3381"/>
                    </a:lnTo>
                    <a:lnTo>
                      <a:pt x="1151" y="3395"/>
                    </a:lnTo>
                    <a:lnTo>
                      <a:pt x="1122" y="3409"/>
                    </a:lnTo>
                    <a:lnTo>
                      <a:pt x="1091" y="3422"/>
                    </a:lnTo>
                    <a:lnTo>
                      <a:pt x="1060" y="3435"/>
                    </a:lnTo>
                    <a:lnTo>
                      <a:pt x="1029" y="3447"/>
                    </a:lnTo>
                    <a:lnTo>
                      <a:pt x="1000" y="3460"/>
                    </a:lnTo>
                    <a:lnTo>
                      <a:pt x="969" y="3471"/>
                    </a:lnTo>
                    <a:lnTo>
                      <a:pt x="938" y="3479"/>
                    </a:lnTo>
                    <a:lnTo>
                      <a:pt x="919" y="3485"/>
                    </a:lnTo>
                    <a:lnTo>
                      <a:pt x="900" y="3489"/>
                    </a:lnTo>
                    <a:lnTo>
                      <a:pt x="880" y="3492"/>
                    </a:lnTo>
                    <a:lnTo>
                      <a:pt x="860" y="3495"/>
                    </a:lnTo>
                    <a:lnTo>
                      <a:pt x="840" y="3497"/>
                    </a:lnTo>
                    <a:lnTo>
                      <a:pt x="819" y="3498"/>
                    </a:lnTo>
                    <a:lnTo>
                      <a:pt x="799" y="3499"/>
                    </a:lnTo>
                    <a:lnTo>
                      <a:pt x="779" y="3500"/>
                    </a:lnTo>
                    <a:lnTo>
                      <a:pt x="758" y="3500"/>
                    </a:lnTo>
                    <a:lnTo>
                      <a:pt x="737" y="3500"/>
                    </a:lnTo>
                    <a:lnTo>
                      <a:pt x="716" y="3499"/>
                    </a:lnTo>
                    <a:lnTo>
                      <a:pt x="696" y="3499"/>
                    </a:lnTo>
                    <a:lnTo>
                      <a:pt x="675" y="3498"/>
                    </a:lnTo>
                    <a:lnTo>
                      <a:pt x="654" y="3497"/>
                    </a:lnTo>
                    <a:lnTo>
                      <a:pt x="635" y="3497"/>
                    </a:lnTo>
                    <a:lnTo>
                      <a:pt x="615" y="3496"/>
                    </a:lnTo>
                    <a:lnTo>
                      <a:pt x="0" y="0"/>
                    </a:lnTo>
                    <a:lnTo>
                      <a:pt x="11" y="5"/>
                    </a:lnTo>
                    <a:lnTo>
                      <a:pt x="23" y="11"/>
                    </a:lnTo>
                    <a:lnTo>
                      <a:pt x="34" y="18"/>
                    </a:lnTo>
                    <a:lnTo>
                      <a:pt x="46" y="23"/>
                    </a:lnTo>
                    <a:lnTo>
                      <a:pt x="57" y="30"/>
                    </a:lnTo>
                    <a:lnTo>
                      <a:pt x="69" y="36"/>
                    </a:lnTo>
                    <a:lnTo>
                      <a:pt x="80" y="42"/>
                    </a:lnTo>
                    <a:lnTo>
                      <a:pt x="92" y="48"/>
                    </a:lnTo>
                    <a:lnTo>
                      <a:pt x="103" y="54"/>
                    </a:lnTo>
                    <a:lnTo>
                      <a:pt x="115" y="59"/>
                    </a:lnTo>
                    <a:lnTo>
                      <a:pt x="128" y="65"/>
                    </a:lnTo>
                    <a:lnTo>
                      <a:pt x="139" y="70"/>
                    </a:lnTo>
                    <a:lnTo>
                      <a:pt x="151" y="75"/>
                    </a:lnTo>
                    <a:lnTo>
                      <a:pt x="163" y="79"/>
                    </a:lnTo>
                    <a:lnTo>
                      <a:pt x="176" y="82"/>
                    </a:lnTo>
                    <a:lnTo>
                      <a:pt x="188" y="86"/>
                    </a:lnTo>
                    <a:lnTo>
                      <a:pt x="211" y="90"/>
                    </a:lnTo>
                    <a:lnTo>
                      <a:pt x="234" y="92"/>
                    </a:lnTo>
                    <a:lnTo>
                      <a:pt x="256" y="95"/>
                    </a:lnTo>
                    <a:lnTo>
                      <a:pt x="279" y="95"/>
                    </a:lnTo>
                    <a:lnTo>
                      <a:pt x="301" y="95"/>
                    </a:lnTo>
                    <a:lnTo>
                      <a:pt x="323" y="93"/>
                    </a:lnTo>
                    <a:lnTo>
                      <a:pt x="345" y="91"/>
                    </a:lnTo>
                    <a:lnTo>
                      <a:pt x="367" y="89"/>
                    </a:lnTo>
                    <a:lnTo>
                      <a:pt x="389" y="88"/>
                    </a:lnTo>
                    <a:lnTo>
                      <a:pt x="411" y="87"/>
                    </a:lnTo>
                    <a:lnTo>
                      <a:pt x="433" y="86"/>
                    </a:lnTo>
                    <a:lnTo>
                      <a:pt x="456" y="86"/>
                    </a:lnTo>
                    <a:lnTo>
                      <a:pt x="478" y="86"/>
                    </a:lnTo>
                    <a:lnTo>
                      <a:pt x="500" y="88"/>
                    </a:lnTo>
                    <a:lnTo>
                      <a:pt x="522" y="91"/>
                    </a:lnTo>
                    <a:lnTo>
                      <a:pt x="545" y="97"/>
                    </a:lnTo>
                    <a:lnTo>
                      <a:pt x="591" y="110"/>
                    </a:lnTo>
                    <a:lnTo>
                      <a:pt x="635" y="124"/>
                    </a:lnTo>
                    <a:lnTo>
                      <a:pt x="677" y="141"/>
                    </a:lnTo>
                    <a:lnTo>
                      <a:pt x="720" y="158"/>
                    </a:lnTo>
                    <a:lnTo>
                      <a:pt x="761" y="177"/>
                    </a:lnTo>
                    <a:lnTo>
                      <a:pt x="803" y="197"/>
                    </a:lnTo>
                    <a:lnTo>
                      <a:pt x="843" y="216"/>
                    </a:lnTo>
                    <a:lnTo>
                      <a:pt x="883" y="235"/>
                    </a:lnTo>
                    <a:lnTo>
                      <a:pt x="924" y="255"/>
                    </a:lnTo>
                    <a:lnTo>
                      <a:pt x="964" y="275"/>
                    </a:lnTo>
                    <a:lnTo>
                      <a:pt x="1006" y="292"/>
                    </a:lnTo>
                    <a:lnTo>
                      <a:pt x="1048" y="310"/>
                    </a:lnTo>
                    <a:lnTo>
                      <a:pt x="1090" y="326"/>
                    </a:lnTo>
                    <a:lnTo>
                      <a:pt x="1134" y="341"/>
                    </a:lnTo>
                    <a:lnTo>
                      <a:pt x="1178" y="354"/>
                    </a:lnTo>
                    <a:lnTo>
                      <a:pt x="1224" y="365"/>
                    </a:lnTo>
                    <a:lnTo>
                      <a:pt x="1251" y="369"/>
                    </a:lnTo>
                    <a:lnTo>
                      <a:pt x="1282" y="374"/>
                    </a:lnTo>
                    <a:lnTo>
                      <a:pt x="1315" y="376"/>
                    </a:lnTo>
                    <a:lnTo>
                      <a:pt x="1349" y="377"/>
                    </a:lnTo>
                    <a:lnTo>
                      <a:pt x="1386" y="377"/>
                    </a:lnTo>
                    <a:lnTo>
                      <a:pt x="1423" y="376"/>
                    </a:lnTo>
                    <a:lnTo>
                      <a:pt x="1460" y="375"/>
                    </a:lnTo>
                    <a:lnTo>
                      <a:pt x="1498" y="373"/>
                    </a:lnTo>
                    <a:lnTo>
                      <a:pt x="1536" y="369"/>
                    </a:lnTo>
                    <a:lnTo>
                      <a:pt x="1574" y="366"/>
                    </a:lnTo>
                    <a:lnTo>
                      <a:pt x="1610" y="362"/>
                    </a:lnTo>
                    <a:lnTo>
                      <a:pt x="1645" y="357"/>
                    </a:lnTo>
                    <a:lnTo>
                      <a:pt x="1678" y="353"/>
                    </a:lnTo>
                    <a:lnTo>
                      <a:pt x="1710" y="348"/>
                    </a:lnTo>
                    <a:lnTo>
                      <a:pt x="1739" y="343"/>
                    </a:lnTo>
                    <a:lnTo>
                      <a:pt x="1765" y="338"/>
                    </a:lnTo>
                    <a:lnTo>
                      <a:pt x="1801" y="408"/>
                    </a:lnTo>
                    <a:lnTo>
                      <a:pt x="1831" y="473"/>
                    </a:lnTo>
                    <a:lnTo>
                      <a:pt x="1855" y="534"/>
                    </a:lnTo>
                    <a:lnTo>
                      <a:pt x="1874" y="593"/>
                    </a:lnTo>
                    <a:lnTo>
                      <a:pt x="1889" y="651"/>
                    </a:lnTo>
                    <a:lnTo>
                      <a:pt x="1901" y="706"/>
                    </a:lnTo>
                    <a:lnTo>
                      <a:pt x="1910" y="760"/>
                    </a:lnTo>
                    <a:lnTo>
                      <a:pt x="1918" y="814"/>
                    </a:lnTo>
                    <a:lnTo>
                      <a:pt x="1924" y="868"/>
                    </a:lnTo>
                    <a:lnTo>
                      <a:pt x="1930" y="923"/>
                    </a:lnTo>
                    <a:lnTo>
                      <a:pt x="1936" y="979"/>
                    </a:lnTo>
                    <a:lnTo>
                      <a:pt x="1944" y="1037"/>
                    </a:lnTo>
                    <a:lnTo>
                      <a:pt x="1954" y="1098"/>
                    </a:lnTo>
                    <a:lnTo>
                      <a:pt x="1966" y="1162"/>
                    </a:lnTo>
                    <a:lnTo>
                      <a:pt x="1983" y="1228"/>
                    </a:lnTo>
                    <a:lnTo>
                      <a:pt x="2002" y="1299"/>
                    </a:lnTo>
                    <a:lnTo>
                      <a:pt x="2016" y="1334"/>
                    </a:lnTo>
                    <a:lnTo>
                      <a:pt x="2037" y="1378"/>
                    </a:lnTo>
                    <a:lnTo>
                      <a:pt x="2064" y="1430"/>
                    </a:lnTo>
                    <a:lnTo>
                      <a:pt x="2097" y="1487"/>
                    </a:lnTo>
                    <a:lnTo>
                      <a:pt x="2133" y="1550"/>
                    </a:lnTo>
                    <a:lnTo>
                      <a:pt x="2174" y="1615"/>
                    </a:lnTo>
                    <a:lnTo>
                      <a:pt x="2216" y="1684"/>
                    </a:lnTo>
                    <a:lnTo>
                      <a:pt x="2259" y="1753"/>
                    </a:lnTo>
                    <a:lnTo>
                      <a:pt x="2303" y="1823"/>
                    </a:lnTo>
                    <a:lnTo>
                      <a:pt x="2344" y="1891"/>
                    </a:lnTo>
                    <a:lnTo>
                      <a:pt x="2384" y="1957"/>
                    </a:lnTo>
                    <a:lnTo>
                      <a:pt x="2421" y="2019"/>
                    </a:lnTo>
                    <a:lnTo>
                      <a:pt x="2453" y="2076"/>
                    </a:lnTo>
                    <a:lnTo>
                      <a:pt x="2481" y="2128"/>
                    </a:lnTo>
                    <a:lnTo>
                      <a:pt x="2502" y="2172"/>
                    </a:lnTo>
                    <a:lnTo>
                      <a:pt x="2515" y="2207"/>
                    </a:lnTo>
                    <a:lnTo>
                      <a:pt x="2542" y="2302"/>
                    </a:lnTo>
                    <a:lnTo>
                      <a:pt x="2564" y="2394"/>
                    </a:lnTo>
                    <a:lnTo>
                      <a:pt x="2583" y="2480"/>
                    </a:lnTo>
                    <a:lnTo>
                      <a:pt x="2597" y="2565"/>
                    </a:lnTo>
                    <a:lnTo>
                      <a:pt x="2609" y="2647"/>
                    </a:lnTo>
                    <a:lnTo>
                      <a:pt x="2619" y="2728"/>
                    </a:lnTo>
                    <a:lnTo>
                      <a:pt x="2628" y="2807"/>
                    </a:lnTo>
                    <a:lnTo>
                      <a:pt x="2637" y="2885"/>
                    </a:lnTo>
                    <a:lnTo>
                      <a:pt x="2645" y="2963"/>
                    </a:lnTo>
                    <a:lnTo>
                      <a:pt x="2653" y="3042"/>
                    </a:lnTo>
                    <a:lnTo>
                      <a:pt x="2663" y="3122"/>
                    </a:lnTo>
                    <a:lnTo>
                      <a:pt x="2675" y="3203"/>
                    </a:lnTo>
                    <a:lnTo>
                      <a:pt x="2690" y="3288"/>
                    </a:lnTo>
                    <a:lnTo>
                      <a:pt x="2708" y="3376"/>
                    </a:lnTo>
                    <a:lnTo>
                      <a:pt x="2730" y="3466"/>
                    </a:lnTo>
                    <a:lnTo>
                      <a:pt x="2758" y="3562"/>
                    </a:lnTo>
                    <a:close/>
                  </a:path>
                </a:pathLst>
              </a:custGeom>
              <a:solidFill>
                <a:srgbClr val="001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095960" y="1703160"/>
                <a:ext cx="61920" cy="55440"/>
              </a:xfrm>
              <a:custGeom>
                <a:avLst/>
                <a:gdLst/>
                <a:ahLst/>
                <a:rect l="l" t="t" r="r" b="b"/>
                <a:pathLst>
                  <a:path w="307" h="279">
                    <a:moveTo>
                      <a:pt x="146" y="279"/>
                    </a:moveTo>
                    <a:lnTo>
                      <a:pt x="0" y="23"/>
                    </a:lnTo>
                    <a:lnTo>
                      <a:pt x="16" y="19"/>
                    </a:lnTo>
                    <a:lnTo>
                      <a:pt x="34" y="14"/>
                    </a:lnTo>
                    <a:lnTo>
                      <a:pt x="53" y="10"/>
                    </a:lnTo>
                    <a:lnTo>
                      <a:pt x="72" y="7"/>
                    </a:lnTo>
                    <a:lnTo>
                      <a:pt x="92" y="3"/>
                    </a:lnTo>
                    <a:lnTo>
                      <a:pt x="113" y="1"/>
                    </a:lnTo>
                    <a:lnTo>
                      <a:pt x="134" y="0"/>
                    </a:lnTo>
                    <a:lnTo>
                      <a:pt x="155" y="0"/>
                    </a:lnTo>
                    <a:lnTo>
                      <a:pt x="176" y="1"/>
                    </a:lnTo>
                    <a:lnTo>
                      <a:pt x="196" y="3"/>
                    </a:lnTo>
                    <a:lnTo>
                      <a:pt x="215" y="7"/>
                    </a:lnTo>
                    <a:lnTo>
                      <a:pt x="233" y="11"/>
                    </a:lnTo>
                    <a:lnTo>
                      <a:pt x="251" y="18"/>
                    </a:lnTo>
                    <a:lnTo>
                      <a:pt x="266" y="27"/>
                    </a:lnTo>
                    <a:lnTo>
                      <a:pt x="279" y="35"/>
                    </a:lnTo>
                    <a:lnTo>
                      <a:pt x="291" y="47"/>
                    </a:lnTo>
                    <a:lnTo>
                      <a:pt x="302" y="65"/>
                    </a:lnTo>
                    <a:lnTo>
                      <a:pt x="307" y="80"/>
                    </a:lnTo>
                    <a:lnTo>
                      <a:pt x="306" y="97"/>
                    </a:lnTo>
                    <a:lnTo>
                      <a:pt x="299" y="111"/>
                    </a:lnTo>
                    <a:lnTo>
                      <a:pt x="288" y="127"/>
                    </a:lnTo>
                    <a:lnTo>
                      <a:pt x="275" y="141"/>
                    </a:lnTo>
                    <a:lnTo>
                      <a:pt x="259" y="154"/>
                    </a:lnTo>
                    <a:lnTo>
                      <a:pt x="242" y="168"/>
                    </a:lnTo>
                    <a:lnTo>
                      <a:pt x="223" y="181"/>
                    </a:lnTo>
                    <a:lnTo>
                      <a:pt x="205" y="195"/>
                    </a:lnTo>
                    <a:lnTo>
                      <a:pt x="188" y="208"/>
                    </a:lnTo>
                    <a:lnTo>
                      <a:pt x="172" y="222"/>
                    </a:lnTo>
                    <a:lnTo>
                      <a:pt x="160" y="235"/>
                    </a:lnTo>
                    <a:lnTo>
                      <a:pt x="150" y="250"/>
                    </a:lnTo>
                    <a:lnTo>
                      <a:pt x="146" y="264"/>
                    </a:lnTo>
                    <a:lnTo>
                      <a:pt x="146" y="279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459480" y="1083960"/>
                <a:ext cx="156960" cy="381240"/>
              </a:xfrm>
              <a:custGeom>
                <a:avLst/>
                <a:gdLst/>
                <a:ahLst/>
                <a:rect l="l" t="t" r="r" b="b"/>
                <a:pathLst>
                  <a:path w="796" h="1917">
                    <a:moveTo>
                      <a:pt x="0" y="12"/>
                    </a:moveTo>
                    <a:lnTo>
                      <a:pt x="3" y="65"/>
                    </a:lnTo>
                    <a:lnTo>
                      <a:pt x="5" y="119"/>
                    </a:lnTo>
                    <a:lnTo>
                      <a:pt x="11" y="170"/>
                    </a:lnTo>
                    <a:lnTo>
                      <a:pt x="26" y="219"/>
                    </a:lnTo>
                    <a:lnTo>
                      <a:pt x="36" y="237"/>
                    </a:lnTo>
                    <a:lnTo>
                      <a:pt x="47" y="256"/>
                    </a:lnTo>
                    <a:lnTo>
                      <a:pt x="58" y="273"/>
                    </a:lnTo>
                    <a:lnTo>
                      <a:pt x="69" y="290"/>
                    </a:lnTo>
                    <a:lnTo>
                      <a:pt x="81" y="306"/>
                    </a:lnTo>
                    <a:lnTo>
                      <a:pt x="93" y="323"/>
                    </a:lnTo>
                    <a:lnTo>
                      <a:pt x="105" y="339"/>
                    </a:lnTo>
                    <a:lnTo>
                      <a:pt x="118" y="355"/>
                    </a:lnTo>
                    <a:lnTo>
                      <a:pt x="130" y="370"/>
                    </a:lnTo>
                    <a:lnTo>
                      <a:pt x="144" y="387"/>
                    </a:lnTo>
                    <a:lnTo>
                      <a:pt x="156" y="403"/>
                    </a:lnTo>
                    <a:lnTo>
                      <a:pt x="168" y="420"/>
                    </a:lnTo>
                    <a:lnTo>
                      <a:pt x="180" y="436"/>
                    </a:lnTo>
                    <a:lnTo>
                      <a:pt x="191" y="454"/>
                    </a:lnTo>
                    <a:lnTo>
                      <a:pt x="202" y="472"/>
                    </a:lnTo>
                    <a:lnTo>
                      <a:pt x="212" y="491"/>
                    </a:lnTo>
                    <a:lnTo>
                      <a:pt x="225" y="524"/>
                    </a:lnTo>
                    <a:lnTo>
                      <a:pt x="234" y="559"/>
                    </a:lnTo>
                    <a:lnTo>
                      <a:pt x="239" y="594"/>
                    </a:lnTo>
                    <a:lnTo>
                      <a:pt x="244" y="631"/>
                    </a:lnTo>
                    <a:lnTo>
                      <a:pt x="248" y="667"/>
                    </a:lnTo>
                    <a:lnTo>
                      <a:pt x="256" y="702"/>
                    </a:lnTo>
                    <a:lnTo>
                      <a:pt x="268" y="735"/>
                    </a:lnTo>
                    <a:lnTo>
                      <a:pt x="286" y="766"/>
                    </a:lnTo>
                    <a:lnTo>
                      <a:pt x="301" y="778"/>
                    </a:lnTo>
                    <a:lnTo>
                      <a:pt x="315" y="772"/>
                    </a:lnTo>
                    <a:lnTo>
                      <a:pt x="327" y="755"/>
                    </a:lnTo>
                    <a:lnTo>
                      <a:pt x="338" y="733"/>
                    </a:lnTo>
                    <a:lnTo>
                      <a:pt x="348" y="712"/>
                    </a:lnTo>
                    <a:lnTo>
                      <a:pt x="359" y="700"/>
                    </a:lnTo>
                    <a:lnTo>
                      <a:pt x="371" y="702"/>
                    </a:lnTo>
                    <a:lnTo>
                      <a:pt x="384" y="724"/>
                    </a:lnTo>
                    <a:lnTo>
                      <a:pt x="411" y="793"/>
                    </a:lnTo>
                    <a:lnTo>
                      <a:pt x="437" y="862"/>
                    </a:lnTo>
                    <a:lnTo>
                      <a:pt x="463" y="933"/>
                    </a:lnTo>
                    <a:lnTo>
                      <a:pt x="486" y="1003"/>
                    </a:lnTo>
                    <a:lnTo>
                      <a:pt x="508" y="1075"/>
                    </a:lnTo>
                    <a:lnTo>
                      <a:pt x="530" y="1146"/>
                    </a:lnTo>
                    <a:lnTo>
                      <a:pt x="549" y="1217"/>
                    </a:lnTo>
                    <a:lnTo>
                      <a:pt x="568" y="1290"/>
                    </a:lnTo>
                    <a:lnTo>
                      <a:pt x="586" y="1363"/>
                    </a:lnTo>
                    <a:lnTo>
                      <a:pt x="602" y="1436"/>
                    </a:lnTo>
                    <a:lnTo>
                      <a:pt x="617" y="1510"/>
                    </a:lnTo>
                    <a:lnTo>
                      <a:pt x="630" y="1583"/>
                    </a:lnTo>
                    <a:lnTo>
                      <a:pt x="642" y="1657"/>
                    </a:lnTo>
                    <a:lnTo>
                      <a:pt x="652" y="1732"/>
                    </a:lnTo>
                    <a:lnTo>
                      <a:pt x="661" y="1808"/>
                    </a:lnTo>
                    <a:lnTo>
                      <a:pt x="667" y="1882"/>
                    </a:lnTo>
                    <a:lnTo>
                      <a:pt x="677" y="1917"/>
                    </a:lnTo>
                    <a:lnTo>
                      <a:pt x="693" y="1900"/>
                    </a:lnTo>
                    <a:lnTo>
                      <a:pt x="715" y="1842"/>
                    </a:lnTo>
                    <a:lnTo>
                      <a:pt x="739" y="1754"/>
                    </a:lnTo>
                    <a:lnTo>
                      <a:pt x="761" y="1650"/>
                    </a:lnTo>
                    <a:lnTo>
                      <a:pt x="779" y="1542"/>
                    </a:lnTo>
                    <a:lnTo>
                      <a:pt x="792" y="1441"/>
                    </a:lnTo>
                    <a:lnTo>
                      <a:pt x="796" y="1359"/>
                    </a:lnTo>
                    <a:lnTo>
                      <a:pt x="788" y="1290"/>
                    </a:lnTo>
                    <a:lnTo>
                      <a:pt x="773" y="1222"/>
                    </a:lnTo>
                    <a:lnTo>
                      <a:pt x="752" y="1155"/>
                    </a:lnTo>
                    <a:lnTo>
                      <a:pt x="726" y="1088"/>
                    </a:lnTo>
                    <a:lnTo>
                      <a:pt x="700" y="1021"/>
                    </a:lnTo>
                    <a:lnTo>
                      <a:pt x="674" y="954"/>
                    </a:lnTo>
                    <a:lnTo>
                      <a:pt x="651" y="887"/>
                    </a:lnTo>
                    <a:lnTo>
                      <a:pt x="633" y="819"/>
                    </a:lnTo>
                    <a:lnTo>
                      <a:pt x="628" y="781"/>
                    </a:lnTo>
                    <a:lnTo>
                      <a:pt x="626" y="739"/>
                    </a:lnTo>
                    <a:lnTo>
                      <a:pt x="626" y="695"/>
                    </a:lnTo>
                    <a:lnTo>
                      <a:pt x="625" y="649"/>
                    </a:lnTo>
                    <a:lnTo>
                      <a:pt x="623" y="605"/>
                    </a:lnTo>
                    <a:lnTo>
                      <a:pt x="617" y="565"/>
                    </a:lnTo>
                    <a:lnTo>
                      <a:pt x="604" y="528"/>
                    </a:lnTo>
                    <a:lnTo>
                      <a:pt x="585" y="500"/>
                    </a:lnTo>
                    <a:lnTo>
                      <a:pt x="545" y="451"/>
                    </a:lnTo>
                    <a:lnTo>
                      <a:pt x="515" y="401"/>
                    </a:lnTo>
                    <a:lnTo>
                      <a:pt x="494" y="348"/>
                    </a:lnTo>
                    <a:lnTo>
                      <a:pt x="480" y="293"/>
                    </a:lnTo>
                    <a:lnTo>
                      <a:pt x="467" y="237"/>
                    </a:lnTo>
                    <a:lnTo>
                      <a:pt x="455" y="180"/>
                    </a:lnTo>
                    <a:lnTo>
                      <a:pt x="439" y="122"/>
                    </a:lnTo>
                    <a:lnTo>
                      <a:pt x="419" y="64"/>
                    </a:lnTo>
                    <a:lnTo>
                      <a:pt x="393" y="51"/>
                    </a:lnTo>
                    <a:lnTo>
                      <a:pt x="367" y="42"/>
                    </a:lnTo>
                    <a:lnTo>
                      <a:pt x="339" y="33"/>
                    </a:lnTo>
                    <a:lnTo>
                      <a:pt x="313" y="25"/>
                    </a:lnTo>
                    <a:lnTo>
                      <a:pt x="286" y="17"/>
                    </a:lnTo>
                    <a:lnTo>
                      <a:pt x="258" y="12"/>
                    </a:lnTo>
                    <a:lnTo>
                      <a:pt x="232" y="8"/>
                    </a:lnTo>
                    <a:lnTo>
                      <a:pt x="204" y="4"/>
                    </a:lnTo>
                    <a:lnTo>
                      <a:pt x="177" y="2"/>
                    </a:lnTo>
                    <a:lnTo>
                      <a:pt x="150" y="0"/>
                    </a:lnTo>
                    <a:lnTo>
                      <a:pt x="124" y="0"/>
                    </a:lnTo>
                    <a:lnTo>
                      <a:pt x="97" y="0"/>
                    </a:lnTo>
                    <a:lnTo>
                      <a:pt x="72" y="2"/>
                    </a:lnTo>
                    <a:lnTo>
                      <a:pt x="47" y="4"/>
                    </a:lnTo>
                    <a:lnTo>
                      <a:pt x="23" y="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1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688080" y="1431720"/>
                <a:ext cx="108000" cy="291960"/>
              </a:xfrm>
              <a:custGeom>
                <a:avLst/>
                <a:gdLst/>
                <a:ahLst/>
                <a:rect l="l" t="t" r="r" b="b"/>
                <a:pathLst>
                  <a:path w="547" h="1471">
                    <a:moveTo>
                      <a:pt x="133" y="1436"/>
                    </a:moveTo>
                    <a:lnTo>
                      <a:pt x="134" y="1394"/>
                    </a:lnTo>
                    <a:lnTo>
                      <a:pt x="134" y="1353"/>
                    </a:lnTo>
                    <a:lnTo>
                      <a:pt x="138" y="1312"/>
                    </a:lnTo>
                    <a:lnTo>
                      <a:pt x="146" y="1272"/>
                    </a:lnTo>
                    <a:lnTo>
                      <a:pt x="152" y="1260"/>
                    </a:lnTo>
                    <a:lnTo>
                      <a:pt x="158" y="1247"/>
                    </a:lnTo>
                    <a:lnTo>
                      <a:pt x="165" y="1235"/>
                    </a:lnTo>
                    <a:lnTo>
                      <a:pt x="173" y="1223"/>
                    </a:lnTo>
                    <a:lnTo>
                      <a:pt x="179" y="1211"/>
                    </a:lnTo>
                    <a:lnTo>
                      <a:pt x="186" y="1199"/>
                    </a:lnTo>
                    <a:lnTo>
                      <a:pt x="190" y="1186"/>
                    </a:lnTo>
                    <a:lnTo>
                      <a:pt x="192" y="1172"/>
                    </a:lnTo>
                    <a:lnTo>
                      <a:pt x="192" y="1144"/>
                    </a:lnTo>
                    <a:lnTo>
                      <a:pt x="187" y="1118"/>
                    </a:lnTo>
                    <a:lnTo>
                      <a:pt x="179" y="1094"/>
                    </a:lnTo>
                    <a:lnTo>
                      <a:pt x="174" y="1066"/>
                    </a:lnTo>
                    <a:lnTo>
                      <a:pt x="173" y="1013"/>
                    </a:lnTo>
                    <a:lnTo>
                      <a:pt x="174" y="959"/>
                    </a:lnTo>
                    <a:lnTo>
                      <a:pt x="173" y="905"/>
                    </a:lnTo>
                    <a:lnTo>
                      <a:pt x="165" y="854"/>
                    </a:lnTo>
                    <a:lnTo>
                      <a:pt x="156" y="827"/>
                    </a:lnTo>
                    <a:lnTo>
                      <a:pt x="142" y="802"/>
                    </a:lnTo>
                    <a:lnTo>
                      <a:pt x="127" y="777"/>
                    </a:lnTo>
                    <a:lnTo>
                      <a:pt x="109" y="751"/>
                    </a:lnTo>
                    <a:lnTo>
                      <a:pt x="91" y="726"/>
                    </a:lnTo>
                    <a:lnTo>
                      <a:pt x="75" y="701"/>
                    </a:lnTo>
                    <a:lnTo>
                      <a:pt x="63" y="675"/>
                    </a:lnTo>
                    <a:lnTo>
                      <a:pt x="54" y="647"/>
                    </a:lnTo>
                    <a:lnTo>
                      <a:pt x="51" y="620"/>
                    </a:lnTo>
                    <a:lnTo>
                      <a:pt x="52" y="593"/>
                    </a:lnTo>
                    <a:lnTo>
                      <a:pt x="56" y="568"/>
                    </a:lnTo>
                    <a:lnTo>
                      <a:pt x="63" y="543"/>
                    </a:lnTo>
                    <a:lnTo>
                      <a:pt x="69" y="517"/>
                    </a:lnTo>
                    <a:lnTo>
                      <a:pt x="75" y="492"/>
                    </a:lnTo>
                    <a:lnTo>
                      <a:pt x="78" y="466"/>
                    </a:lnTo>
                    <a:lnTo>
                      <a:pt x="78" y="437"/>
                    </a:lnTo>
                    <a:lnTo>
                      <a:pt x="69" y="370"/>
                    </a:lnTo>
                    <a:lnTo>
                      <a:pt x="54" y="289"/>
                    </a:lnTo>
                    <a:lnTo>
                      <a:pt x="36" y="204"/>
                    </a:lnTo>
                    <a:lnTo>
                      <a:pt x="19" y="124"/>
                    </a:lnTo>
                    <a:lnTo>
                      <a:pt x="6" y="57"/>
                    </a:lnTo>
                    <a:lnTo>
                      <a:pt x="0" y="13"/>
                    </a:lnTo>
                    <a:lnTo>
                      <a:pt x="6" y="0"/>
                    </a:lnTo>
                    <a:lnTo>
                      <a:pt x="26" y="27"/>
                    </a:lnTo>
                    <a:lnTo>
                      <a:pt x="52" y="72"/>
                    </a:lnTo>
                    <a:lnTo>
                      <a:pt x="74" y="111"/>
                    </a:lnTo>
                    <a:lnTo>
                      <a:pt x="91" y="146"/>
                    </a:lnTo>
                    <a:lnTo>
                      <a:pt x="107" y="179"/>
                    </a:lnTo>
                    <a:lnTo>
                      <a:pt x="120" y="211"/>
                    </a:lnTo>
                    <a:lnTo>
                      <a:pt x="132" y="244"/>
                    </a:lnTo>
                    <a:lnTo>
                      <a:pt x="143" y="280"/>
                    </a:lnTo>
                    <a:lnTo>
                      <a:pt x="154" y="321"/>
                    </a:lnTo>
                    <a:lnTo>
                      <a:pt x="166" y="395"/>
                    </a:lnTo>
                    <a:lnTo>
                      <a:pt x="169" y="468"/>
                    </a:lnTo>
                    <a:lnTo>
                      <a:pt x="170" y="540"/>
                    </a:lnTo>
                    <a:lnTo>
                      <a:pt x="177" y="616"/>
                    </a:lnTo>
                    <a:lnTo>
                      <a:pt x="185" y="655"/>
                    </a:lnTo>
                    <a:lnTo>
                      <a:pt x="196" y="691"/>
                    </a:lnTo>
                    <a:lnTo>
                      <a:pt x="208" y="726"/>
                    </a:lnTo>
                    <a:lnTo>
                      <a:pt x="223" y="761"/>
                    </a:lnTo>
                    <a:lnTo>
                      <a:pt x="239" y="795"/>
                    </a:lnTo>
                    <a:lnTo>
                      <a:pt x="256" y="829"/>
                    </a:lnTo>
                    <a:lnTo>
                      <a:pt x="274" y="864"/>
                    </a:lnTo>
                    <a:lnTo>
                      <a:pt x="293" y="898"/>
                    </a:lnTo>
                    <a:lnTo>
                      <a:pt x="311" y="925"/>
                    </a:lnTo>
                    <a:lnTo>
                      <a:pt x="334" y="951"/>
                    </a:lnTo>
                    <a:lnTo>
                      <a:pt x="360" y="977"/>
                    </a:lnTo>
                    <a:lnTo>
                      <a:pt x="385" y="1002"/>
                    </a:lnTo>
                    <a:lnTo>
                      <a:pt x="408" y="1028"/>
                    </a:lnTo>
                    <a:lnTo>
                      <a:pt x="428" y="1056"/>
                    </a:lnTo>
                    <a:lnTo>
                      <a:pt x="440" y="1087"/>
                    </a:lnTo>
                    <a:lnTo>
                      <a:pt x="444" y="1121"/>
                    </a:lnTo>
                    <a:lnTo>
                      <a:pt x="445" y="1166"/>
                    </a:lnTo>
                    <a:lnTo>
                      <a:pt x="453" y="1210"/>
                    </a:lnTo>
                    <a:lnTo>
                      <a:pt x="465" y="1254"/>
                    </a:lnTo>
                    <a:lnTo>
                      <a:pt x="481" y="1298"/>
                    </a:lnTo>
                    <a:lnTo>
                      <a:pt x="497" y="1340"/>
                    </a:lnTo>
                    <a:lnTo>
                      <a:pt x="515" y="1384"/>
                    </a:lnTo>
                    <a:lnTo>
                      <a:pt x="532" y="1427"/>
                    </a:lnTo>
                    <a:lnTo>
                      <a:pt x="547" y="1471"/>
                    </a:lnTo>
                    <a:lnTo>
                      <a:pt x="520" y="1471"/>
                    </a:lnTo>
                    <a:lnTo>
                      <a:pt x="494" y="1470"/>
                    </a:lnTo>
                    <a:lnTo>
                      <a:pt x="467" y="1469"/>
                    </a:lnTo>
                    <a:lnTo>
                      <a:pt x="441" y="1467"/>
                    </a:lnTo>
                    <a:lnTo>
                      <a:pt x="415" y="1466"/>
                    </a:lnTo>
                    <a:lnTo>
                      <a:pt x="389" y="1464"/>
                    </a:lnTo>
                    <a:lnTo>
                      <a:pt x="363" y="1460"/>
                    </a:lnTo>
                    <a:lnTo>
                      <a:pt x="338" y="1458"/>
                    </a:lnTo>
                    <a:lnTo>
                      <a:pt x="312" y="1455"/>
                    </a:lnTo>
                    <a:lnTo>
                      <a:pt x="287" y="1453"/>
                    </a:lnTo>
                    <a:lnTo>
                      <a:pt x="261" y="1449"/>
                    </a:lnTo>
                    <a:lnTo>
                      <a:pt x="235" y="1446"/>
                    </a:lnTo>
                    <a:lnTo>
                      <a:pt x="210" y="1444"/>
                    </a:lnTo>
                    <a:lnTo>
                      <a:pt x="185" y="1440"/>
                    </a:lnTo>
                    <a:lnTo>
                      <a:pt x="158" y="1438"/>
                    </a:lnTo>
                    <a:lnTo>
                      <a:pt x="133" y="1436"/>
                    </a:lnTo>
                    <a:close/>
                  </a:path>
                </a:pathLst>
              </a:custGeom>
              <a:solidFill>
                <a:srgbClr val="001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507000" y="162540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914" h="689">
                    <a:moveTo>
                      <a:pt x="76" y="677"/>
                    </a:moveTo>
                    <a:lnTo>
                      <a:pt x="91" y="677"/>
                    </a:lnTo>
                    <a:lnTo>
                      <a:pt x="108" y="678"/>
                    </a:lnTo>
                    <a:lnTo>
                      <a:pt x="123" y="680"/>
                    </a:lnTo>
                    <a:lnTo>
                      <a:pt x="140" y="682"/>
                    </a:lnTo>
                    <a:lnTo>
                      <a:pt x="155" y="683"/>
                    </a:lnTo>
                    <a:lnTo>
                      <a:pt x="171" y="684"/>
                    </a:lnTo>
                    <a:lnTo>
                      <a:pt x="187" y="686"/>
                    </a:lnTo>
                    <a:lnTo>
                      <a:pt x="203" y="687"/>
                    </a:lnTo>
                    <a:lnTo>
                      <a:pt x="219" y="688"/>
                    </a:lnTo>
                    <a:lnTo>
                      <a:pt x="235" y="689"/>
                    </a:lnTo>
                    <a:lnTo>
                      <a:pt x="251" y="689"/>
                    </a:lnTo>
                    <a:lnTo>
                      <a:pt x="267" y="689"/>
                    </a:lnTo>
                    <a:lnTo>
                      <a:pt x="283" y="688"/>
                    </a:lnTo>
                    <a:lnTo>
                      <a:pt x="298" y="686"/>
                    </a:lnTo>
                    <a:lnTo>
                      <a:pt x="313" y="684"/>
                    </a:lnTo>
                    <a:lnTo>
                      <a:pt x="329" y="681"/>
                    </a:lnTo>
                    <a:lnTo>
                      <a:pt x="366" y="671"/>
                    </a:lnTo>
                    <a:lnTo>
                      <a:pt x="402" y="660"/>
                    </a:lnTo>
                    <a:lnTo>
                      <a:pt x="439" y="648"/>
                    </a:lnTo>
                    <a:lnTo>
                      <a:pt x="475" y="635"/>
                    </a:lnTo>
                    <a:lnTo>
                      <a:pt x="511" y="620"/>
                    </a:lnTo>
                    <a:lnTo>
                      <a:pt x="548" y="605"/>
                    </a:lnTo>
                    <a:lnTo>
                      <a:pt x="584" y="591"/>
                    </a:lnTo>
                    <a:lnTo>
                      <a:pt x="620" y="575"/>
                    </a:lnTo>
                    <a:lnTo>
                      <a:pt x="655" y="560"/>
                    </a:lnTo>
                    <a:lnTo>
                      <a:pt x="692" y="544"/>
                    </a:lnTo>
                    <a:lnTo>
                      <a:pt x="728" y="529"/>
                    </a:lnTo>
                    <a:lnTo>
                      <a:pt x="764" y="515"/>
                    </a:lnTo>
                    <a:lnTo>
                      <a:pt x="802" y="502"/>
                    </a:lnTo>
                    <a:lnTo>
                      <a:pt x="838" y="488"/>
                    </a:lnTo>
                    <a:lnTo>
                      <a:pt x="876" y="476"/>
                    </a:lnTo>
                    <a:lnTo>
                      <a:pt x="914" y="466"/>
                    </a:lnTo>
                    <a:lnTo>
                      <a:pt x="913" y="404"/>
                    </a:lnTo>
                    <a:lnTo>
                      <a:pt x="912" y="324"/>
                    </a:lnTo>
                    <a:lnTo>
                      <a:pt x="908" y="237"/>
                    </a:lnTo>
                    <a:lnTo>
                      <a:pt x="903" y="151"/>
                    </a:lnTo>
                    <a:lnTo>
                      <a:pt x="893" y="77"/>
                    </a:lnTo>
                    <a:lnTo>
                      <a:pt x="879" y="24"/>
                    </a:lnTo>
                    <a:lnTo>
                      <a:pt x="858" y="0"/>
                    </a:lnTo>
                    <a:lnTo>
                      <a:pt x="830" y="17"/>
                    </a:lnTo>
                    <a:lnTo>
                      <a:pt x="786" y="67"/>
                    </a:lnTo>
                    <a:lnTo>
                      <a:pt x="747" y="105"/>
                    </a:lnTo>
                    <a:lnTo>
                      <a:pt x="710" y="131"/>
                    </a:lnTo>
                    <a:lnTo>
                      <a:pt x="676" y="148"/>
                    </a:lnTo>
                    <a:lnTo>
                      <a:pt x="645" y="156"/>
                    </a:lnTo>
                    <a:lnTo>
                      <a:pt x="617" y="158"/>
                    </a:lnTo>
                    <a:lnTo>
                      <a:pt x="590" y="153"/>
                    </a:lnTo>
                    <a:lnTo>
                      <a:pt x="564" y="143"/>
                    </a:lnTo>
                    <a:lnTo>
                      <a:pt x="539" y="132"/>
                    </a:lnTo>
                    <a:lnTo>
                      <a:pt x="513" y="118"/>
                    </a:lnTo>
                    <a:lnTo>
                      <a:pt x="488" y="104"/>
                    </a:lnTo>
                    <a:lnTo>
                      <a:pt x="462" y="91"/>
                    </a:lnTo>
                    <a:lnTo>
                      <a:pt x="434" y="80"/>
                    </a:lnTo>
                    <a:lnTo>
                      <a:pt x="405" y="72"/>
                    </a:lnTo>
                    <a:lnTo>
                      <a:pt x="373" y="70"/>
                    </a:lnTo>
                    <a:lnTo>
                      <a:pt x="338" y="73"/>
                    </a:lnTo>
                    <a:lnTo>
                      <a:pt x="313" y="78"/>
                    </a:lnTo>
                    <a:lnTo>
                      <a:pt x="289" y="84"/>
                    </a:lnTo>
                    <a:lnTo>
                      <a:pt x="266" y="92"/>
                    </a:lnTo>
                    <a:lnTo>
                      <a:pt x="244" y="98"/>
                    </a:lnTo>
                    <a:lnTo>
                      <a:pt x="222" y="107"/>
                    </a:lnTo>
                    <a:lnTo>
                      <a:pt x="200" y="116"/>
                    </a:lnTo>
                    <a:lnTo>
                      <a:pt x="179" y="126"/>
                    </a:lnTo>
                    <a:lnTo>
                      <a:pt x="158" y="136"/>
                    </a:lnTo>
                    <a:lnTo>
                      <a:pt x="138" y="147"/>
                    </a:lnTo>
                    <a:lnTo>
                      <a:pt x="118" y="159"/>
                    </a:lnTo>
                    <a:lnTo>
                      <a:pt x="98" y="171"/>
                    </a:lnTo>
                    <a:lnTo>
                      <a:pt x="78" y="184"/>
                    </a:lnTo>
                    <a:lnTo>
                      <a:pt x="58" y="198"/>
                    </a:lnTo>
                    <a:lnTo>
                      <a:pt x="40" y="213"/>
                    </a:lnTo>
                    <a:lnTo>
                      <a:pt x="20" y="228"/>
                    </a:lnTo>
                    <a:lnTo>
                      <a:pt x="0" y="243"/>
                    </a:lnTo>
                    <a:lnTo>
                      <a:pt x="10" y="297"/>
                    </a:lnTo>
                    <a:lnTo>
                      <a:pt x="19" y="352"/>
                    </a:lnTo>
                    <a:lnTo>
                      <a:pt x="29" y="406"/>
                    </a:lnTo>
                    <a:lnTo>
                      <a:pt x="38" y="460"/>
                    </a:lnTo>
                    <a:lnTo>
                      <a:pt x="47" y="515"/>
                    </a:lnTo>
                    <a:lnTo>
                      <a:pt x="57" y="569"/>
                    </a:lnTo>
                    <a:lnTo>
                      <a:pt x="66" y="624"/>
                    </a:lnTo>
                    <a:lnTo>
                      <a:pt x="76" y="677"/>
                    </a:lnTo>
                    <a:close/>
                  </a:path>
                </a:pathLst>
              </a:custGeom>
              <a:solidFill>
                <a:srgbClr val="001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03840" y="1125360"/>
                <a:ext cx="289080" cy="595440"/>
              </a:xfrm>
              <a:custGeom>
                <a:avLst/>
                <a:gdLst/>
                <a:ahLst/>
                <a:rect l="l" t="t" r="r" b="b"/>
                <a:pathLst>
                  <a:path w="1462" h="2999">
                    <a:moveTo>
                      <a:pt x="0" y="0"/>
                    </a:moveTo>
                    <a:lnTo>
                      <a:pt x="22" y="43"/>
                    </a:lnTo>
                    <a:lnTo>
                      <a:pt x="43" y="84"/>
                    </a:lnTo>
                    <a:lnTo>
                      <a:pt x="63" y="127"/>
                    </a:lnTo>
                    <a:lnTo>
                      <a:pt x="83" y="170"/>
                    </a:lnTo>
                    <a:lnTo>
                      <a:pt x="103" y="214"/>
                    </a:lnTo>
                    <a:lnTo>
                      <a:pt x="123" y="257"/>
                    </a:lnTo>
                    <a:lnTo>
                      <a:pt x="143" y="300"/>
                    </a:lnTo>
                    <a:lnTo>
                      <a:pt x="163" y="342"/>
                    </a:lnTo>
                    <a:lnTo>
                      <a:pt x="184" y="384"/>
                    </a:lnTo>
                    <a:lnTo>
                      <a:pt x="205" y="426"/>
                    </a:lnTo>
                    <a:lnTo>
                      <a:pt x="227" y="468"/>
                    </a:lnTo>
                    <a:lnTo>
                      <a:pt x="250" y="510"/>
                    </a:lnTo>
                    <a:lnTo>
                      <a:pt x="273" y="550"/>
                    </a:lnTo>
                    <a:lnTo>
                      <a:pt x="298" y="590"/>
                    </a:lnTo>
                    <a:lnTo>
                      <a:pt x="325" y="630"/>
                    </a:lnTo>
                    <a:lnTo>
                      <a:pt x="352" y="668"/>
                    </a:lnTo>
                    <a:lnTo>
                      <a:pt x="362" y="672"/>
                    </a:lnTo>
                    <a:lnTo>
                      <a:pt x="374" y="665"/>
                    </a:lnTo>
                    <a:lnTo>
                      <a:pt x="388" y="648"/>
                    </a:lnTo>
                    <a:lnTo>
                      <a:pt x="402" y="627"/>
                    </a:lnTo>
                    <a:lnTo>
                      <a:pt x="415" y="608"/>
                    </a:lnTo>
                    <a:lnTo>
                      <a:pt x="428" y="592"/>
                    </a:lnTo>
                    <a:lnTo>
                      <a:pt x="438" y="584"/>
                    </a:lnTo>
                    <a:lnTo>
                      <a:pt x="446" y="591"/>
                    </a:lnTo>
                    <a:lnTo>
                      <a:pt x="468" y="657"/>
                    </a:lnTo>
                    <a:lnTo>
                      <a:pt x="482" y="725"/>
                    </a:lnTo>
                    <a:lnTo>
                      <a:pt x="491" y="794"/>
                    </a:lnTo>
                    <a:lnTo>
                      <a:pt x="498" y="865"/>
                    </a:lnTo>
                    <a:lnTo>
                      <a:pt x="504" y="935"/>
                    </a:lnTo>
                    <a:lnTo>
                      <a:pt x="513" y="1005"/>
                    </a:lnTo>
                    <a:lnTo>
                      <a:pt x="527" y="1073"/>
                    </a:lnTo>
                    <a:lnTo>
                      <a:pt x="548" y="1139"/>
                    </a:lnTo>
                    <a:lnTo>
                      <a:pt x="559" y="1166"/>
                    </a:lnTo>
                    <a:lnTo>
                      <a:pt x="572" y="1191"/>
                    </a:lnTo>
                    <a:lnTo>
                      <a:pt x="587" y="1215"/>
                    </a:lnTo>
                    <a:lnTo>
                      <a:pt x="602" y="1239"/>
                    </a:lnTo>
                    <a:lnTo>
                      <a:pt x="620" y="1263"/>
                    </a:lnTo>
                    <a:lnTo>
                      <a:pt x="637" y="1286"/>
                    </a:lnTo>
                    <a:lnTo>
                      <a:pt x="655" y="1308"/>
                    </a:lnTo>
                    <a:lnTo>
                      <a:pt x="675" y="1331"/>
                    </a:lnTo>
                    <a:lnTo>
                      <a:pt x="693" y="1353"/>
                    </a:lnTo>
                    <a:lnTo>
                      <a:pt x="712" y="1375"/>
                    </a:lnTo>
                    <a:lnTo>
                      <a:pt x="731" y="1398"/>
                    </a:lnTo>
                    <a:lnTo>
                      <a:pt x="749" y="1421"/>
                    </a:lnTo>
                    <a:lnTo>
                      <a:pt x="767" y="1444"/>
                    </a:lnTo>
                    <a:lnTo>
                      <a:pt x="783" y="1467"/>
                    </a:lnTo>
                    <a:lnTo>
                      <a:pt x="799" y="1491"/>
                    </a:lnTo>
                    <a:lnTo>
                      <a:pt x="813" y="1516"/>
                    </a:lnTo>
                    <a:lnTo>
                      <a:pt x="830" y="1549"/>
                    </a:lnTo>
                    <a:lnTo>
                      <a:pt x="846" y="1583"/>
                    </a:lnTo>
                    <a:lnTo>
                      <a:pt x="862" y="1616"/>
                    </a:lnTo>
                    <a:lnTo>
                      <a:pt x="876" y="1652"/>
                    </a:lnTo>
                    <a:lnTo>
                      <a:pt x="889" y="1686"/>
                    </a:lnTo>
                    <a:lnTo>
                      <a:pt x="903" y="1721"/>
                    </a:lnTo>
                    <a:lnTo>
                      <a:pt x="916" y="1755"/>
                    </a:lnTo>
                    <a:lnTo>
                      <a:pt x="929" y="1790"/>
                    </a:lnTo>
                    <a:lnTo>
                      <a:pt x="942" y="1825"/>
                    </a:lnTo>
                    <a:lnTo>
                      <a:pt x="955" y="1859"/>
                    </a:lnTo>
                    <a:lnTo>
                      <a:pt x="968" y="1894"/>
                    </a:lnTo>
                    <a:lnTo>
                      <a:pt x="982" y="1928"/>
                    </a:lnTo>
                    <a:lnTo>
                      <a:pt x="997" y="1964"/>
                    </a:lnTo>
                    <a:lnTo>
                      <a:pt x="1011" y="1997"/>
                    </a:lnTo>
                    <a:lnTo>
                      <a:pt x="1028" y="2031"/>
                    </a:lnTo>
                    <a:lnTo>
                      <a:pt x="1044" y="2064"/>
                    </a:lnTo>
                    <a:lnTo>
                      <a:pt x="1057" y="2088"/>
                    </a:lnTo>
                    <a:lnTo>
                      <a:pt x="1073" y="2110"/>
                    </a:lnTo>
                    <a:lnTo>
                      <a:pt x="1090" y="2132"/>
                    </a:lnTo>
                    <a:lnTo>
                      <a:pt x="1108" y="2154"/>
                    </a:lnTo>
                    <a:lnTo>
                      <a:pt x="1127" y="2176"/>
                    </a:lnTo>
                    <a:lnTo>
                      <a:pt x="1146" y="2197"/>
                    </a:lnTo>
                    <a:lnTo>
                      <a:pt x="1166" y="2218"/>
                    </a:lnTo>
                    <a:lnTo>
                      <a:pt x="1185" y="2238"/>
                    </a:lnTo>
                    <a:lnTo>
                      <a:pt x="1204" y="2259"/>
                    </a:lnTo>
                    <a:lnTo>
                      <a:pt x="1222" y="2281"/>
                    </a:lnTo>
                    <a:lnTo>
                      <a:pt x="1239" y="2303"/>
                    </a:lnTo>
                    <a:lnTo>
                      <a:pt x="1254" y="2325"/>
                    </a:lnTo>
                    <a:lnTo>
                      <a:pt x="1267" y="2349"/>
                    </a:lnTo>
                    <a:lnTo>
                      <a:pt x="1278" y="2374"/>
                    </a:lnTo>
                    <a:lnTo>
                      <a:pt x="1287" y="2399"/>
                    </a:lnTo>
                    <a:lnTo>
                      <a:pt x="1293" y="2425"/>
                    </a:lnTo>
                    <a:lnTo>
                      <a:pt x="1295" y="2477"/>
                    </a:lnTo>
                    <a:lnTo>
                      <a:pt x="1286" y="2527"/>
                    </a:lnTo>
                    <a:lnTo>
                      <a:pt x="1269" y="2577"/>
                    </a:lnTo>
                    <a:lnTo>
                      <a:pt x="1249" y="2627"/>
                    </a:lnTo>
                    <a:lnTo>
                      <a:pt x="1224" y="2677"/>
                    </a:lnTo>
                    <a:lnTo>
                      <a:pt x="1200" y="2726"/>
                    </a:lnTo>
                    <a:lnTo>
                      <a:pt x="1179" y="2777"/>
                    </a:lnTo>
                    <a:lnTo>
                      <a:pt x="1164" y="2827"/>
                    </a:lnTo>
                    <a:lnTo>
                      <a:pt x="1158" y="2868"/>
                    </a:lnTo>
                    <a:lnTo>
                      <a:pt x="1156" y="2912"/>
                    </a:lnTo>
                    <a:lnTo>
                      <a:pt x="1156" y="2956"/>
                    </a:lnTo>
                    <a:lnTo>
                      <a:pt x="1155" y="2999"/>
                    </a:lnTo>
                    <a:lnTo>
                      <a:pt x="1172" y="2998"/>
                    </a:lnTo>
                    <a:lnTo>
                      <a:pt x="1189" y="2997"/>
                    </a:lnTo>
                    <a:lnTo>
                      <a:pt x="1206" y="2996"/>
                    </a:lnTo>
                    <a:lnTo>
                      <a:pt x="1223" y="2994"/>
                    </a:lnTo>
                    <a:lnTo>
                      <a:pt x="1241" y="2993"/>
                    </a:lnTo>
                    <a:lnTo>
                      <a:pt x="1258" y="2992"/>
                    </a:lnTo>
                    <a:lnTo>
                      <a:pt x="1275" y="2991"/>
                    </a:lnTo>
                    <a:lnTo>
                      <a:pt x="1293" y="2990"/>
                    </a:lnTo>
                    <a:lnTo>
                      <a:pt x="1297" y="2960"/>
                    </a:lnTo>
                    <a:lnTo>
                      <a:pt x="1299" y="2930"/>
                    </a:lnTo>
                    <a:lnTo>
                      <a:pt x="1301" y="2898"/>
                    </a:lnTo>
                    <a:lnTo>
                      <a:pt x="1304" y="2866"/>
                    </a:lnTo>
                    <a:lnTo>
                      <a:pt x="1307" y="2834"/>
                    </a:lnTo>
                    <a:lnTo>
                      <a:pt x="1312" y="2804"/>
                    </a:lnTo>
                    <a:lnTo>
                      <a:pt x="1322" y="2776"/>
                    </a:lnTo>
                    <a:lnTo>
                      <a:pt x="1335" y="2751"/>
                    </a:lnTo>
                    <a:lnTo>
                      <a:pt x="1346" y="2742"/>
                    </a:lnTo>
                    <a:lnTo>
                      <a:pt x="1362" y="2740"/>
                    </a:lnTo>
                    <a:lnTo>
                      <a:pt x="1381" y="2741"/>
                    </a:lnTo>
                    <a:lnTo>
                      <a:pt x="1400" y="2744"/>
                    </a:lnTo>
                    <a:lnTo>
                      <a:pt x="1419" y="2747"/>
                    </a:lnTo>
                    <a:lnTo>
                      <a:pt x="1436" y="2747"/>
                    </a:lnTo>
                    <a:lnTo>
                      <a:pt x="1449" y="2744"/>
                    </a:lnTo>
                    <a:lnTo>
                      <a:pt x="1455" y="2733"/>
                    </a:lnTo>
                    <a:lnTo>
                      <a:pt x="1459" y="2699"/>
                    </a:lnTo>
                    <a:lnTo>
                      <a:pt x="1456" y="2665"/>
                    </a:lnTo>
                    <a:lnTo>
                      <a:pt x="1449" y="2631"/>
                    </a:lnTo>
                    <a:lnTo>
                      <a:pt x="1438" y="2597"/>
                    </a:lnTo>
                    <a:lnTo>
                      <a:pt x="1426" y="2563"/>
                    </a:lnTo>
                    <a:lnTo>
                      <a:pt x="1415" y="2529"/>
                    </a:lnTo>
                    <a:lnTo>
                      <a:pt x="1407" y="2493"/>
                    </a:lnTo>
                    <a:lnTo>
                      <a:pt x="1404" y="2459"/>
                    </a:lnTo>
                    <a:lnTo>
                      <a:pt x="1408" y="2419"/>
                    </a:lnTo>
                    <a:lnTo>
                      <a:pt x="1418" y="2378"/>
                    </a:lnTo>
                    <a:lnTo>
                      <a:pt x="1431" y="2336"/>
                    </a:lnTo>
                    <a:lnTo>
                      <a:pt x="1444" y="2296"/>
                    </a:lnTo>
                    <a:lnTo>
                      <a:pt x="1455" y="2255"/>
                    </a:lnTo>
                    <a:lnTo>
                      <a:pt x="1462" y="2215"/>
                    </a:lnTo>
                    <a:lnTo>
                      <a:pt x="1460" y="2178"/>
                    </a:lnTo>
                    <a:lnTo>
                      <a:pt x="1447" y="2142"/>
                    </a:lnTo>
                    <a:lnTo>
                      <a:pt x="1429" y="2115"/>
                    </a:lnTo>
                    <a:lnTo>
                      <a:pt x="1408" y="2091"/>
                    </a:lnTo>
                    <a:lnTo>
                      <a:pt x="1385" y="2070"/>
                    </a:lnTo>
                    <a:lnTo>
                      <a:pt x="1360" y="2050"/>
                    </a:lnTo>
                    <a:lnTo>
                      <a:pt x="1332" y="2033"/>
                    </a:lnTo>
                    <a:lnTo>
                      <a:pt x="1304" y="2015"/>
                    </a:lnTo>
                    <a:lnTo>
                      <a:pt x="1274" y="1999"/>
                    </a:lnTo>
                    <a:lnTo>
                      <a:pt x="1244" y="1983"/>
                    </a:lnTo>
                    <a:lnTo>
                      <a:pt x="1215" y="1967"/>
                    </a:lnTo>
                    <a:lnTo>
                      <a:pt x="1185" y="1952"/>
                    </a:lnTo>
                    <a:lnTo>
                      <a:pt x="1156" y="1934"/>
                    </a:lnTo>
                    <a:lnTo>
                      <a:pt x="1129" y="1916"/>
                    </a:lnTo>
                    <a:lnTo>
                      <a:pt x="1103" y="1897"/>
                    </a:lnTo>
                    <a:lnTo>
                      <a:pt x="1081" y="1875"/>
                    </a:lnTo>
                    <a:lnTo>
                      <a:pt x="1061" y="1850"/>
                    </a:lnTo>
                    <a:lnTo>
                      <a:pt x="1044" y="1824"/>
                    </a:lnTo>
                    <a:lnTo>
                      <a:pt x="1017" y="1768"/>
                    </a:lnTo>
                    <a:lnTo>
                      <a:pt x="991" y="1711"/>
                    </a:lnTo>
                    <a:lnTo>
                      <a:pt x="970" y="1653"/>
                    </a:lnTo>
                    <a:lnTo>
                      <a:pt x="952" y="1593"/>
                    </a:lnTo>
                    <a:lnTo>
                      <a:pt x="935" y="1533"/>
                    </a:lnTo>
                    <a:lnTo>
                      <a:pt x="920" y="1471"/>
                    </a:lnTo>
                    <a:lnTo>
                      <a:pt x="905" y="1410"/>
                    </a:lnTo>
                    <a:lnTo>
                      <a:pt x="892" y="1348"/>
                    </a:lnTo>
                    <a:lnTo>
                      <a:pt x="880" y="1287"/>
                    </a:lnTo>
                    <a:lnTo>
                      <a:pt x="866" y="1224"/>
                    </a:lnTo>
                    <a:lnTo>
                      <a:pt x="853" y="1163"/>
                    </a:lnTo>
                    <a:lnTo>
                      <a:pt x="837" y="1101"/>
                    </a:lnTo>
                    <a:lnTo>
                      <a:pt x="820" y="1041"/>
                    </a:lnTo>
                    <a:lnTo>
                      <a:pt x="801" y="981"/>
                    </a:lnTo>
                    <a:lnTo>
                      <a:pt x="779" y="923"/>
                    </a:lnTo>
                    <a:lnTo>
                      <a:pt x="754" y="866"/>
                    </a:lnTo>
                    <a:lnTo>
                      <a:pt x="742" y="858"/>
                    </a:lnTo>
                    <a:lnTo>
                      <a:pt x="724" y="864"/>
                    </a:lnTo>
                    <a:lnTo>
                      <a:pt x="703" y="878"/>
                    </a:lnTo>
                    <a:lnTo>
                      <a:pt x="680" y="897"/>
                    </a:lnTo>
                    <a:lnTo>
                      <a:pt x="658" y="915"/>
                    </a:lnTo>
                    <a:lnTo>
                      <a:pt x="638" y="930"/>
                    </a:lnTo>
                    <a:lnTo>
                      <a:pt x="624" y="934"/>
                    </a:lnTo>
                    <a:lnTo>
                      <a:pt x="617" y="925"/>
                    </a:lnTo>
                    <a:lnTo>
                      <a:pt x="615" y="871"/>
                    </a:lnTo>
                    <a:lnTo>
                      <a:pt x="624" y="817"/>
                    </a:lnTo>
                    <a:lnTo>
                      <a:pt x="638" y="764"/>
                    </a:lnTo>
                    <a:lnTo>
                      <a:pt x="657" y="710"/>
                    </a:lnTo>
                    <a:lnTo>
                      <a:pt x="676" y="657"/>
                    </a:lnTo>
                    <a:lnTo>
                      <a:pt x="692" y="603"/>
                    </a:lnTo>
                    <a:lnTo>
                      <a:pt x="702" y="549"/>
                    </a:lnTo>
                    <a:lnTo>
                      <a:pt x="702" y="495"/>
                    </a:lnTo>
                    <a:lnTo>
                      <a:pt x="692" y="438"/>
                    </a:lnTo>
                    <a:lnTo>
                      <a:pt x="677" y="383"/>
                    </a:lnTo>
                    <a:lnTo>
                      <a:pt x="656" y="331"/>
                    </a:lnTo>
                    <a:lnTo>
                      <a:pt x="632" y="278"/>
                    </a:lnTo>
                    <a:lnTo>
                      <a:pt x="606" y="226"/>
                    </a:lnTo>
                    <a:lnTo>
                      <a:pt x="579" y="173"/>
                    </a:lnTo>
                    <a:lnTo>
                      <a:pt x="554" y="121"/>
                    </a:lnTo>
                    <a:lnTo>
                      <a:pt x="531" y="67"/>
                    </a:lnTo>
                    <a:lnTo>
                      <a:pt x="495" y="71"/>
                    </a:lnTo>
                    <a:lnTo>
                      <a:pt x="460" y="75"/>
                    </a:lnTo>
                    <a:lnTo>
                      <a:pt x="425" y="77"/>
                    </a:lnTo>
                    <a:lnTo>
                      <a:pt x="391" y="78"/>
                    </a:lnTo>
                    <a:lnTo>
                      <a:pt x="356" y="78"/>
                    </a:lnTo>
                    <a:lnTo>
                      <a:pt x="322" y="77"/>
                    </a:lnTo>
                    <a:lnTo>
                      <a:pt x="287" y="75"/>
                    </a:lnTo>
                    <a:lnTo>
                      <a:pt x="253" y="71"/>
                    </a:lnTo>
                    <a:lnTo>
                      <a:pt x="219" y="67"/>
                    </a:lnTo>
                    <a:lnTo>
                      <a:pt x="186" y="61"/>
                    </a:lnTo>
                    <a:lnTo>
                      <a:pt x="154" y="55"/>
                    </a:lnTo>
                    <a:lnTo>
                      <a:pt x="121" y="46"/>
                    </a:lnTo>
                    <a:lnTo>
                      <a:pt x="91" y="36"/>
                    </a:lnTo>
                    <a:lnTo>
                      <a:pt x="60" y="25"/>
                    </a:lnTo>
                    <a:lnTo>
                      <a:pt x="3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14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15160" y="1149120"/>
                <a:ext cx="338040" cy="571680"/>
              </a:xfrm>
              <a:custGeom>
                <a:avLst/>
                <a:gdLst/>
                <a:ahLst/>
                <a:rect l="l" t="t" r="r" b="b"/>
                <a:pathLst>
                  <a:path w="1703" h="2880">
                    <a:moveTo>
                      <a:pt x="44" y="8"/>
                    </a:moveTo>
                    <a:lnTo>
                      <a:pt x="39" y="0"/>
                    </a:lnTo>
                    <a:lnTo>
                      <a:pt x="31" y="9"/>
                    </a:lnTo>
                    <a:lnTo>
                      <a:pt x="23" y="35"/>
                    </a:lnTo>
                    <a:lnTo>
                      <a:pt x="16" y="70"/>
                    </a:lnTo>
                    <a:lnTo>
                      <a:pt x="9" y="109"/>
                    </a:lnTo>
                    <a:lnTo>
                      <a:pt x="4" y="150"/>
                    </a:lnTo>
                    <a:lnTo>
                      <a:pt x="0" y="186"/>
                    </a:lnTo>
                    <a:lnTo>
                      <a:pt x="1" y="214"/>
                    </a:lnTo>
                    <a:lnTo>
                      <a:pt x="6" y="235"/>
                    </a:lnTo>
                    <a:lnTo>
                      <a:pt x="12" y="254"/>
                    </a:lnTo>
                    <a:lnTo>
                      <a:pt x="21" y="273"/>
                    </a:lnTo>
                    <a:lnTo>
                      <a:pt x="32" y="293"/>
                    </a:lnTo>
                    <a:lnTo>
                      <a:pt x="43" y="312"/>
                    </a:lnTo>
                    <a:lnTo>
                      <a:pt x="54" y="330"/>
                    </a:lnTo>
                    <a:lnTo>
                      <a:pt x="63" y="349"/>
                    </a:lnTo>
                    <a:lnTo>
                      <a:pt x="70" y="369"/>
                    </a:lnTo>
                    <a:lnTo>
                      <a:pt x="77" y="401"/>
                    </a:lnTo>
                    <a:lnTo>
                      <a:pt x="81" y="430"/>
                    </a:lnTo>
                    <a:lnTo>
                      <a:pt x="84" y="458"/>
                    </a:lnTo>
                    <a:lnTo>
                      <a:pt x="86" y="483"/>
                    </a:lnTo>
                    <a:lnTo>
                      <a:pt x="89" y="509"/>
                    </a:lnTo>
                    <a:lnTo>
                      <a:pt x="96" y="536"/>
                    </a:lnTo>
                    <a:lnTo>
                      <a:pt x="106" y="563"/>
                    </a:lnTo>
                    <a:lnTo>
                      <a:pt x="120" y="592"/>
                    </a:lnTo>
                    <a:lnTo>
                      <a:pt x="131" y="608"/>
                    </a:lnTo>
                    <a:lnTo>
                      <a:pt x="143" y="625"/>
                    </a:lnTo>
                    <a:lnTo>
                      <a:pt x="156" y="641"/>
                    </a:lnTo>
                    <a:lnTo>
                      <a:pt x="171" y="658"/>
                    </a:lnTo>
                    <a:lnTo>
                      <a:pt x="185" y="674"/>
                    </a:lnTo>
                    <a:lnTo>
                      <a:pt x="202" y="691"/>
                    </a:lnTo>
                    <a:lnTo>
                      <a:pt x="217" y="707"/>
                    </a:lnTo>
                    <a:lnTo>
                      <a:pt x="233" y="724"/>
                    </a:lnTo>
                    <a:lnTo>
                      <a:pt x="251" y="740"/>
                    </a:lnTo>
                    <a:lnTo>
                      <a:pt x="268" y="756"/>
                    </a:lnTo>
                    <a:lnTo>
                      <a:pt x="284" y="772"/>
                    </a:lnTo>
                    <a:lnTo>
                      <a:pt x="301" y="787"/>
                    </a:lnTo>
                    <a:lnTo>
                      <a:pt x="316" y="804"/>
                    </a:lnTo>
                    <a:lnTo>
                      <a:pt x="331" y="819"/>
                    </a:lnTo>
                    <a:lnTo>
                      <a:pt x="347" y="834"/>
                    </a:lnTo>
                    <a:lnTo>
                      <a:pt x="360" y="849"/>
                    </a:lnTo>
                    <a:lnTo>
                      <a:pt x="380" y="873"/>
                    </a:lnTo>
                    <a:lnTo>
                      <a:pt x="398" y="898"/>
                    </a:lnTo>
                    <a:lnTo>
                      <a:pt x="416" y="925"/>
                    </a:lnTo>
                    <a:lnTo>
                      <a:pt x="433" y="952"/>
                    </a:lnTo>
                    <a:lnTo>
                      <a:pt x="449" y="980"/>
                    </a:lnTo>
                    <a:lnTo>
                      <a:pt x="464" y="1008"/>
                    </a:lnTo>
                    <a:lnTo>
                      <a:pt x="481" y="1036"/>
                    </a:lnTo>
                    <a:lnTo>
                      <a:pt x="497" y="1063"/>
                    </a:lnTo>
                    <a:lnTo>
                      <a:pt x="508" y="1081"/>
                    </a:lnTo>
                    <a:lnTo>
                      <a:pt x="519" y="1098"/>
                    </a:lnTo>
                    <a:lnTo>
                      <a:pt x="530" y="1116"/>
                    </a:lnTo>
                    <a:lnTo>
                      <a:pt x="541" y="1134"/>
                    </a:lnTo>
                    <a:lnTo>
                      <a:pt x="552" y="1151"/>
                    </a:lnTo>
                    <a:lnTo>
                      <a:pt x="563" y="1170"/>
                    </a:lnTo>
                    <a:lnTo>
                      <a:pt x="574" y="1187"/>
                    </a:lnTo>
                    <a:lnTo>
                      <a:pt x="585" y="1205"/>
                    </a:lnTo>
                    <a:lnTo>
                      <a:pt x="596" y="1224"/>
                    </a:lnTo>
                    <a:lnTo>
                      <a:pt x="607" y="1241"/>
                    </a:lnTo>
                    <a:lnTo>
                      <a:pt x="618" y="1259"/>
                    </a:lnTo>
                    <a:lnTo>
                      <a:pt x="629" y="1276"/>
                    </a:lnTo>
                    <a:lnTo>
                      <a:pt x="641" y="1294"/>
                    </a:lnTo>
                    <a:lnTo>
                      <a:pt x="652" y="1312"/>
                    </a:lnTo>
                    <a:lnTo>
                      <a:pt x="665" y="1329"/>
                    </a:lnTo>
                    <a:lnTo>
                      <a:pt x="677" y="1346"/>
                    </a:lnTo>
                    <a:lnTo>
                      <a:pt x="691" y="1362"/>
                    </a:lnTo>
                    <a:lnTo>
                      <a:pt x="709" y="1378"/>
                    </a:lnTo>
                    <a:lnTo>
                      <a:pt x="726" y="1393"/>
                    </a:lnTo>
                    <a:lnTo>
                      <a:pt x="745" y="1407"/>
                    </a:lnTo>
                    <a:lnTo>
                      <a:pt x="762" y="1422"/>
                    </a:lnTo>
                    <a:lnTo>
                      <a:pt x="778" y="1438"/>
                    </a:lnTo>
                    <a:lnTo>
                      <a:pt x="789" y="1456"/>
                    </a:lnTo>
                    <a:lnTo>
                      <a:pt x="795" y="1475"/>
                    </a:lnTo>
                    <a:lnTo>
                      <a:pt x="803" y="1533"/>
                    </a:lnTo>
                    <a:lnTo>
                      <a:pt x="803" y="1590"/>
                    </a:lnTo>
                    <a:lnTo>
                      <a:pt x="800" y="1647"/>
                    </a:lnTo>
                    <a:lnTo>
                      <a:pt x="794" y="1704"/>
                    </a:lnTo>
                    <a:lnTo>
                      <a:pt x="791" y="1761"/>
                    </a:lnTo>
                    <a:lnTo>
                      <a:pt x="791" y="1817"/>
                    </a:lnTo>
                    <a:lnTo>
                      <a:pt x="798" y="1873"/>
                    </a:lnTo>
                    <a:lnTo>
                      <a:pt x="813" y="1929"/>
                    </a:lnTo>
                    <a:lnTo>
                      <a:pt x="826" y="1959"/>
                    </a:lnTo>
                    <a:lnTo>
                      <a:pt x="842" y="1989"/>
                    </a:lnTo>
                    <a:lnTo>
                      <a:pt x="860" y="2016"/>
                    </a:lnTo>
                    <a:lnTo>
                      <a:pt x="880" y="2044"/>
                    </a:lnTo>
                    <a:lnTo>
                      <a:pt x="901" y="2069"/>
                    </a:lnTo>
                    <a:lnTo>
                      <a:pt x="923" y="2095"/>
                    </a:lnTo>
                    <a:lnTo>
                      <a:pt x="946" y="2119"/>
                    </a:lnTo>
                    <a:lnTo>
                      <a:pt x="970" y="2145"/>
                    </a:lnTo>
                    <a:lnTo>
                      <a:pt x="994" y="2170"/>
                    </a:lnTo>
                    <a:lnTo>
                      <a:pt x="1018" y="2195"/>
                    </a:lnTo>
                    <a:lnTo>
                      <a:pt x="1041" y="2220"/>
                    </a:lnTo>
                    <a:lnTo>
                      <a:pt x="1064" y="2246"/>
                    </a:lnTo>
                    <a:lnTo>
                      <a:pt x="1085" y="2272"/>
                    </a:lnTo>
                    <a:lnTo>
                      <a:pt x="1104" y="2300"/>
                    </a:lnTo>
                    <a:lnTo>
                      <a:pt x="1122" y="2328"/>
                    </a:lnTo>
                    <a:lnTo>
                      <a:pt x="1137" y="2358"/>
                    </a:lnTo>
                    <a:lnTo>
                      <a:pt x="1164" y="2422"/>
                    </a:lnTo>
                    <a:lnTo>
                      <a:pt x="1185" y="2484"/>
                    </a:lnTo>
                    <a:lnTo>
                      <a:pt x="1200" y="2549"/>
                    </a:lnTo>
                    <a:lnTo>
                      <a:pt x="1212" y="2614"/>
                    </a:lnTo>
                    <a:lnTo>
                      <a:pt x="1223" y="2679"/>
                    </a:lnTo>
                    <a:lnTo>
                      <a:pt x="1233" y="2745"/>
                    </a:lnTo>
                    <a:lnTo>
                      <a:pt x="1244" y="2812"/>
                    </a:lnTo>
                    <a:lnTo>
                      <a:pt x="1257" y="2880"/>
                    </a:lnTo>
                    <a:lnTo>
                      <a:pt x="1283" y="2867"/>
                    </a:lnTo>
                    <a:lnTo>
                      <a:pt x="1309" y="2855"/>
                    </a:lnTo>
                    <a:lnTo>
                      <a:pt x="1334" y="2841"/>
                    </a:lnTo>
                    <a:lnTo>
                      <a:pt x="1361" y="2830"/>
                    </a:lnTo>
                    <a:lnTo>
                      <a:pt x="1386" y="2819"/>
                    </a:lnTo>
                    <a:lnTo>
                      <a:pt x="1413" y="2810"/>
                    </a:lnTo>
                    <a:lnTo>
                      <a:pt x="1440" y="2801"/>
                    </a:lnTo>
                    <a:lnTo>
                      <a:pt x="1467" y="2794"/>
                    </a:lnTo>
                    <a:lnTo>
                      <a:pt x="1495" y="2790"/>
                    </a:lnTo>
                    <a:lnTo>
                      <a:pt x="1522" y="2788"/>
                    </a:lnTo>
                    <a:lnTo>
                      <a:pt x="1551" y="2789"/>
                    </a:lnTo>
                    <a:lnTo>
                      <a:pt x="1579" y="2792"/>
                    </a:lnTo>
                    <a:lnTo>
                      <a:pt x="1609" y="2797"/>
                    </a:lnTo>
                    <a:lnTo>
                      <a:pt x="1640" y="2807"/>
                    </a:lnTo>
                    <a:lnTo>
                      <a:pt x="1671" y="2821"/>
                    </a:lnTo>
                    <a:lnTo>
                      <a:pt x="1703" y="2838"/>
                    </a:lnTo>
                    <a:lnTo>
                      <a:pt x="1684" y="2811"/>
                    </a:lnTo>
                    <a:lnTo>
                      <a:pt x="1664" y="2783"/>
                    </a:lnTo>
                    <a:lnTo>
                      <a:pt x="1644" y="2757"/>
                    </a:lnTo>
                    <a:lnTo>
                      <a:pt x="1626" y="2732"/>
                    </a:lnTo>
                    <a:lnTo>
                      <a:pt x="1606" y="2705"/>
                    </a:lnTo>
                    <a:lnTo>
                      <a:pt x="1586" y="2680"/>
                    </a:lnTo>
                    <a:lnTo>
                      <a:pt x="1567" y="2655"/>
                    </a:lnTo>
                    <a:lnTo>
                      <a:pt x="1548" y="2629"/>
                    </a:lnTo>
                    <a:lnTo>
                      <a:pt x="1529" y="2605"/>
                    </a:lnTo>
                    <a:lnTo>
                      <a:pt x="1509" y="2580"/>
                    </a:lnTo>
                    <a:lnTo>
                      <a:pt x="1490" y="2553"/>
                    </a:lnTo>
                    <a:lnTo>
                      <a:pt x="1472" y="2528"/>
                    </a:lnTo>
                    <a:lnTo>
                      <a:pt x="1454" y="2502"/>
                    </a:lnTo>
                    <a:lnTo>
                      <a:pt x="1436" y="2474"/>
                    </a:lnTo>
                    <a:lnTo>
                      <a:pt x="1419" y="2447"/>
                    </a:lnTo>
                    <a:lnTo>
                      <a:pt x="1402" y="2418"/>
                    </a:lnTo>
                    <a:lnTo>
                      <a:pt x="1389" y="2394"/>
                    </a:lnTo>
                    <a:lnTo>
                      <a:pt x="1376" y="2369"/>
                    </a:lnTo>
                    <a:lnTo>
                      <a:pt x="1363" y="2345"/>
                    </a:lnTo>
                    <a:lnTo>
                      <a:pt x="1350" y="2319"/>
                    </a:lnTo>
                    <a:lnTo>
                      <a:pt x="1338" y="2294"/>
                    </a:lnTo>
                    <a:lnTo>
                      <a:pt x="1325" y="2269"/>
                    </a:lnTo>
                    <a:lnTo>
                      <a:pt x="1313" y="2244"/>
                    </a:lnTo>
                    <a:lnTo>
                      <a:pt x="1302" y="2218"/>
                    </a:lnTo>
                    <a:lnTo>
                      <a:pt x="1291" y="2193"/>
                    </a:lnTo>
                    <a:lnTo>
                      <a:pt x="1279" y="2168"/>
                    </a:lnTo>
                    <a:lnTo>
                      <a:pt x="1268" y="2142"/>
                    </a:lnTo>
                    <a:lnTo>
                      <a:pt x="1257" y="2116"/>
                    </a:lnTo>
                    <a:lnTo>
                      <a:pt x="1246" y="2091"/>
                    </a:lnTo>
                    <a:lnTo>
                      <a:pt x="1236" y="2066"/>
                    </a:lnTo>
                    <a:lnTo>
                      <a:pt x="1225" y="2039"/>
                    </a:lnTo>
                    <a:lnTo>
                      <a:pt x="1214" y="2014"/>
                    </a:lnTo>
                    <a:lnTo>
                      <a:pt x="1198" y="1977"/>
                    </a:lnTo>
                    <a:lnTo>
                      <a:pt x="1180" y="1941"/>
                    </a:lnTo>
                    <a:lnTo>
                      <a:pt x="1160" y="1908"/>
                    </a:lnTo>
                    <a:lnTo>
                      <a:pt x="1142" y="1875"/>
                    </a:lnTo>
                    <a:lnTo>
                      <a:pt x="1122" y="1844"/>
                    </a:lnTo>
                    <a:lnTo>
                      <a:pt x="1102" y="1813"/>
                    </a:lnTo>
                    <a:lnTo>
                      <a:pt x="1082" y="1782"/>
                    </a:lnTo>
                    <a:lnTo>
                      <a:pt x="1065" y="1751"/>
                    </a:lnTo>
                    <a:lnTo>
                      <a:pt x="1047" y="1719"/>
                    </a:lnTo>
                    <a:lnTo>
                      <a:pt x="1031" y="1687"/>
                    </a:lnTo>
                    <a:lnTo>
                      <a:pt x="1016" y="1655"/>
                    </a:lnTo>
                    <a:lnTo>
                      <a:pt x="1004" y="1622"/>
                    </a:lnTo>
                    <a:lnTo>
                      <a:pt x="996" y="1585"/>
                    </a:lnTo>
                    <a:lnTo>
                      <a:pt x="989" y="1548"/>
                    </a:lnTo>
                    <a:lnTo>
                      <a:pt x="985" y="1508"/>
                    </a:lnTo>
                    <a:lnTo>
                      <a:pt x="985" y="1467"/>
                    </a:lnTo>
                    <a:lnTo>
                      <a:pt x="982" y="1427"/>
                    </a:lnTo>
                    <a:lnTo>
                      <a:pt x="972" y="1387"/>
                    </a:lnTo>
                    <a:lnTo>
                      <a:pt x="956" y="1348"/>
                    </a:lnTo>
                    <a:lnTo>
                      <a:pt x="934" y="1309"/>
                    </a:lnTo>
                    <a:lnTo>
                      <a:pt x="906" y="1272"/>
                    </a:lnTo>
                    <a:lnTo>
                      <a:pt x="877" y="1235"/>
                    </a:lnTo>
                    <a:lnTo>
                      <a:pt x="844" y="1198"/>
                    </a:lnTo>
                    <a:lnTo>
                      <a:pt x="809" y="1161"/>
                    </a:lnTo>
                    <a:lnTo>
                      <a:pt x="773" y="1126"/>
                    </a:lnTo>
                    <a:lnTo>
                      <a:pt x="738" y="1090"/>
                    </a:lnTo>
                    <a:lnTo>
                      <a:pt x="704" y="1055"/>
                    </a:lnTo>
                    <a:lnTo>
                      <a:pt x="672" y="1020"/>
                    </a:lnTo>
                    <a:lnTo>
                      <a:pt x="643" y="985"/>
                    </a:lnTo>
                    <a:lnTo>
                      <a:pt x="617" y="951"/>
                    </a:lnTo>
                    <a:lnTo>
                      <a:pt x="597" y="917"/>
                    </a:lnTo>
                    <a:lnTo>
                      <a:pt x="583" y="883"/>
                    </a:lnTo>
                    <a:lnTo>
                      <a:pt x="570" y="847"/>
                    </a:lnTo>
                    <a:lnTo>
                      <a:pt x="553" y="813"/>
                    </a:lnTo>
                    <a:lnTo>
                      <a:pt x="534" y="779"/>
                    </a:lnTo>
                    <a:lnTo>
                      <a:pt x="513" y="747"/>
                    </a:lnTo>
                    <a:lnTo>
                      <a:pt x="490" y="715"/>
                    </a:lnTo>
                    <a:lnTo>
                      <a:pt x="466" y="685"/>
                    </a:lnTo>
                    <a:lnTo>
                      <a:pt x="439" y="654"/>
                    </a:lnTo>
                    <a:lnTo>
                      <a:pt x="413" y="626"/>
                    </a:lnTo>
                    <a:lnTo>
                      <a:pt x="385" y="596"/>
                    </a:lnTo>
                    <a:lnTo>
                      <a:pt x="358" y="568"/>
                    </a:lnTo>
                    <a:lnTo>
                      <a:pt x="331" y="538"/>
                    </a:lnTo>
                    <a:lnTo>
                      <a:pt x="304" y="508"/>
                    </a:lnTo>
                    <a:lnTo>
                      <a:pt x="277" y="479"/>
                    </a:lnTo>
                    <a:lnTo>
                      <a:pt x="253" y="448"/>
                    </a:lnTo>
                    <a:lnTo>
                      <a:pt x="229" y="417"/>
                    </a:lnTo>
                    <a:lnTo>
                      <a:pt x="207" y="385"/>
                    </a:lnTo>
                    <a:lnTo>
                      <a:pt x="181" y="343"/>
                    </a:lnTo>
                    <a:lnTo>
                      <a:pt x="155" y="297"/>
                    </a:lnTo>
                    <a:lnTo>
                      <a:pt x="131" y="248"/>
                    </a:lnTo>
                    <a:lnTo>
                      <a:pt x="109" y="198"/>
                    </a:lnTo>
                    <a:lnTo>
                      <a:pt x="88" y="148"/>
                    </a:lnTo>
                    <a:lnTo>
                      <a:pt x="71" y="100"/>
                    </a:lnTo>
                    <a:lnTo>
                      <a:pt x="55" y="52"/>
                    </a:lnTo>
                    <a:lnTo>
                      <a:pt x="44" y="8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048440" y="1284120"/>
                <a:ext cx="73080" cy="133200"/>
              </a:xfrm>
              <a:custGeom>
                <a:avLst/>
                <a:gdLst/>
                <a:ahLst/>
                <a:rect l="l" t="t" r="r" b="b"/>
                <a:pathLst>
                  <a:path w="364" h="674">
                    <a:moveTo>
                      <a:pt x="0" y="0"/>
                    </a:moveTo>
                    <a:lnTo>
                      <a:pt x="12" y="9"/>
                    </a:lnTo>
                    <a:lnTo>
                      <a:pt x="25" y="16"/>
                    </a:lnTo>
                    <a:lnTo>
                      <a:pt x="37" y="25"/>
                    </a:lnTo>
                    <a:lnTo>
                      <a:pt x="49" y="34"/>
                    </a:lnTo>
                    <a:lnTo>
                      <a:pt x="62" y="43"/>
                    </a:lnTo>
                    <a:lnTo>
                      <a:pt x="74" y="52"/>
                    </a:lnTo>
                    <a:lnTo>
                      <a:pt x="86" y="60"/>
                    </a:lnTo>
                    <a:lnTo>
                      <a:pt x="98" y="70"/>
                    </a:lnTo>
                    <a:lnTo>
                      <a:pt x="109" y="79"/>
                    </a:lnTo>
                    <a:lnTo>
                      <a:pt x="121" y="89"/>
                    </a:lnTo>
                    <a:lnTo>
                      <a:pt x="132" y="99"/>
                    </a:lnTo>
                    <a:lnTo>
                      <a:pt x="143" y="109"/>
                    </a:lnTo>
                    <a:lnTo>
                      <a:pt x="153" y="119"/>
                    </a:lnTo>
                    <a:lnTo>
                      <a:pt x="164" y="130"/>
                    </a:lnTo>
                    <a:lnTo>
                      <a:pt x="174" y="139"/>
                    </a:lnTo>
                    <a:lnTo>
                      <a:pt x="184" y="150"/>
                    </a:lnTo>
                    <a:lnTo>
                      <a:pt x="202" y="172"/>
                    </a:lnTo>
                    <a:lnTo>
                      <a:pt x="219" y="195"/>
                    </a:lnTo>
                    <a:lnTo>
                      <a:pt x="235" y="220"/>
                    </a:lnTo>
                    <a:lnTo>
                      <a:pt x="250" y="245"/>
                    </a:lnTo>
                    <a:lnTo>
                      <a:pt x="264" y="270"/>
                    </a:lnTo>
                    <a:lnTo>
                      <a:pt x="276" y="297"/>
                    </a:lnTo>
                    <a:lnTo>
                      <a:pt x="288" y="324"/>
                    </a:lnTo>
                    <a:lnTo>
                      <a:pt x="299" y="352"/>
                    </a:lnTo>
                    <a:lnTo>
                      <a:pt x="309" y="379"/>
                    </a:lnTo>
                    <a:lnTo>
                      <a:pt x="318" y="408"/>
                    </a:lnTo>
                    <a:lnTo>
                      <a:pt x="327" y="436"/>
                    </a:lnTo>
                    <a:lnTo>
                      <a:pt x="335" y="465"/>
                    </a:lnTo>
                    <a:lnTo>
                      <a:pt x="342" y="493"/>
                    </a:lnTo>
                    <a:lnTo>
                      <a:pt x="350" y="522"/>
                    </a:lnTo>
                    <a:lnTo>
                      <a:pt x="356" y="550"/>
                    </a:lnTo>
                    <a:lnTo>
                      <a:pt x="363" y="579"/>
                    </a:lnTo>
                    <a:lnTo>
                      <a:pt x="364" y="602"/>
                    </a:lnTo>
                    <a:lnTo>
                      <a:pt x="360" y="626"/>
                    </a:lnTo>
                    <a:lnTo>
                      <a:pt x="352" y="650"/>
                    </a:lnTo>
                    <a:lnTo>
                      <a:pt x="342" y="674"/>
                    </a:lnTo>
                    <a:lnTo>
                      <a:pt x="321" y="625"/>
                    </a:lnTo>
                    <a:lnTo>
                      <a:pt x="301" y="579"/>
                    </a:lnTo>
                    <a:lnTo>
                      <a:pt x="284" y="534"/>
                    </a:lnTo>
                    <a:lnTo>
                      <a:pt x="266" y="489"/>
                    </a:lnTo>
                    <a:lnTo>
                      <a:pt x="250" y="445"/>
                    </a:lnTo>
                    <a:lnTo>
                      <a:pt x="234" y="402"/>
                    </a:lnTo>
                    <a:lnTo>
                      <a:pt x="218" y="360"/>
                    </a:lnTo>
                    <a:lnTo>
                      <a:pt x="201" y="319"/>
                    </a:lnTo>
                    <a:lnTo>
                      <a:pt x="183" y="278"/>
                    </a:lnTo>
                    <a:lnTo>
                      <a:pt x="164" y="237"/>
                    </a:lnTo>
                    <a:lnTo>
                      <a:pt x="143" y="197"/>
                    </a:lnTo>
                    <a:lnTo>
                      <a:pt x="120" y="157"/>
                    </a:lnTo>
                    <a:lnTo>
                      <a:pt x="95" y="117"/>
                    </a:lnTo>
                    <a:lnTo>
                      <a:pt x="67" y="79"/>
                    </a:lnTo>
                    <a:lnTo>
                      <a:pt x="3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0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38800" y="1392120"/>
                <a:ext cx="111240" cy="303120"/>
              </a:xfrm>
              <a:custGeom>
                <a:avLst/>
                <a:gdLst/>
                <a:ahLst/>
                <a:rect l="l" t="t" r="r" b="b"/>
                <a:pathLst>
                  <a:path w="560" h="1536">
                    <a:moveTo>
                      <a:pt x="0" y="468"/>
                    </a:moveTo>
                    <a:lnTo>
                      <a:pt x="30" y="474"/>
                    </a:lnTo>
                    <a:lnTo>
                      <a:pt x="52" y="474"/>
                    </a:lnTo>
                    <a:lnTo>
                      <a:pt x="67" y="466"/>
                    </a:lnTo>
                    <a:lnTo>
                      <a:pt x="77" y="454"/>
                    </a:lnTo>
                    <a:lnTo>
                      <a:pt x="82" y="438"/>
                    </a:lnTo>
                    <a:lnTo>
                      <a:pt x="82" y="417"/>
                    </a:lnTo>
                    <a:lnTo>
                      <a:pt x="77" y="393"/>
                    </a:lnTo>
                    <a:lnTo>
                      <a:pt x="71" y="366"/>
                    </a:lnTo>
                    <a:lnTo>
                      <a:pt x="62" y="338"/>
                    </a:lnTo>
                    <a:lnTo>
                      <a:pt x="51" y="308"/>
                    </a:lnTo>
                    <a:lnTo>
                      <a:pt x="40" y="278"/>
                    </a:lnTo>
                    <a:lnTo>
                      <a:pt x="29" y="249"/>
                    </a:lnTo>
                    <a:lnTo>
                      <a:pt x="20" y="219"/>
                    </a:lnTo>
                    <a:lnTo>
                      <a:pt x="11" y="192"/>
                    </a:lnTo>
                    <a:lnTo>
                      <a:pt x="6" y="166"/>
                    </a:lnTo>
                    <a:lnTo>
                      <a:pt x="3" y="144"/>
                    </a:lnTo>
                    <a:lnTo>
                      <a:pt x="5" y="123"/>
                    </a:lnTo>
                    <a:lnTo>
                      <a:pt x="7" y="97"/>
                    </a:lnTo>
                    <a:lnTo>
                      <a:pt x="12" y="70"/>
                    </a:lnTo>
                    <a:lnTo>
                      <a:pt x="19" y="43"/>
                    </a:lnTo>
                    <a:lnTo>
                      <a:pt x="27" y="21"/>
                    </a:lnTo>
                    <a:lnTo>
                      <a:pt x="35" y="6"/>
                    </a:lnTo>
                    <a:lnTo>
                      <a:pt x="44" y="0"/>
                    </a:lnTo>
                    <a:lnTo>
                      <a:pt x="54" y="8"/>
                    </a:lnTo>
                    <a:lnTo>
                      <a:pt x="76" y="47"/>
                    </a:lnTo>
                    <a:lnTo>
                      <a:pt x="91" y="87"/>
                    </a:lnTo>
                    <a:lnTo>
                      <a:pt x="101" y="130"/>
                    </a:lnTo>
                    <a:lnTo>
                      <a:pt x="110" y="174"/>
                    </a:lnTo>
                    <a:lnTo>
                      <a:pt x="117" y="219"/>
                    </a:lnTo>
                    <a:lnTo>
                      <a:pt x="124" y="264"/>
                    </a:lnTo>
                    <a:lnTo>
                      <a:pt x="134" y="308"/>
                    </a:lnTo>
                    <a:lnTo>
                      <a:pt x="147" y="350"/>
                    </a:lnTo>
                    <a:lnTo>
                      <a:pt x="161" y="377"/>
                    </a:lnTo>
                    <a:lnTo>
                      <a:pt x="176" y="405"/>
                    </a:lnTo>
                    <a:lnTo>
                      <a:pt x="193" y="431"/>
                    </a:lnTo>
                    <a:lnTo>
                      <a:pt x="211" y="456"/>
                    </a:lnTo>
                    <a:lnTo>
                      <a:pt x="229" y="482"/>
                    </a:lnTo>
                    <a:lnTo>
                      <a:pt x="246" y="508"/>
                    </a:lnTo>
                    <a:lnTo>
                      <a:pt x="263" y="536"/>
                    </a:lnTo>
                    <a:lnTo>
                      <a:pt x="276" y="563"/>
                    </a:lnTo>
                    <a:lnTo>
                      <a:pt x="286" y="589"/>
                    </a:lnTo>
                    <a:lnTo>
                      <a:pt x="293" y="618"/>
                    </a:lnTo>
                    <a:lnTo>
                      <a:pt x="298" y="645"/>
                    </a:lnTo>
                    <a:lnTo>
                      <a:pt x="304" y="674"/>
                    </a:lnTo>
                    <a:lnTo>
                      <a:pt x="308" y="703"/>
                    </a:lnTo>
                    <a:lnTo>
                      <a:pt x="314" y="731"/>
                    </a:lnTo>
                    <a:lnTo>
                      <a:pt x="319" y="759"/>
                    </a:lnTo>
                    <a:lnTo>
                      <a:pt x="328" y="786"/>
                    </a:lnTo>
                    <a:lnTo>
                      <a:pt x="338" y="814"/>
                    </a:lnTo>
                    <a:lnTo>
                      <a:pt x="348" y="841"/>
                    </a:lnTo>
                    <a:lnTo>
                      <a:pt x="359" y="867"/>
                    </a:lnTo>
                    <a:lnTo>
                      <a:pt x="370" y="894"/>
                    </a:lnTo>
                    <a:lnTo>
                      <a:pt x="382" y="921"/>
                    </a:lnTo>
                    <a:lnTo>
                      <a:pt x="393" y="948"/>
                    </a:lnTo>
                    <a:lnTo>
                      <a:pt x="405" y="974"/>
                    </a:lnTo>
                    <a:lnTo>
                      <a:pt x="417" y="1000"/>
                    </a:lnTo>
                    <a:lnTo>
                      <a:pt x="429" y="1028"/>
                    </a:lnTo>
                    <a:lnTo>
                      <a:pt x="441" y="1054"/>
                    </a:lnTo>
                    <a:lnTo>
                      <a:pt x="453" y="1081"/>
                    </a:lnTo>
                    <a:lnTo>
                      <a:pt x="465" y="1107"/>
                    </a:lnTo>
                    <a:lnTo>
                      <a:pt x="476" y="1133"/>
                    </a:lnTo>
                    <a:lnTo>
                      <a:pt x="487" y="1161"/>
                    </a:lnTo>
                    <a:lnTo>
                      <a:pt x="498" y="1187"/>
                    </a:lnTo>
                    <a:lnTo>
                      <a:pt x="508" y="1215"/>
                    </a:lnTo>
                    <a:lnTo>
                      <a:pt x="517" y="1240"/>
                    </a:lnTo>
                    <a:lnTo>
                      <a:pt x="527" y="1265"/>
                    </a:lnTo>
                    <a:lnTo>
                      <a:pt x="537" y="1291"/>
                    </a:lnTo>
                    <a:lnTo>
                      <a:pt x="546" y="1316"/>
                    </a:lnTo>
                    <a:lnTo>
                      <a:pt x="553" y="1342"/>
                    </a:lnTo>
                    <a:lnTo>
                      <a:pt x="559" y="1369"/>
                    </a:lnTo>
                    <a:lnTo>
                      <a:pt x="560" y="1395"/>
                    </a:lnTo>
                    <a:lnTo>
                      <a:pt x="559" y="1421"/>
                    </a:lnTo>
                    <a:lnTo>
                      <a:pt x="557" y="1436"/>
                    </a:lnTo>
                    <a:lnTo>
                      <a:pt x="552" y="1451"/>
                    </a:lnTo>
                    <a:lnTo>
                      <a:pt x="548" y="1465"/>
                    </a:lnTo>
                    <a:lnTo>
                      <a:pt x="543" y="1480"/>
                    </a:lnTo>
                    <a:lnTo>
                      <a:pt x="537" y="1494"/>
                    </a:lnTo>
                    <a:lnTo>
                      <a:pt x="530" y="1508"/>
                    </a:lnTo>
                    <a:lnTo>
                      <a:pt x="524" y="1522"/>
                    </a:lnTo>
                    <a:lnTo>
                      <a:pt x="517" y="1536"/>
                    </a:lnTo>
                    <a:lnTo>
                      <a:pt x="502" y="1481"/>
                    </a:lnTo>
                    <a:lnTo>
                      <a:pt x="505" y="1464"/>
                    </a:lnTo>
                    <a:lnTo>
                      <a:pt x="508" y="1449"/>
                    </a:lnTo>
                    <a:lnTo>
                      <a:pt x="508" y="1434"/>
                    </a:lnTo>
                    <a:lnTo>
                      <a:pt x="506" y="1421"/>
                    </a:lnTo>
                    <a:lnTo>
                      <a:pt x="503" y="1410"/>
                    </a:lnTo>
                    <a:lnTo>
                      <a:pt x="495" y="1400"/>
                    </a:lnTo>
                    <a:lnTo>
                      <a:pt x="486" y="1393"/>
                    </a:lnTo>
                    <a:lnTo>
                      <a:pt x="473" y="1387"/>
                    </a:lnTo>
                    <a:lnTo>
                      <a:pt x="377" y="1214"/>
                    </a:lnTo>
                    <a:lnTo>
                      <a:pt x="380" y="1176"/>
                    </a:lnTo>
                    <a:lnTo>
                      <a:pt x="380" y="1141"/>
                    </a:lnTo>
                    <a:lnTo>
                      <a:pt x="375" y="1106"/>
                    </a:lnTo>
                    <a:lnTo>
                      <a:pt x="371" y="1070"/>
                    </a:lnTo>
                    <a:lnTo>
                      <a:pt x="364" y="1040"/>
                    </a:lnTo>
                    <a:lnTo>
                      <a:pt x="354" y="1005"/>
                    </a:lnTo>
                    <a:lnTo>
                      <a:pt x="341" y="967"/>
                    </a:lnTo>
                    <a:lnTo>
                      <a:pt x="326" y="932"/>
                    </a:lnTo>
                    <a:lnTo>
                      <a:pt x="309" y="904"/>
                    </a:lnTo>
                    <a:lnTo>
                      <a:pt x="292" y="884"/>
                    </a:lnTo>
                    <a:lnTo>
                      <a:pt x="275" y="878"/>
                    </a:lnTo>
                    <a:lnTo>
                      <a:pt x="260" y="889"/>
                    </a:lnTo>
                    <a:lnTo>
                      <a:pt x="254" y="898"/>
                    </a:lnTo>
                    <a:lnTo>
                      <a:pt x="249" y="908"/>
                    </a:lnTo>
                    <a:lnTo>
                      <a:pt x="243" y="918"/>
                    </a:lnTo>
                    <a:lnTo>
                      <a:pt x="239" y="929"/>
                    </a:lnTo>
                    <a:lnTo>
                      <a:pt x="234" y="939"/>
                    </a:lnTo>
                    <a:lnTo>
                      <a:pt x="230" y="950"/>
                    </a:lnTo>
                    <a:lnTo>
                      <a:pt x="227" y="962"/>
                    </a:lnTo>
                    <a:lnTo>
                      <a:pt x="224" y="973"/>
                    </a:lnTo>
                    <a:lnTo>
                      <a:pt x="207" y="943"/>
                    </a:lnTo>
                    <a:lnTo>
                      <a:pt x="190" y="912"/>
                    </a:lnTo>
                    <a:lnTo>
                      <a:pt x="174" y="883"/>
                    </a:lnTo>
                    <a:lnTo>
                      <a:pt x="158" y="852"/>
                    </a:lnTo>
                    <a:lnTo>
                      <a:pt x="143" y="822"/>
                    </a:lnTo>
                    <a:lnTo>
                      <a:pt x="128" y="793"/>
                    </a:lnTo>
                    <a:lnTo>
                      <a:pt x="113" y="762"/>
                    </a:lnTo>
                    <a:lnTo>
                      <a:pt x="99" y="731"/>
                    </a:lnTo>
                    <a:lnTo>
                      <a:pt x="86" y="700"/>
                    </a:lnTo>
                    <a:lnTo>
                      <a:pt x="73" y="669"/>
                    </a:lnTo>
                    <a:lnTo>
                      <a:pt x="60" y="637"/>
                    </a:lnTo>
                    <a:lnTo>
                      <a:pt x="47" y="605"/>
                    </a:lnTo>
                    <a:lnTo>
                      <a:pt x="35" y="572"/>
                    </a:lnTo>
                    <a:lnTo>
                      <a:pt x="23" y="538"/>
                    </a:lnTo>
                    <a:lnTo>
                      <a:pt x="11" y="504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d60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983280" y="1136520"/>
                <a:ext cx="343080" cy="606240"/>
              </a:xfrm>
              <a:custGeom>
                <a:avLst/>
                <a:gdLst/>
                <a:ahLst/>
                <a:rect l="l" t="t" r="r" b="b"/>
                <a:pathLst>
                  <a:path w="1731" h="3054">
                    <a:moveTo>
                      <a:pt x="0" y="104"/>
                    </a:moveTo>
                    <a:lnTo>
                      <a:pt x="34" y="104"/>
                    </a:lnTo>
                    <a:lnTo>
                      <a:pt x="67" y="101"/>
                    </a:lnTo>
                    <a:lnTo>
                      <a:pt x="101" y="97"/>
                    </a:lnTo>
                    <a:lnTo>
                      <a:pt x="135" y="89"/>
                    </a:lnTo>
                    <a:lnTo>
                      <a:pt x="170" y="80"/>
                    </a:lnTo>
                    <a:lnTo>
                      <a:pt x="204" y="70"/>
                    </a:lnTo>
                    <a:lnTo>
                      <a:pt x="240" y="60"/>
                    </a:lnTo>
                    <a:lnTo>
                      <a:pt x="275" y="49"/>
                    </a:lnTo>
                    <a:lnTo>
                      <a:pt x="310" y="38"/>
                    </a:lnTo>
                    <a:lnTo>
                      <a:pt x="345" y="29"/>
                    </a:lnTo>
                    <a:lnTo>
                      <a:pt x="380" y="19"/>
                    </a:lnTo>
                    <a:lnTo>
                      <a:pt x="416" y="11"/>
                    </a:lnTo>
                    <a:lnTo>
                      <a:pt x="451" y="5"/>
                    </a:lnTo>
                    <a:lnTo>
                      <a:pt x="486" y="1"/>
                    </a:lnTo>
                    <a:lnTo>
                      <a:pt x="522" y="0"/>
                    </a:lnTo>
                    <a:lnTo>
                      <a:pt x="557" y="2"/>
                    </a:lnTo>
                    <a:lnTo>
                      <a:pt x="571" y="26"/>
                    </a:lnTo>
                    <a:lnTo>
                      <a:pt x="584" y="49"/>
                    </a:lnTo>
                    <a:lnTo>
                      <a:pt x="598" y="74"/>
                    </a:lnTo>
                    <a:lnTo>
                      <a:pt x="612" y="97"/>
                    </a:lnTo>
                    <a:lnTo>
                      <a:pt x="627" y="120"/>
                    </a:lnTo>
                    <a:lnTo>
                      <a:pt x="641" y="144"/>
                    </a:lnTo>
                    <a:lnTo>
                      <a:pt x="655" y="167"/>
                    </a:lnTo>
                    <a:lnTo>
                      <a:pt x="670" y="190"/>
                    </a:lnTo>
                    <a:lnTo>
                      <a:pt x="684" y="214"/>
                    </a:lnTo>
                    <a:lnTo>
                      <a:pt x="697" y="238"/>
                    </a:lnTo>
                    <a:lnTo>
                      <a:pt x="710" y="263"/>
                    </a:lnTo>
                    <a:lnTo>
                      <a:pt x="722" y="287"/>
                    </a:lnTo>
                    <a:lnTo>
                      <a:pt x="734" y="311"/>
                    </a:lnTo>
                    <a:lnTo>
                      <a:pt x="744" y="336"/>
                    </a:lnTo>
                    <a:lnTo>
                      <a:pt x="754" y="362"/>
                    </a:lnTo>
                    <a:lnTo>
                      <a:pt x="763" y="388"/>
                    </a:lnTo>
                    <a:lnTo>
                      <a:pt x="771" y="429"/>
                    </a:lnTo>
                    <a:lnTo>
                      <a:pt x="771" y="471"/>
                    </a:lnTo>
                    <a:lnTo>
                      <a:pt x="767" y="515"/>
                    </a:lnTo>
                    <a:lnTo>
                      <a:pt x="762" y="559"/>
                    </a:lnTo>
                    <a:lnTo>
                      <a:pt x="758" y="603"/>
                    </a:lnTo>
                    <a:lnTo>
                      <a:pt x="758" y="645"/>
                    </a:lnTo>
                    <a:lnTo>
                      <a:pt x="764" y="685"/>
                    </a:lnTo>
                    <a:lnTo>
                      <a:pt x="781" y="722"/>
                    </a:lnTo>
                    <a:lnTo>
                      <a:pt x="788" y="730"/>
                    </a:lnTo>
                    <a:lnTo>
                      <a:pt x="798" y="734"/>
                    </a:lnTo>
                    <a:lnTo>
                      <a:pt x="809" y="734"/>
                    </a:lnTo>
                    <a:lnTo>
                      <a:pt x="822" y="733"/>
                    </a:lnTo>
                    <a:lnTo>
                      <a:pt x="837" y="729"/>
                    </a:lnTo>
                    <a:lnTo>
                      <a:pt x="851" y="723"/>
                    </a:lnTo>
                    <a:lnTo>
                      <a:pt x="866" y="716"/>
                    </a:lnTo>
                    <a:lnTo>
                      <a:pt x="883" y="710"/>
                    </a:lnTo>
                    <a:lnTo>
                      <a:pt x="898" y="703"/>
                    </a:lnTo>
                    <a:lnTo>
                      <a:pt x="913" y="698"/>
                    </a:lnTo>
                    <a:lnTo>
                      <a:pt x="927" y="692"/>
                    </a:lnTo>
                    <a:lnTo>
                      <a:pt x="939" y="689"/>
                    </a:lnTo>
                    <a:lnTo>
                      <a:pt x="950" y="689"/>
                    </a:lnTo>
                    <a:lnTo>
                      <a:pt x="959" y="690"/>
                    </a:lnTo>
                    <a:lnTo>
                      <a:pt x="965" y="696"/>
                    </a:lnTo>
                    <a:lnTo>
                      <a:pt x="969" y="705"/>
                    </a:lnTo>
                    <a:lnTo>
                      <a:pt x="974" y="768"/>
                    </a:lnTo>
                    <a:lnTo>
                      <a:pt x="971" y="822"/>
                    </a:lnTo>
                    <a:lnTo>
                      <a:pt x="963" y="871"/>
                    </a:lnTo>
                    <a:lnTo>
                      <a:pt x="958" y="919"/>
                    </a:lnTo>
                    <a:lnTo>
                      <a:pt x="958" y="965"/>
                    </a:lnTo>
                    <a:lnTo>
                      <a:pt x="971" y="1015"/>
                    </a:lnTo>
                    <a:lnTo>
                      <a:pt x="999" y="1070"/>
                    </a:lnTo>
                    <a:lnTo>
                      <a:pt x="1051" y="1133"/>
                    </a:lnTo>
                    <a:lnTo>
                      <a:pt x="1075" y="1162"/>
                    </a:lnTo>
                    <a:lnTo>
                      <a:pt x="1100" y="1193"/>
                    </a:lnTo>
                    <a:lnTo>
                      <a:pt x="1123" y="1229"/>
                    </a:lnTo>
                    <a:lnTo>
                      <a:pt x="1146" y="1266"/>
                    </a:lnTo>
                    <a:lnTo>
                      <a:pt x="1168" y="1307"/>
                    </a:lnTo>
                    <a:lnTo>
                      <a:pt x="1190" y="1348"/>
                    </a:lnTo>
                    <a:lnTo>
                      <a:pt x="1211" y="1392"/>
                    </a:lnTo>
                    <a:lnTo>
                      <a:pt x="1231" y="1436"/>
                    </a:lnTo>
                    <a:lnTo>
                      <a:pt x="1252" y="1480"/>
                    </a:lnTo>
                    <a:lnTo>
                      <a:pt x="1272" y="1525"/>
                    </a:lnTo>
                    <a:lnTo>
                      <a:pt x="1292" y="1568"/>
                    </a:lnTo>
                    <a:lnTo>
                      <a:pt x="1312" y="1611"/>
                    </a:lnTo>
                    <a:lnTo>
                      <a:pt x="1330" y="1652"/>
                    </a:lnTo>
                    <a:lnTo>
                      <a:pt x="1350" y="1690"/>
                    </a:lnTo>
                    <a:lnTo>
                      <a:pt x="1369" y="1726"/>
                    </a:lnTo>
                    <a:lnTo>
                      <a:pt x="1388" y="1759"/>
                    </a:lnTo>
                    <a:lnTo>
                      <a:pt x="1405" y="1788"/>
                    </a:lnTo>
                    <a:lnTo>
                      <a:pt x="1424" y="1818"/>
                    </a:lnTo>
                    <a:lnTo>
                      <a:pt x="1444" y="1846"/>
                    </a:lnTo>
                    <a:lnTo>
                      <a:pt x="1464" y="1875"/>
                    </a:lnTo>
                    <a:lnTo>
                      <a:pt x="1483" y="1903"/>
                    </a:lnTo>
                    <a:lnTo>
                      <a:pt x="1503" y="1931"/>
                    </a:lnTo>
                    <a:lnTo>
                      <a:pt x="1523" y="1959"/>
                    </a:lnTo>
                    <a:lnTo>
                      <a:pt x="1543" y="1988"/>
                    </a:lnTo>
                    <a:lnTo>
                      <a:pt x="1561" y="2018"/>
                    </a:lnTo>
                    <a:lnTo>
                      <a:pt x="1580" y="2046"/>
                    </a:lnTo>
                    <a:lnTo>
                      <a:pt x="1598" y="2076"/>
                    </a:lnTo>
                    <a:lnTo>
                      <a:pt x="1614" y="2106"/>
                    </a:lnTo>
                    <a:lnTo>
                      <a:pt x="1631" y="2135"/>
                    </a:lnTo>
                    <a:lnTo>
                      <a:pt x="1645" y="2166"/>
                    </a:lnTo>
                    <a:lnTo>
                      <a:pt x="1658" y="2198"/>
                    </a:lnTo>
                    <a:lnTo>
                      <a:pt x="1670" y="2230"/>
                    </a:lnTo>
                    <a:lnTo>
                      <a:pt x="1689" y="2291"/>
                    </a:lnTo>
                    <a:lnTo>
                      <a:pt x="1704" y="2355"/>
                    </a:lnTo>
                    <a:lnTo>
                      <a:pt x="1716" y="2419"/>
                    </a:lnTo>
                    <a:lnTo>
                      <a:pt x="1725" y="2484"/>
                    </a:lnTo>
                    <a:lnTo>
                      <a:pt x="1730" y="2550"/>
                    </a:lnTo>
                    <a:lnTo>
                      <a:pt x="1731" y="2615"/>
                    </a:lnTo>
                    <a:lnTo>
                      <a:pt x="1727" y="2680"/>
                    </a:lnTo>
                    <a:lnTo>
                      <a:pt x="1721" y="2745"/>
                    </a:lnTo>
                    <a:lnTo>
                      <a:pt x="1713" y="2784"/>
                    </a:lnTo>
                    <a:lnTo>
                      <a:pt x="1702" y="2820"/>
                    </a:lnTo>
                    <a:lnTo>
                      <a:pt x="1688" y="2854"/>
                    </a:lnTo>
                    <a:lnTo>
                      <a:pt x="1670" y="2887"/>
                    </a:lnTo>
                    <a:lnTo>
                      <a:pt x="1652" y="2919"/>
                    </a:lnTo>
                    <a:lnTo>
                      <a:pt x="1632" y="2951"/>
                    </a:lnTo>
                    <a:lnTo>
                      <a:pt x="1611" y="2985"/>
                    </a:lnTo>
                    <a:lnTo>
                      <a:pt x="1591" y="3019"/>
                    </a:lnTo>
                    <a:lnTo>
                      <a:pt x="1573" y="3022"/>
                    </a:lnTo>
                    <a:lnTo>
                      <a:pt x="1554" y="3026"/>
                    </a:lnTo>
                    <a:lnTo>
                      <a:pt x="1532" y="3032"/>
                    </a:lnTo>
                    <a:lnTo>
                      <a:pt x="1510" y="3036"/>
                    </a:lnTo>
                    <a:lnTo>
                      <a:pt x="1488" y="3041"/>
                    </a:lnTo>
                    <a:lnTo>
                      <a:pt x="1467" y="3046"/>
                    </a:lnTo>
                    <a:lnTo>
                      <a:pt x="1448" y="3051"/>
                    </a:lnTo>
                    <a:lnTo>
                      <a:pt x="1431" y="3054"/>
                    </a:lnTo>
                    <a:lnTo>
                      <a:pt x="1448" y="2991"/>
                    </a:lnTo>
                    <a:lnTo>
                      <a:pt x="1467" y="2932"/>
                    </a:lnTo>
                    <a:lnTo>
                      <a:pt x="1487" y="2875"/>
                    </a:lnTo>
                    <a:lnTo>
                      <a:pt x="1506" y="2819"/>
                    </a:lnTo>
                    <a:lnTo>
                      <a:pt x="1523" y="2764"/>
                    </a:lnTo>
                    <a:lnTo>
                      <a:pt x="1536" y="2707"/>
                    </a:lnTo>
                    <a:lnTo>
                      <a:pt x="1546" y="2646"/>
                    </a:lnTo>
                    <a:lnTo>
                      <a:pt x="1548" y="2581"/>
                    </a:lnTo>
                    <a:lnTo>
                      <a:pt x="1544" y="2548"/>
                    </a:lnTo>
                    <a:lnTo>
                      <a:pt x="1531" y="2517"/>
                    </a:lnTo>
                    <a:lnTo>
                      <a:pt x="1513" y="2487"/>
                    </a:lnTo>
                    <a:lnTo>
                      <a:pt x="1491" y="2458"/>
                    </a:lnTo>
                    <a:lnTo>
                      <a:pt x="1468" y="2430"/>
                    </a:lnTo>
                    <a:lnTo>
                      <a:pt x="1446" y="2401"/>
                    </a:lnTo>
                    <a:lnTo>
                      <a:pt x="1426" y="2372"/>
                    </a:lnTo>
                    <a:lnTo>
                      <a:pt x="1412" y="2341"/>
                    </a:lnTo>
                    <a:lnTo>
                      <a:pt x="1398" y="2291"/>
                    </a:lnTo>
                    <a:lnTo>
                      <a:pt x="1388" y="2236"/>
                    </a:lnTo>
                    <a:lnTo>
                      <a:pt x="1381" y="2179"/>
                    </a:lnTo>
                    <a:lnTo>
                      <a:pt x="1374" y="2120"/>
                    </a:lnTo>
                    <a:lnTo>
                      <a:pt x="1368" y="2061"/>
                    </a:lnTo>
                    <a:lnTo>
                      <a:pt x="1359" y="2004"/>
                    </a:lnTo>
                    <a:lnTo>
                      <a:pt x="1346" y="1952"/>
                    </a:lnTo>
                    <a:lnTo>
                      <a:pt x="1327" y="1904"/>
                    </a:lnTo>
                    <a:lnTo>
                      <a:pt x="1306" y="1866"/>
                    </a:lnTo>
                    <a:lnTo>
                      <a:pt x="1284" y="1828"/>
                    </a:lnTo>
                    <a:lnTo>
                      <a:pt x="1260" y="1790"/>
                    </a:lnTo>
                    <a:lnTo>
                      <a:pt x="1236" y="1754"/>
                    </a:lnTo>
                    <a:lnTo>
                      <a:pt x="1211" y="1718"/>
                    </a:lnTo>
                    <a:lnTo>
                      <a:pt x="1184" y="1681"/>
                    </a:lnTo>
                    <a:lnTo>
                      <a:pt x="1157" y="1646"/>
                    </a:lnTo>
                    <a:lnTo>
                      <a:pt x="1130" y="1611"/>
                    </a:lnTo>
                    <a:lnTo>
                      <a:pt x="1103" y="1576"/>
                    </a:lnTo>
                    <a:lnTo>
                      <a:pt x="1075" y="1541"/>
                    </a:lnTo>
                    <a:lnTo>
                      <a:pt x="1049" y="1506"/>
                    </a:lnTo>
                    <a:lnTo>
                      <a:pt x="1023" y="1469"/>
                    </a:lnTo>
                    <a:lnTo>
                      <a:pt x="996" y="1434"/>
                    </a:lnTo>
                    <a:lnTo>
                      <a:pt x="972" y="1397"/>
                    </a:lnTo>
                    <a:lnTo>
                      <a:pt x="948" y="1360"/>
                    </a:lnTo>
                    <a:lnTo>
                      <a:pt x="926" y="1322"/>
                    </a:lnTo>
                    <a:lnTo>
                      <a:pt x="913" y="1297"/>
                    </a:lnTo>
                    <a:lnTo>
                      <a:pt x="903" y="1270"/>
                    </a:lnTo>
                    <a:lnTo>
                      <a:pt x="893" y="1244"/>
                    </a:lnTo>
                    <a:lnTo>
                      <a:pt x="884" y="1217"/>
                    </a:lnTo>
                    <a:lnTo>
                      <a:pt x="874" y="1190"/>
                    </a:lnTo>
                    <a:lnTo>
                      <a:pt x="864" y="1165"/>
                    </a:lnTo>
                    <a:lnTo>
                      <a:pt x="852" y="1140"/>
                    </a:lnTo>
                    <a:lnTo>
                      <a:pt x="838" y="1115"/>
                    </a:lnTo>
                    <a:lnTo>
                      <a:pt x="820" y="1093"/>
                    </a:lnTo>
                    <a:lnTo>
                      <a:pt x="800" y="1075"/>
                    </a:lnTo>
                    <a:lnTo>
                      <a:pt x="780" y="1058"/>
                    </a:lnTo>
                    <a:lnTo>
                      <a:pt x="759" y="1042"/>
                    </a:lnTo>
                    <a:lnTo>
                      <a:pt x="737" y="1026"/>
                    </a:lnTo>
                    <a:lnTo>
                      <a:pt x="716" y="1011"/>
                    </a:lnTo>
                    <a:lnTo>
                      <a:pt x="696" y="992"/>
                    </a:lnTo>
                    <a:lnTo>
                      <a:pt x="677" y="971"/>
                    </a:lnTo>
                    <a:lnTo>
                      <a:pt x="659" y="942"/>
                    </a:lnTo>
                    <a:lnTo>
                      <a:pt x="645" y="910"/>
                    </a:lnTo>
                    <a:lnTo>
                      <a:pt x="635" y="879"/>
                    </a:lnTo>
                    <a:lnTo>
                      <a:pt x="627" y="847"/>
                    </a:lnTo>
                    <a:lnTo>
                      <a:pt x="619" y="816"/>
                    </a:lnTo>
                    <a:lnTo>
                      <a:pt x="608" y="787"/>
                    </a:lnTo>
                    <a:lnTo>
                      <a:pt x="594" y="757"/>
                    </a:lnTo>
                    <a:lnTo>
                      <a:pt x="573" y="730"/>
                    </a:lnTo>
                    <a:lnTo>
                      <a:pt x="561" y="721"/>
                    </a:lnTo>
                    <a:lnTo>
                      <a:pt x="545" y="718"/>
                    </a:lnTo>
                    <a:lnTo>
                      <a:pt x="528" y="718"/>
                    </a:lnTo>
                    <a:lnTo>
                      <a:pt x="510" y="720"/>
                    </a:lnTo>
                    <a:lnTo>
                      <a:pt x="491" y="722"/>
                    </a:lnTo>
                    <a:lnTo>
                      <a:pt x="474" y="724"/>
                    </a:lnTo>
                    <a:lnTo>
                      <a:pt x="458" y="724"/>
                    </a:lnTo>
                    <a:lnTo>
                      <a:pt x="444" y="721"/>
                    </a:lnTo>
                    <a:lnTo>
                      <a:pt x="406" y="699"/>
                    </a:lnTo>
                    <a:lnTo>
                      <a:pt x="369" y="671"/>
                    </a:lnTo>
                    <a:lnTo>
                      <a:pt x="335" y="641"/>
                    </a:lnTo>
                    <a:lnTo>
                      <a:pt x="303" y="607"/>
                    </a:lnTo>
                    <a:lnTo>
                      <a:pt x="274" y="570"/>
                    </a:lnTo>
                    <a:lnTo>
                      <a:pt x="246" y="531"/>
                    </a:lnTo>
                    <a:lnTo>
                      <a:pt x="219" y="489"/>
                    </a:lnTo>
                    <a:lnTo>
                      <a:pt x="193" y="446"/>
                    </a:lnTo>
                    <a:lnTo>
                      <a:pt x="169" y="402"/>
                    </a:lnTo>
                    <a:lnTo>
                      <a:pt x="145" y="357"/>
                    </a:lnTo>
                    <a:lnTo>
                      <a:pt x="121" y="313"/>
                    </a:lnTo>
                    <a:lnTo>
                      <a:pt x="98" y="268"/>
                    </a:lnTo>
                    <a:lnTo>
                      <a:pt x="75" y="225"/>
                    </a:lnTo>
                    <a:lnTo>
                      <a:pt x="50" y="182"/>
                    </a:lnTo>
                    <a:lnTo>
                      <a:pt x="25" y="143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d60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200720" y="1220760"/>
                <a:ext cx="268200" cy="506160"/>
              </a:xfrm>
              <a:custGeom>
                <a:avLst/>
                <a:gdLst/>
                <a:ahLst/>
                <a:rect l="l" t="t" r="r" b="b"/>
                <a:pathLst>
                  <a:path w="1352" h="2554">
                    <a:moveTo>
                      <a:pt x="0" y="0"/>
                    </a:moveTo>
                    <a:lnTo>
                      <a:pt x="12" y="56"/>
                    </a:lnTo>
                    <a:lnTo>
                      <a:pt x="23" y="113"/>
                    </a:lnTo>
                    <a:lnTo>
                      <a:pt x="34" y="171"/>
                    </a:lnTo>
                    <a:lnTo>
                      <a:pt x="45" y="230"/>
                    </a:lnTo>
                    <a:lnTo>
                      <a:pt x="56" y="288"/>
                    </a:lnTo>
                    <a:lnTo>
                      <a:pt x="66" y="346"/>
                    </a:lnTo>
                    <a:lnTo>
                      <a:pt x="77" y="405"/>
                    </a:lnTo>
                    <a:lnTo>
                      <a:pt x="89" y="464"/>
                    </a:lnTo>
                    <a:lnTo>
                      <a:pt x="101" y="523"/>
                    </a:lnTo>
                    <a:lnTo>
                      <a:pt x="113" y="581"/>
                    </a:lnTo>
                    <a:lnTo>
                      <a:pt x="128" y="640"/>
                    </a:lnTo>
                    <a:lnTo>
                      <a:pt x="142" y="697"/>
                    </a:lnTo>
                    <a:lnTo>
                      <a:pt x="157" y="753"/>
                    </a:lnTo>
                    <a:lnTo>
                      <a:pt x="175" y="809"/>
                    </a:lnTo>
                    <a:lnTo>
                      <a:pt x="194" y="864"/>
                    </a:lnTo>
                    <a:lnTo>
                      <a:pt x="213" y="918"/>
                    </a:lnTo>
                    <a:lnTo>
                      <a:pt x="230" y="957"/>
                    </a:lnTo>
                    <a:lnTo>
                      <a:pt x="249" y="996"/>
                    </a:lnTo>
                    <a:lnTo>
                      <a:pt x="270" y="1033"/>
                    </a:lnTo>
                    <a:lnTo>
                      <a:pt x="292" y="1069"/>
                    </a:lnTo>
                    <a:lnTo>
                      <a:pt x="315" y="1106"/>
                    </a:lnTo>
                    <a:lnTo>
                      <a:pt x="339" y="1142"/>
                    </a:lnTo>
                    <a:lnTo>
                      <a:pt x="365" y="1177"/>
                    </a:lnTo>
                    <a:lnTo>
                      <a:pt x="391" y="1211"/>
                    </a:lnTo>
                    <a:lnTo>
                      <a:pt x="417" y="1246"/>
                    </a:lnTo>
                    <a:lnTo>
                      <a:pt x="444" y="1280"/>
                    </a:lnTo>
                    <a:lnTo>
                      <a:pt x="471" y="1314"/>
                    </a:lnTo>
                    <a:lnTo>
                      <a:pt x="498" y="1349"/>
                    </a:lnTo>
                    <a:lnTo>
                      <a:pt x="525" y="1384"/>
                    </a:lnTo>
                    <a:lnTo>
                      <a:pt x="550" y="1419"/>
                    </a:lnTo>
                    <a:lnTo>
                      <a:pt x="575" y="1454"/>
                    </a:lnTo>
                    <a:lnTo>
                      <a:pt x="599" y="1490"/>
                    </a:lnTo>
                    <a:lnTo>
                      <a:pt x="625" y="1529"/>
                    </a:lnTo>
                    <a:lnTo>
                      <a:pt x="650" y="1565"/>
                    </a:lnTo>
                    <a:lnTo>
                      <a:pt x="675" y="1600"/>
                    </a:lnTo>
                    <a:lnTo>
                      <a:pt x="700" y="1633"/>
                    </a:lnTo>
                    <a:lnTo>
                      <a:pt x="725" y="1666"/>
                    </a:lnTo>
                    <a:lnTo>
                      <a:pt x="749" y="1698"/>
                    </a:lnTo>
                    <a:lnTo>
                      <a:pt x="773" y="1730"/>
                    </a:lnTo>
                    <a:lnTo>
                      <a:pt x="796" y="1762"/>
                    </a:lnTo>
                    <a:lnTo>
                      <a:pt x="819" y="1793"/>
                    </a:lnTo>
                    <a:lnTo>
                      <a:pt x="842" y="1826"/>
                    </a:lnTo>
                    <a:lnTo>
                      <a:pt x="864" y="1859"/>
                    </a:lnTo>
                    <a:lnTo>
                      <a:pt x="886" y="1893"/>
                    </a:lnTo>
                    <a:lnTo>
                      <a:pt x="907" y="1930"/>
                    </a:lnTo>
                    <a:lnTo>
                      <a:pt x="928" y="1967"/>
                    </a:lnTo>
                    <a:lnTo>
                      <a:pt x="948" y="2007"/>
                    </a:lnTo>
                    <a:lnTo>
                      <a:pt x="967" y="2048"/>
                    </a:lnTo>
                    <a:lnTo>
                      <a:pt x="980" y="2075"/>
                    </a:lnTo>
                    <a:lnTo>
                      <a:pt x="996" y="2104"/>
                    </a:lnTo>
                    <a:lnTo>
                      <a:pt x="1015" y="2135"/>
                    </a:lnTo>
                    <a:lnTo>
                      <a:pt x="1037" y="2168"/>
                    </a:lnTo>
                    <a:lnTo>
                      <a:pt x="1061" y="2202"/>
                    </a:lnTo>
                    <a:lnTo>
                      <a:pt x="1087" y="2237"/>
                    </a:lnTo>
                    <a:lnTo>
                      <a:pt x="1113" y="2273"/>
                    </a:lnTo>
                    <a:lnTo>
                      <a:pt x="1142" y="2308"/>
                    </a:lnTo>
                    <a:lnTo>
                      <a:pt x="1170" y="2343"/>
                    </a:lnTo>
                    <a:lnTo>
                      <a:pt x="1199" y="2378"/>
                    </a:lnTo>
                    <a:lnTo>
                      <a:pt x="1227" y="2411"/>
                    </a:lnTo>
                    <a:lnTo>
                      <a:pt x="1255" y="2444"/>
                    </a:lnTo>
                    <a:lnTo>
                      <a:pt x="1281" y="2475"/>
                    </a:lnTo>
                    <a:lnTo>
                      <a:pt x="1307" y="2503"/>
                    </a:lnTo>
                    <a:lnTo>
                      <a:pt x="1331" y="2530"/>
                    </a:lnTo>
                    <a:lnTo>
                      <a:pt x="1352" y="2554"/>
                    </a:lnTo>
                    <a:lnTo>
                      <a:pt x="1326" y="2514"/>
                    </a:lnTo>
                    <a:lnTo>
                      <a:pt x="1300" y="2474"/>
                    </a:lnTo>
                    <a:lnTo>
                      <a:pt x="1274" y="2432"/>
                    </a:lnTo>
                    <a:lnTo>
                      <a:pt x="1246" y="2389"/>
                    </a:lnTo>
                    <a:lnTo>
                      <a:pt x="1217" y="2345"/>
                    </a:lnTo>
                    <a:lnTo>
                      <a:pt x="1190" y="2300"/>
                    </a:lnTo>
                    <a:lnTo>
                      <a:pt x="1161" y="2255"/>
                    </a:lnTo>
                    <a:lnTo>
                      <a:pt x="1134" y="2210"/>
                    </a:lnTo>
                    <a:lnTo>
                      <a:pt x="1105" y="2165"/>
                    </a:lnTo>
                    <a:lnTo>
                      <a:pt x="1077" y="2120"/>
                    </a:lnTo>
                    <a:lnTo>
                      <a:pt x="1049" y="2075"/>
                    </a:lnTo>
                    <a:lnTo>
                      <a:pt x="1021" y="2031"/>
                    </a:lnTo>
                    <a:lnTo>
                      <a:pt x="993" y="1988"/>
                    </a:lnTo>
                    <a:lnTo>
                      <a:pt x="967" y="1946"/>
                    </a:lnTo>
                    <a:lnTo>
                      <a:pt x="940" y="1906"/>
                    </a:lnTo>
                    <a:lnTo>
                      <a:pt x="915" y="1867"/>
                    </a:lnTo>
                    <a:lnTo>
                      <a:pt x="877" y="1810"/>
                    </a:lnTo>
                    <a:lnTo>
                      <a:pt x="836" y="1753"/>
                    </a:lnTo>
                    <a:lnTo>
                      <a:pt x="795" y="1696"/>
                    </a:lnTo>
                    <a:lnTo>
                      <a:pt x="753" y="1640"/>
                    </a:lnTo>
                    <a:lnTo>
                      <a:pt x="712" y="1584"/>
                    </a:lnTo>
                    <a:lnTo>
                      <a:pt x="669" y="1528"/>
                    </a:lnTo>
                    <a:lnTo>
                      <a:pt x="627" y="1471"/>
                    </a:lnTo>
                    <a:lnTo>
                      <a:pt x="586" y="1415"/>
                    </a:lnTo>
                    <a:lnTo>
                      <a:pt x="544" y="1359"/>
                    </a:lnTo>
                    <a:lnTo>
                      <a:pt x="505" y="1302"/>
                    </a:lnTo>
                    <a:lnTo>
                      <a:pt x="466" y="1244"/>
                    </a:lnTo>
                    <a:lnTo>
                      <a:pt x="429" y="1186"/>
                    </a:lnTo>
                    <a:lnTo>
                      <a:pt x="394" y="1126"/>
                    </a:lnTo>
                    <a:lnTo>
                      <a:pt x="360" y="1066"/>
                    </a:lnTo>
                    <a:lnTo>
                      <a:pt x="328" y="1004"/>
                    </a:lnTo>
                    <a:lnTo>
                      <a:pt x="299" y="942"/>
                    </a:lnTo>
                    <a:lnTo>
                      <a:pt x="267" y="854"/>
                    </a:lnTo>
                    <a:lnTo>
                      <a:pt x="245" y="764"/>
                    </a:lnTo>
                    <a:lnTo>
                      <a:pt x="230" y="670"/>
                    </a:lnTo>
                    <a:lnTo>
                      <a:pt x="220" y="576"/>
                    </a:lnTo>
                    <a:lnTo>
                      <a:pt x="213" y="481"/>
                    </a:lnTo>
                    <a:lnTo>
                      <a:pt x="207" y="386"/>
                    </a:lnTo>
                    <a:lnTo>
                      <a:pt x="199" y="290"/>
                    </a:lnTo>
                    <a:lnTo>
                      <a:pt x="188" y="197"/>
                    </a:lnTo>
                    <a:lnTo>
                      <a:pt x="175" y="187"/>
                    </a:lnTo>
                    <a:lnTo>
                      <a:pt x="162" y="177"/>
                    </a:lnTo>
                    <a:lnTo>
                      <a:pt x="149" y="167"/>
                    </a:lnTo>
                    <a:lnTo>
                      <a:pt x="135" y="156"/>
                    </a:lnTo>
                    <a:lnTo>
                      <a:pt x="122" y="145"/>
                    </a:lnTo>
                    <a:lnTo>
                      <a:pt x="109" y="134"/>
                    </a:lnTo>
                    <a:lnTo>
                      <a:pt x="97" y="123"/>
                    </a:lnTo>
                    <a:lnTo>
                      <a:pt x="85" y="111"/>
                    </a:lnTo>
                    <a:lnTo>
                      <a:pt x="72" y="99"/>
                    </a:lnTo>
                    <a:lnTo>
                      <a:pt x="61" y="86"/>
                    </a:lnTo>
                    <a:lnTo>
                      <a:pt x="49" y="72"/>
                    </a:lnTo>
                    <a:lnTo>
                      <a:pt x="38" y="59"/>
                    </a:lnTo>
                    <a:lnTo>
                      <a:pt x="28" y="45"/>
                    </a:lnTo>
                    <a:lnTo>
                      <a:pt x="18" y="31"/>
                    </a:lnTo>
                    <a:lnTo>
                      <a:pt x="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0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6519960" y="121932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ran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620120" y="1600200"/>
            <a:ext cx="1144440" cy="707760"/>
            <a:chOff x="7620120" y="1600200"/>
            <a:chExt cx="1144440" cy="707760"/>
          </a:xfrm>
        </p:grpSpPr>
        <p:grpSp>
          <p:nvGrpSpPr>
            <p:cNvPr id="190" name=""/>
            <p:cNvGrpSpPr/>
            <p:nvPr/>
          </p:nvGrpSpPr>
          <p:grpSpPr>
            <a:xfrm>
              <a:off x="7620120" y="1600200"/>
              <a:ext cx="1144440" cy="707760"/>
              <a:chOff x="7620120" y="1600200"/>
              <a:chExt cx="1144440" cy="707760"/>
            </a:xfrm>
          </p:grpSpPr>
          <p:sp>
            <p:nvSpPr>
              <p:cNvPr id="191" name=""/>
              <p:cNvSpPr/>
              <p:nvPr/>
            </p:nvSpPr>
            <p:spPr>
              <a:xfrm>
                <a:off x="7620120" y="1600200"/>
                <a:ext cx="1144440" cy="707760"/>
              </a:xfrm>
              <a:custGeom>
                <a:avLst/>
                <a:gdLst/>
                <a:ahLst/>
                <a:rect l="l" t="t" r="r" b="b"/>
                <a:pathLst>
                  <a:path w="5044" h="3122">
                    <a:moveTo>
                      <a:pt x="4489" y="2520"/>
                    </a:moveTo>
                    <a:lnTo>
                      <a:pt x="4516" y="2565"/>
                    </a:lnTo>
                    <a:lnTo>
                      <a:pt x="4543" y="2610"/>
                    </a:lnTo>
                    <a:lnTo>
                      <a:pt x="4572" y="2654"/>
                    </a:lnTo>
                    <a:lnTo>
                      <a:pt x="4599" y="2698"/>
                    </a:lnTo>
                    <a:lnTo>
                      <a:pt x="4629" y="2739"/>
                    </a:lnTo>
                    <a:lnTo>
                      <a:pt x="4658" y="2780"/>
                    </a:lnTo>
                    <a:lnTo>
                      <a:pt x="4690" y="2819"/>
                    </a:lnTo>
                    <a:lnTo>
                      <a:pt x="4722" y="2857"/>
                    </a:lnTo>
                    <a:lnTo>
                      <a:pt x="4756" y="2895"/>
                    </a:lnTo>
                    <a:lnTo>
                      <a:pt x="4792" y="2930"/>
                    </a:lnTo>
                    <a:lnTo>
                      <a:pt x="4828" y="2964"/>
                    </a:lnTo>
                    <a:lnTo>
                      <a:pt x="4867" y="2997"/>
                    </a:lnTo>
                    <a:lnTo>
                      <a:pt x="4909" y="3028"/>
                    </a:lnTo>
                    <a:lnTo>
                      <a:pt x="4952" y="3058"/>
                    </a:lnTo>
                    <a:lnTo>
                      <a:pt x="4996" y="3087"/>
                    </a:lnTo>
                    <a:lnTo>
                      <a:pt x="5044" y="3113"/>
                    </a:lnTo>
                    <a:lnTo>
                      <a:pt x="5029" y="3116"/>
                    </a:lnTo>
                    <a:lnTo>
                      <a:pt x="5015" y="3119"/>
                    </a:lnTo>
                    <a:lnTo>
                      <a:pt x="5000" y="3120"/>
                    </a:lnTo>
                    <a:lnTo>
                      <a:pt x="4986" y="3121"/>
                    </a:lnTo>
                    <a:lnTo>
                      <a:pt x="4973" y="3122"/>
                    </a:lnTo>
                    <a:lnTo>
                      <a:pt x="4959" y="3122"/>
                    </a:lnTo>
                    <a:lnTo>
                      <a:pt x="4947" y="3121"/>
                    </a:lnTo>
                    <a:lnTo>
                      <a:pt x="4933" y="3119"/>
                    </a:lnTo>
                    <a:lnTo>
                      <a:pt x="4921" y="3118"/>
                    </a:lnTo>
                    <a:lnTo>
                      <a:pt x="4909" y="3115"/>
                    </a:lnTo>
                    <a:lnTo>
                      <a:pt x="4897" y="3112"/>
                    </a:lnTo>
                    <a:lnTo>
                      <a:pt x="4886" y="3109"/>
                    </a:lnTo>
                    <a:lnTo>
                      <a:pt x="4872" y="3106"/>
                    </a:lnTo>
                    <a:lnTo>
                      <a:pt x="4862" y="3101"/>
                    </a:lnTo>
                    <a:lnTo>
                      <a:pt x="4850" y="3096"/>
                    </a:lnTo>
                    <a:lnTo>
                      <a:pt x="4839" y="3091"/>
                    </a:lnTo>
                    <a:lnTo>
                      <a:pt x="4820" y="3083"/>
                    </a:lnTo>
                    <a:lnTo>
                      <a:pt x="4801" y="3071"/>
                    </a:lnTo>
                    <a:lnTo>
                      <a:pt x="4782" y="3061"/>
                    </a:lnTo>
                    <a:lnTo>
                      <a:pt x="4761" y="3048"/>
                    </a:lnTo>
                    <a:lnTo>
                      <a:pt x="4740" y="3036"/>
                    </a:lnTo>
                    <a:lnTo>
                      <a:pt x="4719" y="3023"/>
                    </a:lnTo>
                    <a:lnTo>
                      <a:pt x="4697" y="3009"/>
                    </a:lnTo>
                    <a:lnTo>
                      <a:pt x="4676" y="2996"/>
                    </a:lnTo>
                    <a:lnTo>
                      <a:pt x="4652" y="2983"/>
                    </a:lnTo>
                    <a:lnTo>
                      <a:pt x="4630" y="2968"/>
                    </a:lnTo>
                    <a:lnTo>
                      <a:pt x="4607" y="2956"/>
                    </a:lnTo>
                    <a:lnTo>
                      <a:pt x="4584" y="2944"/>
                    </a:lnTo>
                    <a:lnTo>
                      <a:pt x="4560" y="2931"/>
                    </a:lnTo>
                    <a:lnTo>
                      <a:pt x="4535" y="2921"/>
                    </a:lnTo>
                    <a:lnTo>
                      <a:pt x="4511" y="2911"/>
                    </a:lnTo>
                    <a:lnTo>
                      <a:pt x="4488" y="2903"/>
                    </a:lnTo>
                    <a:lnTo>
                      <a:pt x="4467" y="2896"/>
                    </a:lnTo>
                    <a:lnTo>
                      <a:pt x="4446" y="2891"/>
                    </a:lnTo>
                    <a:lnTo>
                      <a:pt x="4424" y="2887"/>
                    </a:lnTo>
                    <a:lnTo>
                      <a:pt x="4403" y="2884"/>
                    </a:lnTo>
                    <a:lnTo>
                      <a:pt x="4382" y="2882"/>
                    </a:lnTo>
                    <a:lnTo>
                      <a:pt x="4361" y="2880"/>
                    </a:lnTo>
                    <a:lnTo>
                      <a:pt x="4339" y="2880"/>
                    </a:lnTo>
                    <a:lnTo>
                      <a:pt x="4317" y="2880"/>
                    </a:lnTo>
                    <a:lnTo>
                      <a:pt x="4295" y="2881"/>
                    </a:lnTo>
                    <a:lnTo>
                      <a:pt x="4273" y="2883"/>
                    </a:lnTo>
                    <a:lnTo>
                      <a:pt x="4251" y="2885"/>
                    </a:lnTo>
                    <a:lnTo>
                      <a:pt x="4229" y="2888"/>
                    </a:lnTo>
                    <a:lnTo>
                      <a:pt x="4206" y="2891"/>
                    </a:lnTo>
                    <a:lnTo>
                      <a:pt x="4183" y="2896"/>
                    </a:lnTo>
                    <a:lnTo>
                      <a:pt x="4160" y="2900"/>
                    </a:lnTo>
                    <a:lnTo>
                      <a:pt x="4137" y="2905"/>
                    </a:lnTo>
                    <a:lnTo>
                      <a:pt x="4113" y="2910"/>
                    </a:lnTo>
                    <a:lnTo>
                      <a:pt x="4090" y="2916"/>
                    </a:lnTo>
                    <a:lnTo>
                      <a:pt x="4066" y="2922"/>
                    </a:lnTo>
                    <a:lnTo>
                      <a:pt x="4043" y="2928"/>
                    </a:lnTo>
                    <a:lnTo>
                      <a:pt x="4019" y="2934"/>
                    </a:lnTo>
                    <a:lnTo>
                      <a:pt x="3993" y="2941"/>
                    </a:lnTo>
                    <a:lnTo>
                      <a:pt x="3968" y="2947"/>
                    </a:lnTo>
                    <a:lnTo>
                      <a:pt x="3943" y="2954"/>
                    </a:lnTo>
                    <a:lnTo>
                      <a:pt x="3918" y="2961"/>
                    </a:lnTo>
                    <a:lnTo>
                      <a:pt x="3892" y="2967"/>
                    </a:lnTo>
                    <a:lnTo>
                      <a:pt x="3866" y="2974"/>
                    </a:lnTo>
                    <a:lnTo>
                      <a:pt x="3840" y="2981"/>
                    </a:lnTo>
                    <a:lnTo>
                      <a:pt x="3813" y="2987"/>
                    </a:lnTo>
                    <a:lnTo>
                      <a:pt x="3787" y="2992"/>
                    </a:lnTo>
                    <a:lnTo>
                      <a:pt x="3758" y="2998"/>
                    </a:lnTo>
                    <a:lnTo>
                      <a:pt x="3730" y="3003"/>
                    </a:lnTo>
                    <a:lnTo>
                      <a:pt x="3688" y="3010"/>
                    </a:lnTo>
                    <a:lnTo>
                      <a:pt x="3647" y="3019"/>
                    </a:lnTo>
                    <a:lnTo>
                      <a:pt x="3609" y="3028"/>
                    </a:lnTo>
                    <a:lnTo>
                      <a:pt x="3572" y="3036"/>
                    </a:lnTo>
                    <a:lnTo>
                      <a:pt x="3536" y="3046"/>
                    </a:lnTo>
                    <a:lnTo>
                      <a:pt x="3502" y="3054"/>
                    </a:lnTo>
                    <a:lnTo>
                      <a:pt x="3470" y="3062"/>
                    </a:lnTo>
                    <a:lnTo>
                      <a:pt x="3437" y="3068"/>
                    </a:lnTo>
                    <a:lnTo>
                      <a:pt x="3407" y="3076"/>
                    </a:lnTo>
                    <a:lnTo>
                      <a:pt x="3377" y="3081"/>
                    </a:lnTo>
                    <a:lnTo>
                      <a:pt x="3348" y="3084"/>
                    </a:lnTo>
                    <a:lnTo>
                      <a:pt x="3321" y="3086"/>
                    </a:lnTo>
                    <a:lnTo>
                      <a:pt x="3294" y="3085"/>
                    </a:lnTo>
                    <a:lnTo>
                      <a:pt x="3267" y="3083"/>
                    </a:lnTo>
                    <a:lnTo>
                      <a:pt x="3242" y="3077"/>
                    </a:lnTo>
                    <a:lnTo>
                      <a:pt x="3217" y="3068"/>
                    </a:lnTo>
                    <a:lnTo>
                      <a:pt x="3204" y="3062"/>
                    </a:lnTo>
                    <a:lnTo>
                      <a:pt x="3198" y="3053"/>
                    </a:lnTo>
                    <a:lnTo>
                      <a:pt x="3197" y="3044"/>
                    </a:lnTo>
                    <a:lnTo>
                      <a:pt x="3201" y="3033"/>
                    </a:lnTo>
                    <a:lnTo>
                      <a:pt x="3209" y="3023"/>
                    </a:lnTo>
                    <a:lnTo>
                      <a:pt x="3220" y="3010"/>
                    </a:lnTo>
                    <a:lnTo>
                      <a:pt x="3235" y="2998"/>
                    </a:lnTo>
                    <a:lnTo>
                      <a:pt x="3251" y="2985"/>
                    </a:lnTo>
                    <a:lnTo>
                      <a:pt x="3267" y="2970"/>
                    </a:lnTo>
                    <a:lnTo>
                      <a:pt x="3284" y="2956"/>
                    </a:lnTo>
                    <a:lnTo>
                      <a:pt x="3299" y="2942"/>
                    </a:lnTo>
                    <a:lnTo>
                      <a:pt x="3312" y="2927"/>
                    </a:lnTo>
                    <a:lnTo>
                      <a:pt x="3324" y="2914"/>
                    </a:lnTo>
                    <a:lnTo>
                      <a:pt x="3331" y="2900"/>
                    </a:lnTo>
                    <a:lnTo>
                      <a:pt x="3335" y="2887"/>
                    </a:lnTo>
                    <a:lnTo>
                      <a:pt x="3334" y="2873"/>
                    </a:lnTo>
                    <a:lnTo>
                      <a:pt x="3328" y="2861"/>
                    </a:lnTo>
                    <a:lnTo>
                      <a:pt x="3321" y="2851"/>
                    </a:lnTo>
                    <a:lnTo>
                      <a:pt x="3309" y="2844"/>
                    </a:lnTo>
                    <a:lnTo>
                      <a:pt x="3296" y="2836"/>
                    </a:lnTo>
                    <a:lnTo>
                      <a:pt x="3282" y="2830"/>
                    </a:lnTo>
                    <a:lnTo>
                      <a:pt x="3264" y="2826"/>
                    </a:lnTo>
                    <a:lnTo>
                      <a:pt x="3246" y="2823"/>
                    </a:lnTo>
                    <a:lnTo>
                      <a:pt x="3227" y="2821"/>
                    </a:lnTo>
                    <a:lnTo>
                      <a:pt x="3208" y="2820"/>
                    </a:lnTo>
                    <a:lnTo>
                      <a:pt x="3188" y="2819"/>
                    </a:lnTo>
                    <a:lnTo>
                      <a:pt x="3169" y="2819"/>
                    </a:lnTo>
                    <a:lnTo>
                      <a:pt x="3150" y="2820"/>
                    </a:lnTo>
                    <a:lnTo>
                      <a:pt x="3133" y="2822"/>
                    </a:lnTo>
                    <a:lnTo>
                      <a:pt x="3115" y="2824"/>
                    </a:lnTo>
                    <a:lnTo>
                      <a:pt x="3100" y="2826"/>
                    </a:lnTo>
                    <a:lnTo>
                      <a:pt x="3087" y="2829"/>
                    </a:lnTo>
                    <a:lnTo>
                      <a:pt x="3065" y="2835"/>
                    </a:lnTo>
                    <a:lnTo>
                      <a:pt x="3043" y="2843"/>
                    </a:lnTo>
                    <a:lnTo>
                      <a:pt x="3021" y="2850"/>
                    </a:lnTo>
                    <a:lnTo>
                      <a:pt x="2999" y="2859"/>
                    </a:lnTo>
                    <a:lnTo>
                      <a:pt x="2978" y="2867"/>
                    </a:lnTo>
                    <a:lnTo>
                      <a:pt x="2957" y="2879"/>
                    </a:lnTo>
                    <a:lnTo>
                      <a:pt x="2936" y="2888"/>
                    </a:lnTo>
                    <a:lnTo>
                      <a:pt x="2916" y="2900"/>
                    </a:lnTo>
                    <a:lnTo>
                      <a:pt x="2894" y="2910"/>
                    </a:lnTo>
                    <a:lnTo>
                      <a:pt x="2874" y="2922"/>
                    </a:lnTo>
                    <a:lnTo>
                      <a:pt x="2854" y="2934"/>
                    </a:lnTo>
                    <a:lnTo>
                      <a:pt x="2834" y="2946"/>
                    </a:lnTo>
                    <a:lnTo>
                      <a:pt x="2814" y="2958"/>
                    </a:lnTo>
                    <a:lnTo>
                      <a:pt x="2794" y="2969"/>
                    </a:lnTo>
                    <a:lnTo>
                      <a:pt x="2774" y="2983"/>
                    </a:lnTo>
                    <a:lnTo>
                      <a:pt x="2754" y="2995"/>
                    </a:lnTo>
                    <a:lnTo>
                      <a:pt x="2734" y="3007"/>
                    </a:lnTo>
                    <a:lnTo>
                      <a:pt x="2714" y="3018"/>
                    </a:lnTo>
                    <a:lnTo>
                      <a:pt x="2693" y="3029"/>
                    </a:lnTo>
                    <a:lnTo>
                      <a:pt x="2672" y="3041"/>
                    </a:lnTo>
                    <a:lnTo>
                      <a:pt x="2652" y="3051"/>
                    </a:lnTo>
                    <a:lnTo>
                      <a:pt x="2632" y="3061"/>
                    </a:lnTo>
                    <a:lnTo>
                      <a:pt x="2611" y="3070"/>
                    </a:lnTo>
                    <a:lnTo>
                      <a:pt x="2591" y="3080"/>
                    </a:lnTo>
                    <a:lnTo>
                      <a:pt x="2569" y="3089"/>
                    </a:lnTo>
                    <a:lnTo>
                      <a:pt x="2548" y="3096"/>
                    </a:lnTo>
                    <a:lnTo>
                      <a:pt x="2526" y="3102"/>
                    </a:lnTo>
                    <a:lnTo>
                      <a:pt x="2505" y="3108"/>
                    </a:lnTo>
                    <a:lnTo>
                      <a:pt x="2483" y="3112"/>
                    </a:lnTo>
                    <a:lnTo>
                      <a:pt x="2460" y="3116"/>
                    </a:lnTo>
                    <a:lnTo>
                      <a:pt x="2438" y="3119"/>
                    </a:lnTo>
                    <a:lnTo>
                      <a:pt x="2415" y="3120"/>
                    </a:lnTo>
                    <a:lnTo>
                      <a:pt x="2387" y="3118"/>
                    </a:lnTo>
                    <a:lnTo>
                      <a:pt x="2361" y="3113"/>
                    </a:lnTo>
                    <a:lnTo>
                      <a:pt x="2335" y="3104"/>
                    </a:lnTo>
                    <a:lnTo>
                      <a:pt x="2311" y="3092"/>
                    </a:lnTo>
                    <a:lnTo>
                      <a:pt x="2288" y="3077"/>
                    </a:lnTo>
                    <a:lnTo>
                      <a:pt x="2265" y="3060"/>
                    </a:lnTo>
                    <a:lnTo>
                      <a:pt x="2241" y="3042"/>
                    </a:lnTo>
                    <a:lnTo>
                      <a:pt x="2219" y="3023"/>
                    </a:lnTo>
                    <a:lnTo>
                      <a:pt x="2196" y="3004"/>
                    </a:lnTo>
                    <a:lnTo>
                      <a:pt x="2174" y="2984"/>
                    </a:lnTo>
                    <a:lnTo>
                      <a:pt x="2151" y="2964"/>
                    </a:lnTo>
                    <a:lnTo>
                      <a:pt x="2127" y="2946"/>
                    </a:lnTo>
                    <a:lnTo>
                      <a:pt x="2103" y="2929"/>
                    </a:lnTo>
                    <a:lnTo>
                      <a:pt x="2080" y="2914"/>
                    </a:lnTo>
                    <a:lnTo>
                      <a:pt x="2055" y="2903"/>
                    </a:lnTo>
                    <a:lnTo>
                      <a:pt x="2027" y="2893"/>
                    </a:lnTo>
                    <a:lnTo>
                      <a:pt x="2005" y="2887"/>
                    </a:lnTo>
                    <a:lnTo>
                      <a:pt x="1985" y="2885"/>
                    </a:lnTo>
                    <a:lnTo>
                      <a:pt x="1967" y="2882"/>
                    </a:lnTo>
                    <a:lnTo>
                      <a:pt x="1949" y="2881"/>
                    </a:lnTo>
                    <a:lnTo>
                      <a:pt x="1933" y="2881"/>
                    </a:lnTo>
                    <a:lnTo>
                      <a:pt x="1915" y="2882"/>
                    </a:lnTo>
                    <a:lnTo>
                      <a:pt x="1900" y="2884"/>
                    </a:lnTo>
                    <a:lnTo>
                      <a:pt x="1885" y="2886"/>
                    </a:lnTo>
                    <a:lnTo>
                      <a:pt x="1869" y="2888"/>
                    </a:lnTo>
                    <a:lnTo>
                      <a:pt x="1853" y="2890"/>
                    </a:lnTo>
                    <a:lnTo>
                      <a:pt x="1837" y="2893"/>
                    </a:lnTo>
                    <a:lnTo>
                      <a:pt x="1820" y="2896"/>
                    </a:lnTo>
                    <a:lnTo>
                      <a:pt x="1802" y="2899"/>
                    </a:lnTo>
                    <a:lnTo>
                      <a:pt x="1782" y="2901"/>
                    </a:lnTo>
                    <a:lnTo>
                      <a:pt x="1762" y="2902"/>
                    </a:lnTo>
                    <a:lnTo>
                      <a:pt x="1739" y="2903"/>
                    </a:lnTo>
                    <a:lnTo>
                      <a:pt x="1712" y="2903"/>
                    </a:lnTo>
                    <a:lnTo>
                      <a:pt x="1682" y="2902"/>
                    </a:lnTo>
                    <a:lnTo>
                      <a:pt x="1653" y="2899"/>
                    </a:lnTo>
                    <a:lnTo>
                      <a:pt x="1622" y="2896"/>
                    </a:lnTo>
                    <a:lnTo>
                      <a:pt x="1590" y="2893"/>
                    </a:lnTo>
                    <a:lnTo>
                      <a:pt x="1558" y="2889"/>
                    </a:lnTo>
                    <a:lnTo>
                      <a:pt x="1526" y="2886"/>
                    </a:lnTo>
                    <a:lnTo>
                      <a:pt x="1493" y="2883"/>
                    </a:lnTo>
                    <a:lnTo>
                      <a:pt x="1461" y="2879"/>
                    </a:lnTo>
                    <a:lnTo>
                      <a:pt x="1428" y="2876"/>
                    </a:lnTo>
                    <a:lnTo>
                      <a:pt x="1397" y="2874"/>
                    </a:lnTo>
                    <a:lnTo>
                      <a:pt x="1365" y="2873"/>
                    </a:lnTo>
                    <a:lnTo>
                      <a:pt x="1335" y="2873"/>
                    </a:lnTo>
                    <a:lnTo>
                      <a:pt x="1305" y="2875"/>
                    </a:lnTo>
                    <a:lnTo>
                      <a:pt x="1278" y="2878"/>
                    </a:lnTo>
                    <a:lnTo>
                      <a:pt x="1250" y="2883"/>
                    </a:lnTo>
                    <a:lnTo>
                      <a:pt x="1223" y="2889"/>
                    </a:lnTo>
                    <a:lnTo>
                      <a:pt x="1196" y="2897"/>
                    </a:lnTo>
                    <a:lnTo>
                      <a:pt x="1170" y="2906"/>
                    </a:lnTo>
                    <a:lnTo>
                      <a:pt x="1142" y="2916"/>
                    </a:lnTo>
                    <a:lnTo>
                      <a:pt x="1115" y="2927"/>
                    </a:lnTo>
                    <a:lnTo>
                      <a:pt x="1088" y="2938"/>
                    </a:lnTo>
                    <a:lnTo>
                      <a:pt x="1062" y="2949"/>
                    </a:lnTo>
                    <a:lnTo>
                      <a:pt x="1034" y="2961"/>
                    </a:lnTo>
                    <a:lnTo>
                      <a:pt x="1007" y="2974"/>
                    </a:lnTo>
                    <a:lnTo>
                      <a:pt x="982" y="2986"/>
                    </a:lnTo>
                    <a:lnTo>
                      <a:pt x="955" y="2998"/>
                    </a:lnTo>
                    <a:lnTo>
                      <a:pt x="927" y="3009"/>
                    </a:lnTo>
                    <a:lnTo>
                      <a:pt x="900" y="3020"/>
                    </a:lnTo>
                    <a:lnTo>
                      <a:pt x="875" y="3030"/>
                    </a:lnTo>
                    <a:lnTo>
                      <a:pt x="848" y="3039"/>
                    </a:lnTo>
                    <a:lnTo>
                      <a:pt x="820" y="3048"/>
                    </a:lnTo>
                    <a:lnTo>
                      <a:pt x="804" y="3051"/>
                    </a:lnTo>
                    <a:lnTo>
                      <a:pt x="787" y="3055"/>
                    </a:lnTo>
                    <a:lnTo>
                      <a:pt x="770" y="3058"/>
                    </a:lnTo>
                    <a:lnTo>
                      <a:pt x="752" y="3061"/>
                    </a:lnTo>
                    <a:lnTo>
                      <a:pt x="734" y="3063"/>
                    </a:lnTo>
                    <a:lnTo>
                      <a:pt x="717" y="3064"/>
                    </a:lnTo>
                    <a:lnTo>
                      <a:pt x="698" y="3065"/>
                    </a:lnTo>
                    <a:lnTo>
                      <a:pt x="681" y="3065"/>
                    </a:lnTo>
                    <a:lnTo>
                      <a:pt x="663" y="3066"/>
                    </a:lnTo>
                    <a:lnTo>
                      <a:pt x="644" y="3065"/>
                    </a:lnTo>
                    <a:lnTo>
                      <a:pt x="626" y="3065"/>
                    </a:lnTo>
                    <a:lnTo>
                      <a:pt x="609" y="3065"/>
                    </a:lnTo>
                    <a:lnTo>
                      <a:pt x="590" y="3064"/>
                    </a:lnTo>
                    <a:lnTo>
                      <a:pt x="572" y="3063"/>
                    </a:lnTo>
                    <a:lnTo>
                      <a:pt x="555" y="3063"/>
                    </a:lnTo>
                    <a:lnTo>
                      <a:pt x="538" y="3062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20" y="10"/>
                    </a:lnTo>
                    <a:lnTo>
                      <a:pt x="31" y="15"/>
                    </a:lnTo>
                    <a:lnTo>
                      <a:pt x="40" y="20"/>
                    </a:lnTo>
                    <a:lnTo>
                      <a:pt x="51" y="26"/>
                    </a:lnTo>
                    <a:lnTo>
                      <a:pt x="61" y="31"/>
                    </a:lnTo>
                    <a:lnTo>
                      <a:pt x="72" y="36"/>
                    </a:lnTo>
                    <a:lnTo>
                      <a:pt x="81" y="42"/>
                    </a:lnTo>
                    <a:lnTo>
                      <a:pt x="92" y="47"/>
                    </a:lnTo>
                    <a:lnTo>
                      <a:pt x="101" y="52"/>
                    </a:lnTo>
                    <a:lnTo>
                      <a:pt x="112" y="57"/>
                    </a:lnTo>
                    <a:lnTo>
                      <a:pt x="122" y="62"/>
                    </a:lnTo>
                    <a:lnTo>
                      <a:pt x="132" y="66"/>
                    </a:lnTo>
                    <a:lnTo>
                      <a:pt x="142" y="70"/>
                    </a:lnTo>
                    <a:lnTo>
                      <a:pt x="154" y="72"/>
                    </a:lnTo>
                    <a:lnTo>
                      <a:pt x="164" y="75"/>
                    </a:lnTo>
                    <a:lnTo>
                      <a:pt x="185" y="79"/>
                    </a:lnTo>
                    <a:lnTo>
                      <a:pt x="204" y="81"/>
                    </a:lnTo>
                    <a:lnTo>
                      <a:pt x="224" y="83"/>
                    </a:lnTo>
                    <a:lnTo>
                      <a:pt x="243" y="83"/>
                    </a:lnTo>
                    <a:lnTo>
                      <a:pt x="263" y="82"/>
                    </a:lnTo>
                    <a:lnTo>
                      <a:pt x="283" y="81"/>
                    </a:lnTo>
                    <a:lnTo>
                      <a:pt x="302" y="80"/>
                    </a:lnTo>
                    <a:lnTo>
                      <a:pt x="322" y="78"/>
                    </a:lnTo>
                    <a:lnTo>
                      <a:pt x="341" y="76"/>
                    </a:lnTo>
                    <a:lnTo>
                      <a:pt x="360" y="75"/>
                    </a:lnTo>
                    <a:lnTo>
                      <a:pt x="379" y="74"/>
                    </a:lnTo>
                    <a:lnTo>
                      <a:pt x="399" y="74"/>
                    </a:lnTo>
                    <a:lnTo>
                      <a:pt x="418" y="75"/>
                    </a:lnTo>
                    <a:lnTo>
                      <a:pt x="438" y="76"/>
                    </a:lnTo>
                    <a:lnTo>
                      <a:pt x="457" y="79"/>
                    </a:lnTo>
                    <a:lnTo>
                      <a:pt x="477" y="84"/>
                    </a:lnTo>
                    <a:lnTo>
                      <a:pt x="518" y="95"/>
                    </a:lnTo>
                    <a:lnTo>
                      <a:pt x="556" y="109"/>
                    </a:lnTo>
                    <a:lnTo>
                      <a:pt x="593" y="123"/>
                    </a:lnTo>
                    <a:lnTo>
                      <a:pt x="631" y="138"/>
                    </a:lnTo>
                    <a:lnTo>
                      <a:pt x="666" y="155"/>
                    </a:lnTo>
                    <a:lnTo>
                      <a:pt x="703" y="172"/>
                    </a:lnTo>
                    <a:lnTo>
                      <a:pt x="739" y="189"/>
                    </a:lnTo>
                    <a:lnTo>
                      <a:pt x="773" y="206"/>
                    </a:lnTo>
                    <a:lnTo>
                      <a:pt x="809" y="223"/>
                    </a:lnTo>
                    <a:lnTo>
                      <a:pt x="845" y="239"/>
                    </a:lnTo>
                    <a:lnTo>
                      <a:pt x="881" y="256"/>
                    </a:lnTo>
                    <a:lnTo>
                      <a:pt x="918" y="272"/>
                    </a:lnTo>
                    <a:lnTo>
                      <a:pt x="955" y="286"/>
                    </a:lnTo>
                    <a:lnTo>
                      <a:pt x="993" y="298"/>
                    </a:lnTo>
                    <a:lnTo>
                      <a:pt x="1031" y="310"/>
                    </a:lnTo>
                    <a:lnTo>
                      <a:pt x="1072" y="319"/>
                    </a:lnTo>
                    <a:lnTo>
                      <a:pt x="1096" y="323"/>
                    </a:lnTo>
                    <a:lnTo>
                      <a:pt x="1123" y="327"/>
                    </a:lnTo>
                    <a:lnTo>
                      <a:pt x="1151" y="329"/>
                    </a:lnTo>
                    <a:lnTo>
                      <a:pt x="1182" y="330"/>
                    </a:lnTo>
                    <a:lnTo>
                      <a:pt x="1214" y="330"/>
                    </a:lnTo>
                    <a:lnTo>
                      <a:pt x="1246" y="329"/>
                    </a:lnTo>
                    <a:lnTo>
                      <a:pt x="1279" y="328"/>
                    </a:lnTo>
                    <a:lnTo>
                      <a:pt x="1313" y="325"/>
                    </a:lnTo>
                    <a:lnTo>
                      <a:pt x="1345" y="323"/>
                    </a:lnTo>
                    <a:lnTo>
                      <a:pt x="1379" y="319"/>
                    </a:lnTo>
                    <a:lnTo>
                      <a:pt x="1410" y="316"/>
                    </a:lnTo>
                    <a:lnTo>
                      <a:pt x="1441" y="313"/>
                    </a:lnTo>
                    <a:lnTo>
                      <a:pt x="1470" y="309"/>
                    </a:lnTo>
                    <a:lnTo>
                      <a:pt x="1499" y="304"/>
                    </a:lnTo>
                    <a:lnTo>
                      <a:pt x="1524" y="300"/>
                    </a:lnTo>
                    <a:lnTo>
                      <a:pt x="1547" y="296"/>
                    </a:lnTo>
                    <a:lnTo>
                      <a:pt x="1587" y="289"/>
                    </a:lnTo>
                    <a:lnTo>
                      <a:pt x="1625" y="281"/>
                    </a:lnTo>
                    <a:lnTo>
                      <a:pt x="1658" y="274"/>
                    </a:lnTo>
                    <a:lnTo>
                      <a:pt x="1689" y="267"/>
                    </a:lnTo>
                    <a:lnTo>
                      <a:pt x="1718" y="259"/>
                    </a:lnTo>
                    <a:lnTo>
                      <a:pt x="1744" y="253"/>
                    </a:lnTo>
                    <a:lnTo>
                      <a:pt x="1769" y="245"/>
                    </a:lnTo>
                    <a:lnTo>
                      <a:pt x="1792" y="238"/>
                    </a:lnTo>
                    <a:lnTo>
                      <a:pt x="1816" y="233"/>
                    </a:lnTo>
                    <a:lnTo>
                      <a:pt x="1839" y="227"/>
                    </a:lnTo>
                    <a:lnTo>
                      <a:pt x="1861" y="222"/>
                    </a:lnTo>
                    <a:lnTo>
                      <a:pt x="1884" y="217"/>
                    </a:lnTo>
                    <a:lnTo>
                      <a:pt x="1908" y="213"/>
                    </a:lnTo>
                    <a:lnTo>
                      <a:pt x="1933" y="210"/>
                    </a:lnTo>
                    <a:lnTo>
                      <a:pt x="1960" y="207"/>
                    </a:lnTo>
                    <a:lnTo>
                      <a:pt x="1989" y="204"/>
                    </a:lnTo>
                    <a:lnTo>
                      <a:pt x="2001" y="204"/>
                    </a:lnTo>
                    <a:lnTo>
                      <a:pt x="2015" y="206"/>
                    </a:lnTo>
                    <a:lnTo>
                      <a:pt x="2027" y="209"/>
                    </a:lnTo>
                    <a:lnTo>
                      <a:pt x="2039" y="213"/>
                    </a:lnTo>
                    <a:lnTo>
                      <a:pt x="2052" y="219"/>
                    </a:lnTo>
                    <a:lnTo>
                      <a:pt x="2064" y="226"/>
                    </a:lnTo>
                    <a:lnTo>
                      <a:pt x="2076" y="233"/>
                    </a:lnTo>
                    <a:lnTo>
                      <a:pt x="2088" y="241"/>
                    </a:lnTo>
                    <a:lnTo>
                      <a:pt x="2100" y="250"/>
                    </a:lnTo>
                    <a:lnTo>
                      <a:pt x="2112" y="258"/>
                    </a:lnTo>
                    <a:lnTo>
                      <a:pt x="2123" y="267"/>
                    </a:lnTo>
                    <a:lnTo>
                      <a:pt x="2136" y="274"/>
                    </a:lnTo>
                    <a:lnTo>
                      <a:pt x="2149" y="281"/>
                    </a:lnTo>
                    <a:lnTo>
                      <a:pt x="2162" y="288"/>
                    </a:lnTo>
                    <a:lnTo>
                      <a:pt x="2174" y="294"/>
                    </a:lnTo>
                    <a:lnTo>
                      <a:pt x="2186" y="297"/>
                    </a:lnTo>
                    <a:lnTo>
                      <a:pt x="2198" y="300"/>
                    </a:lnTo>
                    <a:lnTo>
                      <a:pt x="2209" y="303"/>
                    </a:lnTo>
                    <a:lnTo>
                      <a:pt x="2221" y="305"/>
                    </a:lnTo>
                    <a:lnTo>
                      <a:pt x="2232" y="307"/>
                    </a:lnTo>
                    <a:lnTo>
                      <a:pt x="2244" y="308"/>
                    </a:lnTo>
                    <a:lnTo>
                      <a:pt x="2256" y="310"/>
                    </a:lnTo>
                    <a:lnTo>
                      <a:pt x="2269" y="311"/>
                    </a:lnTo>
                    <a:lnTo>
                      <a:pt x="2280" y="312"/>
                    </a:lnTo>
                    <a:lnTo>
                      <a:pt x="2292" y="314"/>
                    </a:lnTo>
                    <a:lnTo>
                      <a:pt x="2304" y="314"/>
                    </a:lnTo>
                    <a:lnTo>
                      <a:pt x="2315" y="316"/>
                    </a:lnTo>
                    <a:lnTo>
                      <a:pt x="2328" y="317"/>
                    </a:lnTo>
                    <a:lnTo>
                      <a:pt x="2339" y="319"/>
                    </a:lnTo>
                    <a:lnTo>
                      <a:pt x="2351" y="321"/>
                    </a:lnTo>
                    <a:lnTo>
                      <a:pt x="2363" y="324"/>
                    </a:lnTo>
                    <a:lnTo>
                      <a:pt x="2375" y="327"/>
                    </a:lnTo>
                    <a:lnTo>
                      <a:pt x="2388" y="331"/>
                    </a:lnTo>
                    <a:lnTo>
                      <a:pt x="2401" y="335"/>
                    </a:lnTo>
                    <a:lnTo>
                      <a:pt x="2414" y="340"/>
                    </a:lnTo>
                    <a:lnTo>
                      <a:pt x="2426" y="345"/>
                    </a:lnTo>
                    <a:lnTo>
                      <a:pt x="2439" y="350"/>
                    </a:lnTo>
                    <a:lnTo>
                      <a:pt x="2451" y="356"/>
                    </a:lnTo>
                    <a:lnTo>
                      <a:pt x="2463" y="361"/>
                    </a:lnTo>
                    <a:lnTo>
                      <a:pt x="2477" y="367"/>
                    </a:lnTo>
                    <a:lnTo>
                      <a:pt x="2489" y="372"/>
                    </a:lnTo>
                    <a:lnTo>
                      <a:pt x="2502" y="376"/>
                    </a:lnTo>
                    <a:lnTo>
                      <a:pt x="2515" y="380"/>
                    </a:lnTo>
                    <a:lnTo>
                      <a:pt x="2527" y="384"/>
                    </a:lnTo>
                    <a:lnTo>
                      <a:pt x="2541" y="387"/>
                    </a:lnTo>
                    <a:lnTo>
                      <a:pt x="2553" y="390"/>
                    </a:lnTo>
                    <a:lnTo>
                      <a:pt x="2567" y="391"/>
                    </a:lnTo>
                    <a:lnTo>
                      <a:pt x="2582" y="392"/>
                    </a:lnTo>
                    <a:lnTo>
                      <a:pt x="2608" y="392"/>
                    </a:lnTo>
                    <a:lnTo>
                      <a:pt x="2632" y="390"/>
                    </a:lnTo>
                    <a:lnTo>
                      <a:pt x="2657" y="386"/>
                    </a:lnTo>
                    <a:lnTo>
                      <a:pt x="2683" y="382"/>
                    </a:lnTo>
                    <a:lnTo>
                      <a:pt x="2709" y="376"/>
                    </a:lnTo>
                    <a:lnTo>
                      <a:pt x="2734" y="370"/>
                    </a:lnTo>
                    <a:lnTo>
                      <a:pt x="2758" y="363"/>
                    </a:lnTo>
                    <a:lnTo>
                      <a:pt x="2783" y="356"/>
                    </a:lnTo>
                    <a:lnTo>
                      <a:pt x="2809" y="348"/>
                    </a:lnTo>
                    <a:lnTo>
                      <a:pt x="2834" y="340"/>
                    </a:lnTo>
                    <a:lnTo>
                      <a:pt x="2859" y="334"/>
                    </a:lnTo>
                    <a:lnTo>
                      <a:pt x="2883" y="327"/>
                    </a:lnTo>
                    <a:lnTo>
                      <a:pt x="2910" y="321"/>
                    </a:lnTo>
                    <a:lnTo>
                      <a:pt x="2935" y="315"/>
                    </a:lnTo>
                    <a:lnTo>
                      <a:pt x="2960" y="312"/>
                    </a:lnTo>
                    <a:lnTo>
                      <a:pt x="2986" y="309"/>
                    </a:lnTo>
                    <a:lnTo>
                      <a:pt x="3004" y="308"/>
                    </a:lnTo>
                    <a:lnTo>
                      <a:pt x="3024" y="307"/>
                    </a:lnTo>
                    <a:lnTo>
                      <a:pt x="3042" y="307"/>
                    </a:lnTo>
                    <a:lnTo>
                      <a:pt x="3059" y="307"/>
                    </a:lnTo>
                    <a:lnTo>
                      <a:pt x="3077" y="308"/>
                    </a:lnTo>
                    <a:lnTo>
                      <a:pt x="3095" y="310"/>
                    </a:lnTo>
                    <a:lnTo>
                      <a:pt x="3113" y="312"/>
                    </a:lnTo>
                    <a:lnTo>
                      <a:pt x="3131" y="314"/>
                    </a:lnTo>
                    <a:lnTo>
                      <a:pt x="3149" y="316"/>
                    </a:lnTo>
                    <a:lnTo>
                      <a:pt x="3166" y="320"/>
                    </a:lnTo>
                    <a:lnTo>
                      <a:pt x="3183" y="323"/>
                    </a:lnTo>
                    <a:lnTo>
                      <a:pt x="3200" y="327"/>
                    </a:lnTo>
                    <a:lnTo>
                      <a:pt x="3219" y="332"/>
                    </a:lnTo>
                    <a:lnTo>
                      <a:pt x="3236" y="336"/>
                    </a:lnTo>
                    <a:lnTo>
                      <a:pt x="3254" y="341"/>
                    </a:lnTo>
                    <a:lnTo>
                      <a:pt x="3272" y="346"/>
                    </a:lnTo>
                    <a:lnTo>
                      <a:pt x="3285" y="350"/>
                    </a:lnTo>
                    <a:lnTo>
                      <a:pt x="3298" y="355"/>
                    </a:lnTo>
                    <a:lnTo>
                      <a:pt x="3311" y="359"/>
                    </a:lnTo>
                    <a:lnTo>
                      <a:pt x="3326" y="363"/>
                    </a:lnTo>
                    <a:lnTo>
                      <a:pt x="3339" y="368"/>
                    </a:lnTo>
                    <a:lnTo>
                      <a:pt x="3353" y="373"/>
                    </a:lnTo>
                    <a:lnTo>
                      <a:pt x="3367" y="378"/>
                    </a:lnTo>
                    <a:lnTo>
                      <a:pt x="3380" y="384"/>
                    </a:lnTo>
                    <a:lnTo>
                      <a:pt x="3393" y="391"/>
                    </a:lnTo>
                    <a:lnTo>
                      <a:pt x="3406" y="397"/>
                    </a:lnTo>
                    <a:lnTo>
                      <a:pt x="3417" y="404"/>
                    </a:lnTo>
                    <a:lnTo>
                      <a:pt x="3429" y="413"/>
                    </a:lnTo>
                    <a:lnTo>
                      <a:pt x="3439" y="421"/>
                    </a:lnTo>
                    <a:lnTo>
                      <a:pt x="3450" y="430"/>
                    </a:lnTo>
                    <a:lnTo>
                      <a:pt x="3459" y="440"/>
                    </a:lnTo>
                    <a:lnTo>
                      <a:pt x="3468" y="451"/>
                    </a:lnTo>
                    <a:lnTo>
                      <a:pt x="3485" y="482"/>
                    </a:lnTo>
                    <a:lnTo>
                      <a:pt x="3498" y="516"/>
                    </a:lnTo>
                    <a:lnTo>
                      <a:pt x="3508" y="550"/>
                    </a:lnTo>
                    <a:lnTo>
                      <a:pt x="3516" y="586"/>
                    </a:lnTo>
                    <a:lnTo>
                      <a:pt x="3524" y="622"/>
                    </a:lnTo>
                    <a:lnTo>
                      <a:pt x="3533" y="658"/>
                    </a:lnTo>
                    <a:lnTo>
                      <a:pt x="3546" y="691"/>
                    </a:lnTo>
                    <a:lnTo>
                      <a:pt x="3563" y="721"/>
                    </a:lnTo>
                    <a:lnTo>
                      <a:pt x="3575" y="736"/>
                    </a:lnTo>
                    <a:lnTo>
                      <a:pt x="3585" y="749"/>
                    </a:lnTo>
                    <a:lnTo>
                      <a:pt x="3597" y="764"/>
                    </a:lnTo>
                    <a:lnTo>
                      <a:pt x="3608" y="777"/>
                    </a:lnTo>
                    <a:lnTo>
                      <a:pt x="3621" y="790"/>
                    </a:lnTo>
                    <a:lnTo>
                      <a:pt x="3634" y="802"/>
                    </a:lnTo>
                    <a:lnTo>
                      <a:pt x="3647" y="815"/>
                    </a:lnTo>
                    <a:lnTo>
                      <a:pt x="3661" y="827"/>
                    </a:lnTo>
                    <a:lnTo>
                      <a:pt x="3674" y="839"/>
                    </a:lnTo>
                    <a:lnTo>
                      <a:pt x="3689" y="849"/>
                    </a:lnTo>
                    <a:lnTo>
                      <a:pt x="3705" y="861"/>
                    </a:lnTo>
                    <a:lnTo>
                      <a:pt x="3719" y="870"/>
                    </a:lnTo>
                    <a:lnTo>
                      <a:pt x="3734" y="879"/>
                    </a:lnTo>
                    <a:lnTo>
                      <a:pt x="3750" y="887"/>
                    </a:lnTo>
                    <a:lnTo>
                      <a:pt x="3766" y="895"/>
                    </a:lnTo>
                    <a:lnTo>
                      <a:pt x="3782" y="901"/>
                    </a:lnTo>
                    <a:lnTo>
                      <a:pt x="3791" y="904"/>
                    </a:lnTo>
                    <a:lnTo>
                      <a:pt x="3802" y="907"/>
                    </a:lnTo>
                    <a:lnTo>
                      <a:pt x="3812" y="910"/>
                    </a:lnTo>
                    <a:lnTo>
                      <a:pt x="3824" y="912"/>
                    </a:lnTo>
                    <a:lnTo>
                      <a:pt x="3835" y="914"/>
                    </a:lnTo>
                    <a:lnTo>
                      <a:pt x="3848" y="915"/>
                    </a:lnTo>
                    <a:lnTo>
                      <a:pt x="3860" y="916"/>
                    </a:lnTo>
                    <a:lnTo>
                      <a:pt x="3874" y="917"/>
                    </a:lnTo>
                    <a:lnTo>
                      <a:pt x="3886" y="918"/>
                    </a:lnTo>
                    <a:lnTo>
                      <a:pt x="3899" y="918"/>
                    </a:lnTo>
                    <a:lnTo>
                      <a:pt x="3912" y="917"/>
                    </a:lnTo>
                    <a:lnTo>
                      <a:pt x="3924" y="917"/>
                    </a:lnTo>
                    <a:lnTo>
                      <a:pt x="3936" y="916"/>
                    </a:lnTo>
                    <a:lnTo>
                      <a:pt x="3947" y="914"/>
                    </a:lnTo>
                    <a:lnTo>
                      <a:pt x="3957" y="912"/>
                    </a:lnTo>
                    <a:lnTo>
                      <a:pt x="3966" y="910"/>
                    </a:lnTo>
                    <a:lnTo>
                      <a:pt x="3957" y="991"/>
                    </a:lnTo>
                    <a:lnTo>
                      <a:pt x="3943" y="1072"/>
                    </a:lnTo>
                    <a:lnTo>
                      <a:pt x="3929" y="1152"/>
                    </a:lnTo>
                    <a:lnTo>
                      <a:pt x="3913" y="1233"/>
                    </a:lnTo>
                    <a:lnTo>
                      <a:pt x="3897" y="1315"/>
                    </a:lnTo>
                    <a:lnTo>
                      <a:pt x="3881" y="1396"/>
                    </a:lnTo>
                    <a:lnTo>
                      <a:pt x="3868" y="1477"/>
                    </a:lnTo>
                    <a:lnTo>
                      <a:pt x="3858" y="1556"/>
                    </a:lnTo>
                    <a:lnTo>
                      <a:pt x="3861" y="1581"/>
                    </a:lnTo>
                    <a:lnTo>
                      <a:pt x="3869" y="1609"/>
                    </a:lnTo>
                    <a:lnTo>
                      <a:pt x="3878" y="1638"/>
                    </a:lnTo>
                    <a:lnTo>
                      <a:pt x="3891" y="1668"/>
                    </a:lnTo>
                    <a:lnTo>
                      <a:pt x="3907" y="1695"/>
                    </a:lnTo>
                    <a:lnTo>
                      <a:pt x="3923" y="1720"/>
                    </a:lnTo>
                    <a:lnTo>
                      <a:pt x="3941" y="1740"/>
                    </a:lnTo>
                    <a:lnTo>
                      <a:pt x="3960" y="1753"/>
                    </a:lnTo>
                    <a:lnTo>
                      <a:pt x="3983" y="1767"/>
                    </a:lnTo>
                    <a:lnTo>
                      <a:pt x="4007" y="1779"/>
                    </a:lnTo>
                    <a:lnTo>
                      <a:pt x="4030" y="1793"/>
                    </a:lnTo>
                    <a:lnTo>
                      <a:pt x="4053" y="1809"/>
                    </a:lnTo>
                    <a:lnTo>
                      <a:pt x="4076" y="1825"/>
                    </a:lnTo>
                    <a:lnTo>
                      <a:pt x="4098" y="1841"/>
                    </a:lnTo>
                    <a:lnTo>
                      <a:pt x="4121" y="1859"/>
                    </a:lnTo>
                    <a:lnTo>
                      <a:pt x="4142" y="1879"/>
                    </a:lnTo>
                    <a:lnTo>
                      <a:pt x="4163" y="1899"/>
                    </a:lnTo>
                    <a:lnTo>
                      <a:pt x="4184" y="1920"/>
                    </a:lnTo>
                    <a:lnTo>
                      <a:pt x="4204" y="1941"/>
                    </a:lnTo>
                    <a:lnTo>
                      <a:pt x="4223" y="1965"/>
                    </a:lnTo>
                    <a:lnTo>
                      <a:pt x="4242" y="1988"/>
                    </a:lnTo>
                    <a:lnTo>
                      <a:pt x="4260" y="2012"/>
                    </a:lnTo>
                    <a:lnTo>
                      <a:pt x="4277" y="2036"/>
                    </a:lnTo>
                    <a:lnTo>
                      <a:pt x="4294" y="2062"/>
                    </a:lnTo>
                    <a:lnTo>
                      <a:pt x="4308" y="2088"/>
                    </a:lnTo>
                    <a:lnTo>
                      <a:pt x="4321" y="2114"/>
                    </a:lnTo>
                    <a:lnTo>
                      <a:pt x="4336" y="2140"/>
                    </a:lnTo>
                    <a:lnTo>
                      <a:pt x="4349" y="2169"/>
                    </a:lnTo>
                    <a:lnTo>
                      <a:pt x="4361" y="2198"/>
                    </a:lnTo>
                    <a:lnTo>
                      <a:pt x="4374" y="2227"/>
                    </a:lnTo>
                    <a:lnTo>
                      <a:pt x="4386" y="2257"/>
                    </a:lnTo>
                    <a:lnTo>
                      <a:pt x="4399" y="2287"/>
                    </a:lnTo>
                    <a:lnTo>
                      <a:pt x="4410" y="2318"/>
                    </a:lnTo>
                    <a:lnTo>
                      <a:pt x="4422" y="2347"/>
                    </a:lnTo>
                    <a:lnTo>
                      <a:pt x="4433" y="2379"/>
                    </a:lnTo>
                    <a:lnTo>
                      <a:pt x="4446" y="2407"/>
                    </a:lnTo>
                    <a:lnTo>
                      <a:pt x="4456" y="2437"/>
                    </a:lnTo>
                    <a:lnTo>
                      <a:pt x="4467" y="2464"/>
                    </a:lnTo>
                    <a:lnTo>
                      <a:pt x="4478" y="2493"/>
                    </a:lnTo>
                    <a:lnTo>
                      <a:pt x="4489" y="2520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113680" y="1666800"/>
                <a:ext cx="357480" cy="611280"/>
              </a:xfrm>
              <a:custGeom>
                <a:avLst/>
                <a:gdLst/>
                <a:ahLst/>
                <a:rect l="l" t="t" r="r" b="b"/>
                <a:pathLst>
                  <a:path w="1573" h="2689">
                    <a:moveTo>
                      <a:pt x="0" y="0"/>
                    </a:moveTo>
                    <a:lnTo>
                      <a:pt x="13" y="2"/>
                    </a:lnTo>
                    <a:lnTo>
                      <a:pt x="26" y="5"/>
                    </a:lnTo>
                    <a:lnTo>
                      <a:pt x="39" y="7"/>
                    </a:lnTo>
                    <a:lnTo>
                      <a:pt x="52" y="10"/>
                    </a:lnTo>
                    <a:lnTo>
                      <a:pt x="65" y="12"/>
                    </a:lnTo>
                    <a:lnTo>
                      <a:pt x="78" y="15"/>
                    </a:lnTo>
                    <a:lnTo>
                      <a:pt x="92" y="17"/>
                    </a:lnTo>
                    <a:lnTo>
                      <a:pt x="105" y="18"/>
                    </a:lnTo>
                    <a:lnTo>
                      <a:pt x="117" y="21"/>
                    </a:lnTo>
                    <a:lnTo>
                      <a:pt x="131" y="23"/>
                    </a:lnTo>
                    <a:lnTo>
                      <a:pt x="144" y="26"/>
                    </a:lnTo>
                    <a:lnTo>
                      <a:pt x="157" y="28"/>
                    </a:lnTo>
                    <a:lnTo>
                      <a:pt x="170" y="31"/>
                    </a:lnTo>
                    <a:lnTo>
                      <a:pt x="184" y="33"/>
                    </a:lnTo>
                    <a:lnTo>
                      <a:pt x="197" y="36"/>
                    </a:lnTo>
                    <a:lnTo>
                      <a:pt x="210" y="37"/>
                    </a:lnTo>
                    <a:lnTo>
                      <a:pt x="221" y="84"/>
                    </a:lnTo>
                    <a:lnTo>
                      <a:pt x="229" y="131"/>
                    </a:lnTo>
                    <a:lnTo>
                      <a:pt x="237" y="179"/>
                    </a:lnTo>
                    <a:lnTo>
                      <a:pt x="244" y="227"/>
                    </a:lnTo>
                    <a:lnTo>
                      <a:pt x="255" y="274"/>
                    </a:lnTo>
                    <a:lnTo>
                      <a:pt x="268" y="319"/>
                    </a:lnTo>
                    <a:lnTo>
                      <a:pt x="288" y="361"/>
                    </a:lnTo>
                    <a:lnTo>
                      <a:pt x="315" y="399"/>
                    </a:lnTo>
                    <a:lnTo>
                      <a:pt x="343" y="429"/>
                    </a:lnTo>
                    <a:lnTo>
                      <a:pt x="372" y="457"/>
                    </a:lnTo>
                    <a:lnTo>
                      <a:pt x="404" y="483"/>
                    </a:lnTo>
                    <a:lnTo>
                      <a:pt x="437" y="508"/>
                    </a:lnTo>
                    <a:lnTo>
                      <a:pt x="471" y="532"/>
                    </a:lnTo>
                    <a:lnTo>
                      <a:pt x="506" y="554"/>
                    </a:lnTo>
                    <a:lnTo>
                      <a:pt x="542" y="577"/>
                    </a:lnTo>
                    <a:lnTo>
                      <a:pt x="579" y="599"/>
                    </a:lnTo>
                    <a:lnTo>
                      <a:pt x="614" y="621"/>
                    </a:lnTo>
                    <a:lnTo>
                      <a:pt x="651" y="642"/>
                    </a:lnTo>
                    <a:lnTo>
                      <a:pt x="686" y="666"/>
                    </a:lnTo>
                    <a:lnTo>
                      <a:pt x="721" y="688"/>
                    </a:lnTo>
                    <a:lnTo>
                      <a:pt x="755" y="712"/>
                    </a:lnTo>
                    <a:lnTo>
                      <a:pt x="787" y="738"/>
                    </a:lnTo>
                    <a:lnTo>
                      <a:pt x="817" y="767"/>
                    </a:lnTo>
                    <a:lnTo>
                      <a:pt x="847" y="796"/>
                    </a:lnTo>
                    <a:lnTo>
                      <a:pt x="863" y="815"/>
                    </a:lnTo>
                    <a:lnTo>
                      <a:pt x="878" y="835"/>
                    </a:lnTo>
                    <a:lnTo>
                      <a:pt x="892" y="856"/>
                    </a:lnTo>
                    <a:lnTo>
                      <a:pt x="905" y="879"/>
                    </a:lnTo>
                    <a:lnTo>
                      <a:pt x="917" y="901"/>
                    </a:lnTo>
                    <a:lnTo>
                      <a:pt x="927" y="924"/>
                    </a:lnTo>
                    <a:lnTo>
                      <a:pt x="938" y="948"/>
                    </a:lnTo>
                    <a:lnTo>
                      <a:pt x="947" y="972"/>
                    </a:lnTo>
                    <a:lnTo>
                      <a:pt x="957" y="996"/>
                    </a:lnTo>
                    <a:lnTo>
                      <a:pt x="964" y="1021"/>
                    </a:lnTo>
                    <a:lnTo>
                      <a:pt x="972" y="1046"/>
                    </a:lnTo>
                    <a:lnTo>
                      <a:pt x="979" y="1071"/>
                    </a:lnTo>
                    <a:lnTo>
                      <a:pt x="985" y="1096"/>
                    </a:lnTo>
                    <a:lnTo>
                      <a:pt x="992" y="1121"/>
                    </a:lnTo>
                    <a:lnTo>
                      <a:pt x="998" y="1146"/>
                    </a:lnTo>
                    <a:lnTo>
                      <a:pt x="1003" y="1172"/>
                    </a:lnTo>
                    <a:lnTo>
                      <a:pt x="1005" y="1192"/>
                    </a:lnTo>
                    <a:lnTo>
                      <a:pt x="1002" y="1212"/>
                    </a:lnTo>
                    <a:lnTo>
                      <a:pt x="995" y="1234"/>
                    </a:lnTo>
                    <a:lnTo>
                      <a:pt x="986" y="1255"/>
                    </a:lnTo>
                    <a:lnTo>
                      <a:pt x="979" y="1277"/>
                    </a:lnTo>
                    <a:lnTo>
                      <a:pt x="973" y="1297"/>
                    </a:lnTo>
                    <a:lnTo>
                      <a:pt x="971" y="1317"/>
                    </a:lnTo>
                    <a:lnTo>
                      <a:pt x="975" y="1337"/>
                    </a:lnTo>
                    <a:lnTo>
                      <a:pt x="982" y="1353"/>
                    </a:lnTo>
                    <a:lnTo>
                      <a:pt x="988" y="1373"/>
                    </a:lnTo>
                    <a:lnTo>
                      <a:pt x="996" y="1393"/>
                    </a:lnTo>
                    <a:lnTo>
                      <a:pt x="1004" y="1413"/>
                    </a:lnTo>
                    <a:lnTo>
                      <a:pt x="1013" y="1434"/>
                    </a:lnTo>
                    <a:lnTo>
                      <a:pt x="1023" y="1454"/>
                    </a:lnTo>
                    <a:lnTo>
                      <a:pt x="1033" y="1475"/>
                    </a:lnTo>
                    <a:lnTo>
                      <a:pt x="1044" y="1493"/>
                    </a:lnTo>
                    <a:lnTo>
                      <a:pt x="1055" y="1510"/>
                    </a:lnTo>
                    <a:lnTo>
                      <a:pt x="1067" y="1525"/>
                    </a:lnTo>
                    <a:lnTo>
                      <a:pt x="1080" y="1537"/>
                    </a:lnTo>
                    <a:lnTo>
                      <a:pt x="1092" y="1547"/>
                    </a:lnTo>
                    <a:lnTo>
                      <a:pt x="1105" y="1554"/>
                    </a:lnTo>
                    <a:lnTo>
                      <a:pt x="1118" y="1556"/>
                    </a:lnTo>
                    <a:lnTo>
                      <a:pt x="1132" y="1554"/>
                    </a:lnTo>
                    <a:lnTo>
                      <a:pt x="1146" y="1547"/>
                    </a:lnTo>
                    <a:lnTo>
                      <a:pt x="1167" y="1523"/>
                    </a:lnTo>
                    <a:lnTo>
                      <a:pt x="1172" y="1494"/>
                    </a:lnTo>
                    <a:lnTo>
                      <a:pt x="1163" y="1458"/>
                    </a:lnTo>
                    <a:lnTo>
                      <a:pt x="1148" y="1420"/>
                    </a:lnTo>
                    <a:lnTo>
                      <a:pt x="1129" y="1380"/>
                    </a:lnTo>
                    <a:lnTo>
                      <a:pt x="1108" y="1339"/>
                    </a:lnTo>
                    <a:lnTo>
                      <a:pt x="1093" y="1299"/>
                    </a:lnTo>
                    <a:lnTo>
                      <a:pt x="1087" y="1261"/>
                    </a:lnTo>
                    <a:lnTo>
                      <a:pt x="1087" y="1243"/>
                    </a:lnTo>
                    <a:lnTo>
                      <a:pt x="1090" y="1220"/>
                    </a:lnTo>
                    <a:lnTo>
                      <a:pt x="1094" y="1196"/>
                    </a:lnTo>
                    <a:lnTo>
                      <a:pt x="1100" y="1173"/>
                    </a:lnTo>
                    <a:lnTo>
                      <a:pt x="1107" y="1153"/>
                    </a:lnTo>
                    <a:lnTo>
                      <a:pt x="1114" y="1140"/>
                    </a:lnTo>
                    <a:lnTo>
                      <a:pt x="1123" y="1135"/>
                    </a:lnTo>
                    <a:lnTo>
                      <a:pt x="1131" y="1142"/>
                    </a:lnTo>
                    <a:lnTo>
                      <a:pt x="1150" y="1176"/>
                    </a:lnTo>
                    <a:lnTo>
                      <a:pt x="1164" y="1212"/>
                    </a:lnTo>
                    <a:lnTo>
                      <a:pt x="1173" y="1249"/>
                    </a:lnTo>
                    <a:lnTo>
                      <a:pt x="1181" y="1288"/>
                    </a:lnTo>
                    <a:lnTo>
                      <a:pt x="1187" y="1327"/>
                    </a:lnTo>
                    <a:lnTo>
                      <a:pt x="1193" y="1367"/>
                    </a:lnTo>
                    <a:lnTo>
                      <a:pt x="1202" y="1405"/>
                    </a:lnTo>
                    <a:lnTo>
                      <a:pt x="1214" y="1441"/>
                    </a:lnTo>
                    <a:lnTo>
                      <a:pt x="1225" y="1467"/>
                    </a:lnTo>
                    <a:lnTo>
                      <a:pt x="1238" y="1490"/>
                    </a:lnTo>
                    <a:lnTo>
                      <a:pt x="1253" y="1513"/>
                    </a:lnTo>
                    <a:lnTo>
                      <a:pt x="1269" y="1536"/>
                    </a:lnTo>
                    <a:lnTo>
                      <a:pt x="1285" y="1558"/>
                    </a:lnTo>
                    <a:lnTo>
                      <a:pt x="1300" y="1582"/>
                    </a:lnTo>
                    <a:lnTo>
                      <a:pt x="1315" y="1605"/>
                    </a:lnTo>
                    <a:lnTo>
                      <a:pt x="1326" y="1630"/>
                    </a:lnTo>
                    <a:lnTo>
                      <a:pt x="1335" y="1653"/>
                    </a:lnTo>
                    <a:lnTo>
                      <a:pt x="1340" y="1678"/>
                    </a:lnTo>
                    <a:lnTo>
                      <a:pt x="1345" y="1701"/>
                    </a:lnTo>
                    <a:lnTo>
                      <a:pt x="1350" y="1726"/>
                    </a:lnTo>
                    <a:lnTo>
                      <a:pt x="1354" y="1751"/>
                    </a:lnTo>
                    <a:lnTo>
                      <a:pt x="1358" y="1777"/>
                    </a:lnTo>
                    <a:lnTo>
                      <a:pt x="1362" y="1800"/>
                    </a:lnTo>
                    <a:lnTo>
                      <a:pt x="1370" y="1824"/>
                    </a:lnTo>
                    <a:lnTo>
                      <a:pt x="1379" y="1848"/>
                    </a:lnTo>
                    <a:lnTo>
                      <a:pt x="1387" y="1873"/>
                    </a:lnTo>
                    <a:lnTo>
                      <a:pt x="1398" y="1896"/>
                    </a:lnTo>
                    <a:lnTo>
                      <a:pt x="1407" y="1919"/>
                    </a:lnTo>
                    <a:lnTo>
                      <a:pt x="1418" y="1942"/>
                    </a:lnTo>
                    <a:lnTo>
                      <a:pt x="1427" y="1965"/>
                    </a:lnTo>
                    <a:lnTo>
                      <a:pt x="1438" y="1989"/>
                    </a:lnTo>
                    <a:lnTo>
                      <a:pt x="1448" y="2012"/>
                    </a:lnTo>
                    <a:lnTo>
                      <a:pt x="1459" y="2036"/>
                    </a:lnTo>
                    <a:lnTo>
                      <a:pt x="1468" y="2059"/>
                    </a:lnTo>
                    <a:lnTo>
                      <a:pt x="1479" y="2083"/>
                    </a:lnTo>
                    <a:lnTo>
                      <a:pt x="1489" y="2105"/>
                    </a:lnTo>
                    <a:lnTo>
                      <a:pt x="1499" y="2128"/>
                    </a:lnTo>
                    <a:lnTo>
                      <a:pt x="1510" y="2152"/>
                    </a:lnTo>
                    <a:lnTo>
                      <a:pt x="1519" y="2176"/>
                    </a:lnTo>
                    <a:lnTo>
                      <a:pt x="1528" y="2200"/>
                    </a:lnTo>
                    <a:lnTo>
                      <a:pt x="1535" y="2222"/>
                    </a:lnTo>
                    <a:lnTo>
                      <a:pt x="1544" y="2244"/>
                    </a:lnTo>
                    <a:lnTo>
                      <a:pt x="1552" y="2265"/>
                    </a:lnTo>
                    <a:lnTo>
                      <a:pt x="1560" y="2288"/>
                    </a:lnTo>
                    <a:lnTo>
                      <a:pt x="1567" y="2311"/>
                    </a:lnTo>
                    <a:lnTo>
                      <a:pt x="1572" y="2334"/>
                    </a:lnTo>
                    <a:lnTo>
                      <a:pt x="1573" y="2357"/>
                    </a:lnTo>
                    <a:lnTo>
                      <a:pt x="1572" y="2381"/>
                    </a:lnTo>
                    <a:lnTo>
                      <a:pt x="1565" y="2410"/>
                    </a:lnTo>
                    <a:lnTo>
                      <a:pt x="1555" y="2439"/>
                    </a:lnTo>
                    <a:lnTo>
                      <a:pt x="1543" y="2467"/>
                    </a:lnTo>
                    <a:lnTo>
                      <a:pt x="1529" y="2495"/>
                    </a:lnTo>
                    <a:lnTo>
                      <a:pt x="1512" y="2523"/>
                    </a:lnTo>
                    <a:lnTo>
                      <a:pt x="1496" y="2549"/>
                    </a:lnTo>
                    <a:lnTo>
                      <a:pt x="1481" y="2578"/>
                    </a:lnTo>
                    <a:lnTo>
                      <a:pt x="1467" y="2606"/>
                    </a:lnTo>
                    <a:lnTo>
                      <a:pt x="1475" y="2570"/>
                    </a:lnTo>
                    <a:lnTo>
                      <a:pt x="1488" y="2533"/>
                    </a:lnTo>
                    <a:lnTo>
                      <a:pt x="1503" y="2494"/>
                    </a:lnTo>
                    <a:lnTo>
                      <a:pt x="1517" y="2454"/>
                    </a:lnTo>
                    <a:lnTo>
                      <a:pt x="1527" y="2419"/>
                    </a:lnTo>
                    <a:lnTo>
                      <a:pt x="1529" y="2388"/>
                    </a:lnTo>
                    <a:lnTo>
                      <a:pt x="1520" y="2365"/>
                    </a:lnTo>
                    <a:lnTo>
                      <a:pt x="1497" y="2350"/>
                    </a:lnTo>
                    <a:lnTo>
                      <a:pt x="1470" y="2349"/>
                    </a:lnTo>
                    <a:lnTo>
                      <a:pt x="1449" y="2364"/>
                    </a:lnTo>
                    <a:lnTo>
                      <a:pt x="1432" y="2391"/>
                    </a:lnTo>
                    <a:lnTo>
                      <a:pt x="1419" y="2426"/>
                    </a:lnTo>
                    <a:lnTo>
                      <a:pt x="1407" y="2464"/>
                    </a:lnTo>
                    <a:lnTo>
                      <a:pt x="1397" y="2505"/>
                    </a:lnTo>
                    <a:lnTo>
                      <a:pt x="1384" y="2543"/>
                    </a:lnTo>
                    <a:lnTo>
                      <a:pt x="1370" y="2576"/>
                    </a:lnTo>
                    <a:lnTo>
                      <a:pt x="1354" y="2590"/>
                    </a:lnTo>
                    <a:lnTo>
                      <a:pt x="1338" y="2604"/>
                    </a:lnTo>
                    <a:lnTo>
                      <a:pt x="1320" y="2618"/>
                    </a:lnTo>
                    <a:lnTo>
                      <a:pt x="1304" y="2631"/>
                    </a:lnTo>
                    <a:lnTo>
                      <a:pt x="1287" y="2646"/>
                    </a:lnTo>
                    <a:lnTo>
                      <a:pt x="1269" y="2660"/>
                    </a:lnTo>
                    <a:lnTo>
                      <a:pt x="1253" y="2673"/>
                    </a:lnTo>
                    <a:lnTo>
                      <a:pt x="1235" y="2689"/>
                    </a:lnTo>
                    <a:lnTo>
                      <a:pt x="1254" y="2645"/>
                    </a:lnTo>
                    <a:lnTo>
                      <a:pt x="1273" y="2603"/>
                    </a:lnTo>
                    <a:lnTo>
                      <a:pt x="1293" y="2559"/>
                    </a:lnTo>
                    <a:lnTo>
                      <a:pt x="1313" y="2517"/>
                    </a:lnTo>
                    <a:lnTo>
                      <a:pt x="1331" y="2474"/>
                    </a:lnTo>
                    <a:lnTo>
                      <a:pt x="1348" y="2431"/>
                    </a:lnTo>
                    <a:lnTo>
                      <a:pt x="1363" y="2387"/>
                    </a:lnTo>
                    <a:lnTo>
                      <a:pt x="1377" y="2343"/>
                    </a:lnTo>
                    <a:lnTo>
                      <a:pt x="1385" y="2310"/>
                    </a:lnTo>
                    <a:lnTo>
                      <a:pt x="1395" y="2277"/>
                    </a:lnTo>
                    <a:lnTo>
                      <a:pt x="1402" y="2243"/>
                    </a:lnTo>
                    <a:lnTo>
                      <a:pt x="1407" y="2208"/>
                    </a:lnTo>
                    <a:lnTo>
                      <a:pt x="1411" y="2175"/>
                    </a:lnTo>
                    <a:lnTo>
                      <a:pt x="1413" y="2140"/>
                    </a:lnTo>
                    <a:lnTo>
                      <a:pt x="1412" y="2106"/>
                    </a:lnTo>
                    <a:lnTo>
                      <a:pt x="1408" y="2073"/>
                    </a:lnTo>
                    <a:lnTo>
                      <a:pt x="1403" y="2046"/>
                    </a:lnTo>
                    <a:lnTo>
                      <a:pt x="1394" y="2015"/>
                    </a:lnTo>
                    <a:lnTo>
                      <a:pt x="1382" y="1983"/>
                    </a:lnTo>
                    <a:lnTo>
                      <a:pt x="1368" y="1952"/>
                    </a:lnTo>
                    <a:lnTo>
                      <a:pt x="1355" y="1926"/>
                    </a:lnTo>
                    <a:lnTo>
                      <a:pt x="1340" y="1910"/>
                    </a:lnTo>
                    <a:lnTo>
                      <a:pt x="1325" y="1905"/>
                    </a:lnTo>
                    <a:lnTo>
                      <a:pt x="1312" y="1915"/>
                    </a:lnTo>
                    <a:lnTo>
                      <a:pt x="1289" y="1961"/>
                    </a:lnTo>
                    <a:lnTo>
                      <a:pt x="1277" y="2015"/>
                    </a:lnTo>
                    <a:lnTo>
                      <a:pt x="1274" y="2073"/>
                    </a:lnTo>
                    <a:lnTo>
                      <a:pt x="1276" y="2131"/>
                    </a:lnTo>
                    <a:lnTo>
                      <a:pt x="1281" y="2192"/>
                    </a:lnTo>
                    <a:lnTo>
                      <a:pt x="1286" y="2252"/>
                    </a:lnTo>
                    <a:lnTo>
                      <a:pt x="1287" y="2310"/>
                    </a:lnTo>
                    <a:lnTo>
                      <a:pt x="1281" y="2365"/>
                    </a:lnTo>
                    <a:lnTo>
                      <a:pt x="1273" y="2394"/>
                    </a:lnTo>
                    <a:lnTo>
                      <a:pt x="1262" y="2422"/>
                    </a:lnTo>
                    <a:lnTo>
                      <a:pt x="1250" y="2447"/>
                    </a:lnTo>
                    <a:lnTo>
                      <a:pt x="1235" y="2472"/>
                    </a:lnTo>
                    <a:lnTo>
                      <a:pt x="1221" y="2499"/>
                    </a:lnTo>
                    <a:lnTo>
                      <a:pt x="1209" y="2525"/>
                    </a:lnTo>
                    <a:lnTo>
                      <a:pt x="1198" y="2552"/>
                    </a:lnTo>
                    <a:lnTo>
                      <a:pt x="1192" y="2583"/>
                    </a:lnTo>
                    <a:lnTo>
                      <a:pt x="1187" y="2549"/>
                    </a:lnTo>
                    <a:lnTo>
                      <a:pt x="1188" y="2514"/>
                    </a:lnTo>
                    <a:lnTo>
                      <a:pt x="1193" y="2478"/>
                    </a:lnTo>
                    <a:lnTo>
                      <a:pt x="1202" y="2440"/>
                    </a:lnTo>
                    <a:lnTo>
                      <a:pt x="1211" y="2403"/>
                    </a:lnTo>
                    <a:lnTo>
                      <a:pt x="1216" y="2366"/>
                    </a:lnTo>
                    <a:lnTo>
                      <a:pt x="1218" y="2330"/>
                    </a:lnTo>
                    <a:lnTo>
                      <a:pt x="1214" y="2298"/>
                    </a:lnTo>
                    <a:lnTo>
                      <a:pt x="1207" y="2278"/>
                    </a:lnTo>
                    <a:lnTo>
                      <a:pt x="1197" y="2257"/>
                    </a:lnTo>
                    <a:lnTo>
                      <a:pt x="1187" y="2239"/>
                    </a:lnTo>
                    <a:lnTo>
                      <a:pt x="1174" y="2220"/>
                    </a:lnTo>
                    <a:lnTo>
                      <a:pt x="1160" y="2202"/>
                    </a:lnTo>
                    <a:lnTo>
                      <a:pt x="1146" y="2184"/>
                    </a:lnTo>
                    <a:lnTo>
                      <a:pt x="1131" y="2164"/>
                    </a:lnTo>
                    <a:lnTo>
                      <a:pt x="1116" y="2147"/>
                    </a:lnTo>
                    <a:lnTo>
                      <a:pt x="1102" y="2129"/>
                    </a:lnTo>
                    <a:lnTo>
                      <a:pt x="1087" y="2111"/>
                    </a:lnTo>
                    <a:lnTo>
                      <a:pt x="1073" y="2093"/>
                    </a:lnTo>
                    <a:lnTo>
                      <a:pt x="1059" y="2075"/>
                    </a:lnTo>
                    <a:lnTo>
                      <a:pt x="1046" y="2056"/>
                    </a:lnTo>
                    <a:lnTo>
                      <a:pt x="1035" y="2037"/>
                    </a:lnTo>
                    <a:lnTo>
                      <a:pt x="1026" y="2018"/>
                    </a:lnTo>
                    <a:lnTo>
                      <a:pt x="1019" y="1998"/>
                    </a:lnTo>
                    <a:lnTo>
                      <a:pt x="1008" y="1963"/>
                    </a:lnTo>
                    <a:lnTo>
                      <a:pt x="997" y="1931"/>
                    </a:lnTo>
                    <a:lnTo>
                      <a:pt x="985" y="1898"/>
                    </a:lnTo>
                    <a:lnTo>
                      <a:pt x="974" y="1864"/>
                    </a:lnTo>
                    <a:lnTo>
                      <a:pt x="962" y="1832"/>
                    </a:lnTo>
                    <a:lnTo>
                      <a:pt x="949" y="1799"/>
                    </a:lnTo>
                    <a:lnTo>
                      <a:pt x="938" y="1765"/>
                    </a:lnTo>
                    <a:lnTo>
                      <a:pt x="926" y="1732"/>
                    </a:lnTo>
                    <a:lnTo>
                      <a:pt x="915" y="1699"/>
                    </a:lnTo>
                    <a:lnTo>
                      <a:pt x="903" y="1666"/>
                    </a:lnTo>
                    <a:lnTo>
                      <a:pt x="893" y="1633"/>
                    </a:lnTo>
                    <a:lnTo>
                      <a:pt x="882" y="1599"/>
                    </a:lnTo>
                    <a:lnTo>
                      <a:pt x="872" y="1565"/>
                    </a:lnTo>
                    <a:lnTo>
                      <a:pt x="863" y="1532"/>
                    </a:lnTo>
                    <a:lnTo>
                      <a:pt x="855" y="1498"/>
                    </a:lnTo>
                    <a:lnTo>
                      <a:pt x="847" y="1464"/>
                    </a:lnTo>
                    <a:lnTo>
                      <a:pt x="840" y="1422"/>
                    </a:lnTo>
                    <a:lnTo>
                      <a:pt x="839" y="1380"/>
                    </a:lnTo>
                    <a:lnTo>
                      <a:pt x="843" y="1336"/>
                    </a:lnTo>
                    <a:lnTo>
                      <a:pt x="846" y="1293"/>
                    </a:lnTo>
                    <a:lnTo>
                      <a:pt x="848" y="1251"/>
                    </a:lnTo>
                    <a:lnTo>
                      <a:pt x="848" y="1209"/>
                    </a:lnTo>
                    <a:lnTo>
                      <a:pt x="843" y="1168"/>
                    </a:lnTo>
                    <a:lnTo>
                      <a:pt x="832" y="1127"/>
                    </a:lnTo>
                    <a:lnTo>
                      <a:pt x="823" y="1108"/>
                    </a:lnTo>
                    <a:lnTo>
                      <a:pt x="813" y="1090"/>
                    </a:lnTo>
                    <a:lnTo>
                      <a:pt x="803" y="1071"/>
                    </a:lnTo>
                    <a:lnTo>
                      <a:pt x="791" y="1054"/>
                    </a:lnTo>
                    <a:lnTo>
                      <a:pt x="778" y="1038"/>
                    </a:lnTo>
                    <a:lnTo>
                      <a:pt x="765" y="1022"/>
                    </a:lnTo>
                    <a:lnTo>
                      <a:pt x="750" y="1006"/>
                    </a:lnTo>
                    <a:lnTo>
                      <a:pt x="736" y="990"/>
                    </a:lnTo>
                    <a:lnTo>
                      <a:pt x="720" y="975"/>
                    </a:lnTo>
                    <a:lnTo>
                      <a:pt x="705" y="959"/>
                    </a:lnTo>
                    <a:lnTo>
                      <a:pt x="690" y="944"/>
                    </a:lnTo>
                    <a:lnTo>
                      <a:pt x="675" y="928"/>
                    </a:lnTo>
                    <a:lnTo>
                      <a:pt x="661" y="913"/>
                    </a:lnTo>
                    <a:lnTo>
                      <a:pt x="647" y="898"/>
                    </a:lnTo>
                    <a:lnTo>
                      <a:pt x="635" y="882"/>
                    </a:lnTo>
                    <a:lnTo>
                      <a:pt x="623" y="865"/>
                    </a:lnTo>
                    <a:lnTo>
                      <a:pt x="604" y="834"/>
                    </a:lnTo>
                    <a:lnTo>
                      <a:pt x="590" y="804"/>
                    </a:lnTo>
                    <a:lnTo>
                      <a:pt x="577" y="771"/>
                    </a:lnTo>
                    <a:lnTo>
                      <a:pt x="563" y="738"/>
                    </a:lnTo>
                    <a:lnTo>
                      <a:pt x="550" y="706"/>
                    </a:lnTo>
                    <a:lnTo>
                      <a:pt x="535" y="677"/>
                    </a:lnTo>
                    <a:lnTo>
                      <a:pt x="517" y="648"/>
                    </a:lnTo>
                    <a:lnTo>
                      <a:pt x="495" y="624"/>
                    </a:lnTo>
                    <a:lnTo>
                      <a:pt x="476" y="607"/>
                    </a:lnTo>
                    <a:lnTo>
                      <a:pt x="456" y="592"/>
                    </a:lnTo>
                    <a:lnTo>
                      <a:pt x="435" y="579"/>
                    </a:lnTo>
                    <a:lnTo>
                      <a:pt x="414" y="566"/>
                    </a:lnTo>
                    <a:lnTo>
                      <a:pt x="390" y="554"/>
                    </a:lnTo>
                    <a:lnTo>
                      <a:pt x="368" y="543"/>
                    </a:lnTo>
                    <a:lnTo>
                      <a:pt x="345" y="533"/>
                    </a:lnTo>
                    <a:lnTo>
                      <a:pt x="322" y="523"/>
                    </a:lnTo>
                    <a:lnTo>
                      <a:pt x="299" y="512"/>
                    </a:lnTo>
                    <a:lnTo>
                      <a:pt x="275" y="501"/>
                    </a:lnTo>
                    <a:lnTo>
                      <a:pt x="253" y="489"/>
                    </a:lnTo>
                    <a:lnTo>
                      <a:pt x="232" y="477"/>
                    </a:lnTo>
                    <a:lnTo>
                      <a:pt x="211" y="463"/>
                    </a:lnTo>
                    <a:lnTo>
                      <a:pt x="192" y="447"/>
                    </a:lnTo>
                    <a:lnTo>
                      <a:pt x="174" y="431"/>
                    </a:lnTo>
                    <a:lnTo>
                      <a:pt x="157" y="413"/>
                    </a:lnTo>
                    <a:lnTo>
                      <a:pt x="141" y="391"/>
                    </a:lnTo>
                    <a:lnTo>
                      <a:pt x="127" y="368"/>
                    </a:lnTo>
                    <a:lnTo>
                      <a:pt x="114" y="343"/>
                    </a:lnTo>
                    <a:lnTo>
                      <a:pt x="102" y="319"/>
                    </a:lnTo>
                    <a:lnTo>
                      <a:pt x="92" y="294"/>
                    </a:lnTo>
                    <a:lnTo>
                      <a:pt x="82" y="268"/>
                    </a:lnTo>
                    <a:lnTo>
                      <a:pt x="72" y="241"/>
                    </a:lnTo>
                    <a:lnTo>
                      <a:pt x="64" y="215"/>
                    </a:lnTo>
                    <a:lnTo>
                      <a:pt x="55" y="188"/>
                    </a:lnTo>
                    <a:lnTo>
                      <a:pt x="49" y="161"/>
                    </a:lnTo>
                    <a:lnTo>
                      <a:pt x="41" y="134"/>
                    </a:lnTo>
                    <a:lnTo>
                      <a:pt x="33" y="106"/>
                    </a:lnTo>
                    <a:lnTo>
                      <a:pt x="26" y="79"/>
                    </a:lnTo>
                    <a:lnTo>
                      <a:pt x="18" y="53"/>
                    </a:lnTo>
                    <a:lnTo>
                      <a:pt x="1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205840" y="1670040"/>
                <a:ext cx="558720" cy="637920"/>
              </a:xfrm>
              <a:custGeom>
                <a:avLst/>
                <a:gdLst/>
                <a:ahLst/>
                <a:rect l="l" t="t" r="r" b="b"/>
                <a:pathLst>
                  <a:path w="2464" h="2816">
                    <a:moveTo>
                      <a:pt x="1909" y="2214"/>
                    </a:moveTo>
                    <a:lnTo>
                      <a:pt x="1936" y="2259"/>
                    </a:lnTo>
                    <a:lnTo>
                      <a:pt x="1963" y="2304"/>
                    </a:lnTo>
                    <a:lnTo>
                      <a:pt x="1992" y="2348"/>
                    </a:lnTo>
                    <a:lnTo>
                      <a:pt x="2019" y="2392"/>
                    </a:lnTo>
                    <a:lnTo>
                      <a:pt x="2049" y="2433"/>
                    </a:lnTo>
                    <a:lnTo>
                      <a:pt x="2078" y="2474"/>
                    </a:lnTo>
                    <a:lnTo>
                      <a:pt x="2110" y="2513"/>
                    </a:lnTo>
                    <a:lnTo>
                      <a:pt x="2142" y="2551"/>
                    </a:lnTo>
                    <a:lnTo>
                      <a:pt x="2176" y="2589"/>
                    </a:lnTo>
                    <a:lnTo>
                      <a:pt x="2212" y="2624"/>
                    </a:lnTo>
                    <a:lnTo>
                      <a:pt x="2248" y="2658"/>
                    </a:lnTo>
                    <a:lnTo>
                      <a:pt x="2287" y="2691"/>
                    </a:lnTo>
                    <a:lnTo>
                      <a:pt x="2329" y="2722"/>
                    </a:lnTo>
                    <a:lnTo>
                      <a:pt x="2372" y="2752"/>
                    </a:lnTo>
                    <a:lnTo>
                      <a:pt x="2416" y="2781"/>
                    </a:lnTo>
                    <a:lnTo>
                      <a:pt x="2464" y="2807"/>
                    </a:lnTo>
                    <a:lnTo>
                      <a:pt x="2449" y="2810"/>
                    </a:lnTo>
                    <a:lnTo>
                      <a:pt x="2435" y="2813"/>
                    </a:lnTo>
                    <a:lnTo>
                      <a:pt x="2420" y="2814"/>
                    </a:lnTo>
                    <a:lnTo>
                      <a:pt x="2406" y="2815"/>
                    </a:lnTo>
                    <a:lnTo>
                      <a:pt x="2393" y="2816"/>
                    </a:lnTo>
                    <a:lnTo>
                      <a:pt x="2379" y="2816"/>
                    </a:lnTo>
                    <a:lnTo>
                      <a:pt x="2367" y="2815"/>
                    </a:lnTo>
                    <a:lnTo>
                      <a:pt x="2353" y="2813"/>
                    </a:lnTo>
                    <a:lnTo>
                      <a:pt x="2341" y="2812"/>
                    </a:lnTo>
                    <a:lnTo>
                      <a:pt x="2329" y="2809"/>
                    </a:lnTo>
                    <a:lnTo>
                      <a:pt x="2317" y="2806"/>
                    </a:lnTo>
                    <a:lnTo>
                      <a:pt x="2306" y="2803"/>
                    </a:lnTo>
                    <a:lnTo>
                      <a:pt x="2292" y="2800"/>
                    </a:lnTo>
                    <a:lnTo>
                      <a:pt x="2282" y="2795"/>
                    </a:lnTo>
                    <a:lnTo>
                      <a:pt x="2270" y="2790"/>
                    </a:lnTo>
                    <a:lnTo>
                      <a:pt x="2259" y="2785"/>
                    </a:lnTo>
                    <a:lnTo>
                      <a:pt x="2240" y="2777"/>
                    </a:lnTo>
                    <a:lnTo>
                      <a:pt x="2221" y="2765"/>
                    </a:lnTo>
                    <a:lnTo>
                      <a:pt x="2202" y="2755"/>
                    </a:lnTo>
                    <a:lnTo>
                      <a:pt x="2181" y="2742"/>
                    </a:lnTo>
                    <a:lnTo>
                      <a:pt x="2160" y="2730"/>
                    </a:lnTo>
                    <a:lnTo>
                      <a:pt x="2139" y="2717"/>
                    </a:lnTo>
                    <a:lnTo>
                      <a:pt x="2117" y="2703"/>
                    </a:lnTo>
                    <a:lnTo>
                      <a:pt x="2096" y="2690"/>
                    </a:lnTo>
                    <a:lnTo>
                      <a:pt x="2072" y="2677"/>
                    </a:lnTo>
                    <a:lnTo>
                      <a:pt x="2050" y="2662"/>
                    </a:lnTo>
                    <a:lnTo>
                      <a:pt x="2027" y="2650"/>
                    </a:lnTo>
                    <a:lnTo>
                      <a:pt x="2004" y="2638"/>
                    </a:lnTo>
                    <a:lnTo>
                      <a:pt x="1980" y="2625"/>
                    </a:lnTo>
                    <a:lnTo>
                      <a:pt x="1955" y="2615"/>
                    </a:lnTo>
                    <a:lnTo>
                      <a:pt x="1931" y="2605"/>
                    </a:lnTo>
                    <a:lnTo>
                      <a:pt x="1908" y="2597"/>
                    </a:lnTo>
                    <a:lnTo>
                      <a:pt x="1887" y="2590"/>
                    </a:lnTo>
                    <a:lnTo>
                      <a:pt x="1866" y="2585"/>
                    </a:lnTo>
                    <a:lnTo>
                      <a:pt x="1844" y="2581"/>
                    </a:lnTo>
                    <a:lnTo>
                      <a:pt x="1823" y="2578"/>
                    </a:lnTo>
                    <a:lnTo>
                      <a:pt x="1802" y="2576"/>
                    </a:lnTo>
                    <a:lnTo>
                      <a:pt x="1780" y="2574"/>
                    </a:lnTo>
                    <a:lnTo>
                      <a:pt x="1759" y="2574"/>
                    </a:lnTo>
                    <a:lnTo>
                      <a:pt x="1736" y="2574"/>
                    </a:lnTo>
                    <a:lnTo>
                      <a:pt x="1715" y="2575"/>
                    </a:lnTo>
                    <a:lnTo>
                      <a:pt x="1693" y="2577"/>
                    </a:lnTo>
                    <a:lnTo>
                      <a:pt x="1671" y="2579"/>
                    </a:lnTo>
                    <a:lnTo>
                      <a:pt x="1649" y="2581"/>
                    </a:lnTo>
                    <a:lnTo>
                      <a:pt x="1625" y="2585"/>
                    </a:lnTo>
                    <a:lnTo>
                      <a:pt x="1603" y="2589"/>
                    </a:lnTo>
                    <a:lnTo>
                      <a:pt x="1580" y="2594"/>
                    </a:lnTo>
                    <a:lnTo>
                      <a:pt x="1557" y="2599"/>
                    </a:lnTo>
                    <a:lnTo>
                      <a:pt x="1532" y="2604"/>
                    </a:lnTo>
                    <a:lnTo>
                      <a:pt x="1509" y="2609"/>
                    </a:lnTo>
                    <a:lnTo>
                      <a:pt x="1485" y="2616"/>
                    </a:lnTo>
                    <a:lnTo>
                      <a:pt x="1462" y="2621"/>
                    </a:lnTo>
                    <a:lnTo>
                      <a:pt x="1438" y="2628"/>
                    </a:lnTo>
                    <a:lnTo>
                      <a:pt x="1412" y="2634"/>
                    </a:lnTo>
                    <a:lnTo>
                      <a:pt x="1387" y="2641"/>
                    </a:lnTo>
                    <a:lnTo>
                      <a:pt x="1362" y="2647"/>
                    </a:lnTo>
                    <a:lnTo>
                      <a:pt x="1337" y="2654"/>
                    </a:lnTo>
                    <a:lnTo>
                      <a:pt x="1311" y="2660"/>
                    </a:lnTo>
                    <a:lnTo>
                      <a:pt x="1284" y="2667"/>
                    </a:lnTo>
                    <a:lnTo>
                      <a:pt x="1258" y="2674"/>
                    </a:lnTo>
                    <a:lnTo>
                      <a:pt x="1232" y="2680"/>
                    </a:lnTo>
                    <a:lnTo>
                      <a:pt x="1204" y="2685"/>
                    </a:lnTo>
                    <a:lnTo>
                      <a:pt x="1176" y="2691"/>
                    </a:lnTo>
                    <a:lnTo>
                      <a:pt x="1148" y="2696"/>
                    </a:lnTo>
                    <a:lnTo>
                      <a:pt x="1148" y="2618"/>
                    </a:lnTo>
                    <a:lnTo>
                      <a:pt x="1142" y="2544"/>
                    </a:lnTo>
                    <a:lnTo>
                      <a:pt x="1130" y="2477"/>
                    </a:lnTo>
                    <a:lnTo>
                      <a:pt x="1114" y="2411"/>
                    </a:lnTo>
                    <a:lnTo>
                      <a:pt x="1093" y="2349"/>
                    </a:lnTo>
                    <a:lnTo>
                      <a:pt x="1069" y="2291"/>
                    </a:lnTo>
                    <a:lnTo>
                      <a:pt x="1042" y="2235"/>
                    </a:lnTo>
                    <a:lnTo>
                      <a:pt x="1013" y="2180"/>
                    </a:lnTo>
                    <a:lnTo>
                      <a:pt x="980" y="2127"/>
                    </a:lnTo>
                    <a:lnTo>
                      <a:pt x="949" y="2075"/>
                    </a:lnTo>
                    <a:lnTo>
                      <a:pt x="916" y="2024"/>
                    </a:lnTo>
                    <a:lnTo>
                      <a:pt x="884" y="1973"/>
                    </a:lnTo>
                    <a:lnTo>
                      <a:pt x="851" y="1920"/>
                    </a:lnTo>
                    <a:lnTo>
                      <a:pt x="819" y="1867"/>
                    </a:lnTo>
                    <a:lnTo>
                      <a:pt x="790" y="1811"/>
                    </a:lnTo>
                    <a:lnTo>
                      <a:pt x="763" y="1754"/>
                    </a:lnTo>
                    <a:lnTo>
                      <a:pt x="738" y="1697"/>
                    </a:lnTo>
                    <a:lnTo>
                      <a:pt x="715" y="1639"/>
                    </a:lnTo>
                    <a:lnTo>
                      <a:pt x="692" y="1582"/>
                    </a:lnTo>
                    <a:lnTo>
                      <a:pt x="671" y="1525"/>
                    </a:lnTo>
                    <a:lnTo>
                      <a:pt x="649" y="1468"/>
                    </a:lnTo>
                    <a:lnTo>
                      <a:pt x="629" y="1410"/>
                    </a:lnTo>
                    <a:lnTo>
                      <a:pt x="610" y="1353"/>
                    </a:lnTo>
                    <a:lnTo>
                      <a:pt x="590" y="1297"/>
                    </a:lnTo>
                    <a:lnTo>
                      <a:pt x="571" y="1240"/>
                    </a:lnTo>
                    <a:lnTo>
                      <a:pt x="551" y="1183"/>
                    </a:lnTo>
                    <a:lnTo>
                      <a:pt x="530" y="1125"/>
                    </a:lnTo>
                    <a:lnTo>
                      <a:pt x="510" y="1069"/>
                    </a:lnTo>
                    <a:lnTo>
                      <a:pt x="488" y="1011"/>
                    </a:lnTo>
                    <a:lnTo>
                      <a:pt x="466" y="954"/>
                    </a:lnTo>
                    <a:lnTo>
                      <a:pt x="443" y="896"/>
                    </a:lnTo>
                    <a:lnTo>
                      <a:pt x="417" y="838"/>
                    </a:lnTo>
                    <a:lnTo>
                      <a:pt x="406" y="814"/>
                    </a:lnTo>
                    <a:lnTo>
                      <a:pt x="390" y="790"/>
                    </a:lnTo>
                    <a:lnTo>
                      <a:pt x="373" y="766"/>
                    </a:lnTo>
                    <a:lnTo>
                      <a:pt x="353" y="740"/>
                    </a:lnTo>
                    <a:lnTo>
                      <a:pt x="332" y="716"/>
                    </a:lnTo>
                    <a:lnTo>
                      <a:pt x="308" y="690"/>
                    </a:lnTo>
                    <a:lnTo>
                      <a:pt x="284" y="665"/>
                    </a:lnTo>
                    <a:lnTo>
                      <a:pt x="261" y="638"/>
                    </a:lnTo>
                    <a:lnTo>
                      <a:pt x="237" y="614"/>
                    </a:lnTo>
                    <a:lnTo>
                      <a:pt x="213" y="589"/>
                    </a:lnTo>
                    <a:lnTo>
                      <a:pt x="190" y="563"/>
                    </a:lnTo>
                    <a:lnTo>
                      <a:pt x="168" y="537"/>
                    </a:lnTo>
                    <a:lnTo>
                      <a:pt x="149" y="513"/>
                    </a:lnTo>
                    <a:lnTo>
                      <a:pt x="131" y="489"/>
                    </a:lnTo>
                    <a:lnTo>
                      <a:pt x="116" y="465"/>
                    </a:lnTo>
                    <a:lnTo>
                      <a:pt x="103" y="440"/>
                    </a:lnTo>
                    <a:lnTo>
                      <a:pt x="86" y="394"/>
                    </a:lnTo>
                    <a:lnTo>
                      <a:pt x="72" y="351"/>
                    </a:lnTo>
                    <a:lnTo>
                      <a:pt x="62" y="307"/>
                    </a:lnTo>
                    <a:lnTo>
                      <a:pt x="52" y="264"/>
                    </a:lnTo>
                    <a:lnTo>
                      <a:pt x="43" y="220"/>
                    </a:lnTo>
                    <a:lnTo>
                      <a:pt x="31" y="176"/>
                    </a:lnTo>
                    <a:lnTo>
                      <a:pt x="18" y="130"/>
                    </a:lnTo>
                    <a:lnTo>
                      <a:pt x="0" y="85"/>
                    </a:lnTo>
                    <a:lnTo>
                      <a:pt x="26" y="85"/>
                    </a:lnTo>
                    <a:lnTo>
                      <a:pt x="50" y="83"/>
                    </a:lnTo>
                    <a:lnTo>
                      <a:pt x="76" y="79"/>
                    </a:lnTo>
                    <a:lnTo>
                      <a:pt x="101" y="75"/>
                    </a:lnTo>
                    <a:lnTo>
                      <a:pt x="127" y="69"/>
                    </a:lnTo>
                    <a:lnTo>
                      <a:pt x="152" y="63"/>
                    </a:lnTo>
                    <a:lnTo>
                      <a:pt x="176" y="56"/>
                    </a:lnTo>
                    <a:lnTo>
                      <a:pt x="202" y="49"/>
                    </a:lnTo>
                    <a:lnTo>
                      <a:pt x="228" y="41"/>
                    </a:lnTo>
                    <a:lnTo>
                      <a:pt x="253" y="33"/>
                    </a:lnTo>
                    <a:lnTo>
                      <a:pt x="278" y="27"/>
                    </a:lnTo>
                    <a:lnTo>
                      <a:pt x="303" y="20"/>
                    </a:lnTo>
                    <a:lnTo>
                      <a:pt x="327" y="14"/>
                    </a:lnTo>
                    <a:lnTo>
                      <a:pt x="354" y="8"/>
                    </a:lnTo>
                    <a:lnTo>
                      <a:pt x="379" y="5"/>
                    </a:lnTo>
                    <a:lnTo>
                      <a:pt x="405" y="2"/>
                    </a:lnTo>
                    <a:lnTo>
                      <a:pt x="423" y="1"/>
                    </a:lnTo>
                    <a:lnTo>
                      <a:pt x="442" y="0"/>
                    </a:lnTo>
                    <a:lnTo>
                      <a:pt x="460" y="0"/>
                    </a:lnTo>
                    <a:lnTo>
                      <a:pt x="478" y="0"/>
                    </a:lnTo>
                    <a:lnTo>
                      <a:pt x="495" y="1"/>
                    </a:lnTo>
                    <a:lnTo>
                      <a:pt x="514" y="3"/>
                    </a:lnTo>
                    <a:lnTo>
                      <a:pt x="531" y="5"/>
                    </a:lnTo>
                    <a:lnTo>
                      <a:pt x="550" y="7"/>
                    </a:lnTo>
                    <a:lnTo>
                      <a:pt x="567" y="9"/>
                    </a:lnTo>
                    <a:lnTo>
                      <a:pt x="584" y="13"/>
                    </a:lnTo>
                    <a:lnTo>
                      <a:pt x="601" y="16"/>
                    </a:lnTo>
                    <a:lnTo>
                      <a:pt x="619" y="20"/>
                    </a:lnTo>
                    <a:lnTo>
                      <a:pt x="637" y="25"/>
                    </a:lnTo>
                    <a:lnTo>
                      <a:pt x="654" y="29"/>
                    </a:lnTo>
                    <a:lnTo>
                      <a:pt x="672" y="34"/>
                    </a:lnTo>
                    <a:lnTo>
                      <a:pt x="690" y="39"/>
                    </a:lnTo>
                    <a:lnTo>
                      <a:pt x="704" y="43"/>
                    </a:lnTo>
                    <a:lnTo>
                      <a:pt x="716" y="48"/>
                    </a:lnTo>
                    <a:lnTo>
                      <a:pt x="729" y="52"/>
                    </a:lnTo>
                    <a:lnTo>
                      <a:pt x="744" y="56"/>
                    </a:lnTo>
                    <a:lnTo>
                      <a:pt x="757" y="61"/>
                    </a:lnTo>
                    <a:lnTo>
                      <a:pt x="771" y="67"/>
                    </a:lnTo>
                    <a:lnTo>
                      <a:pt x="785" y="71"/>
                    </a:lnTo>
                    <a:lnTo>
                      <a:pt x="798" y="77"/>
                    </a:lnTo>
                    <a:lnTo>
                      <a:pt x="811" y="84"/>
                    </a:lnTo>
                    <a:lnTo>
                      <a:pt x="824" y="90"/>
                    </a:lnTo>
                    <a:lnTo>
                      <a:pt x="835" y="98"/>
                    </a:lnTo>
                    <a:lnTo>
                      <a:pt x="847" y="106"/>
                    </a:lnTo>
                    <a:lnTo>
                      <a:pt x="857" y="114"/>
                    </a:lnTo>
                    <a:lnTo>
                      <a:pt x="868" y="124"/>
                    </a:lnTo>
                    <a:lnTo>
                      <a:pt x="877" y="133"/>
                    </a:lnTo>
                    <a:lnTo>
                      <a:pt x="886" y="144"/>
                    </a:lnTo>
                    <a:lnTo>
                      <a:pt x="904" y="175"/>
                    </a:lnTo>
                    <a:lnTo>
                      <a:pt x="916" y="209"/>
                    </a:lnTo>
                    <a:lnTo>
                      <a:pt x="926" y="243"/>
                    </a:lnTo>
                    <a:lnTo>
                      <a:pt x="935" y="279"/>
                    </a:lnTo>
                    <a:lnTo>
                      <a:pt x="943" y="315"/>
                    </a:lnTo>
                    <a:lnTo>
                      <a:pt x="952" y="351"/>
                    </a:lnTo>
                    <a:lnTo>
                      <a:pt x="964" y="384"/>
                    </a:lnTo>
                    <a:lnTo>
                      <a:pt x="982" y="414"/>
                    </a:lnTo>
                    <a:lnTo>
                      <a:pt x="994" y="429"/>
                    </a:lnTo>
                    <a:lnTo>
                      <a:pt x="1004" y="442"/>
                    </a:lnTo>
                    <a:lnTo>
                      <a:pt x="1016" y="457"/>
                    </a:lnTo>
                    <a:lnTo>
                      <a:pt x="1027" y="471"/>
                    </a:lnTo>
                    <a:lnTo>
                      <a:pt x="1040" y="483"/>
                    </a:lnTo>
                    <a:lnTo>
                      <a:pt x="1052" y="496"/>
                    </a:lnTo>
                    <a:lnTo>
                      <a:pt x="1065" y="509"/>
                    </a:lnTo>
                    <a:lnTo>
                      <a:pt x="1079" y="520"/>
                    </a:lnTo>
                    <a:lnTo>
                      <a:pt x="1093" y="532"/>
                    </a:lnTo>
                    <a:lnTo>
                      <a:pt x="1108" y="542"/>
                    </a:lnTo>
                    <a:lnTo>
                      <a:pt x="1123" y="554"/>
                    </a:lnTo>
                    <a:lnTo>
                      <a:pt x="1138" y="563"/>
                    </a:lnTo>
                    <a:lnTo>
                      <a:pt x="1153" y="573"/>
                    </a:lnTo>
                    <a:lnTo>
                      <a:pt x="1169" y="580"/>
                    </a:lnTo>
                    <a:lnTo>
                      <a:pt x="1185" y="588"/>
                    </a:lnTo>
                    <a:lnTo>
                      <a:pt x="1201" y="595"/>
                    </a:lnTo>
                    <a:lnTo>
                      <a:pt x="1211" y="597"/>
                    </a:lnTo>
                    <a:lnTo>
                      <a:pt x="1221" y="600"/>
                    </a:lnTo>
                    <a:lnTo>
                      <a:pt x="1232" y="603"/>
                    </a:lnTo>
                    <a:lnTo>
                      <a:pt x="1243" y="605"/>
                    </a:lnTo>
                    <a:lnTo>
                      <a:pt x="1254" y="607"/>
                    </a:lnTo>
                    <a:lnTo>
                      <a:pt x="1267" y="609"/>
                    </a:lnTo>
                    <a:lnTo>
                      <a:pt x="1280" y="610"/>
                    </a:lnTo>
                    <a:lnTo>
                      <a:pt x="1293" y="611"/>
                    </a:lnTo>
                    <a:lnTo>
                      <a:pt x="1306" y="611"/>
                    </a:lnTo>
                    <a:lnTo>
                      <a:pt x="1319" y="612"/>
                    </a:lnTo>
                    <a:lnTo>
                      <a:pt x="1332" y="611"/>
                    </a:lnTo>
                    <a:lnTo>
                      <a:pt x="1344" y="611"/>
                    </a:lnTo>
                    <a:lnTo>
                      <a:pt x="1356" y="610"/>
                    </a:lnTo>
                    <a:lnTo>
                      <a:pt x="1367" y="608"/>
                    </a:lnTo>
                    <a:lnTo>
                      <a:pt x="1377" y="606"/>
                    </a:lnTo>
                    <a:lnTo>
                      <a:pt x="1386" y="604"/>
                    </a:lnTo>
                    <a:lnTo>
                      <a:pt x="1377" y="685"/>
                    </a:lnTo>
                    <a:lnTo>
                      <a:pt x="1363" y="766"/>
                    </a:lnTo>
                    <a:lnTo>
                      <a:pt x="1349" y="846"/>
                    </a:lnTo>
                    <a:lnTo>
                      <a:pt x="1333" y="927"/>
                    </a:lnTo>
                    <a:lnTo>
                      <a:pt x="1317" y="1009"/>
                    </a:lnTo>
                    <a:lnTo>
                      <a:pt x="1301" y="1090"/>
                    </a:lnTo>
                    <a:lnTo>
                      <a:pt x="1288" y="1171"/>
                    </a:lnTo>
                    <a:lnTo>
                      <a:pt x="1278" y="1250"/>
                    </a:lnTo>
                    <a:lnTo>
                      <a:pt x="1281" y="1275"/>
                    </a:lnTo>
                    <a:lnTo>
                      <a:pt x="1289" y="1303"/>
                    </a:lnTo>
                    <a:lnTo>
                      <a:pt x="1298" y="1332"/>
                    </a:lnTo>
                    <a:lnTo>
                      <a:pt x="1311" y="1362"/>
                    </a:lnTo>
                    <a:lnTo>
                      <a:pt x="1327" y="1389"/>
                    </a:lnTo>
                    <a:lnTo>
                      <a:pt x="1343" y="1414"/>
                    </a:lnTo>
                    <a:lnTo>
                      <a:pt x="1361" y="1434"/>
                    </a:lnTo>
                    <a:lnTo>
                      <a:pt x="1380" y="1447"/>
                    </a:lnTo>
                    <a:lnTo>
                      <a:pt x="1403" y="1461"/>
                    </a:lnTo>
                    <a:lnTo>
                      <a:pt x="1427" y="1473"/>
                    </a:lnTo>
                    <a:lnTo>
                      <a:pt x="1450" y="1487"/>
                    </a:lnTo>
                    <a:lnTo>
                      <a:pt x="1473" y="1503"/>
                    </a:lnTo>
                    <a:lnTo>
                      <a:pt x="1496" y="1519"/>
                    </a:lnTo>
                    <a:lnTo>
                      <a:pt x="1518" y="1535"/>
                    </a:lnTo>
                    <a:lnTo>
                      <a:pt x="1541" y="1553"/>
                    </a:lnTo>
                    <a:lnTo>
                      <a:pt x="1562" y="1573"/>
                    </a:lnTo>
                    <a:lnTo>
                      <a:pt x="1583" y="1593"/>
                    </a:lnTo>
                    <a:lnTo>
                      <a:pt x="1604" y="1614"/>
                    </a:lnTo>
                    <a:lnTo>
                      <a:pt x="1624" y="1635"/>
                    </a:lnTo>
                    <a:lnTo>
                      <a:pt x="1643" y="1659"/>
                    </a:lnTo>
                    <a:lnTo>
                      <a:pt x="1662" y="1682"/>
                    </a:lnTo>
                    <a:lnTo>
                      <a:pt x="1680" y="1706"/>
                    </a:lnTo>
                    <a:lnTo>
                      <a:pt x="1697" y="1730"/>
                    </a:lnTo>
                    <a:lnTo>
                      <a:pt x="1714" y="1756"/>
                    </a:lnTo>
                    <a:lnTo>
                      <a:pt x="1728" y="1782"/>
                    </a:lnTo>
                    <a:lnTo>
                      <a:pt x="1741" y="1808"/>
                    </a:lnTo>
                    <a:lnTo>
                      <a:pt x="1756" y="1834"/>
                    </a:lnTo>
                    <a:lnTo>
                      <a:pt x="1769" y="1863"/>
                    </a:lnTo>
                    <a:lnTo>
                      <a:pt x="1781" y="1892"/>
                    </a:lnTo>
                    <a:lnTo>
                      <a:pt x="1794" y="1921"/>
                    </a:lnTo>
                    <a:lnTo>
                      <a:pt x="1806" y="1951"/>
                    </a:lnTo>
                    <a:lnTo>
                      <a:pt x="1819" y="1981"/>
                    </a:lnTo>
                    <a:lnTo>
                      <a:pt x="1830" y="2012"/>
                    </a:lnTo>
                    <a:lnTo>
                      <a:pt x="1842" y="2041"/>
                    </a:lnTo>
                    <a:lnTo>
                      <a:pt x="1853" y="2073"/>
                    </a:lnTo>
                    <a:lnTo>
                      <a:pt x="1866" y="2101"/>
                    </a:lnTo>
                    <a:lnTo>
                      <a:pt x="1876" y="2131"/>
                    </a:lnTo>
                    <a:lnTo>
                      <a:pt x="1887" y="2158"/>
                    </a:lnTo>
                    <a:lnTo>
                      <a:pt x="1898" y="2187"/>
                    </a:lnTo>
                    <a:lnTo>
                      <a:pt x="1909" y="2214"/>
                    </a:lnTo>
                    <a:close/>
                  </a:path>
                </a:pathLst>
              </a:custGeom>
              <a:solidFill>
                <a:srgbClr val="ff8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620120" y="1600200"/>
                <a:ext cx="547560" cy="707760"/>
              </a:xfrm>
              <a:custGeom>
                <a:avLst/>
                <a:gdLst/>
                <a:ahLst/>
                <a:rect l="l" t="t" r="r" b="b"/>
                <a:pathLst>
                  <a:path w="2415" h="3120">
                    <a:moveTo>
                      <a:pt x="2415" y="3120"/>
                    </a:moveTo>
                    <a:lnTo>
                      <a:pt x="2387" y="3118"/>
                    </a:lnTo>
                    <a:lnTo>
                      <a:pt x="2361" y="3113"/>
                    </a:lnTo>
                    <a:lnTo>
                      <a:pt x="2335" y="3104"/>
                    </a:lnTo>
                    <a:lnTo>
                      <a:pt x="2311" y="3092"/>
                    </a:lnTo>
                    <a:lnTo>
                      <a:pt x="2288" y="3077"/>
                    </a:lnTo>
                    <a:lnTo>
                      <a:pt x="2265" y="3060"/>
                    </a:lnTo>
                    <a:lnTo>
                      <a:pt x="2241" y="3042"/>
                    </a:lnTo>
                    <a:lnTo>
                      <a:pt x="2219" y="3023"/>
                    </a:lnTo>
                    <a:lnTo>
                      <a:pt x="2196" y="3004"/>
                    </a:lnTo>
                    <a:lnTo>
                      <a:pt x="2174" y="2984"/>
                    </a:lnTo>
                    <a:lnTo>
                      <a:pt x="2151" y="2964"/>
                    </a:lnTo>
                    <a:lnTo>
                      <a:pt x="2127" y="2946"/>
                    </a:lnTo>
                    <a:lnTo>
                      <a:pt x="2103" y="2929"/>
                    </a:lnTo>
                    <a:lnTo>
                      <a:pt x="2080" y="2914"/>
                    </a:lnTo>
                    <a:lnTo>
                      <a:pt x="2055" y="2903"/>
                    </a:lnTo>
                    <a:lnTo>
                      <a:pt x="2027" y="2893"/>
                    </a:lnTo>
                    <a:lnTo>
                      <a:pt x="2005" y="2887"/>
                    </a:lnTo>
                    <a:lnTo>
                      <a:pt x="1985" y="2885"/>
                    </a:lnTo>
                    <a:lnTo>
                      <a:pt x="1967" y="2882"/>
                    </a:lnTo>
                    <a:lnTo>
                      <a:pt x="1949" y="2881"/>
                    </a:lnTo>
                    <a:lnTo>
                      <a:pt x="1933" y="2881"/>
                    </a:lnTo>
                    <a:lnTo>
                      <a:pt x="1915" y="2882"/>
                    </a:lnTo>
                    <a:lnTo>
                      <a:pt x="1900" y="2884"/>
                    </a:lnTo>
                    <a:lnTo>
                      <a:pt x="1885" y="2886"/>
                    </a:lnTo>
                    <a:lnTo>
                      <a:pt x="1869" y="2888"/>
                    </a:lnTo>
                    <a:lnTo>
                      <a:pt x="1853" y="2890"/>
                    </a:lnTo>
                    <a:lnTo>
                      <a:pt x="1837" y="2893"/>
                    </a:lnTo>
                    <a:lnTo>
                      <a:pt x="1820" y="2896"/>
                    </a:lnTo>
                    <a:lnTo>
                      <a:pt x="1802" y="2899"/>
                    </a:lnTo>
                    <a:lnTo>
                      <a:pt x="1782" y="2901"/>
                    </a:lnTo>
                    <a:lnTo>
                      <a:pt x="1762" y="2902"/>
                    </a:lnTo>
                    <a:lnTo>
                      <a:pt x="1739" y="2903"/>
                    </a:lnTo>
                    <a:lnTo>
                      <a:pt x="1712" y="2903"/>
                    </a:lnTo>
                    <a:lnTo>
                      <a:pt x="1682" y="2902"/>
                    </a:lnTo>
                    <a:lnTo>
                      <a:pt x="1653" y="2899"/>
                    </a:lnTo>
                    <a:lnTo>
                      <a:pt x="1622" y="2896"/>
                    </a:lnTo>
                    <a:lnTo>
                      <a:pt x="1590" y="2893"/>
                    </a:lnTo>
                    <a:lnTo>
                      <a:pt x="1558" y="2889"/>
                    </a:lnTo>
                    <a:lnTo>
                      <a:pt x="1526" y="2886"/>
                    </a:lnTo>
                    <a:lnTo>
                      <a:pt x="1493" y="2883"/>
                    </a:lnTo>
                    <a:lnTo>
                      <a:pt x="1461" y="2879"/>
                    </a:lnTo>
                    <a:lnTo>
                      <a:pt x="1428" y="2876"/>
                    </a:lnTo>
                    <a:lnTo>
                      <a:pt x="1397" y="2874"/>
                    </a:lnTo>
                    <a:lnTo>
                      <a:pt x="1365" y="2873"/>
                    </a:lnTo>
                    <a:lnTo>
                      <a:pt x="1335" y="2873"/>
                    </a:lnTo>
                    <a:lnTo>
                      <a:pt x="1305" y="2875"/>
                    </a:lnTo>
                    <a:lnTo>
                      <a:pt x="1278" y="2878"/>
                    </a:lnTo>
                    <a:lnTo>
                      <a:pt x="1250" y="2883"/>
                    </a:lnTo>
                    <a:lnTo>
                      <a:pt x="1223" y="2889"/>
                    </a:lnTo>
                    <a:lnTo>
                      <a:pt x="1196" y="2897"/>
                    </a:lnTo>
                    <a:lnTo>
                      <a:pt x="1170" y="2906"/>
                    </a:lnTo>
                    <a:lnTo>
                      <a:pt x="1142" y="2916"/>
                    </a:lnTo>
                    <a:lnTo>
                      <a:pt x="1115" y="2927"/>
                    </a:lnTo>
                    <a:lnTo>
                      <a:pt x="1088" y="2938"/>
                    </a:lnTo>
                    <a:lnTo>
                      <a:pt x="1062" y="2949"/>
                    </a:lnTo>
                    <a:lnTo>
                      <a:pt x="1034" y="2961"/>
                    </a:lnTo>
                    <a:lnTo>
                      <a:pt x="1007" y="2974"/>
                    </a:lnTo>
                    <a:lnTo>
                      <a:pt x="982" y="2986"/>
                    </a:lnTo>
                    <a:lnTo>
                      <a:pt x="955" y="2998"/>
                    </a:lnTo>
                    <a:lnTo>
                      <a:pt x="927" y="3009"/>
                    </a:lnTo>
                    <a:lnTo>
                      <a:pt x="900" y="3020"/>
                    </a:lnTo>
                    <a:lnTo>
                      <a:pt x="875" y="3030"/>
                    </a:lnTo>
                    <a:lnTo>
                      <a:pt x="848" y="3039"/>
                    </a:lnTo>
                    <a:lnTo>
                      <a:pt x="820" y="3048"/>
                    </a:lnTo>
                    <a:lnTo>
                      <a:pt x="804" y="3051"/>
                    </a:lnTo>
                    <a:lnTo>
                      <a:pt x="787" y="3055"/>
                    </a:lnTo>
                    <a:lnTo>
                      <a:pt x="770" y="3058"/>
                    </a:lnTo>
                    <a:lnTo>
                      <a:pt x="752" y="3061"/>
                    </a:lnTo>
                    <a:lnTo>
                      <a:pt x="734" y="3063"/>
                    </a:lnTo>
                    <a:lnTo>
                      <a:pt x="717" y="3064"/>
                    </a:lnTo>
                    <a:lnTo>
                      <a:pt x="698" y="3065"/>
                    </a:lnTo>
                    <a:lnTo>
                      <a:pt x="681" y="3065"/>
                    </a:lnTo>
                    <a:lnTo>
                      <a:pt x="663" y="3066"/>
                    </a:lnTo>
                    <a:lnTo>
                      <a:pt x="644" y="3065"/>
                    </a:lnTo>
                    <a:lnTo>
                      <a:pt x="626" y="3065"/>
                    </a:lnTo>
                    <a:lnTo>
                      <a:pt x="609" y="3065"/>
                    </a:lnTo>
                    <a:lnTo>
                      <a:pt x="590" y="3064"/>
                    </a:lnTo>
                    <a:lnTo>
                      <a:pt x="572" y="3063"/>
                    </a:lnTo>
                    <a:lnTo>
                      <a:pt x="555" y="3063"/>
                    </a:lnTo>
                    <a:lnTo>
                      <a:pt x="538" y="3062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20" y="10"/>
                    </a:lnTo>
                    <a:lnTo>
                      <a:pt x="31" y="15"/>
                    </a:lnTo>
                    <a:lnTo>
                      <a:pt x="40" y="20"/>
                    </a:lnTo>
                    <a:lnTo>
                      <a:pt x="51" y="26"/>
                    </a:lnTo>
                    <a:lnTo>
                      <a:pt x="61" y="31"/>
                    </a:lnTo>
                    <a:lnTo>
                      <a:pt x="72" y="36"/>
                    </a:lnTo>
                    <a:lnTo>
                      <a:pt x="81" y="42"/>
                    </a:lnTo>
                    <a:lnTo>
                      <a:pt x="92" y="47"/>
                    </a:lnTo>
                    <a:lnTo>
                      <a:pt x="101" y="52"/>
                    </a:lnTo>
                    <a:lnTo>
                      <a:pt x="112" y="57"/>
                    </a:lnTo>
                    <a:lnTo>
                      <a:pt x="122" y="62"/>
                    </a:lnTo>
                    <a:lnTo>
                      <a:pt x="132" y="66"/>
                    </a:lnTo>
                    <a:lnTo>
                      <a:pt x="142" y="70"/>
                    </a:lnTo>
                    <a:lnTo>
                      <a:pt x="154" y="72"/>
                    </a:lnTo>
                    <a:lnTo>
                      <a:pt x="164" y="75"/>
                    </a:lnTo>
                    <a:lnTo>
                      <a:pt x="185" y="79"/>
                    </a:lnTo>
                    <a:lnTo>
                      <a:pt x="204" y="81"/>
                    </a:lnTo>
                    <a:lnTo>
                      <a:pt x="224" y="83"/>
                    </a:lnTo>
                    <a:lnTo>
                      <a:pt x="243" y="83"/>
                    </a:lnTo>
                    <a:lnTo>
                      <a:pt x="263" y="82"/>
                    </a:lnTo>
                    <a:lnTo>
                      <a:pt x="283" y="81"/>
                    </a:lnTo>
                    <a:lnTo>
                      <a:pt x="302" y="80"/>
                    </a:lnTo>
                    <a:lnTo>
                      <a:pt x="322" y="78"/>
                    </a:lnTo>
                    <a:lnTo>
                      <a:pt x="341" y="76"/>
                    </a:lnTo>
                    <a:lnTo>
                      <a:pt x="360" y="75"/>
                    </a:lnTo>
                    <a:lnTo>
                      <a:pt x="379" y="74"/>
                    </a:lnTo>
                    <a:lnTo>
                      <a:pt x="399" y="74"/>
                    </a:lnTo>
                    <a:lnTo>
                      <a:pt x="418" y="75"/>
                    </a:lnTo>
                    <a:lnTo>
                      <a:pt x="438" y="76"/>
                    </a:lnTo>
                    <a:lnTo>
                      <a:pt x="457" y="79"/>
                    </a:lnTo>
                    <a:lnTo>
                      <a:pt x="477" y="84"/>
                    </a:lnTo>
                    <a:lnTo>
                      <a:pt x="518" y="95"/>
                    </a:lnTo>
                    <a:lnTo>
                      <a:pt x="556" y="109"/>
                    </a:lnTo>
                    <a:lnTo>
                      <a:pt x="593" y="123"/>
                    </a:lnTo>
                    <a:lnTo>
                      <a:pt x="631" y="138"/>
                    </a:lnTo>
                    <a:lnTo>
                      <a:pt x="666" y="155"/>
                    </a:lnTo>
                    <a:lnTo>
                      <a:pt x="703" y="172"/>
                    </a:lnTo>
                    <a:lnTo>
                      <a:pt x="739" y="189"/>
                    </a:lnTo>
                    <a:lnTo>
                      <a:pt x="773" y="206"/>
                    </a:lnTo>
                    <a:lnTo>
                      <a:pt x="809" y="223"/>
                    </a:lnTo>
                    <a:lnTo>
                      <a:pt x="845" y="239"/>
                    </a:lnTo>
                    <a:lnTo>
                      <a:pt x="881" y="256"/>
                    </a:lnTo>
                    <a:lnTo>
                      <a:pt x="918" y="272"/>
                    </a:lnTo>
                    <a:lnTo>
                      <a:pt x="955" y="286"/>
                    </a:lnTo>
                    <a:lnTo>
                      <a:pt x="993" y="298"/>
                    </a:lnTo>
                    <a:lnTo>
                      <a:pt x="1031" y="310"/>
                    </a:lnTo>
                    <a:lnTo>
                      <a:pt x="1072" y="319"/>
                    </a:lnTo>
                    <a:lnTo>
                      <a:pt x="1096" y="323"/>
                    </a:lnTo>
                    <a:lnTo>
                      <a:pt x="1123" y="327"/>
                    </a:lnTo>
                    <a:lnTo>
                      <a:pt x="1151" y="329"/>
                    </a:lnTo>
                    <a:lnTo>
                      <a:pt x="1182" y="330"/>
                    </a:lnTo>
                    <a:lnTo>
                      <a:pt x="1214" y="330"/>
                    </a:lnTo>
                    <a:lnTo>
                      <a:pt x="1246" y="329"/>
                    </a:lnTo>
                    <a:lnTo>
                      <a:pt x="1279" y="328"/>
                    </a:lnTo>
                    <a:lnTo>
                      <a:pt x="1313" y="325"/>
                    </a:lnTo>
                    <a:lnTo>
                      <a:pt x="1345" y="323"/>
                    </a:lnTo>
                    <a:lnTo>
                      <a:pt x="1379" y="319"/>
                    </a:lnTo>
                    <a:lnTo>
                      <a:pt x="1410" y="316"/>
                    </a:lnTo>
                    <a:lnTo>
                      <a:pt x="1441" y="313"/>
                    </a:lnTo>
                    <a:lnTo>
                      <a:pt x="1470" y="309"/>
                    </a:lnTo>
                    <a:lnTo>
                      <a:pt x="1499" y="304"/>
                    </a:lnTo>
                    <a:lnTo>
                      <a:pt x="1524" y="300"/>
                    </a:lnTo>
                    <a:lnTo>
                      <a:pt x="1547" y="296"/>
                    </a:lnTo>
                    <a:lnTo>
                      <a:pt x="1578" y="357"/>
                    </a:lnTo>
                    <a:lnTo>
                      <a:pt x="1605" y="414"/>
                    </a:lnTo>
                    <a:lnTo>
                      <a:pt x="1625" y="468"/>
                    </a:lnTo>
                    <a:lnTo>
                      <a:pt x="1642" y="519"/>
                    </a:lnTo>
                    <a:lnTo>
                      <a:pt x="1656" y="570"/>
                    </a:lnTo>
                    <a:lnTo>
                      <a:pt x="1665" y="618"/>
                    </a:lnTo>
                    <a:lnTo>
                      <a:pt x="1674" y="666"/>
                    </a:lnTo>
                    <a:lnTo>
                      <a:pt x="1679" y="713"/>
                    </a:lnTo>
                    <a:lnTo>
                      <a:pt x="1685" y="760"/>
                    </a:lnTo>
                    <a:lnTo>
                      <a:pt x="1690" y="808"/>
                    </a:lnTo>
                    <a:lnTo>
                      <a:pt x="1696" y="858"/>
                    </a:lnTo>
                    <a:lnTo>
                      <a:pt x="1703" y="908"/>
                    </a:lnTo>
                    <a:lnTo>
                      <a:pt x="1712" y="962"/>
                    </a:lnTo>
                    <a:lnTo>
                      <a:pt x="1722" y="1017"/>
                    </a:lnTo>
                    <a:lnTo>
                      <a:pt x="1737" y="1075"/>
                    </a:lnTo>
                    <a:lnTo>
                      <a:pt x="1754" y="1137"/>
                    </a:lnTo>
                    <a:lnTo>
                      <a:pt x="1765" y="1168"/>
                    </a:lnTo>
                    <a:lnTo>
                      <a:pt x="1784" y="1206"/>
                    </a:lnTo>
                    <a:lnTo>
                      <a:pt x="1807" y="1251"/>
                    </a:lnTo>
                    <a:lnTo>
                      <a:pt x="1837" y="1302"/>
                    </a:lnTo>
                    <a:lnTo>
                      <a:pt x="1869" y="1356"/>
                    </a:lnTo>
                    <a:lnTo>
                      <a:pt x="1904" y="1414"/>
                    </a:lnTo>
                    <a:lnTo>
                      <a:pt x="1941" y="1474"/>
                    </a:lnTo>
                    <a:lnTo>
                      <a:pt x="1978" y="1534"/>
                    </a:lnTo>
                    <a:lnTo>
                      <a:pt x="2017" y="1596"/>
                    </a:lnTo>
                    <a:lnTo>
                      <a:pt x="2054" y="1655"/>
                    </a:lnTo>
                    <a:lnTo>
                      <a:pt x="2088" y="1713"/>
                    </a:lnTo>
                    <a:lnTo>
                      <a:pt x="2121" y="1769"/>
                    </a:lnTo>
                    <a:lnTo>
                      <a:pt x="2149" y="1818"/>
                    </a:lnTo>
                    <a:lnTo>
                      <a:pt x="2173" y="1864"/>
                    </a:lnTo>
                    <a:lnTo>
                      <a:pt x="2191" y="1902"/>
                    </a:lnTo>
                    <a:lnTo>
                      <a:pt x="2203" y="1933"/>
                    </a:lnTo>
                    <a:lnTo>
                      <a:pt x="2227" y="2016"/>
                    </a:lnTo>
                    <a:lnTo>
                      <a:pt x="2246" y="2096"/>
                    </a:lnTo>
                    <a:lnTo>
                      <a:pt x="2263" y="2173"/>
                    </a:lnTo>
                    <a:lnTo>
                      <a:pt x="2275" y="2246"/>
                    </a:lnTo>
                    <a:lnTo>
                      <a:pt x="2286" y="2318"/>
                    </a:lnTo>
                    <a:lnTo>
                      <a:pt x="2294" y="2388"/>
                    </a:lnTo>
                    <a:lnTo>
                      <a:pt x="2302" y="2457"/>
                    </a:lnTo>
                    <a:lnTo>
                      <a:pt x="2309" y="2526"/>
                    </a:lnTo>
                    <a:lnTo>
                      <a:pt x="2315" y="2595"/>
                    </a:lnTo>
                    <a:lnTo>
                      <a:pt x="2323" y="2663"/>
                    </a:lnTo>
                    <a:lnTo>
                      <a:pt x="2332" y="2734"/>
                    </a:lnTo>
                    <a:lnTo>
                      <a:pt x="2342" y="2806"/>
                    </a:lnTo>
                    <a:lnTo>
                      <a:pt x="2354" y="2881"/>
                    </a:lnTo>
                    <a:lnTo>
                      <a:pt x="2372" y="2956"/>
                    </a:lnTo>
                    <a:lnTo>
                      <a:pt x="2391" y="3036"/>
                    </a:lnTo>
                    <a:lnTo>
                      <a:pt x="2415" y="312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317080" y="2238120"/>
                <a:ext cx="60120" cy="54000"/>
              </a:xfrm>
              <a:custGeom>
                <a:avLst/>
                <a:gdLst/>
                <a:ahLst/>
                <a:rect l="l" t="t" r="r" b="b"/>
                <a:pathLst>
                  <a:path w="268" h="243">
                    <a:moveTo>
                      <a:pt x="128" y="243"/>
                    </a:moveTo>
                    <a:lnTo>
                      <a:pt x="0" y="20"/>
                    </a:lnTo>
                    <a:lnTo>
                      <a:pt x="15" y="16"/>
                    </a:lnTo>
                    <a:lnTo>
                      <a:pt x="30" y="13"/>
                    </a:lnTo>
                    <a:lnTo>
                      <a:pt x="46" y="9"/>
                    </a:lnTo>
                    <a:lnTo>
                      <a:pt x="64" y="6"/>
                    </a:lnTo>
                    <a:lnTo>
                      <a:pt x="82" y="3"/>
                    </a:lnTo>
                    <a:lnTo>
                      <a:pt x="100" y="1"/>
                    </a:lnTo>
                    <a:lnTo>
                      <a:pt x="118" y="0"/>
                    </a:lnTo>
                    <a:lnTo>
                      <a:pt x="136" y="0"/>
                    </a:lnTo>
                    <a:lnTo>
                      <a:pt x="154" y="1"/>
                    </a:lnTo>
                    <a:lnTo>
                      <a:pt x="172" y="3"/>
                    </a:lnTo>
                    <a:lnTo>
                      <a:pt x="189" y="6"/>
                    </a:lnTo>
                    <a:lnTo>
                      <a:pt x="205" y="10"/>
                    </a:lnTo>
                    <a:lnTo>
                      <a:pt x="219" y="15"/>
                    </a:lnTo>
                    <a:lnTo>
                      <a:pt x="232" y="23"/>
                    </a:lnTo>
                    <a:lnTo>
                      <a:pt x="244" y="31"/>
                    </a:lnTo>
                    <a:lnTo>
                      <a:pt x="254" y="41"/>
                    </a:lnTo>
                    <a:lnTo>
                      <a:pt x="264" y="55"/>
                    </a:lnTo>
                    <a:lnTo>
                      <a:pt x="268" y="71"/>
                    </a:lnTo>
                    <a:lnTo>
                      <a:pt x="267" y="84"/>
                    </a:lnTo>
                    <a:lnTo>
                      <a:pt x="261" y="97"/>
                    </a:lnTo>
                    <a:lnTo>
                      <a:pt x="253" y="110"/>
                    </a:lnTo>
                    <a:lnTo>
                      <a:pt x="241" y="122"/>
                    </a:lnTo>
                    <a:lnTo>
                      <a:pt x="227" y="134"/>
                    </a:lnTo>
                    <a:lnTo>
                      <a:pt x="212" y="146"/>
                    </a:lnTo>
                    <a:lnTo>
                      <a:pt x="196" y="157"/>
                    </a:lnTo>
                    <a:lnTo>
                      <a:pt x="181" y="170"/>
                    </a:lnTo>
                    <a:lnTo>
                      <a:pt x="166" y="181"/>
                    </a:lnTo>
                    <a:lnTo>
                      <a:pt x="151" y="194"/>
                    </a:lnTo>
                    <a:lnTo>
                      <a:pt x="141" y="205"/>
                    </a:lnTo>
                    <a:lnTo>
                      <a:pt x="132" y="217"/>
                    </a:lnTo>
                    <a:lnTo>
                      <a:pt x="128" y="230"/>
                    </a:lnTo>
                    <a:lnTo>
                      <a:pt x="128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678800" y="1617480"/>
                <a:ext cx="158760" cy="380880"/>
              </a:xfrm>
              <a:custGeom>
                <a:avLst/>
                <a:gdLst/>
                <a:ahLst/>
                <a:rect l="l" t="t" r="r" b="b"/>
                <a:pathLst>
                  <a:path w="698" h="1679">
                    <a:moveTo>
                      <a:pt x="0" y="12"/>
                    </a:moveTo>
                    <a:lnTo>
                      <a:pt x="3" y="57"/>
                    </a:lnTo>
                    <a:lnTo>
                      <a:pt x="5" y="105"/>
                    </a:lnTo>
                    <a:lnTo>
                      <a:pt x="9" y="150"/>
                    </a:lnTo>
                    <a:lnTo>
                      <a:pt x="24" y="193"/>
                    </a:lnTo>
                    <a:lnTo>
                      <a:pt x="32" y="209"/>
                    </a:lnTo>
                    <a:lnTo>
                      <a:pt x="42" y="224"/>
                    </a:lnTo>
                    <a:lnTo>
                      <a:pt x="51" y="239"/>
                    </a:lnTo>
                    <a:lnTo>
                      <a:pt x="61" y="255"/>
                    </a:lnTo>
                    <a:lnTo>
                      <a:pt x="71" y="269"/>
                    </a:lnTo>
                    <a:lnTo>
                      <a:pt x="82" y="283"/>
                    </a:lnTo>
                    <a:lnTo>
                      <a:pt x="92" y="298"/>
                    </a:lnTo>
                    <a:lnTo>
                      <a:pt x="104" y="311"/>
                    </a:lnTo>
                    <a:lnTo>
                      <a:pt x="114" y="325"/>
                    </a:lnTo>
                    <a:lnTo>
                      <a:pt x="127" y="339"/>
                    </a:lnTo>
                    <a:lnTo>
                      <a:pt x="137" y="353"/>
                    </a:lnTo>
                    <a:lnTo>
                      <a:pt x="148" y="367"/>
                    </a:lnTo>
                    <a:lnTo>
                      <a:pt x="158" y="382"/>
                    </a:lnTo>
                    <a:lnTo>
                      <a:pt x="168" y="398"/>
                    </a:lnTo>
                    <a:lnTo>
                      <a:pt x="177" y="414"/>
                    </a:lnTo>
                    <a:lnTo>
                      <a:pt x="186" y="430"/>
                    </a:lnTo>
                    <a:lnTo>
                      <a:pt x="197" y="459"/>
                    </a:lnTo>
                    <a:lnTo>
                      <a:pt x="205" y="490"/>
                    </a:lnTo>
                    <a:lnTo>
                      <a:pt x="210" y="522"/>
                    </a:lnTo>
                    <a:lnTo>
                      <a:pt x="214" y="553"/>
                    </a:lnTo>
                    <a:lnTo>
                      <a:pt x="217" y="585"/>
                    </a:lnTo>
                    <a:lnTo>
                      <a:pt x="224" y="616"/>
                    </a:lnTo>
                    <a:lnTo>
                      <a:pt x="235" y="644"/>
                    </a:lnTo>
                    <a:lnTo>
                      <a:pt x="251" y="671"/>
                    </a:lnTo>
                    <a:lnTo>
                      <a:pt x="264" y="683"/>
                    </a:lnTo>
                    <a:lnTo>
                      <a:pt x="277" y="677"/>
                    </a:lnTo>
                    <a:lnTo>
                      <a:pt x="287" y="662"/>
                    </a:lnTo>
                    <a:lnTo>
                      <a:pt x="297" y="643"/>
                    </a:lnTo>
                    <a:lnTo>
                      <a:pt x="305" y="624"/>
                    </a:lnTo>
                    <a:lnTo>
                      <a:pt x="315" y="614"/>
                    </a:lnTo>
                    <a:lnTo>
                      <a:pt x="325" y="615"/>
                    </a:lnTo>
                    <a:lnTo>
                      <a:pt x="337" y="635"/>
                    </a:lnTo>
                    <a:lnTo>
                      <a:pt x="361" y="696"/>
                    </a:lnTo>
                    <a:lnTo>
                      <a:pt x="384" y="756"/>
                    </a:lnTo>
                    <a:lnTo>
                      <a:pt x="406" y="818"/>
                    </a:lnTo>
                    <a:lnTo>
                      <a:pt x="426" y="879"/>
                    </a:lnTo>
                    <a:lnTo>
                      <a:pt x="445" y="942"/>
                    </a:lnTo>
                    <a:lnTo>
                      <a:pt x="465" y="1004"/>
                    </a:lnTo>
                    <a:lnTo>
                      <a:pt x="482" y="1067"/>
                    </a:lnTo>
                    <a:lnTo>
                      <a:pt x="498" y="1129"/>
                    </a:lnTo>
                    <a:lnTo>
                      <a:pt x="513" y="1194"/>
                    </a:lnTo>
                    <a:lnTo>
                      <a:pt x="528" y="1257"/>
                    </a:lnTo>
                    <a:lnTo>
                      <a:pt x="540" y="1322"/>
                    </a:lnTo>
                    <a:lnTo>
                      <a:pt x="552" y="1387"/>
                    </a:lnTo>
                    <a:lnTo>
                      <a:pt x="562" y="1452"/>
                    </a:lnTo>
                    <a:lnTo>
                      <a:pt x="572" y="1516"/>
                    </a:lnTo>
                    <a:lnTo>
                      <a:pt x="579" y="1582"/>
                    </a:lnTo>
                    <a:lnTo>
                      <a:pt x="585" y="1648"/>
                    </a:lnTo>
                    <a:lnTo>
                      <a:pt x="594" y="1679"/>
                    </a:lnTo>
                    <a:lnTo>
                      <a:pt x="608" y="1664"/>
                    </a:lnTo>
                    <a:lnTo>
                      <a:pt x="627" y="1614"/>
                    </a:lnTo>
                    <a:lnTo>
                      <a:pt x="647" y="1536"/>
                    </a:lnTo>
                    <a:lnTo>
                      <a:pt x="666" y="1446"/>
                    </a:lnTo>
                    <a:lnTo>
                      <a:pt x="683" y="1351"/>
                    </a:lnTo>
                    <a:lnTo>
                      <a:pt x="695" y="1262"/>
                    </a:lnTo>
                    <a:lnTo>
                      <a:pt x="698" y="1191"/>
                    </a:lnTo>
                    <a:lnTo>
                      <a:pt x="691" y="1130"/>
                    </a:lnTo>
                    <a:lnTo>
                      <a:pt x="678" y="1069"/>
                    </a:lnTo>
                    <a:lnTo>
                      <a:pt x="659" y="1011"/>
                    </a:lnTo>
                    <a:lnTo>
                      <a:pt x="637" y="952"/>
                    </a:lnTo>
                    <a:lnTo>
                      <a:pt x="614" y="895"/>
                    </a:lnTo>
                    <a:lnTo>
                      <a:pt x="591" y="836"/>
                    </a:lnTo>
                    <a:lnTo>
                      <a:pt x="571" y="777"/>
                    </a:lnTo>
                    <a:lnTo>
                      <a:pt x="555" y="718"/>
                    </a:lnTo>
                    <a:lnTo>
                      <a:pt x="550" y="685"/>
                    </a:lnTo>
                    <a:lnTo>
                      <a:pt x="549" y="648"/>
                    </a:lnTo>
                    <a:lnTo>
                      <a:pt x="549" y="609"/>
                    </a:lnTo>
                    <a:lnTo>
                      <a:pt x="548" y="568"/>
                    </a:lnTo>
                    <a:lnTo>
                      <a:pt x="546" y="530"/>
                    </a:lnTo>
                    <a:lnTo>
                      <a:pt x="540" y="495"/>
                    </a:lnTo>
                    <a:lnTo>
                      <a:pt x="530" y="462"/>
                    </a:lnTo>
                    <a:lnTo>
                      <a:pt x="513" y="438"/>
                    </a:lnTo>
                    <a:lnTo>
                      <a:pt x="478" y="396"/>
                    </a:lnTo>
                    <a:lnTo>
                      <a:pt x="451" y="351"/>
                    </a:lnTo>
                    <a:lnTo>
                      <a:pt x="433" y="305"/>
                    </a:lnTo>
                    <a:lnTo>
                      <a:pt x="421" y="257"/>
                    </a:lnTo>
                    <a:lnTo>
                      <a:pt x="409" y="209"/>
                    </a:lnTo>
                    <a:lnTo>
                      <a:pt x="399" y="158"/>
                    </a:lnTo>
                    <a:lnTo>
                      <a:pt x="386" y="108"/>
                    </a:lnTo>
                    <a:lnTo>
                      <a:pt x="367" y="56"/>
                    </a:lnTo>
                    <a:lnTo>
                      <a:pt x="344" y="46"/>
                    </a:lnTo>
                    <a:lnTo>
                      <a:pt x="322" y="37"/>
                    </a:lnTo>
                    <a:lnTo>
                      <a:pt x="298" y="30"/>
                    </a:lnTo>
                    <a:lnTo>
                      <a:pt x="275" y="22"/>
                    </a:lnTo>
                    <a:lnTo>
                      <a:pt x="251" y="16"/>
                    </a:lnTo>
                    <a:lnTo>
                      <a:pt x="226" y="12"/>
                    </a:lnTo>
                    <a:lnTo>
                      <a:pt x="202" y="8"/>
                    </a:lnTo>
                    <a:lnTo>
                      <a:pt x="179" y="4"/>
                    </a:lnTo>
                    <a:lnTo>
                      <a:pt x="155" y="2"/>
                    </a:lnTo>
                    <a:lnTo>
                      <a:pt x="133" y="1"/>
                    </a:lnTo>
                    <a:lnTo>
                      <a:pt x="109" y="0"/>
                    </a:lnTo>
                    <a:lnTo>
                      <a:pt x="86" y="1"/>
                    </a:lnTo>
                    <a:lnTo>
                      <a:pt x="64" y="2"/>
                    </a:lnTo>
                    <a:lnTo>
                      <a:pt x="42" y="5"/>
                    </a:lnTo>
                    <a:lnTo>
                      <a:pt x="21" y="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907400" y="1965240"/>
                <a:ext cx="108000" cy="291960"/>
              </a:xfrm>
              <a:custGeom>
                <a:avLst/>
                <a:gdLst/>
                <a:ahLst/>
                <a:rect l="l" t="t" r="r" b="b"/>
                <a:pathLst>
                  <a:path w="478" h="1289">
                    <a:moveTo>
                      <a:pt x="117" y="1257"/>
                    </a:moveTo>
                    <a:lnTo>
                      <a:pt x="118" y="1221"/>
                    </a:lnTo>
                    <a:lnTo>
                      <a:pt x="118" y="1185"/>
                    </a:lnTo>
                    <a:lnTo>
                      <a:pt x="120" y="1149"/>
                    </a:lnTo>
                    <a:lnTo>
                      <a:pt x="128" y="1114"/>
                    </a:lnTo>
                    <a:lnTo>
                      <a:pt x="133" y="1104"/>
                    </a:lnTo>
                    <a:lnTo>
                      <a:pt x="138" y="1092"/>
                    </a:lnTo>
                    <a:lnTo>
                      <a:pt x="145" y="1083"/>
                    </a:lnTo>
                    <a:lnTo>
                      <a:pt x="152" y="1072"/>
                    </a:lnTo>
                    <a:lnTo>
                      <a:pt x="158" y="1062"/>
                    </a:lnTo>
                    <a:lnTo>
                      <a:pt x="163" y="1051"/>
                    </a:lnTo>
                    <a:lnTo>
                      <a:pt x="167" y="1039"/>
                    </a:lnTo>
                    <a:lnTo>
                      <a:pt x="169" y="1028"/>
                    </a:lnTo>
                    <a:lnTo>
                      <a:pt x="168" y="1002"/>
                    </a:lnTo>
                    <a:lnTo>
                      <a:pt x="163" y="981"/>
                    </a:lnTo>
                    <a:lnTo>
                      <a:pt x="157" y="959"/>
                    </a:lnTo>
                    <a:lnTo>
                      <a:pt x="153" y="933"/>
                    </a:lnTo>
                    <a:lnTo>
                      <a:pt x="151" y="888"/>
                    </a:lnTo>
                    <a:lnTo>
                      <a:pt x="152" y="840"/>
                    </a:lnTo>
                    <a:lnTo>
                      <a:pt x="152" y="794"/>
                    </a:lnTo>
                    <a:lnTo>
                      <a:pt x="145" y="748"/>
                    </a:lnTo>
                    <a:lnTo>
                      <a:pt x="137" y="726"/>
                    </a:lnTo>
                    <a:lnTo>
                      <a:pt x="125" y="703"/>
                    </a:lnTo>
                    <a:lnTo>
                      <a:pt x="111" y="681"/>
                    </a:lnTo>
                    <a:lnTo>
                      <a:pt x="95" y="659"/>
                    </a:lnTo>
                    <a:lnTo>
                      <a:pt x="80" y="636"/>
                    </a:lnTo>
                    <a:lnTo>
                      <a:pt x="66" y="614"/>
                    </a:lnTo>
                    <a:lnTo>
                      <a:pt x="55" y="591"/>
                    </a:lnTo>
                    <a:lnTo>
                      <a:pt x="48" y="568"/>
                    </a:lnTo>
                    <a:lnTo>
                      <a:pt x="45" y="544"/>
                    </a:lnTo>
                    <a:lnTo>
                      <a:pt x="46" y="521"/>
                    </a:lnTo>
                    <a:lnTo>
                      <a:pt x="50" y="499"/>
                    </a:lnTo>
                    <a:lnTo>
                      <a:pt x="55" y="477"/>
                    </a:lnTo>
                    <a:lnTo>
                      <a:pt x="60" y="455"/>
                    </a:lnTo>
                    <a:lnTo>
                      <a:pt x="65" y="431"/>
                    </a:lnTo>
                    <a:lnTo>
                      <a:pt x="68" y="408"/>
                    </a:lnTo>
                    <a:lnTo>
                      <a:pt x="68" y="383"/>
                    </a:lnTo>
                    <a:lnTo>
                      <a:pt x="60" y="324"/>
                    </a:lnTo>
                    <a:lnTo>
                      <a:pt x="47" y="254"/>
                    </a:lnTo>
                    <a:lnTo>
                      <a:pt x="32" y="180"/>
                    </a:lnTo>
                    <a:lnTo>
                      <a:pt x="16" y="109"/>
                    </a:lnTo>
                    <a:lnTo>
                      <a:pt x="5" y="51"/>
                    </a:lnTo>
                    <a:lnTo>
                      <a:pt x="0" y="12"/>
                    </a:lnTo>
                    <a:lnTo>
                      <a:pt x="5" y="0"/>
                    </a:lnTo>
                    <a:lnTo>
                      <a:pt x="23" y="23"/>
                    </a:lnTo>
                    <a:lnTo>
                      <a:pt x="45" y="63"/>
                    </a:lnTo>
                    <a:lnTo>
                      <a:pt x="64" y="97"/>
                    </a:lnTo>
                    <a:lnTo>
                      <a:pt x="79" y="128"/>
                    </a:lnTo>
                    <a:lnTo>
                      <a:pt x="93" y="158"/>
                    </a:lnTo>
                    <a:lnTo>
                      <a:pt x="105" y="185"/>
                    </a:lnTo>
                    <a:lnTo>
                      <a:pt x="116" y="215"/>
                    </a:lnTo>
                    <a:lnTo>
                      <a:pt x="125" y="246"/>
                    </a:lnTo>
                    <a:lnTo>
                      <a:pt x="135" y="282"/>
                    </a:lnTo>
                    <a:lnTo>
                      <a:pt x="145" y="347"/>
                    </a:lnTo>
                    <a:lnTo>
                      <a:pt x="148" y="411"/>
                    </a:lnTo>
                    <a:lnTo>
                      <a:pt x="150" y="475"/>
                    </a:lnTo>
                    <a:lnTo>
                      <a:pt x="156" y="540"/>
                    </a:lnTo>
                    <a:lnTo>
                      <a:pt x="162" y="574"/>
                    </a:lnTo>
                    <a:lnTo>
                      <a:pt x="172" y="606"/>
                    </a:lnTo>
                    <a:lnTo>
                      <a:pt x="182" y="636"/>
                    </a:lnTo>
                    <a:lnTo>
                      <a:pt x="196" y="667"/>
                    </a:lnTo>
                    <a:lnTo>
                      <a:pt x="209" y="697"/>
                    </a:lnTo>
                    <a:lnTo>
                      <a:pt x="225" y="727"/>
                    </a:lnTo>
                    <a:lnTo>
                      <a:pt x="241" y="757"/>
                    </a:lnTo>
                    <a:lnTo>
                      <a:pt x="257" y="788"/>
                    </a:lnTo>
                    <a:lnTo>
                      <a:pt x="272" y="811"/>
                    </a:lnTo>
                    <a:lnTo>
                      <a:pt x="292" y="833"/>
                    </a:lnTo>
                    <a:lnTo>
                      <a:pt x="314" y="856"/>
                    </a:lnTo>
                    <a:lnTo>
                      <a:pt x="338" y="878"/>
                    </a:lnTo>
                    <a:lnTo>
                      <a:pt x="358" y="901"/>
                    </a:lnTo>
                    <a:lnTo>
                      <a:pt x="374" y="926"/>
                    </a:lnTo>
                    <a:lnTo>
                      <a:pt x="386" y="952"/>
                    </a:lnTo>
                    <a:lnTo>
                      <a:pt x="389" y="983"/>
                    </a:lnTo>
                    <a:lnTo>
                      <a:pt x="391" y="1022"/>
                    </a:lnTo>
                    <a:lnTo>
                      <a:pt x="396" y="1061"/>
                    </a:lnTo>
                    <a:lnTo>
                      <a:pt x="407" y="1099"/>
                    </a:lnTo>
                    <a:lnTo>
                      <a:pt x="420" y="1136"/>
                    </a:lnTo>
                    <a:lnTo>
                      <a:pt x="436" y="1175"/>
                    </a:lnTo>
                    <a:lnTo>
                      <a:pt x="452" y="1213"/>
                    </a:lnTo>
                    <a:lnTo>
                      <a:pt x="466" y="1250"/>
                    </a:lnTo>
                    <a:lnTo>
                      <a:pt x="478" y="1289"/>
                    </a:lnTo>
                    <a:lnTo>
                      <a:pt x="455" y="1289"/>
                    </a:lnTo>
                    <a:lnTo>
                      <a:pt x="432" y="1288"/>
                    </a:lnTo>
                    <a:lnTo>
                      <a:pt x="409" y="1287"/>
                    </a:lnTo>
                    <a:lnTo>
                      <a:pt x="387" y="1285"/>
                    </a:lnTo>
                    <a:lnTo>
                      <a:pt x="364" y="1284"/>
                    </a:lnTo>
                    <a:lnTo>
                      <a:pt x="342" y="1282"/>
                    </a:lnTo>
                    <a:lnTo>
                      <a:pt x="318" y="1279"/>
                    </a:lnTo>
                    <a:lnTo>
                      <a:pt x="296" y="1277"/>
                    </a:lnTo>
                    <a:lnTo>
                      <a:pt x="274" y="1275"/>
                    </a:lnTo>
                    <a:lnTo>
                      <a:pt x="252" y="1273"/>
                    </a:lnTo>
                    <a:lnTo>
                      <a:pt x="229" y="1270"/>
                    </a:lnTo>
                    <a:lnTo>
                      <a:pt x="206" y="1267"/>
                    </a:lnTo>
                    <a:lnTo>
                      <a:pt x="184" y="1265"/>
                    </a:lnTo>
                    <a:lnTo>
                      <a:pt x="162" y="1262"/>
                    </a:lnTo>
                    <a:lnTo>
                      <a:pt x="139" y="1260"/>
                    </a:lnTo>
                    <a:lnTo>
                      <a:pt x="117" y="1257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728120" y="2158920"/>
                <a:ext cx="180720" cy="136440"/>
              </a:xfrm>
              <a:custGeom>
                <a:avLst/>
                <a:gdLst/>
                <a:ahLst/>
                <a:rect l="l" t="t" r="r" b="b"/>
                <a:pathLst>
                  <a:path w="801" h="604">
                    <a:moveTo>
                      <a:pt x="66" y="593"/>
                    </a:moveTo>
                    <a:lnTo>
                      <a:pt x="80" y="593"/>
                    </a:lnTo>
                    <a:lnTo>
                      <a:pt x="94" y="594"/>
                    </a:lnTo>
                    <a:lnTo>
                      <a:pt x="107" y="595"/>
                    </a:lnTo>
                    <a:lnTo>
                      <a:pt x="122" y="597"/>
                    </a:lnTo>
                    <a:lnTo>
                      <a:pt x="137" y="598"/>
                    </a:lnTo>
                    <a:lnTo>
                      <a:pt x="150" y="599"/>
                    </a:lnTo>
                    <a:lnTo>
                      <a:pt x="165" y="601"/>
                    </a:lnTo>
                    <a:lnTo>
                      <a:pt x="178" y="602"/>
                    </a:lnTo>
                    <a:lnTo>
                      <a:pt x="192" y="603"/>
                    </a:lnTo>
                    <a:lnTo>
                      <a:pt x="206" y="604"/>
                    </a:lnTo>
                    <a:lnTo>
                      <a:pt x="220" y="604"/>
                    </a:lnTo>
                    <a:lnTo>
                      <a:pt x="233" y="604"/>
                    </a:lnTo>
                    <a:lnTo>
                      <a:pt x="248" y="603"/>
                    </a:lnTo>
                    <a:lnTo>
                      <a:pt x="262" y="601"/>
                    </a:lnTo>
                    <a:lnTo>
                      <a:pt x="276" y="599"/>
                    </a:lnTo>
                    <a:lnTo>
                      <a:pt x="289" y="596"/>
                    </a:lnTo>
                    <a:lnTo>
                      <a:pt x="321" y="587"/>
                    </a:lnTo>
                    <a:lnTo>
                      <a:pt x="354" y="578"/>
                    </a:lnTo>
                    <a:lnTo>
                      <a:pt x="385" y="567"/>
                    </a:lnTo>
                    <a:lnTo>
                      <a:pt x="417" y="556"/>
                    </a:lnTo>
                    <a:lnTo>
                      <a:pt x="448" y="544"/>
                    </a:lnTo>
                    <a:lnTo>
                      <a:pt x="480" y="530"/>
                    </a:lnTo>
                    <a:lnTo>
                      <a:pt x="511" y="518"/>
                    </a:lnTo>
                    <a:lnTo>
                      <a:pt x="543" y="503"/>
                    </a:lnTo>
                    <a:lnTo>
                      <a:pt x="574" y="490"/>
                    </a:lnTo>
                    <a:lnTo>
                      <a:pt x="606" y="477"/>
                    </a:lnTo>
                    <a:lnTo>
                      <a:pt x="637" y="463"/>
                    </a:lnTo>
                    <a:lnTo>
                      <a:pt x="669" y="451"/>
                    </a:lnTo>
                    <a:lnTo>
                      <a:pt x="702" y="440"/>
                    </a:lnTo>
                    <a:lnTo>
                      <a:pt x="734" y="428"/>
                    </a:lnTo>
                    <a:lnTo>
                      <a:pt x="767" y="418"/>
                    </a:lnTo>
                    <a:lnTo>
                      <a:pt x="801" y="409"/>
                    </a:lnTo>
                    <a:lnTo>
                      <a:pt x="800" y="354"/>
                    </a:lnTo>
                    <a:lnTo>
                      <a:pt x="799" y="283"/>
                    </a:lnTo>
                    <a:lnTo>
                      <a:pt x="797" y="208"/>
                    </a:lnTo>
                    <a:lnTo>
                      <a:pt x="792" y="133"/>
                    </a:lnTo>
                    <a:lnTo>
                      <a:pt x="782" y="68"/>
                    </a:lnTo>
                    <a:lnTo>
                      <a:pt x="770" y="21"/>
                    </a:lnTo>
                    <a:lnTo>
                      <a:pt x="752" y="0"/>
                    </a:lnTo>
                    <a:lnTo>
                      <a:pt x="727" y="16"/>
                    </a:lnTo>
                    <a:lnTo>
                      <a:pt x="689" y="59"/>
                    </a:lnTo>
                    <a:lnTo>
                      <a:pt x="654" y="92"/>
                    </a:lnTo>
                    <a:lnTo>
                      <a:pt x="622" y="116"/>
                    </a:lnTo>
                    <a:lnTo>
                      <a:pt x="593" y="130"/>
                    </a:lnTo>
                    <a:lnTo>
                      <a:pt x="565" y="138"/>
                    </a:lnTo>
                    <a:lnTo>
                      <a:pt x="540" y="139"/>
                    </a:lnTo>
                    <a:lnTo>
                      <a:pt x="517" y="135"/>
                    </a:lnTo>
                    <a:lnTo>
                      <a:pt x="494" y="126"/>
                    </a:lnTo>
                    <a:lnTo>
                      <a:pt x="472" y="117"/>
                    </a:lnTo>
                    <a:lnTo>
                      <a:pt x="449" y="103"/>
                    </a:lnTo>
                    <a:lnTo>
                      <a:pt x="427" y="91"/>
                    </a:lnTo>
                    <a:lnTo>
                      <a:pt x="404" y="79"/>
                    </a:lnTo>
                    <a:lnTo>
                      <a:pt x="381" y="70"/>
                    </a:lnTo>
                    <a:lnTo>
                      <a:pt x="355" y="63"/>
                    </a:lnTo>
                    <a:lnTo>
                      <a:pt x="326" y="61"/>
                    </a:lnTo>
                    <a:lnTo>
                      <a:pt x="297" y="64"/>
                    </a:lnTo>
                    <a:lnTo>
                      <a:pt x="276" y="69"/>
                    </a:lnTo>
                    <a:lnTo>
                      <a:pt x="255" y="74"/>
                    </a:lnTo>
                    <a:lnTo>
                      <a:pt x="233" y="80"/>
                    </a:lnTo>
                    <a:lnTo>
                      <a:pt x="213" y="86"/>
                    </a:lnTo>
                    <a:lnTo>
                      <a:pt x="194" y="94"/>
                    </a:lnTo>
                    <a:lnTo>
                      <a:pt x="175" y="101"/>
                    </a:lnTo>
                    <a:lnTo>
                      <a:pt x="157" y="111"/>
                    </a:lnTo>
                    <a:lnTo>
                      <a:pt x="139" y="119"/>
                    </a:lnTo>
                    <a:lnTo>
                      <a:pt x="121" y="129"/>
                    </a:lnTo>
                    <a:lnTo>
                      <a:pt x="103" y="139"/>
                    </a:lnTo>
                    <a:lnTo>
                      <a:pt x="86" y="151"/>
                    </a:lnTo>
                    <a:lnTo>
                      <a:pt x="68" y="162"/>
                    </a:lnTo>
                    <a:lnTo>
                      <a:pt x="51" y="174"/>
                    </a:lnTo>
                    <a:lnTo>
                      <a:pt x="35" y="187"/>
                    </a:lnTo>
                    <a:lnTo>
                      <a:pt x="17" y="199"/>
                    </a:lnTo>
                    <a:lnTo>
                      <a:pt x="0" y="215"/>
                    </a:lnTo>
                    <a:lnTo>
                      <a:pt x="8" y="261"/>
                    </a:lnTo>
                    <a:lnTo>
                      <a:pt x="17" y="309"/>
                    </a:lnTo>
                    <a:lnTo>
                      <a:pt x="25" y="357"/>
                    </a:lnTo>
                    <a:lnTo>
                      <a:pt x="34" y="403"/>
                    </a:lnTo>
                    <a:lnTo>
                      <a:pt x="42" y="451"/>
                    </a:lnTo>
                    <a:lnTo>
                      <a:pt x="50" y="499"/>
                    </a:lnTo>
                    <a:lnTo>
                      <a:pt x="58" y="546"/>
                    </a:lnTo>
                    <a:lnTo>
                      <a:pt x="66" y="5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823160" y="1658880"/>
                <a:ext cx="290520" cy="595080"/>
              </a:xfrm>
              <a:custGeom>
                <a:avLst/>
                <a:gdLst/>
                <a:ahLst/>
                <a:rect l="l" t="t" r="r" b="b"/>
                <a:pathLst>
                  <a:path w="1280" h="2626">
                    <a:moveTo>
                      <a:pt x="0" y="0"/>
                    </a:moveTo>
                    <a:lnTo>
                      <a:pt x="19" y="37"/>
                    </a:lnTo>
                    <a:lnTo>
                      <a:pt x="37" y="73"/>
                    </a:lnTo>
                    <a:lnTo>
                      <a:pt x="55" y="112"/>
                    </a:lnTo>
                    <a:lnTo>
                      <a:pt x="72" y="149"/>
                    </a:lnTo>
                    <a:lnTo>
                      <a:pt x="89" y="187"/>
                    </a:lnTo>
                    <a:lnTo>
                      <a:pt x="107" y="225"/>
                    </a:lnTo>
                    <a:lnTo>
                      <a:pt x="125" y="262"/>
                    </a:lnTo>
                    <a:lnTo>
                      <a:pt x="142" y="299"/>
                    </a:lnTo>
                    <a:lnTo>
                      <a:pt x="161" y="337"/>
                    </a:lnTo>
                    <a:lnTo>
                      <a:pt x="179" y="373"/>
                    </a:lnTo>
                    <a:lnTo>
                      <a:pt x="198" y="410"/>
                    </a:lnTo>
                    <a:lnTo>
                      <a:pt x="218" y="446"/>
                    </a:lnTo>
                    <a:lnTo>
                      <a:pt x="238" y="481"/>
                    </a:lnTo>
                    <a:lnTo>
                      <a:pt x="261" y="517"/>
                    </a:lnTo>
                    <a:lnTo>
                      <a:pt x="284" y="551"/>
                    </a:lnTo>
                    <a:lnTo>
                      <a:pt x="308" y="584"/>
                    </a:lnTo>
                    <a:lnTo>
                      <a:pt x="317" y="588"/>
                    </a:lnTo>
                    <a:lnTo>
                      <a:pt x="327" y="581"/>
                    </a:lnTo>
                    <a:lnTo>
                      <a:pt x="339" y="567"/>
                    </a:lnTo>
                    <a:lnTo>
                      <a:pt x="351" y="549"/>
                    </a:lnTo>
                    <a:lnTo>
                      <a:pt x="362" y="532"/>
                    </a:lnTo>
                    <a:lnTo>
                      <a:pt x="375" y="519"/>
                    </a:lnTo>
                    <a:lnTo>
                      <a:pt x="383" y="512"/>
                    </a:lnTo>
                    <a:lnTo>
                      <a:pt x="390" y="518"/>
                    </a:lnTo>
                    <a:lnTo>
                      <a:pt x="409" y="575"/>
                    </a:lnTo>
                    <a:lnTo>
                      <a:pt x="422" y="635"/>
                    </a:lnTo>
                    <a:lnTo>
                      <a:pt x="429" y="695"/>
                    </a:lnTo>
                    <a:lnTo>
                      <a:pt x="435" y="757"/>
                    </a:lnTo>
                    <a:lnTo>
                      <a:pt x="441" y="819"/>
                    </a:lnTo>
                    <a:lnTo>
                      <a:pt x="448" y="880"/>
                    </a:lnTo>
                    <a:lnTo>
                      <a:pt x="461" y="941"/>
                    </a:lnTo>
                    <a:lnTo>
                      <a:pt x="480" y="999"/>
                    </a:lnTo>
                    <a:lnTo>
                      <a:pt x="489" y="1022"/>
                    </a:lnTo>
                    <a:lnTo>
                      <a:pt x="501" y="1044"/>
                    </a:lnTo>
                    <a:lnTo>
                      <a:pt x="514" y="1065"/>
                    </a:lnTo>
                    <a:lnTo>
                      <a:pt x="528" y="1086"/>
                    </a:lnTo>
                    <a:lnTo>
                      <a:pt x="542" y="1107"/>
                    </a:lnTo>
                    <a:lnTo>
                      <a:pt x="557" y="1127"/>
                    </a:lnTo>
                    <a:lnTo>
                      <a:pt x="573" y="1146"/>
                    </a:lnTo>
                    <a:lnTo>
                      <a:pt x="591" y="1165"/>
                    </a:lnTo>
                    <a:lnTo>
                      <a:pt x="607" y="1185"/>
                    </a:lnTo>
                    <a:lnTo>
                      <a:pt x="623" y="1205"/>
                    </a:lnTo>
                    <a:lnTo>
                      <a:pt x="639" y="1224"/>
                    </a:lnTo>
                    <a:lnTo>
                      <a:pt x="656" y="1244"/>
                    </a:lnTo>
                    <a:lnTo>
                      <a:pt x="671" y="1264"/>
                    </a:lnTo>
                    <a:lnTo>
                      <a:pt x="685" y="1285"/>
                    </a:lnTo>
                    <a:lnTo>
                      <a:pt x="700" y="1307"/>
                    </a:lnTo>
                    <a:lnTo>
                      <a:pt x="712" y="1329"/>
                    </a:lnTo>
                    <a:lnTo>
                      <a:pt x="726" y="1357"/>
                    </a:lnTo>
                    <a:lnTo>
                      <a:pt x="741" y="1386"/>
                    </a:lnTo>
                    <a:lnTo>
                      <a:pt x="754" y="1416"/>
                    </a:lnTo>
                    <a:lnTo>
                      <a:pt x="766" y="1446"/>
                    </a:lnTo>
                    <a:lnTo>
                      <a:pt x="778" y="1476"/>
                    </a:lnTo>
                    <a:lnTo>
                      <a:pt x="790" y="1507"/>
                    </a:lnTo>
                    <a:lnTo>
                      <a:pt x="802" y="1537"/>
                    </a:lnTo>
                    <a:lnTo>
                      <a:pt x="813" y="1568"/>
                    </a:lnTo>
                    <a:lnTo>
                      <a:pt x="825" y="1598"/>
                    </a:lnTo>
                    <a:lnTo>
                      <a:pt x="836" y="1629"/>
                    </a:lnTo>
                    <a:lnTo>
                      <a:pt x="847" y="1659"/>
                    </a:lnTo>
                    <a:lnTo>
                      <a:pt x="860" y="1690"/>
                    </a:lnTo>
                    <a:lnTo>
                      <a:pt x="872" y="1720"/>
                    </a:lnTo>
                    <a:lnTo>
                      <a:pt x="885" y="1750"/>
                    </a:lnTo>
                    <a:lnTo>
                      <a:pt x="899" y="1779"/>
                    </a:lnTo>
                    <a:lnTo>
                      <a:pt x="913" y="1809"/>
                    </a:lnTo>
                    <a:lnTo>
                      <a:pt x="926" y="1829"/>
                    </a:lnTo>
                    <a:lnTo>
                      <a:pt x="939" y="1849"/>
                    </a:lnTo>
                    <a:lnTo>
                      <a:pt x="954" y="1868"/>
                    </a:lnTo>
                    <a:lnTo>
                      <a:pt x="970" y="1887"/>
                    </a:lnTo>
                    <a:lnTo>
                      <a:pt x="986" y="1906"/>
                    </a:lnTo>
                    <a:lnTo>
                      <a:pt x="1003" y="1924"/>
                    </a:lnTo>
                    <a:lnTo>
                      <a:pt x="1020" y="1942"/>
                    </a:lnTo>
                    <a:lnTo>
                      <a:pt x="1038" y="1960"/>
                    </a:lnTo>
                    <a:lnTo>
                      <a:pt x="1054" y="1978"/>
                    </a:lnTo>
                    <a:lnTo>
                      <a:pt x="1070" y="1997"/>
                    </a:lnTo>
                    <a:lnTo>
                      <a:pt x="1084" y="2018"/>
                    </a:lnTo>
                    <a:lnTo>
                      <a:pt x="1098" y="2037"/>
                    </a:lnTo>
                    <a:lnTo>
                      <a:pt x="1109" y="2058"/>
                    </a:lnTo>
                    <a:lnTo>
                      <a:pt x="1119" y="2078"/>
                    </a:lnTo>
                    <a:lnTo>
                      <a:pt x="1126" y="2100"/>
                    </a:lnTo>
                    <a:lnTo>
                      <a:pt x="1131" y="2124"/>
                    </a:lnTo>
                    <a:lnTo>
                      <a:pt x="1133" y="2169"/>
                    </a:lnTo>
                    <a:lnTo>
                      <a:pt x="1125" y="2214"/>
                    </a:lnTo>
                    <a:lnTo>
                      <a:pt x="1111" y="2257"/>
                    </a:lnTo>
                    <a:lnTo>
                      <a:pt x="1093" y="2301"/>
                    </a:lnTo>
                    <a:lnTo>
                      <a:pt x="1072" y="2344"/>
                    </a:lnTo>
                    <a:lnTo>
                      <a:pt x="1052" y="2387"/>
                    </a:lnTo>
                    <a:lnTo>
                      <a:pt x="1033" y="2432"/>
                    </a:lnTo>
                    <a:lnTo>
                      <a:pt x="1018" y="2476"/>
                    </a:lnTo>
                    <a:lnTo>
                      <a:pt x="1014" y="2513"/>
                    </a:lnTo>
                    <a:lnTo>
                      <a:pt x="1012" y="2551"/>
                    </a:lnTo>
                    <a:lnTo>
                      <a:pt x="1012" y="2589"/>
                    </a:lnTo>
                    <a:lnTo>
                      <a:pt x="1011" y="2626"/>
                    </a:lnTo>
                    <a:lnTo>
                      <a:pt x="1026" y="2626"/>
                    </a:lnTo>
                    <a:lnTo>
                      <a:pt x="1041" y="2625"/>
                    </a:lnTo>
                    <a:lnTo>
                      <a:pt x="1056" y="2624"/>
                    </a:lnTo>
                    <a:lnTo>
                      <a:pt x="1071" y="2623"/>
                    </a:lnTo>
                    <a:lnTo>
                      <a:pt x="1086" y="2623"/>
                    </a:lnTo>
                    <a:lnTo>
                      <a:pt x="1101" y="2622"/>
                    </a:lnTo>
                    <a:lnTo>
                      <a:pt x="1116" y="2621"/>
                    </a:lnTo>
                    <a:lnTo>
                      <a:pt x="1131" y="2620"/>
                    </a:lnTo>
                    <a:lnTo>
                      <a:pt x="1136" y="2593"/>
                    </a:lnTo>
                    <a:lnTo>
                      <a:pt x="1138" y="2565"/>
                    </a:lnTo>
                    <a:lnTo>
                      <a:pt x="1140" y="2538"/>
                    </a:lnTo>
                    <a:lnTo>
                      <a:pt x="1142" y="2510"/>
                    </a:lnTo>
                    <a:lnTo>
                      <a:pt x="1144" y="2482"/>
                    </a:lnTo>
                    <a:lnTo>
                      <a:pt x="1149" y="2456"/>
                    </a:lnTo>
                    <a:lnTo>
                      <a:pt x="1158" y="2431"/>
                    </a:lnTo>
                    <a:lnTo>
                      <a:pt x="1169" y="2409"/>
                    </a:lnTo>
                    <a:lnTo>
                      <a:pt x="1179" y="2401"/>
                    </a:lnTo>
                    <a:lnTo>
                      <a:pt x="1192" y="2399"/>
                    </a:lnTo>
                    <a:lnTo>
                      <a:pt x="1208" y="2400"/>
                    </a:lnTo>
                    <a:lnTo>
                      <a:pt x="1226" y="2402"/>
                    </a:lnTo>
                    <a:lnTo>
                      <a:pt x="1242" y="2405"/>
                    </a:lnTo>
                    <a:lnTo>
                      <a:pt x="1257" y="2405"/>
                    </a:lnTo>
                    <a:lnTo>
                      <a:pt x="1269" y="2402"/>
                    </a:lnTo>
                    <a:lnTo>
                      <a:pt x="1274" y="2393"/>
                    </a:lnTo>
                    <a:lnTo>
                      <a:pt x="1277" y="2363"/>
                    </a:lnTo>
                    <a:lnTo>
                      <a:pt x="1275" y="2334"/>
                    </a:lnTo>
                    <a:lnTo>
                      <a:pt x="1269" y="2303"/>
                    </a:lnTo>
                    <a:lnTo>
                      <a:pt x="1259" y="2274"/>
                    </a:lnTo>
                    <a:lnTo>
                      <a:pt x="1249" y="2244"/>
                    </a:lnTo>
                    <a:lnTo>
                      <a:pt x="1238" y="2215"/>
                    </a:lnTo>
                    <a:lnTo>
                      <a:pt x="1231" y="2183"/>
                    </a:lnTo>
                    <a:lnTo>
                      <a:pt x="1228" y="2154"/>
                    </a:lnTo>
                    <a:lnTo>
                      <a:pt x="1232" y="2119"/>
                    </a:lnTo>
                    <a:lnTo>
                      <a:pt x="1241" y="2082"/>
                    </a:lnTo>
                    <a:lnTo>
                      <a:pt x="1253" y="2047"/>
                    </a:lnTo>
                    <a:lnTo>
                      <a:pt x="1265" y="2011"/>
                    </a:lnTo>
                    <a:lnTo>
                      <a:pt x="1274" y="1975"/>
                    </a:lnTo>
                    <a:lnTo>
                      <a:pt x="1280" y="1940"/>
                    </a:lnTo>
                    <a:lnTo>
                      <a:pt x="1278" y="1908"/>
                    </a:lnTo>
                    <a:lnTo>
                      <a:pt x="1267" y="1876"/>
                    </a:lnTo>
                    <a:lnTo>
                      <a:pt x="1251" y="1853"/>
                    </a:lnTo>
                    <a:lnTo>
                      <a:pt x="1232" y="1832"/>
                    </a:lnTo>
                    <a:lnTo>
                      <a:pt x="1212" y="1814"/>
                    </a:lnTo>
                    <a:lnTo>
                      <a:pt x="1190" y="1795"/>
                    </a:lnTo>
                    <a:lnTo>
                      <a:pt x="1166" y="1780"/>
                    </a:lnTo>
                    <a:lnTo>
                      <a:pt x="1142" y="1765"/>
                    </a:lnTo>
                    <a:lnTo>
                      <a:pt x="1115" y="1751"/>
                    </a:lnTo>
                    <a:lnTo>
                      <a:pt x="1089" y="1737"/>
                    </a:lnTo>
                    <a:lnTo>
                      <a:pt x="1063" y="1723"/>
                    </a:lnTo>
                    <a:lnTo>
                      <a:pt x="1038" y="1710"/>
                    </a:lnTo>
                    <a:lnTo>
                      <a:pt x="1012" y="1693"/>
                    </a:lnTo>
                    <a:lnTo>
                      <a:pt x="988" y="1678"/>
                    </a:lnTo>
                    <a:lnTo>
                      <a:pt x="966" y="1661"/>
                    </a:lnTo>
                    <a:lnTo>
                      <a:pt x="947" y="1642"/>
                    </a:lnTo>
                    <a:lnTo>
                      <a:pt x="929" y="1621"/>
                    </a:lnTo>
                    <a:lnTo>
                      <a:pt x="913" y="1597"/>
                    </a:lnTo>
                    <a:lnTo>
                      <a:pt x="889" y="1549"/>
                    </a:lnTo>
                    <a:lnTo>
                      <a:pt x="868" y="1498"/>
                    </a:lnTo>
                    <a:lnTo>
                      <a:pt x="849" y="1448"/>
                    </a:lnTo>
                    <a:lnTo>
                      <a:pt x="833" y="1394"/>
                    </a:lnTo>
                    <a:lnTo>
                      <a:pt x="819" y="1342"/>
                    </a:lnTo>
                    <a:lnTo>
                      <a:pt x="805" y="1288"/>
                    </a:lnTo>
                    <a:lnTo>
                      <a:pt x="793" y="1235"/>
                    </a:lnTo>
                    <a:lnTo>
                      <a:pt x="782" y="1180"/>
                    </a:lnTo>
                    <a:lnTo>
                      <a:pt x="770" y="1127"/>
                    </a:lnTo>
                    <a:lnTo>
                      <a:pt x="759" y="1071"/>
                    </a:lnTo>
                    <a:lnTo>
                      <a:pt x="746" y="1018"/>
                    </a:lnTo>
                    <a:lnTo>
                      <a:pt x="733" y="964"/>
                    </a:lnTo>
                    <a:lnTo>
                      <a:pt x="718" y="911"/>
                    </a:lnTo>
                    <a:lnTo>
                      <a:pt x="701" y="859"/>
                    </a:lnTo>
                    <a:lnTo>
                      <a:pt x="681" y="808"/>
                    </a:lnTo>
                    <a:lnTo>
                      <a:pt x="659" y="758"/>
                    </a:lnTo>
                    <a:lnTo>
                      <a:pt x="649" y="751"/>
                    </a:lnTo>
                    <a:lnTo>
                      <a:pt x="634" y="756"/>
                    </a:lnTo>
                    <a:lnTo>
                      <a:pt x="615" y="768"/>
                    </a:lnTo>
                    <a:lnTo>
                      <a:pt x="595" y="784"/>
                    </a:lnTo>
                    <a:lnTo>
                      <a:pt x="575" y="802"/>
                    </a:lnTo>
                    <a:lnTo>
                      <a:pt x="558" y="814"/>
                    </a:lnTo>
                    <a:lnTo>
                      <a:pt x="546" y="818"/>
                    </a:lnTo>
                    <a:lnTo>
                      <a:pt x="540" y="810"/>
                    </a:lnTo>
                    <a:lnTo>
                      <a:pt x="538" y="762"/>
                    </a:lnTo>
                    <a:lnTo>
                      <a:pt x="546" y="716"/>
                    </a:lnTo>
                    <a:lnTo>
                      <a:pt x="558" y="668"/>
                    </a:lnTo>
                    <a:lnTo>
                      <a:pt x="574" y="622"/>
                    </a:lnTo>
                    <a:lnTo>
                      <a:pt x="592" y="575"/>
                    </a:lnTo>
                    <a:lnTo>
                      <a:pt x="606" y="529"/>
                    </a:lnTo>
                    <a:lnTo>
                      <a:pt x="615" y="481"/>
                    </a:lnTo>
                    <a:lnTo>
                      <a:pt x="615" y="435"/>
                    </a:lnTo>
                    <a:lnTo>
                      <a:pt x="606" y="384"/>
                    </a:lnTo>
                    <a:lnTo>
                      <a:pt x="593" y="337"/>
                    </a:lnTo>
                    <a:lnTo>
                      <a:pt x="573" y="289"/>
                    </a:lnTo>
                    <a:lnTo>
                      <a:pt x="552" y="243"/>
                    </a:lnTo>
                    <a:lnTo>
                      <a:pt x="531" y="198"/>
                    </a:lnTo>
                    <a:lnTo>
                      <a:pt x="507" y="153"/>
                    </a:lnTo>
                    <a:lnTo>
                      <a:pt x="485" y="107"/>
                    </a:lnTo>
                    <a:lnTo>
                      <a:pt x="464" y="59"/>
                    </a:lnTo>
                    <a:lnTo>
                      <a:pt x="433" y="63"/>
                    </a:lnTo>
                    <a:lnTo>
                      <a:pt x="403" y="66"/>
                    </a:lnTo>
                    <a:lnTo>
                      <a:pt x="372" y="68"/>
                    </a:lnTo>
                    <a:lnTo>
                      <a:pt x="341" y="69"/>
                    </a:lnTo>
                    <a:lnTo>
                      <a:pt x="311" y="69"/>
                    </a:lnTo>
                    <a:lnTo>
                      <a:pt x="281" y="68"/>
                    </a:lnTo>
                    <a:lnTo>
                      <a:pt x="251" y="66"/>
                    </a:lnTo>
                    <a:lnTo>
                      <a:pt x="221" y="62"/>
                    </a:lnTo>
                    <a:lnTo>
                      <a:pt x="192" y="58"/>
                    </a:lnTo>
                    <a:lnTo>
                      <a:pt x="163" y="53"/>
                    </a:lnTo>
                    <a:lnTo>
                      <a:pt x="134" y="48"/>
                    </a:lnTo>
                    <a:lnTo>
                      <a:pt x="106" y="40"/>
                    </a:lnTo>
                    <a:lnTo>
                      <a:pt x="79" y="32"/>
                    </a:lnTo>
                    <a:lnTo>
                      <a:pt x="52" y="22"/>
                    </a:lnTo>
                    <a:lnTo>
                      <a:pt x="25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035920" y="1682640"/>
                <a:ext cx="338400" cy="571320"/>
              </a:xfrm>
              <a:custGeom>
                <a:avLst/>
                <a:gdLst/>
                <a:ahLst/>
                <a:rect l="l" t="t" r="r" b="b"/>
                <a:pathLst>
                  <a:path w="1491" h="2522">
                    <a:moveTo>
                      <a:pt x="37" y="8"/>
                    </a:moveTo>
                    <a:lnTo>
                      <a:pt x="33" y="0"/>
                    </a:lnTo>
                    <a:lnTo>
                      <a:pt x="26" y="9"/>
                    </a:lnTo>
                    <a:lnTo>
                      <a:pt x="19" y="30"/>
                    </a:lnTo>
                    <a:lnTo>
                      <a:pt x="13" y="61"/>
                    </a:lnTo>
                    <a:lnTo>
                      <a:pt x="7" y="96"/>
                    </a:lnTo>
                    <a:lnTo>
                      <a:pt x="2" y="131"/>
                    </a:lnTo>
                    <a:lnTo>
                      <a:pt x="0" y="163"/>
                    </a:lnTo>
                    <a:lnTo>
                      <a:pt x="0" y="187"/>
                    </a:lnTo>
                    <a:lnTo>
                      <a:pt x="4" y="206"/>
                    </a:lnTo>
                    <a:lnTo>
                      <a:pt x="10" y="223"/>
                    </a:lnTo>
                    <a:lnTo>
                      <a:pt x="17" y="239"/>
                    </a:lnTo>
                    <a:lnTo>
                      <a:pt x="27" y="256"/>
                    </a:lnTo>
                    <a:lnTo>
                      <a:pt x="37" y="273"/>
                    </a:lnTo>
                    <a:lnTo>
                      <a:pt x="46" y="289"/>
                    </a:lnTo>
                    <a:lnTo>
                      <a:pt x="54" y="306"/>
                    </a:lnTo>
                    <a:lnTo>
                      <a:pt x="59" y="323"/>
                    </a:lnTo>
                    <a:lnTo>
                      <a:pt x="66" y="351"/>
                    </a:lnTo>
                    <a:lnTo>
                      <a:pt x="69" y="376"/>
                    </a:lnTo>
                    <a:lnTo>
                      <a:pt x="72" y="401"/>
                    </a:lnTo>
                    <a:lnTo>
                      <a:pt x="74" y="423"/>
                    </a:lnTo>
                    <a:lnTo>
                      <a:pt x="77" y="446"/>
                    </a:lnTo>
                    <a:lnTo>
                      <a:pt x="82" y="468"/>
                    </a:lnTo>
                    <a:lnTo>
                      <a:pt x="92" y="493"/>
                    </a:lnTo>
                    <a:lnTo>
                      <a:pt x="104" y="517"/>
                    </a:lnTo>
                    <a:lnTo>
                      <a:pt x="114" y="532"/>
                    </a:lnTo>
                    <a:lnTo>
                      <a:pt x="124" y="546"/>
                    </a:lnTo>
                    <a:lnTo>
                      <a:pt x="136" y="561"/>
                    </a:lnTo>
                    <a:lnTo>
                      <a:pt x="148" y="576"/>
                    </a:lnTo>
                    <a:lnTo>
                      <a:pt x="162" y="590"/>
                    </a:lnTo>
                    <a:lnTo>
                      <a:pt x="175" y="605"/>
                    </a:lnTo>
                    <a:lnTo>
                      <a:pt x="189" y="619"/>
                    </a:lnTo>
                    <a:lnTo>
                      <a:pt x="205" y="634"/>
                    </a:lnTo>
                    <a:lnTo>
                      <a:pt x="219" y="648"/>
                    </a:lnTo>
                    <a:lnTo>
                      <a:pt x="233" y="661"/>
                    </a:lnTo>
                    <a:lnTo>
                      <a:pt x="248" y="676"/>
                    </a:lnTo>
                    <a:lnTo>
                      <a:pt x="262" y="689"/>
                    </a:lnTo>
                    <a:lnTo>
                      <a:pt x="276" y="704"/>
                    </a:lnTo>
                    <a:lnTo>
                      <a:pt x="290" y="718"/>
                    </a:lnTo>
                    <a:lnTo>
                      <a:pt x="302" y="730"/>
                    </a:lnTo>
                    <a:lnTo>
                      <a:pt x="314" y="743"/>
                    </a:lnTo>
                    <a:lnTo>
                      <a:pt x="332" y="764"/>
                    </a:lnTo>
                    <a:lnTo>
                      <a:pt x="348" y="786"/>
                    </a:lnTo>
                    <a:lnTo>
                      <a:pt x="363" y="810"/>
                    </a:lnTo>
                    <a:lnTo>
                      <a:pt x="377" y="834"/>
                    </a:lnTo>
                    <a:lnTo>
                      <a:pt x="392" y="858"/>
                    </a:lnTo>
                    <a:lnTo>
                      <a:pt x="405" y="882"/>
                    </a:lnTo>
                    <a:lnTo>
                      <a:pt x="420" y="907"/>
                    </a:lnTo>
                    <a:lnTo>
                      <a:pt x="435" y="931"/>
                    </a:lnTo>
                    <a:lnTo>
                      <a:pt x="444" y="946"/>
                    </a:lnTo>
                    <a:lnTo>
                      <a:pt x="454" y="961"/>
                    </a:lnTo>
                    <a:lnTo>
                      <a:pt x="463" y="977"/>
                    </a:lnTo>
                    <a:lnTo>
                      <a:pt x="473" y="992"/>
                    </a:lnTo>
                    <a:lnTo>
                      <a:pt x="482" y="1008"/>
                    </a:lnTo>
                    <a:lnTo>
                      <a:pt x="492" y="1024"/>
                    </a:lnTo>
                    <a:lnTo>
                      <a:pt x="501" y="1040"/>
                    </a:lnTo>
                    <a:lnTo>
                      <a:pt x="511" y="1055"/>
                    </a:lnTo>
                    <a:lnTo>
                      <a:pt x="521" y="1071"/>
                    </a:lnTo>
                    <a:lnTo>
                      <a:pt x="531" y="1086"/>
                    </a:lnTo>
                    <a:lnTo>
                      <a:pt x="541" y="1103"/>
                    </a:lnTo>
                    <a:lnTo>
                      <a:pt x="550" y="1118"/>
                    </a:lnTo>
                    <a:lnTo>
                      <a:pt x="561" y="1133"/>
                    </a:lnTo>
                    <a:lnTo>
                      <a:pt x="570" y="1148"/>
                    </a:lnTo>
                    <a:lnTo>
                      <a:pt x="581" y="1164"/>
                    </a:lnTo>
                    <a:lnTo>
                      <a:pt x="591" y="1178"/>
                    </a:lnTo>
                    <a:lnTo>
                      <a:pt x="604" y="1192"/>
                    </a:lnTo>
                    <a:lnTo>
                      <a:pt x="619" y="1206"/>
                    </a:lnTo>
                    <a:lnTo>
                      <a:pt x="634" y="1220"/>
                    </a:lnTo>
                    <a:lnTo>
                      <a:pt x="651" y="1232"/>
                    </a:lnTo>
                    <a:lnTo>
                      <a:pt x="667" y="1245"/>
                    </a:lnTo>
                    <a:lnTo>
                      <a:pt x="680" y="1259"/>
                    </a:lnTo>
                    <a:lnTo>
                      <a:pt x="691" y="1274"/>
                    </a:lnTo>
                    <a:lnTo>
                      <a:pt x="696" y="1291"/>
                    </a:lnTo>
                    <a:lnTo>
                      <a:pt x="703" y="1342"/>
                    </a:lnTo>
                    <a:lnTo>
                      <a:pt x="703" y="1391"/>
                    </a:lnTo>
                    <a:lnTo>
                      <a:pt x="700" y="1443"/>
                    </a:lnTo>
                    <a:lnTo>
                      <a:pt x="695" y="1492"/>
                    </a:lnTo>
                    <a:lnTo>
                      <a:pt x="692" y="1543"/>
                    </a:lnTo>
                    <a:lnTo>
                      <a:pt x="692" y="1591"/>
                    </a:lnTo>
                    <a:lnTo>
                      <a:pt x="698" y="1641"/>
                    </a:lnTo>
                    <a:lnTo>
                      <a:pt x="712" y="1690"/>
                    </a:lnTo>
                    <a:lnTo>
                      <a:pt x="723" y="1716"/>
                    </a:lnTo>
                    <a:lnTo>
                      <a:pt x="736" y="1742"/>
                    </a:lnTo>
                    <a:lnTo>
                      <a:pt x="754" y="1766"/>
                    </a:lnTo>
                    <a:lnTo>
                      <a:pt x="771" y="1790"/>
                    </a:lnTo>
                    <a:lnTo>
                      <a:pt x="789" y="1813"/>
                    </a:lnTo>
                    <a:lnTo>
                      <a:pt x="808" y="1835"/>
                    </a:lnTo>
                    <a:lnTo>
                      <a:pt x="828" y="1856"/>
                    </a:lnTo>
                    <a:lnTo>
                      <a:pt x="849" y="1878"/>
                    </a:lnTo>
                    <a:lnTo>
                      <a:pt x="871" y="1900"/>
                    </a:lnTo>
                    <a:lnTo>
                      <a:pt x="891" y="1923"/>
                    </a:lnTo>
                    <a:lnTo>
                      <a:pt x="911" y="1945"/>
                    </a:lnTo>
                    <a:lnTo>
                      <a:pt x="931" y="1967"/>
                    </a:lnTo>
                    <a:lnTo>
                      <a:pt x="949" y="1990"/>
                    </a:lnTo>
                    <a:lnTo>
                      <a:pt x="967" y="2015"/>
                    </a:lnTo>
                    <a:lnTo>
                      <a:pt x="983" y="2039"/>
                    </a:lnTo>
                    <a:lnTo>
                      <a:pt x="996" y="2065"/>
                    </a:lnTo>
                    <a:lnTo>
                      <a:pt x="1019" y="2121"/>
                    </a:lnTo>
                    <a:lnTo>
                      <a:pt x="1037" y="2176"/>
                    </a:lnTo>
                    <a:lnTo>
                      <a:pt x="1051" y="2233"/>
                    </a:lnTo>
                    <a:lnTo>
                      <a:pt x="1061" y="2289"/>
                    </a:lnTo>
                    <a:lnTo>
                      <a:pt x="1071" y="2346"/>
                    </a:lnTo>
                    <a:lnTo>
                      <a:pt x="1080" y="2403"/>
                    </a:lnTo>
                    <a:lnTo>
                      <a:pt x="1090" y="2462"/>
                    </a:lnTo>
                    <a:lnTo>
                      <a:pt x="1101" y="2522"/>
                    </a:lnTo>
                    <a:lnTo>
                      <a:pt x="1123" y="2511"/>
                    </a:lnTo>
                    <a:lnTo>
                      <a:pt x="1146" y="2500"/>
                    </a:lnTo>
                    <a:lnTo>
                      <a:pt x="1168" y="2488"/>
                    </a:lnTo>
                    <a:lnTo>
                      <a:pt x="1192" y="2479"/>
                    </a:lnTo>
                    <a:lnTo>
                      <a:pt x="1214" y="2469"/>
                    </a:lnTo>
                    <a:lnTo>
                      <a:pt x="1238" y="2460"/>
                    </a:lnTo>
                    <a:lnTo>
                      <a:pt x="1261" y="2453"/>
                    </a:lnTo>
                    <a:lnTo>
                      <a:pt x="1284" y="2447"/>
                    </a:lnTo>
                    <a:lnTo>
                      <a:pt x="1309" y="2443"/>
                    </a:lnTo>
                    <a:lnTo>
                      <a:pt x="1333" y="2441"/>
                    </a:lnTo>
                    <a:lnTo>
                      <a:pt x="1358" y="2442"/>
                    </a:lnTo>
                    <a:lnTo>
                      <a:pt x="1383" y="2445"/>
                    </a:lnTo>
                    <a:lnTo>
                      <a:pt x="1410" y="2450"/>
                    </a:lnTo>
                    <a:lnTo>
                      <a:pt x="1436" y="2459"/>
                    </a:lnTo>
                    <a:lnTo>
                      <a:pt x="1463" y="2470"/>
                    </a:lnTo>
                    <a:lnTo>
                      <a:pt x="1491" y="2485"/>
                    </a:lnTo>
                    <a:lnTo>
                      <a:pt x="1474" y="2461"/>
                    </a:lnTo>
                    <a:lnTo>
                      <a:pt x="1457" y="2438"/>
                    </a:lnTo>
                    <a:lnTo>
                      <a:pt x="1440" y="2415"/>
                    </a:lnTo>
                    <a:lnTo>
                      <a:pt x="1424" y="2392"/>
                    </a:lnTo>
                    <a:lnTo>
                      <a:pt x="1407" y="2369"/>
                    </a:lnTo>
                    <a:lnTo>
                      <a:pt x="1388" y="2347"/>
                    </a:lnTo>
                    <a:lnTo>
                      <a:pt x="1372" y="2325"/>
                    </a:lnTo>
                    <a:lnTo>
                      <a:pt x="1355" y="2302"/>
                    </a:lnTo>
                    <a:lnTo>
                      <a:pt x="1339" y="2280"/>
                    </a:lnTo>
                    <a:lnTo>
                      <a:pt x="1322" y="2258"/>
                    </a:lnTo>
                    <a:lnTo>
                      <a:pt x="1305" y="2237"/>
                    </a:lnTo>
                    <a:lnTo>
                      <a:pt x="1288" y="2214"/>
                    </a:lnTo>
                    <a:lnTo>
                      <a:pt x="1273" y="2190"/>
                    </a:lnTo>
                    <a:lnTo>
                      <a:pt x="1258" y="2166"/>
                    </a:lnTo>
                    <a:lnTo>
                      <a:pt x="1242" y="2142"/>
                    </a:lnTo>
                    <a:lnTo>
                      <a:pt x="1228" y="2117"/>
                    </a:lnTo>
                    <a:lnTo>
                      <a:pt x="1217" y="2095"/>
                    </a:lnTo>
                    <a:lnTo>
                      <a:pt x="1205" y="2075"/>
                    </a:lnTo>
                    <a:lnTo>
                      <a:pt x="1194" y="2053"/>
                    </a:lnTo>
                    <a:lnTo>
                      <a:pt x="1181" y="2032"/>
                    </a:lnTo>
                    <a:lnTo>
                      <a:pt x="1171" y="2010"/>
                    </a:lnTo>
                    <a:lnTo>
                      <a:pt x="1160" y="1987"/>
                    </a:lnTo>
                    <a:lnTo>
                      <a:pt x="1151" y="1965"/>
                    </a:lnTo>
                    <a:lnTo>
                      <a:pt x="1140" y="1943"/>
                    </a:lnTo>
                    <a:lnTo>
                      <a:pt x="1131" y="1921"/>
                    </a:lnTo>
                    <a:lnTo>
                      <a:pt x="1121" y="1898"/>
                    </a:lnTo>
                    <a:lnTo>
                      <a:pt x="1112" y="1876"/>
                    </a:lnTo>
                    <a:lnTo>
                      <a:pt x="1102" y="1853"/>
                    </a:lnTo>
                    <a:lnTo>
                      <a:pt x="1093" y="1832"/>
                    </a:lnTo>
                    <a:lnTo>
                      <a:pt x="1083" y="1810"/>
                    </a:lnTo>
                    <a:lnTo>
                      <a:pt x="1073" y="1786"/>
                    </a:lnTo>
                    <a:lnTo>
                      <a:pt x="1064" y="1764"/>
                    </a:lnTo>
                    <a:lnTo>
                      <a:pt x="1050" y="1731"/>
                    </a:lnTo>
                    <a:lnTo>
                      <a:pt x="1033" y="1701"/>
                    </a:lnTo>
                    <a:lnTo>
                      <a:pt x="1017" y="1670"/>
                    </a:lnTo>
                    <a:lnTo>
                      <a:pt x="1000" y="1643"/>
                    </a:lnTo>
                    <a:lnTo>
                      <a:pt x="983" y="1615"/>
                    </a:lnTo>
                    <a:lnTo>
                      <a:pt x="965" y="1587"/>
                    </a:lnTo>
                    <a:lnTo>
                      <a:pt x="948" y="1560"/>
                    </a:lnTo>
                    <a:lnTo>
                      <a:pt x="932" y="1533"/>
                    </a:lnTo>
                    <a:lnTo>
                      <a:pt x="917" y="1507"/>
                    </a:lnTo>
                    <a:lnTo>
                      <a:pt x="903" y="1478"/>
                    </a:lnTo>
                    <a:lnTo>
                      <a:pt x="890" y="1449"/>
                    </a:lnTo>
                    <a:lnTo>
                      <a:pt x="880" y="1420"/>
                    </a:lnTo>
                    <a:lnTo>
                      <a:pt x="872" y="1388"/>
                    </a:lnTo>
                    <a:lnTo>
                      <a:pt x="866" y="1355"/>
                    </a:lnTo>
                    <a:lnTo>
                      <a:pt x="862" y="1321"/>
                    </a:lnTo>
                    <a:lnTo>
                      <a:pt x="862" y="1284"/>
                    </a:lnTo>
                    <a:lnTo>
                      <a:pt x="861" y="1249"/>
                    </a:lnTo>
                    <a:lnTo>
                      <a:pt x="850" y="1215"/>
                    </a:lnTo>
                    <a:lnTo>
                      <a:pt x="836" y="1180"/>
                    </a:lnTo>
                    <a:lnTo>
                      <a:pt x="817" y="1146"/>
                    </a:lnTo>
                    <a:lnTo>
                      <a:pt x="794" y="1114"/>
                    </a:lnTo>
                    <a:lnTo>
                      <a:pt x="768" y="1081"/>
                    </a:lnTo>
                    <a:lnTo>
                      <a:pt x="737" y="1049"/>
                    </a:lnTo>
                    <a:lnTo>
                      <a:pt x="708" y="1017"/>
                    </a:lnTo>
                    <a:lnTo>
                      <a:pt x="677" y="985"/>
                    </a:lnTo>
                    <a:lnTo>
                      <a:pt x="646" y="954"/>
                    </a:lnTo>
                    <a:lnTo>
                      <a:pt x="615" y="923"/>
                    </a:lnTo>
                    <a:lnTo>
                      <a:pt x="587" y="893"/>
                    </a:lnTo>
                    <a:lnTo>
                      <a:pt x="562" y="862"/>
                    </a:lnTo>
                    <a:lnTo>
                      <a:pt x="541" y="833"/>
                    </a:lnTo>
                    <a:lnTo>
                      <a:pt x="522" y="803"/>
                    </a:lnTo>
                    <a:lnTo>
                      <a:pt x="509" y="773"/>
                    </a:lnTo>
                    <a:lnTo>
                      <a:pt x="498" y="741"/>
                    </a:lnTo>
                    <a:lnTo>
                      <a:pt x="483" y="712"/>
                    </a:lnTo>
                    <a:lnTo>
                      <a:pt x="466" y="681"/>
                    </a:lnTo>
                    <a:lnTo>
                      <a:pt x="448" y="654"/>
                    </a:lnTo>
                    <a:lnTo>
                      <a:pt x="428" y="626"/>
                    </a:lnTo>
                    <a:lnTo>
                      <a:pt x="406" y="600"/>
                    </a:lnTo>
                    <a:lnTo>
                      <a:pt x="384" y="573"/>
                    </a:lnTo>
                    <a:lnTo>
                      <a:pt x="361" y="548"/>
                    </a:lnTo>
                    <a:lnTo>
                      <a:pt x="337" y="522"/>
                    </a:lnTo>
                    <a:lnTo>
                      <a:pt x="313" y="497"/>
                    </a:lnTo>
                    <a:lnTo>
                      <a:pt x="289" y="471"/>
                    </a:lnTo>
                    <a:lnTo>
                      <a:pt x="266" y="445"/>
                    </a:lnTo>
                    <a:lnTo>
                      <a:pt x="243" y="419"/>
                    </a:lnTo>
                    <a:lnTo>
                      <a:pt x="221" y="393"/>
                    </a:lnTo>
                    <a:lnTo>
                      <a:pt x="200" y="365"/>
                    </a:lnTo>
                    <a:lnTo>
                      <a:pt x="180" y="337"/>
                    </a:lnTo>
                    <a:lnTo>
                      <a:pt x="157" y="301"/>
                    </a:lnTo>
                    <a:lnTo>
                      <a:pt x="135" y="260"/>
                    </a:lnTo>
                    <a:lnTo>
                      <a:pt x="114" y="217"/>
                    </a:lnTo>
                    <a:lnTo>
                      <a:pt x="95" y="173"/>
                    </a:lnTo>
                    <a:lnTo>
                      <a:pt x="76" y="130"/>
                    </a:lnTo>
                    <a:lnTo>
                      <a:pt x="60" y="87"/>
                    </a:lnTo>
                    <a:lnTo>
                      <a:pt x="47" y="46"/>
                    </a:lnTo>
                    <a:lnTo>
                      <a:pt x="37" y="8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269560" y="1817640"/>
                <a:ext cx="71280" cy="133200"/>
              </a:xfrm>
              <a:custGeom>
                <a:avLst/>
                <a:gdLst/>
                <a:ahLst/>
                <a:rect l="l" t="t" r="r" b="b"/>
                <a:pathLst>
                  <a:path w="318" h="588">
                    <a:moveTo>
                      <a:pt x="0" y="0"/>
                    </a:moveTo>
                    <a:lnTo>
                      <a:pt x="10" y="7"/>
                    </a:lnTo>
                    <a:lnTo>
                      <a:pt x="21" y="14"/>
                    </a:lnTo>
                    <a:lnTo>
                      <a:pt x="32" y="21"/>
                    </a:lnTo>
                    <a:lnTo>
                      <a:pt x="42" y="29"/>
                    </a:lnTo>
                    <a:lnTo>
                      <a:pt x="54" y="37"/>
                    </a:lnTo>
                    <a:lnTo>
                      <a:pt x="64" y="44"/>
                    </a:lnTo>
                    <a:lnTo>
                      <a:pt x="75" y="53"/>
                    </a:lnTo>
                    <a:lnTo>
                      <a:pt x="85" y="61"/>
                    </a:lnTo>
                    <a:lnTo>
                      <a:pt x="95" y="69"/>
                    </a:lnTo>
                    <a:lnTo>
                      <a:pt x="105" y="77"/>
                    </a:lnTo>
                    <a:lnTo>
                      <a:pt x="115" y="85"/>
                    </a:lnTo>
                    <a:lnTo>
                      <a:pt x="125" y="94"/>
                    </a:lnTo>
                    <a:lnTo>
                      <a:pt x="133" y="103"/>
                    </a:lnTo>
                    <a:lnTo>
                      <a:pt x="143" y="113"/>
                    </a:lnTo>
                    <a:lnTo>
                      <a:pt x="151" y="122"/>
                    </a:lnTo>
                    <a:lnTo>
                      <a:pt x="161" y="131"/>
                    </a:lnTo>
                    <a:lnTo>
                      <a:pt x="177" y="150"/>
                    </a:lnTo>
                    <a:lnTo>
                      <a:pt x="192" y="170"/>
                    </a:lnTo>
                    <a:lnTo>
                      <a:pt x="206" y="191"/>
                    </a:lnTo>
                    <a:lnTo>
                      <a:pt x="219" y="214"/>
                    </a:lnTo>
                    <a:lnTo>
                      <a:pt x="231" y="236"/>
                    </a:lnTo>
                    <a:lnTo>
                      <a:pt x="242" y="259"/>
                    </a:lnTo>
                    <a:lnTo>
                      <a:pt x="253" y="283"/>
                    </a:lnTo>
                    <a:lnTo>
                      <a:pt x="262" y="307"/>
                    </a:lnTo>
                    <a:lnTo>
                      <a:pt x="272" y="331"/>
                    </a:lnTo>
                    <a:lnTo>
                      <a:pt x="279" y="356"/>
                    </a:lnTo>
                    <a:lnTo>
                      <a:pt x="287" y="381"/>
                    </a:lnTo>
                    <a:lnTo>
                      <a:pt x="294" y="406"/>
                    </a:lnTo>
                    <a:lnTo>
                      <a:pt x="300" y="431"/>
                    </a:lnTo>
                    <a:lnTo>
                      <a:pt x="306" y="456"/>
                    </a:lnTo>
                    <a:lnTo>
                      <a:pt x="312" y="481"/>
                    </a:lnTo>
                    <a:lnTo>
                      <a:pt x="317" y="507"/>
                    </a:lnTo>
                    <a:lnTo>
                      <a:pt x="318" y="527"/>
                    </a:lnTo>
                    <a:lnTo>
                      <a:pt x="315" y="547"/>
                    </a:lnTo>
                    <a:lnTo>
                      <a:pt x="308" y="568"/>
                    </a:lnTo>
                    <a:lnTo>
                      <a:pt x="300" y="588"/>
                    </a:lnTo>
                    <a:lnTo>
                      <a:pt x="282" y="547"/>
                    </a:lnTo>
                    <a:lnTo>
                      <a:pt x="264" y="507"/>
                    </a:lnTo>
                    <a:lnTo>
                      <a:pt x="249" y="466"/>
                    </a:lnTo>
                    <a:lnTo>
                      <a:pt x="233" y="427"/>
                    </a:lnTo>
                    <a:lnTo>
                      <a:pt x="219" y="388"/>
                    </a:lnTo>
                    <a:lnTo>
                      <a:pt x="205" y="351"/>
                    </a:lnTo>
                    <a:lnTo>
                      <a:pt x="190" y="315"/>
                    </a:lnTo>
                    <a:lnTo>
                      <a:pt x="176" y="278"/>
                    </a:lnTo>
                    <a:lnTo>
                      <a:pt x="161" y="243"/>
                    </a:lnTo>
                    <a:lnTo>
                      <a:pt x="143" y="207"/>
                    </a:lnTo>
                    <a:lnTo>
                      <a:pt x="125" y="171"/>
                    </a:lnTo>
                    <a:lnTo>
                      <a:pt x="105" y="137"/>
                    </a:lnTo>
                    <a:lnTo>
                      <a:pt x="83" y="102"/>
                    </a:lnTo>
                    <a:lnTo>
                      <a:pt x="59" y="68"/>
                    </a:lnTo>
                    <a:lnTo>
                      <a:pt x="3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78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59920" y="1925640"/>
                <a:ext cx="111240" cy="304560"/>
              </a:xfrm>
              <a:custGeom>
                <a:avLst/>
                <a:gdLst/>
                <a:ahLst/>
                <a:rect l="l" t="t" r="r" b="b"/>
                <a:pathLst>
                  <a:path w="488" h="1346">
                    <a:moveTo>
                      <a:pt x="0" y="411"/>
                    </a:moveTo>
                    <a:lnTo>
                      <a:pt x="25" y="416"/>
                    </a:lnTo>
                    <a:lnTo>
                      <a:pt x="44" y="416"/>
                    </a:lnTo>
                    <a:lnTo>
                      <a:pt x="58" y="409"/>
                    </a:lnTo>
                    <a:lnTo>
                      <a:pt x="66" y="399"/>
                    </a:lnTo>
                    <a:lnTo>
                      <a:pt x="70" y="384"/>
                    </a:lnTo>
                    <a:lnTo>
                      <a:pt x="69" y="366"/>
                    </a:lnTo>
                    <a:lnTo>
                      <a:pt x="66" y="345"/>
                    </a:lnTo>
                    <a:lnTo>
                      <a:pt x="61" y="321"/>
                    </a:lnTo>
                    <a:lnTo>
                      <a:pt x="52" y="297"/>
                    </a:lnTo>
                    <a:lnTo>
                      <a:pt x="44" y="271"/>
                    </a:lnTo>
                    <a:lnTo>
                      <a:pt x="34" y="244"/>
                    </a:lnTo>
                    <a:lnTo>
                      <a:pt x="24" y="218"/>
                    </a:lnTo>
                    <a:lnTo>
                      <a:pt x="16" y="192"/>
                    </a:lnTo>
                    <a:lnTo>
                      <a:pt x="9" y="168"/>
                    </a:lnTo>
                    <a:lnTo>
                      <a:pt x="3" y="146"/>
                    </a:lnTo>
                    <a:lnTo>
                      <a:pt x="2" y="126"/>
                    </a:lnTo>
                    <a:lnTo>
                      <a:pt x="2" y="108"/>
                    </a:lnTo>
                    <a:lnTo>
                      <a:pt x="5" y="86"/>
                    </a:lnTo>
                    <a:lnTo>
                      <a:pt x="9" y="62"/>
                    </a:lnTo>
                    <a:lnTo>
                      <a:pt x="15" y="39"/>
                    </a:lnTo>
                    <a:lnTo>
                      <a:pt x="22" y="18"/>
                    </a:lnTo>
                    <a:lnTo>
                      <a:pt x="29" y="5"/>
                    </a:lnTo>
                    <a:lnTo>
                      <a:pt x="38" y="0"/>
                    </a:lnTo>
                    <a:lnTo>
                      <a:pt x="46" y="7"/>
                    </a:lnTo>
                    <a:lnTo>
                      <a:pt x="65" y="41"/>
                    </a:lnTo>
                    <a:lnTo>
                      <a:pt x="79" y="77"/>
                    </a:lnTo>
                    <a:lnTo>
                      <a:pt x="88" y="114"/>
                    </a:lnTo>
                    <a:lnTo>
                      <a:pt x="96" y="153"/>
                    </a:lnTo>
                    <a:lnTo>
                      <a:pt x="102" y="192"/>
                    </a:lnTo>
                    <a:lnTo>
                      <a:pt x="108" y="232"/>
                    </a:lnTo>
                    <a:lnTo>
                      <a:pt x="117" y="270"/>
                    </a:lnTo>
                    <a:lnTo>
                      <a:pt x="129" y="306"/>
                    </a:lnTo>
                    <a:lnTo>
                      <a:pt x="140" y="332"/>
                    </a:lnTo>
                    <a:lnTo>
                      <a:pt x="153" y="355"/>
                    </a:lnTo>
                    <a:lnTo>
                      <a:pt x="168" y="378"/>
                    </a:lnTo>
                    <a:lnTo>
                      <a:pt x="184" y="401"/>
                    </a:lnTo>
                    <a:lnTo>
                      <a:pt x="200" y="423"/>
                    </a:lnTo>
                    <a:lnTo>
                      <a:pt x="215" y="447"/>
                    </a:lnTo>
                    <a:lnTo>
                      <a:pt x="230" y="470"/>
                    </a:lnTo>
                    <a:lnTo>
                      <a:pt x="241" y="495"/>
                    </a:lnTo>
                    <a:lnTo>
                      <a:pt x="250" y="518"/>
                    </a:lnTo>
                    <a:lnTo>
                      <a:pt x="255" y="543"/>
                    </a:lnTo>
                    <a:lnTo>
                      <a:pt x="260" y="566"/>
                    </a:lnTo>
                    <a:lnTo>
                      <a:pt x="265" y="591"/>
                    </a:lnTo>
                    <a:lnTo>
                      <a:pt x="269" y="616"/>
                    </a:lnTo>
                    <a:lnTo>
                      <a:pt x="273" y="642"/>
                    </a:lnTo>
                    <a:lnTo>
                      <a:pt x="277" y="665"/>
                    </a:lnTo>
                    <a:lnTo>
                      <a:pt x="285" y="689"/>
                    </a:lnTo>
                    <a:lnTo>
                      <a:pt x="294" y="713"/>
                    </a:lnTo>
                    <a:lnTo>
                      <a:pt x="302" y="738"/>
                    </a:lnTo>
                    <a:lnTo>
                      <a:pt x="313" y="761"/>
                    </a:lnTo>
                    <a:lnTo>
                      <a:pt x="322" y="784"/>
                    </a:lnTo>
                    <a:lnTo>
                      <a:pt x="333" y="807"/>
                    </a:lnTo>
                    <a:lnTo>
                      <a:pt x="342" y="830"/>
                    </a:lnTo>
                    <a:lnTo>
                      <a:pt x="353" y="854"/>
                    </a:lnTo>
                    <a:lnTo>
                      <a:pt x="363" y="877"/>
                    </a:lnTo>
                    <a:lnTo>
                      <a:pt x="374" y="901"/>
                    </a:lnTo>
                    <a:lnTo>
                      <a:pt x="383" y="924"/>
                    </a:lnTo>
                    <a:lnTo>
                      <a:pt x="394" y="948"/>
                    </a:lnTo>
                    <a:lnTo>
                      <a:pt x="404" y="970"/>
                    </a:lnTo>
                    <a:lnTo>
                      <a:pt x="414" y="993"/>
                    </a:lnTo>
                    <a:lnTo>
                      <a:pt x="425" y="1017"/>
                    </a:lnTo>
                    <a:lnTo>
                      <a:pt x="434" y="1041"/>
                    </a:lnTo>
                    <a:lnTo>
                      <a:pt x="443" y="1065"/>
                    </a:lnTo>
                    <a:lnTo>
                      <a:pt x="450" y="1087"/>
                    </a:lnTo>
                    <a:lnTo>
                      <a:pt x="459" y="1109"/>
                    </a:lnTo>
                    <a:lnTo>
                      <a:pt x="467" y="1130"/>
                    </a:lnTo>
                    <a:lnTo>
                      <a:pt x="475" y="1153"/>
                    </a:lnTo>
                    <a:lnTo>
                      <a:pt x="482" y="1176"/>
                    </a:lnTo>
                    <a:lnTo>
                      <a:pt x="487" y="1199"/>
                    </a:lnTo>
                    <a:lnTo>
                      <a:pt x="488" y="1222"/>
                    </a:lnTo>
                    <a:lnTo>
                      <a:pt x="487" y="1246"/>
                    </a:lnTo>
                    <a:lnTo>
                      <a:pt x="485" y="1258"/>
                    </a:lnTo>
                    <a:lnTo>
                      <a:pt x="481" y="1272"/>
                    </a:lnTo>
                    <a:lnTo>
                      <a:pt x="478" y="1284"/>
                    </a:lnTo>
                    <a:lnTo>
                      <a:pt x="473" y="1296"/>
                    </a:lnTo>
                    <a:lnTo>
                      <a:pt x="468" y="1309"/>
                    </a:lnTo>
                    <a:lnTo>
                      <a:pt x="463" y="1321"/>
                    </a:lnTo>
                    <a:lnTo>
                      <a:pt x="457" y="1333"/>
                    </a:lnTo>
                    <a:lnTo>
                      <a:pt x="450" y="1346"/>
                    </a:lnTo>
                    <a:lnTo>
                      <a:pt x="438" y="1297"/>
                    </a:lnTo>
                    <a:lnTo>
                      <a:pt x="441" y="1283"/>
                    </a:lnTo>
                    <a:lnTo>
                      <a:pt x="444" y="1270"/>
                    </a:lnTo>
                    <a:lnTo>
                      <a:pt x="444" y="1257"/>
                    </a:lnTo>
                    <a:lnTo>
                      <a:pt x="442" y="1246"/>
                    </a:lnTo>
                    <a:lnTo>
                      <a:pt x="439" y="1235"/>
                    </a:lnTo>
                    <a:lnTo>
                      <a:pt x="432" y="1227"/>
                    </a:lnTo>
                    <a:lnTo>
                      <a:pt x="425" y="1220"/>
                    </a:lnTo>
                    <a:lnTo>
                      <a:pt x="412" y="1215"/>
                    </a:lnTo>
                    <a:lnTo>
                      <a:pt x="329" y="1065"/>
                    </a:lnTo>
                    <a:lnTo>
                      <a:pt x="331" y="1031"/>
                    </a:lnTo>
                    <a:lnTo>
                      <a:pt x="331" y="1000"/>
                    </a:lnTo>
                    <a:lnTo>
                      <a:pt x="327" y="969"/>
                    </a:lnTo>
                    <a:lnTo>
                      <a:pt x="323" y="938"/>
                    </a:lnTo>
                    <a:lnTo>
                      <a:pt x="318" y="911"/>
                    </a:lnTo>
                    <a:lnTo>
                      <a:pt x="309" y="881"/>
                    </a:lnTo>
                    <a:lnTo>
                      <a:pt x="297" y="848"/>
                    </a:lnTo>
                    <a:lnTo>
                      <a:pt x="283" y="817"/>
                    </a:lnTo>
                    <a:lnTo>
                      <a:pt x="269" y="792"/>
                    </a:lnTo>
                    <a:lnTo>
                      <a:pt x="255" y="775"/>
                    </a:lnTo>
                    <a:lnTo>
                      <a:pt x="240" y="770"/>
                    </a:lnTo>
                    <a:lnTo>
                      <a:pt x="227" y="780"/>
                    </a:lnTo>
                    <a:lnTo>
                      <a:pt x="222" y="787"/>
                    </a:lnTo>
                    <a:lnTo>
                      <a:pt x="217" y="796"/>
                    </a:lnTo>
                    <a:lnTo>
                      <a:pt x="213" y="805"/>
                    </a:lnTo>
                    <a:lnTo>
                      <a:pt x="209" y="814"/>
                    </a:lnTo>
                    <a:lnTo>
                      <a:pt x="205" y="823"/>
                    </a:lnTo>
                    <a:lnTo>
                      <a:pt x="201" y="832"/>
                    </a:lnTo>
                    <a:lnTo>
                      <a:pt x="198" y="844"/>
                    </a:lnTo>
                    <a:lnTo>
                      <a:pt x="196" y="853"/>
                    </a:lnTo>
                    <a:lnTo>
                      <a:pt x="180" y="826"/>
                    </a:lnTo>
                    <a:lnTo>
                      <a:pt x="166" y="800"/>
                    </a:lnTo>
                    <a:lnTo>
                      <a:pt x="151" y="774"/>
                    </a:lnTo>
                    <a:lnTo>
                      <a:pt x="137" y="747"/>
                    </a:lnTo>
                    <a:lnTo>
                      <a:pt x="124" y="721"/>
                    </a:lnTo>
                    <a:lnTo>
                      <a:pt x="111" y="695"/>
                    </a:lnTo>
                    <a:lnTo>
                      <a:pt x="99" y="668"/>
                    </a:lnTo>
                    <a:lnTo>
                      <a:pt x="87" y="642"/>
                    </a:lnTo>
                    <a:lnTo>
                      <a:pt x="74" y="614"/>
                    </a:lnTo>
                    <a:lnTo>
                      <a:pt x="63" y="586"/>
                    </a:lnTo>
                    <a:lnTo>
                      <a:pt x="51" y="559"/>
                    </a:lnTo>
                    <a:lnTo>
                      <a:pt x="41" y="530"/>
                    </a:lnTo>
                    <a:lnTo>
                      <a:pt x="30" y="502"/>
                    </a:lnTo>
                    <a:lnTo>
                      <a:pt x="20" y="472"/>
                    </a:lnTo>
                    <a:lnTo>
                      <a:pt x="9" y="442"/>
                    </a:lnTo>
                    <a:lnTo>
                      <a:pt x="0" y="411"/>
                    </a:lnTo>
                    <a:close/>
                  </a:path>
                </a:pathLst>
              </a:custGeom>
              <a:solidFill>
                <a:srgbClr val="d678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202600" y="1670040"/>
                <a:ext cx="344520" cy="608040"/>
              </a:xfrm>
              <a:custGeom>
                <a:avLst/>
                <a:gdLst/>
                <a:ahLst/>
                <a:rect l="l" t="t" r="r" b="b"/>
                <a:pathLst>
                  <a:path w="1515" h="2676">
                    <a:moveTo>
                      <a:pt x="0" y="91"/>
                    </a:moveTo>
                    <a:lnTo>
                      <a:pt x="31" y="91"/>
                    </a:lnTo>
                    <a:lnTo>
                      <a:pt x="59" y="88"/>
                    </a:lnTo>
                    <a:lnTo>
                      <a:pt x="89" y="85"/>
                    </a:lnTo>
                    <a:lnTo>
                      <a:pt x="120" y="78"/>
                    </a:lnTo>
                    <a:lnTo>
                      <a:pt x="150" y="70"/>
                    </a:lnTo>
                    <a:lnTo>
                      <a:pt x="180" y="62"/>
                    </a:lnTo>
                    <a:lnTo>
                      <a:pt x="210" y="53"/>
                    </a:lnTo>
                    <a:lnTo>
                      <a:pt x="242" y="44"/>
                    </a:lnTo>
                    <a:lnTo>
                      <a:pt x="272" y="33"/>
                    </a:lnTo>
                    <a:lnTo>
                      <a:pt x="303" y="24"/>
                    </a:lnTo>
                    <a:lnTo>
                      <a:pt x="333" y="17"/>
                    </a:lnTo>
                    <a:lnTo>
                      <a:pt x="365" y="10"/>
                    </a:lnTo>
                    <a:lnTo>
                      <a:pt x="396" y="4"/>
                    </a:lnTo>
                    <a:lnTo>
                      <a:pt x="426" y="2"/>
                    </a:lnTo>
                    <a:lnTo>
                      <a:pt x="459" y="0"/>
                    </a:lnTo>
                    <a:lnTo>
                      <a:pt x="489" y="2"/>
                    </a:lnTo>
                    <a:lnTo>
                      <a:pt x="501" y="23"/>
                    </a:lnTo>
                    <a:lnTo>
                      <a:pt x="512" y="45"/>
                    </a:lnTo>
                    <a:lnTo>
                      <a:pt x="524" y="65"/>
                    </a:lnTo>
                    <a:lnTo>
                      <a:pt x="537" y="85"/>
                    </a:lnTo>
                    <a:lnTo>
                      <a:pt x="549" y="105"/>
                    </a:lnTo>
                    <a:lnTo>
                      <a:pt x="563" y="125"/>
                    </a:lnTo>
                    <a:lnTo>
                      <a:pt x="575" y="147"/>
                    </a:lnTo>
                    <a:lnTo>
                      <a:pt x="587" y="167"/>
                    </a:lnTo>
                    <a:lnTo>
                      <a:pt x="600" y="188"/>
                    </a:lnTo>
                    <a:lnTo>
                      <a:pt x="611" y="209"/>
                    </a:lnTo>
                    <a:lnTo>
                      <a:pt x="623" y="230"/>
                    </a:lnTo>
                    <a:lnTo>
                      <a:pt x="633" y="252"/>
                    </a:lnTo>
                    <a:lnTo>
                      <a:pt x="644" y="273"/>
                    </a:lnTo>
                    <a:lnTo>
                      <a:pt x="652" y="295"/>
                    </a:lnTo>
                    <a:lnTo>
                      <a:pt x="661" y="317"/>
                    </a:lnTo>
                    <a:lnTo>
                      <a:pt x="670" y="340"/>
                    </a:lnTo>
                    <a:lnTo>
                      <a:pt x="676" y="376"/>
                    </a:lnTo>
                    <a:lnTo>
                      <a:pt x="676" y="413"/>
                    </a:lnTo>
                    <a:lnTo>
                      <a:pt x="673" y="452"/>
                    </a:lnTo>
                    <a:lnTo>
                      <a:pt x="669" y="490"/>
                    </a:lnTo>
                    <a:lnTo>
                      <a:pt x="664" y="528"/>
                    </a:lnTo>
                    <a:lnTo>
                      <a:pt x="664" y="566"/>
                    </a:lnTo>
                    <a:lnTo>
                      <a:pt x="671" y="600"/>
                    </a:lnTo>
                    <a:lnTo>
                      <a:pt x="685" y="632"/>
                    </a:lnTo>
                    <a:lnTo>
                      <a:pt x="692" y="639"/>
                    </a:lnTo>
                    <a:lnTo>
                      <a:pt x="700" y="643"/>
                    </a:lnTo>
                    <a:lnTo>
                      <a:pt x="710" y="643"/>
                    </a:lnTo>
                    <a:lnTo>
                      <a:pt x="721" y="641"/>
                    </a:lnTo>
                    <a:lnTo>
                      <a:pt x="734" y="638"/>
                    </a:lnTo>
                    <a:lnTo>
                      <a:pt x="747" y="633"/>
                    </a:lnTo>
                    <a:lnTo>
                      <a:pt x="760" y="628"/>
                    </a:lnTo>
                    <a:lnTo>
                      <a:pt x="774" y="622"/>
                    </a:lnTo>
                    <a:lnTo>
                      <a:pt x="788" y="615"/>
                    </a:lnTo>
                    <a:lnTo>
                      <a:pt x="800" y="611"/>
                    </a:lnTo>
                    <a:lnTo>
                      <a:pt x="813" y="606"/>
                    </a:lnTo>
                    <a:lnTo>
                      <a:pt x="823" y="603"/>
                    </a:lnTo>
                    <a:lnTo>
                      <a:pt x="833" y="603"/>
                    </a:lnTo>
                    <a:lnTo>
                      <a:pt x="840" y="605"/>
                    </a:lnTo>
                    <a:lnTo>
                      <a:pt x="846" y="609"/>
                    </a:lnTo>
                    <a:lnTo>
                      <a:pt x="849" y="617"/>
                    </a:lnTo>
                    <a:lnTo>
                      <a:pt x="854" y="673"/>
                    </a:lnTo>
                    <a:lnTo>
                      <a:pt x="851" y="720"/>
                    </a:lnTo>
                    <a:lnTo>
                      <a:pt x="844" y="764"/>
                    </a:lnTo>
                    <a:lnTo>
                      <a:pt x="840" y="804"/>
                    </a:lnTo>
                    <a:lnTo>
                      <a:pt x="840" y="845"/>
                    </a:lnTo>
                    <a:lnTo>
                      <a:pt x="851" y="889"/>
                    </a:lnTo>
                    <a:lnTo>
                      <a:pt x="876" y="936"/>
                    </a:lnTo>
                    <a:lnTo>
                      <a:pt x="922" y="992"/>
                    </a:lnTo>
                    <a:lnTo>
                      <a:pt x="944" y="1016"/>
                    </a:lnTo>
                    <a:lnTo>
                      <a:pt x="963" y="1044"/>
                    </a:lnTo>
                    <a:lnTo>
                      <a:pt x="984" y="1076"/>
                    </a:lnTo>
                    <a:lnTo>
                      <a:pt x="1005" y="1109"/>
                    </a:lnTo>
                    <a:lnTo>
                      <a:pt x="1024" y="1143"/>
                    </a:lnTo>
                    <a:lnTo>
                      <a:pt x="1043" y="1181"/>
                    </a:lnTo>
                    <a:lnTo>
                      <a:pt x="1061" y="1219"/>
                    </a:lnTo>
                    <a:lnTo>
                      <a:pt x="1079" y="1258"/>
                    </a:lnTo>
                    <a:lnTo>
                      <a:pt x="1097" y="1297"/>
                    </a:lnTo>
                    <a:lnTo>
                      <a:pt x="1115" y="1335"/>
                    </a:lnTo>
                    <a:lnTo>
                      <a:pt x="1133" y="1374"/>
                    </a:lnTo>
                    <a:lnTo>
                      <a:pt x="1149" y="1411"/>
                    </a:lnTo>
                    <a:lnTo>
                      <a:pt x="1166" y="1446"/>
                    </a:lnTo>
                    <a:lnTo>
                      <a:pt x="1182" y="1481"/>
                    </a:lnTo>
                    <a:lnTo>
                      <a:pt x="1198" y="1512"/>
                    </a:lnTo>
                    <a:lnTo>
                      <a:pt x="1216" y="1541"/>
                    </a:lnTo>
                    <a:lnTo>
                      <a:pt x="1231" y="1566"/>
                    </a:lnTo>
                    <a:lnTo>
                      <a:pt x="1247" y="1592"/>
                    </a:lnTo>
                    <a:lnTo>
                      <a:pt x="1264" y="1617"/>
                    </a:lnTo>
                    <a:lnTo>
                      <a:pt x="1282" y="1642"/>
                    </a:lnTo>
                    <a:lnTo>
                      <a:pt x="1299" y="1667"/>
                    </a:lnTo>
                    <a:lnTo>
                      <a:pt x="1316" y="1691"/>
                    </a:lnTo>
                    <a:lnTo>
                      <a:pt x="1334" y="1716"/>
                    </a:lnTo>
                    <a:lnTo>
                      <a:pt x="1351" y="1741"/>
                    </a:lnTo>
                    <a:lnTo>
                      <a:pt x="1368" y="1767"/>
                    </a:lnTo>
                    <a:lnTo>
                      <a:pt x="1384" y="1792"/>
                    </a:lnTo>
                    <a:lnTo>
                      <a:pt x="1399" y="1818"/>
                    </a:lnTo>
                    <a:lnTo>
                      <a:pt x="1413" y="1844"/>
                    </a:lnTo>
                    <a:lnTo>
                      <a:pt x="1428" y="1871"/>
                    </a:lnTo>
                    <a:lnTo>
                      <a:pt x="1441" y="1898"/>
                    </a:lnTo>
                    <a:lnTo>
                      <a:pt x="1453" y="1926"/>
                    </a:lnTo>
                    <a:lnTo>
                      <a:pt x="1463" y="1953"/>
                    </a:lnTo>
                    <a:lnTo>
                      <a:pt x="1479" y="2008"/>
                    </a:lnTo>
                    <a:lnTo>
                      <a:pt x="1493" y="2064"/>
                    </a:lnTo>
                    <a:lnTo>
                      <a:pt x="1503" y="2119"/>
                    </a:lnTo>
                    <a:lnTo>
                      <a:pt x="1511" y="2176"/>
                    </a:lnTo>
                    <a:lnTo>
                      <a:pt x="1515" y="2232"/>
                    </a:lnTo>
                    <a:lnTo>
                      <a:pt x="1515" y="2291"/>
                    </a:lnTo>
                    <a:lnTo>
                      <a:pt x="1513" y="2347"/>
                    </a:lnTo>
                    <a:lnTo>
                      <a:pt x="1507" y="2404"/>
                    </a:lnTo>
                    <a:lnTo>
                      <a:pt x="1500" y="2437"/>
                    </a:lnTo>
                    <a:lnTo>
                      <a:pt x="1491" y="2470"/>
                    </a:lnTo>
                    <a:lnTo>
                      <a:pt x="1478" y="2499"/>
                    </a:lnTo>
                    <a:lnTo>
                      <a:pt x="1463" y="2528"/>
                    </a:lnTo>
                    <a:lnTo>
                      <a:pt x="1447" y="2555"/>
                    </a:lnTo>
                    <a:lnTo>
                      <a:pt x="1429" y="2585"/>
                    </a:lnTo>
                    <a:lnTo>
                      <a:pt x="1410" y="2614"/>
                    </a:lnTo>
                    <a:lnTo>
                      <a:pt x="1393" y="2643"/>
                    </a:lnTo>
                    <a:lnTo>
                      <a:pt x="1378" y="2646"/>
                    </a:lnTo>
                    <a:lnTo>
                      <a:pt x="1361" y="2650"/>
                    </a:lnTo>
                    <a:lnTo>
                      <a:pt x="1343" y="2655"/>
                    </a:lnTo>
                    <a:lnTo>
                      <a:pt x="1323" y="2658"/>
                    </a:lnTo>
                    <a:lnTo>
                      <a:pt x="1304" y="2664"/>
                    </a:lnTo>
                    <a:lnTo>
                      <a:pt x="1285" y="2669"/>
                    </a:lnTo>
                    <a:lnTo>
                      <a:pt x="1268" y="2673"/>
                    </a:lnTo>
                    <a:lnTo>
                      <a:pt x="1253" y="2676"/>
                    </a:lnTo>
                    <a:lnTo>
                      <a:pt x="1268" y="2619"/>
                    </a:lnTo>
                    <a:lnTo>
                      <a:pt x="1284" y="2568"/>
                    </a:lnTo>
                    <a:lnTo>
                      <a:pt x="1303" y="2517"/>
                    </a:lnTo>
                    <a:lnTo>
                      <a:pt x="1319" y="2470"/>
                    </a:lnTo>
                    <a:lnTo>
                      <a:pt x="1334" y="2420"/>
                    </a:lnTo>
                    <a:lnTo>
                      <a:pt x="1347" y="2371"/>
                    </a:lnTo>
                    <a:lnTo>
                      <a:pt x="1354" y="2317"/>
                    </a:lnTo>
                    <a:lnTo>
                      <a:pt x="1356" y="2261"/>
                    </a:lnTo>
                    <a:lnTo>
                      <a:pt x="1352" y="2232"/>
                    </a:lnTo>
                    <a:lnTo>
                      <a:pt x="1342" y="2205"/>
                    </a:lnTo>
                    <a:lnTo>
                      <a:pt x="1326" y="2179"/>
                    </a:lnTo>
                    <a:lnTo>
                      <a:pt x="1306" y="2153"/>
                    </a:lnTo>
                    <a:lnTo>
                      <a:pt x="1286" y="2129"/>
                    </a:lnTo>
                    <a:lnTo>
                      <a:pt x="1266" y="2104"/>
                    </a:lnTo>
                    <a:lnTo>
                      <a:pt x="1249" y="2078"/>
                    </a:lnTo>
                    <a:lnTo>
                      <a:pt x="1237" y="2050"/>
                    </a:lnTo>
                    <a:lnTo>
                      <a:pt x="1224" y="2008"/>
                    </a:lnTo>
                    <a:lnTo>
                      <a:pt x="1216" y="1960"/>
                    </a:lnTo>
                    <a:lnTo>
                      <a:pt x="1209" y="1909"/>
                    </a:lnTo>
                    <a:lnTo>
                      <a:pt x="1203" y="1858"/>
                    </a:lnTo>
                    <a:lnTo>
                      <a:pt x="1198" y="1806"/>
                    </a:lnTo>
                    <a:lnTo>
                      <a:pt x="1190" y="1757"/>
                    </a:lnTo>
                    <a:lnTo>
                      <a:pt x="1178" y="1710"/>
                    </a:lnTo>
                    <a:lnTo>
                      <a:pt x="1162" y="1669"/>
                    </a:lnTo>
                    <a:lnTo>
                      <a:pt x="1144" y="1634"/>
                    </a:lnTo>
                    <a:lnTo>
                      <a:pt x="1125" y="1602"/>
                    </a:lnTo>
                    <a:lnTo>
                      <a:pt x="1103" y="1569"/>
                    </a:lnTo>
                    <a:lnTo>
                      <a:pt x="1082" y="1536"/>
                    </a:lnTo>
                    <a:lnTo>
                      <a:pt x="1060" y="1504"/>
                    </a:lnTo>
                    <a:lnTo>
                      <a:pt x="1037" y="1474"/>
                    </a:lnTo>
                    <a:lnTo>
                      <a:pt x="1013" y="1442"/>
                    </a:lnTo>
                    <a:lnTo>
                      <a:pt x="989" y="1411"/>
                    </a:lnTo>
                    <a:lnTo>
                      <a:pt x="966" y="1381"/>
                    </a:lnTo>
                    <a:lnTo>
                      <a:pt x="943" y="1349"/>
                    </a:lnTo>
                    <a:lnTo>
                      <a:pt x="920" y="1319"/>
                    </a:lnTo>
                    <a:lnTo>
                      <a:pt x="897" y="1287"/>
                    </a:lnTo>
                    <a:lnTo>
                      <a:pt x="873" y="1257"/>
                    </a:lnTo>
                    <a:lnTo>
                      <a:pt x="852" y="1223"/>
                    </a:lnTo>
                    <a:lnTo>
                      <a:pt x="831" y="1192"/>
                    </a:lnTo>
                    <a:lnTo>
                      <a:pt x="812" y="1159"/>
                    </a:lnTo>
                    <a:lnTo>
                      <a:pt x="800" y="1136"/>
                    </a:lnTo>
                    <a:lnTo>
                      <a:pt x="792" y="1113"/>
                    </a:lnTo>
                    <a:lnTo>
                      <a:pt x="783" y="1090"/>
                    </a:lnTo>
                    <a:lnTo>
                      <a:pt x="776" y="1066"/>
                    </a:lnTo>
                    <a:lnTo>
                      <a:pt x="766" y="1042"/>
                    </a:lnTo>
                    <a:lnTo>
                      <a:pt x="757" y="1019"/>
                    </a:lnTo>
                    <a:lnTo>
                      <a:pt x="747" y="997"/>
                    </a:lnTo>
                    <a:lnTo>
                      <a:pt x="734" y="977"/>
                    </a:lnTo>
                    <a:lnTo>
                      <a:pt x="719" y="958"/>
                    </a:lnTo>
                    <a:lnTo>
                      <a:pt x="702" y="940"/>
                    </a:lnTo>
                    <a:lnTo>
                      <a:pt x="684" y="926"/>
                    </a:lnTo>
                    <a:lnTo>
                      <a:pt x="665" y="913"/>
                    </a:lnTo>
                    <a:lnTo>
                      <a:pt x="646" y="899"/>
                    </a:lnTo>
                    <a:lnTo>
                      <a:pt x="628" y="885"/>
                    </a:lnTo>
                    <a:lnTo>
                      <a:pt x="610" y="869"/>
                    </a:lnTo>
                    <a:lnTo>
                      <a:pt x="594" y="851"/>
                    </a:lnTo>
                    <a:lnTo>
                      <a:pt x="578" y="824"/>
                    </a:lnTo>
                    <a:lnTo>
                      <a:pt x="566" y="797"/>
                    </a:lnTo>
                    <a:lnTo>
                      <a:pt x="558" y="771"/>
                    </a:lnTo>
                    <a:lnTo>
                      <a:pt x="549" y="742"/>
                    </a:lnTo>
                    <a:lnTo>
                      <a:pt x="543" y="715"/>
                    </a:lnTo>
                    <a:lnTo>
                      <a:pt x="533" y="690"/>
                    </a:lnTo>
                    <a:lnTo>
                      <a:pt x="521" y="664"/>
                    </a:lnTo>
                    <a:lnTo>
                      <a:pt x="502" y="639"/>
                    </a:lnTo>
                    <a:lnTo>
                      <a:pt x="492" y="631"/>
                    </a:lnTo>
                    <a:lnTo>
                      <a:pt x="479" y="629"/>
                    </a:lnTo>
                    <a:lnTo>
                      <a:pt x="463" y="629"/>
                    </a:lnTo>
                    <a:lnTo>
                      <a:pt x="448" y="631"/>
                    </a:lnTo>
                    <a:lnTo>
                      <a:pt x="431" y="632"/>
                    </a:lnTo>
                    <a:lnTo>
                      <a:pt x="416" y="634"/>
                    </a:lnTo>
                    <a:lnTo>
                      <a:pt x="402" y="634"/>
                    </a:lnTo>
                    <a:lnTo>
                      <a:pt x="390" y="631"/>
                    </a:lnTo>
                    <a:lnTo>
                      <a:pt x="356" y="612"/>
                    </a:lnTo>
                    <a:lnTo>
                      <a:pt x="324" y="589"/>
                    </a:lnTo>
                    <a:lnTo>
                      <a:pt x="294" y="562"/>
                    </a:lnTo>
                    <a:lnTo>
                      <a:pt x="268" y="531"/>
                    </a:lnTo>
                    <a:lnTo>
                      <a:pt x="242" y="499"/>
                    </a:lnTo>
                    <a:lnTo>
                      <a:pt x="216" y="466"/>
                    </a:lnTo>
                    <a:lnTo>
                      <a:pt x="193" y="429"/>
                    </a:lnTo>
                    <a:lnTo>
                      <a:pt x="171" y="391"/>
                    </a:lnTo>
                    <a:lnTo>
                      <a:pt x="149" y="353"/>
                    </a:lnTo>
                    <a:lnTo>
                      <a:pt x="129" y="313"/>
                    </a:lnTo>
                    <a:lnTo>
                      <a:pt x="107" y="274"/>
                    </a:lnTo>
                    <a:lnTo>
                      <a:pt x="87" y="235"/>
                    </a:lnTo>
                    <a:lnTo>
                      <a:pt x="66" y="197"/>
                    </a:lnTo>
                    <a:lnTo>
                      <a:pt x="45" y="161"/>
                    </a:lnTo>
                    <a:lnTo>
                      <a:pt x="23" y="125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d678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420040" y="1753920"/>
                <a:ext cx="268560" cy="507960"/>
              </a:xfrm>
              <a:custGeom>
                <a:avLst/>
                <a:gdLst/>
                <a:ahLst/>
                <a:rect l="l" t="t" r="r" b="b"/>
                <a:pathLst>
                  <a:path w="1184" h="2237">
                    <a:moveTo>
                      <a:pt x="0" y="0"/>
                    </a:moveTo>
                    <a:lnTo>
                      <a:pt x="9" y="49"/>
                    </a:lnTo>
                    <a:lnTo>
                      <a:pt x="19" y="100"/>
                    </a:lnTo>
                    <a:lnTo>
                      <a:pt x="29" y="150"/>
                    </a:lnTo>
                    <a:lnTo>
                      <a:pt x="39" y="202"/>
                    </a:lnTo>
                    <a:lnTo>
                      <a:pt x="49" y="252"/>
                    </a:lnTo>
                    <a:lnTo>
                      <a:pt x="58" y="304"/>
                    </a:lnTo>
                    <a:lnTo>
                      <a:pt x="68" y="355"/>
                    </a:lnTo>
                    <a:lnTo>
                      <a:pt x="78" y="407"/>
                    </a:lnTo>
                    <a:lnTo>
                      <a:pt x="89" y="458"/>
                    </a:lnTo>
                    <a:lnTo>
                      <a:pt x="99" y="509"/>
                    </a:lnTo>
                    <a:lnTo>
                      <a:pt x="111" y="560"/>
                    </a:lnTo>
                    <a:lnTo>
                      <a:pt x="124" y="610"/>
                    </a:lnTo>
                    <a:lnTo>
                      <a:pt x="137" y="660"/>
                    </a:lnTo>
                    <a:lnTo>
                      <a:pt x="153" y="709"/>
                    </a:lnTo>
                    <a:lnTo>
                      <a:pt x="169" y="756"/>
                    </a:lnTo>
                    <a:lnTo>
                      <a:pt x="186" y="804"/>
                    </a:lnTo>
                    <a:lnTo>
                      <a:pt x="200" y="838"/>
                    </a:lnTo>
                    <a:lnTo>
                      <a:pt x="218" y="871"/>
                    </a:lnTo>
                    <a:lnTo>
                      <a:pt x="235" y="906"/>
                    </a:lnTo>
                    <a:lnTo>
                      <a:pt x="254" y="937"/>
                    </a:lnTo>
                    <a:lnTo>
                      <a:pt x="276" y="969"/>
                    </a:lnTo>
                    <a:lnTo>
                      <a:pt x="297" y="1001"/>
                    </a:lnTo>
                    <a:lnTo>
                      <a:pt x="319" y="1032"/>
                    </a:lnTo>
                    <a:lnTo>
                      <a:pt x="342" y="1062"/>
                    </a:lnTo>
                    <a:lnTo>
                      <a:pt x="365" y="1093"/>
                    </a:lnTo>
                    <a:lnTo>
                      <a:pt x="389" y="1123"/>
                    </a:lnTo>
                    <a:lnTo>
                      <a:pt x="412" y="1153"/>
                    </a:lnTo>
                    <a:lnTo>
                      <a:pt x="435" y="1182"/>
                    </a:lnTo>
                    <a:lnTo>
                      <a:pt x="458" y="1214"/>
                    </a:lnTo>
                    <a:lnTo>
                      <a:pt x="481" y="1244"/>
                    </a:lnTo>
                    <a:lnTo>
                      <a:pt x="503" y="1275"/>
                    </a:lnTo>
                    <a:lnTo>
                      <a:pt x="524" y="1307"/>
                    </a:lnTo>
                    <a:lnTo>
                      <a:pt x="546" y="1340"/>
                    </a:lnTo>
                    <a:lnTo>
                      <a:pt x="568" y="1372"/>
                    </a:lnTo>
                    <a:lnTo>
                      <a:pt x="591" y="1402"/>
                    </a:lnTo>
                    <a:lnTo>
                      <a:pt x="613" y="1432"/>
                    </a:lnTo>
                    <a:lnTo>
                      <a:pt x="634" y="1460"/>
                    </a:lnTo>
                    <a:lnTo>
                      <a:pt x="655" y="1489"/>
                    </a:lnTo>
                    <a:lnTo>
                      <a:pt x="676" y="1517"/>
                    </a:lnTo>
                    <a:lnTo>
                      <a:pt x="698" y="1543"/>
                    </a:lnTo>
                    <a:lnTo>
                      <a:pt x="718" y="1571"/>
                    </a:lnTo>
                    <a:lnTo>
                      <a:pt x="738" y="1600"/>
                    </a:lnTo>
                    <a:lnTo>
                      <a:pt x="757" y="1629"/>
                    </a:lnTo>
                    <a:lnTo>
                      <a:pt x="776" y="1659"/>
                    </a:lnTo>
                    <a:lnTo>
                      <a:pt x="794" y="1691"/>
                    </a:lnTo>
                    <a:lnTo>
                      <a:pt x="813" y="1723"/>
                    </a:lnTo>
                    <a:lnTo>
                      <a:pt x="831" y="1758"/>
                    </a:lnTo>
                    <a:lnTo>
                      <a:pt x="847" y="1795"/>
                    </a:lnTo>
                    <a:lnTo>
                      <a:pt x="858" y="1819"/>
                    </a:lnTo>
                    <a:lnTo>
                      <a:pt x="873" y="1843"/>
                    </a:lnTo>
                    <a:lnTo>
                      <a:pt x="889" y="1871"/>
                    </a:lnTo>
                    <a:lnTo>
                      <a:pt x="908" y="1901"/>
                    </a:lnTo>
                    <a:lnTo>
                      <a:pt x="930" y="1930"/>
                    </a:lnTo>
                    <a:lnTo>
                      <a:pt x="952" y="1960"/>
                    </a:lnTo>
                    <a:lnTo>
                      <a:pt x="975" y="1991"/>
                    </a:lnTo>
                    <a:lnTo>
                      <a:pt x="1000" y="2023"/>
                    </a:lnTo>
                    <a:lnTo>
                      <a:pt x="1025" y="2053"/>
                    </a:lnTo>
                    <a:lnTo>
                      <a:pt x="1050" y="2083"/>
                    </a:lnTo>
                    <a:lnTo>
                      <a:pt x="1075" y="2113"/>
                    </a:lnTo>
                    <a:lnTo>
                      <a:pt x="1099" y="2142"/>
                    </a:lnTo>
                    <a:lnTo>
                      <a:pt x="1122" y="2168"/>
                    </a:lnTo>
                    <a:lnTo>
                      <a:pt x="1145" y="2194"/>
                    </a:lnTo>
                    <a:lnTo>
                      <a:pt x="1166" y="2217"/>
                    </a:lnTo>
                    <a:lnTo>
                      <a:pt x="1184" y="2237"/>
                    </a:lnTo>
                    <a:lnTo>
                      <a:pt x="1162" y="2204"/>
                    </a:lnTo>
                    <a:lnTo>
                      <a:pt x="1139" y="2167"/>
                    </a:lnTo>
                    <a:lnTo>
                      <a:pt x="1115" y="2130"/>
                    </a:lnTo>
                    <a:lnTo>
                      <a:pt x="1091" y="2093"/>
                    </a:lnTo>
                    <a:lnTo>
                      <a:pt x="1066" y="2054"/>
                    </a:lnTo>
                    <a:lnTo>
                      <a:pt x="1043" y="2016"/>
                    </a:lnTo>
                    <a:lnTo>
                      <a:pt x="1017" y="1976"/>
                    </a:lnTo>
                    <a:lnTo>
                      <a:pt x="993" y="1937"/>
                    </a:lnTo>
                    <a:lnTo>
                      <a:pt x="968" y="1897"/>
                    </a:lnTo>
                    <a:lnTo>
                      <a:pt x="943" y="1858"/>
                    </a:lnTo>
                    <a:lnTo>
                      <a:pt x="919" y="1819"/>
                    </a:lnTo>
                    <a:lnTo>
                      <a:pt x="894" y="1780"/>
                    </a:lnTo>
                    <a:lnTo>
                      <a:pt x="870" y="1742"/>
                    </a:lnTo>
                    <a:lnTo>
                      <a:pt x="847" y="1706"/>
                    </a:lnTo>
                    <a:lnTo>
                      <a:pt x="824" y="1670"/>
                    </a:lnTo>
                    <a:lnTo>
                      <a:pt x="801" y="1637"/>
                    </a:lnTo>
                    <a:lnTo>
                      <a:pt x="767" y="1586"/>
                    </a:lnTo>
                    <a:lnTo>
                      <a:pt x="732" y="1537"/>
                    </a:lnTo>
                    <a:lnTo>
                      <a:pt x="696" y="1487"/>
                    </a:lnTo>
                    <a:lnTo>
                      <a:pt x="659" y="1438"/>
                    </a:lnTo>
                    <a:lnTo>
                      <a:pt x="622" y="1389"/>
                    </a:lnTo>
                    <a:lnTo>
                      <a:pt x="586" y="1339"/>
                    </a:lnTo>
                    <a:lnTo>
                      <a:pt x="549" y="1291"/>
                    </a:lnTo>
                    <a:lnTo>
                      <a:pt x="513" y="1241"/>
                    </a:lnTo>
                    <a:lnTo>
                      <a:pt x="477" y="1192"/>
                    </a:lnTo>
                    <a:lnTo>
                      <a:pt x="442" y="1141"/>
                    </a:lnTo>
                    <a:lnTo>
                      <a:pt x="409" y="1091"/>
                    </a:lnTo>
                    <a:lnTo>
                      <a:pt x="376" y="1039"/>
                    </a:lnTo>
                    <a:lnTo>
                      <a:pt x="344" y="988"/>
                    </a:lnTo>
                    <a:lnTo>
                      <a:pt x="315" y="934"/>
                    </a:lnTo>
                    <a:lnTo>
                      <a:pt x="287" y="880"/>
                    </a:lnTo>
                    <a:lnTo>
                      <a:pt x="262" y="826"/>
                    </a:lnTo>
                    <a:lnTo>
                      <a:pt x="234" y="749"/>
                    </a:lnTo>
                    <a:lnTo>
                      <a:pt x="214" y="668"/>
                    </a:lnTo>
                    <a:lnTo>
                      <a:pt x="201" y="588"/>
                    </a:lnTo>
                    <a:lnTo>
                      <a:pt x="193" y="506"/>
                    </a:lnTo>
                    <a:lnTo>
                      <a:pt x="186" y="422"/>
                    </a:lnTo>
                    <a:lnTo>
                      <a:pt x="181" y="338"/>
                    </a:lnTo>
                    <a:lnTo>
                      <a:pt x="175" y="255"/>
                    </a:lnTo>
                    <a:lnTo>
                      <a:pt x="165" y="173"/>
                    </a:lnTo>
                    <a:lnTo>
                      <a:pt x="154" y="164"/>
                    </a:lnTo>
                    <a:lnTo>
                      <a:pt x="141" y="156"/>
                    </a:lnTo>
                    <a:lnTo>
                      <a:pt x="130" y="147"/>
                    </a:lnTo>
                    <a:lnTo>
                      <a:pt x="118" y="138"/>
                    </a:lnTo>
                    <a:lnTo>
                      <a:pt x="107" y="128"/>
                    </a:lnTo>
                    <a:lnTo>
                      <a:pt x="95" y="119"/>
                    </a:lnTo>
                    <a:lnTo>
                      <a:pt x="85" y="108"/>
                    </a:lnTo>
                    <a:lnTo>
                      <a:pt x="73" y="99"/>
                    </a:lnTo>
                    <a:lnTo>
                      <a:pt x="63" y="87"/>
                    </a:lnTo>
                    <a:lnTo>
                      <a:pt x="52" y="77"/>
                    </a:lnTo>
                    <a:lnTo>
                      <a:pt x="43" y="64"/>
                    </a:lnTo>
                    <a:lnTo>
                      <a:pt x="32" y="52"/>
                    </a:lnTo>
                    <a:lnTo>
                      <a:pt x="23" y="40"/>
                    </a:lnTo>
                    <a:lnTo>
                      <a:pt x="14" y="27"/>
                    </a:lnTo>
                    <a:lnTo>
                      <a:pt x="7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78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7696080" y="1752480"/>
              <a:ext cx="106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relan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Cele strategicz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łożenia finansow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noza szczegółow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Negocjac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arcie kredytow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dsumowa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ytania i odpowiedzi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Cele strategiczn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0%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dział w rynku pod koniec 1-go ro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Konkurencyjne ceny przy zachowaniu wysokiej jakoś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ykorzystanie nowoczesnych samolot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Ścisła kontrola koszt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Możliwość utworzenia nowych połączeń z Paryż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58280" y="3429000"/>
            <a:ext cx="11430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Założenia finansow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Obiecująca prognoza na lata 2006-20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Coroczny wzrost liczby wykorzystanych miejs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yski zostaną przeznaczone na rozwój fir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Budowa nowych połącze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781680" y="914400"/>
            <a:ext cx="2127240" cy="1595160"/>
            <a:chOff x="6781680" y="914400"/>
            <a:chExt cx="2127240" cy="1595160"/>
          </a:xfrm>
        </p:grpSpPr>
        <p:grpSp>
          <p:nvGrpSpPr>
            <p:cNvPr id="64" name=""/>
            <p:cNvGrpSpPr/>
            <p:nvPr/>
          </p:nvGrpSpPr>
          <p:grpSpPr>
            <a:xfrm>
              <a:off x="6781680" y="914400"/>
              <a:ext cx="2127240" cy="1298520"/>
              <a:chOff x="6781680" y="914400"/>
              <a:chExt cx="2127240" cy="1298520"/>
            </a:xfrm>
          </p:grpSpPr>
          <p:sp>
            <p:nvSpPr>
              <p:cNvPr id="65" name=""/>
              <p:cNvSpPr/>
              <p:nvPr/>
            </p:nvSpPr>
            <p:spPr>
              <a:xfrm>
                <a:off x="6781680" y="914400"/>
                <a:ext cx="2127240" cy="1298520"/>
              </a:xfrm>
              <a:prstGeom prst="rect">
                <a:avLst/>
              </a:prstGeom>
              <a:solidFill>
                <a:srgbClr val="50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6838560" y="1041120"/>
                <a:ext cx="2051280" cy="847800"/>
                <a:chOff x="6838560" y="1041120"/>
                <a:chExt cx="2051280" cy="847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7870680" y="1279440"/>
                  <a:ext cx="12600" cy="9360"/>
                </a:xfrm>
                <a:custGeom>
                  <a:avLst/>
                  <a:gdLst/>
                  <a:ahLst/>
                  <a:rect l="l" t="t" r="r" b="b"/>
                  <a:pathLst>
                    <a:path w="23" h="19">
                      <a:moveTo>
                        <a:pt x="23" y="0"/>
                      </a:moveTo>
                      <a:lnTo>
                        <a:pt x="23" y="17"/>
                      </a:lnTo>
                      <a:lnTo>
                        <a:pt x="14" y="19"/>
                      </a:lnTo>
                      <a:lnTo>
                        <a:pt x="0" y="3"/>
                      </a:lnTo>
                      <a:lnTo>
                        <a:pt x="8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851600" y="1260360"/>
                  <a:ext cx="9360" cy="15840"/>
                </a:xfrm>
                <a:custGeom>
                  <a:avLst/>
                  <a:gdLst/>
                  <a:ahLst/>
                  <a:rect l="l" t="t" r="r" b="b"/>
                  <a:pathLst>
                    <a:path w="17" h="30">
                      <a:moveTo>
                        <a:pt x="17" y="0"/>
                      </a:moveTo>
                      <a:lnTo>
                        <a:pt x="0" y="9"/>
                      </a:lnTo>
                      <a:lnTo>
                        <a:pt x="4" y="30"/>
                      </a:lnTo>
                      <a:lnTo>
                        <a:pt x="15" y="29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" name=""/>
                <p:cNvGrpSpPr/>
                <p:nvPr/>
              </p:nvGrpSpPr>
              <p:grpSpPr>
                <a:xfrm>
                  <a:off x="8710200" y="1746000"/>
                  <a:ext cx="179640" cy="84240"/>
                  <a:chOff x="8710200" y="1746000"/>
                  <a:chExt cx="179640" cy="842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8862840" y="1746000"/>
                    <a:ext cx="2700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99">
                        <a:moveTo>
                          <a:pt x="16" y="1"/>
                        </a:moveTo>
                        <a:lnTo>
                          <a:pt x="21" y="0"/>
                        </a:lnTo>
                        <a:lnTo>
                          <a:pt x="31" y="12"/>
                        </a:lnTo>
                        <a:lnTo>
                          <a:pt x="30" y="42"/>
                        </a:lnTo>
                        <a:lnTo>
                          <a:pt x="36" y="42"/>
                        </a:lnTo>
                        <a:lnTo>
                          <a:pt x="38" y="48"/>
                        </a:lnTo>
                        <a:lnTo>
                          <a:pt x="40" y="51"/>
                        </a:lnTo>
                        <a:lnTo>
                          <a:pt x="43" y="57"/>
                        </a:lnTo>
                        <a:lnTo>
                          <a:pt x="47" y="54"/>
                        </a:lnTo>
                        <a:lnTo>
                          <a:pt x="50" y="49"/>
                        </a:lnTo>
                        <a:lnTo>
                          <a:pt x="52" y="51"/>
                        </a:lnTo>
                        <a:lnTo>
                          <a:pt x="48" y="58"/>
                        </a:lnTo>
                        <a:lnTo>
                          <a:pt x="47" y="62"/>
                        </a:lnTo>
                        <a:lnTo>
                          <a:pt x="45" y="70"/>
                        </a:lnTo>
                        <a:lnTo>
                          <a:pt x="40" y="73"/>
                        </a:lnTo>
                        <a:lnTo>
                          <a:pt x="35" y="75"/>
                        </a:lnTo>
                        <a:lnTo>
                          <a:pt x="30" y="80"/>
                        </a:lnTo>
                        <a:lnTo>
                          <a:pt x="27" y="84"/>
                        </a:lnTo>
                        <a:lnTo>
                          <a:pt x="30" y="87"/>
                        </a:lnTo>
                        <a:lnTo>
                          <a:pt x="31" y="93"/>
                        </a:lnTo>
                        <a:lnTo>
                          <a:pt x="26" y="95"/>
                        </a:lnTo>
                        <a:lnTo>
                          <a:pt x="21" y="98"/>
                        </a:lnTo>
                        <a:lnTo>
                          <a:pt x="16" y="99"/>
                        </a:lnTo>
                        <a:lnTo>
                          <a:pt x="12" y="98"/>
                        </a:lnTo>
                        <a:lnTo>
                          <a:pt x="7" y="95"/>
                        </a:lnTo>
                        <a:lnTo>
                          <a:pt x="4" y="93"/>
                        </a:lnTo>
                        <a:lnTo>
                          <a:pt x="7" y="89"/>
                        </a:lnTo>
                        <a:lnTo>
                          <a:pt x="12" y="87"/>
                        </a:lnTo>
                        <a:lnTo>
                          <a:pt x="16" y="82"/>
                        </a:lnTo>
                        <a:lnTo>
                          <a:pt x="16" y="79"/>
                        </a:lnTo>
                        <a:lnTo>
                          <a:pt x="12" y="75"/>
                        </a:lnTo>
                        <a:lnTo>
                          <a:pt x="7" y="72"/>
                        </a:lnTo>
                        <a:lnTo>
                          <a:pt x="4" y="72"/>
                        </a:lnTo>
                        <a:lnTo>
                          <a:pt x="0" y="70"/>
                        </a:lnTo>
                        <a:lnTo>
                          <a:pt x="0" y="68"/>
                        </a:lnTo>
                        <a:lnTo>
                          <a:pt x="0" y="63"/>
                        </a:lnTo>
                        <a:lnTo>
                          <a:pt x="4" y="63"/>
                        </a:lnTo>
                        <a:lnTo>
                          <a:pt x="7" y="62"/>
                        </a:lnTo>
                        <a:lnTo>
                          <a:pt x="12" y="58"/>
                        </a:lnTo>
                        <a:lnTo>
                          <a:pt x="14" y="57"/>
                        </a:lnTo>
                        <a:lnTo>
                          <a:pt x="17" y="42"/>
                        </a:lnTo>
                        <a:lnTo>
                          <a:pt x="14" y="39"/>
                        </a:lnTo>
                        <a:lnTo>
                          <a:pt x="11" y="34"/>
                        </a:lnTo>
                        <a:lnTo>
                          <a:pt x="9" y="27"/>
                        </a:lnTo>
                        <a:lnTo>
                          <a:pt x="11" y="19"/>
                        </a:lnTo>
                        <a:lnTo>
                          <a:pt x="12" y="14"/>
                        </a:lnTo>
                        <a:lnTo>
                          <a:pt x="16" y="1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807040" y="1787400"/>
                    <a:ext cx="52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82">
                        <a:moveTo>
                          <a:pt x="69" y="0"/>
                        </a:moveTo>
                        <a:lnTo>
                          <a:pt x="83" y="0"/>
                        </a:lnTo>
                        <a:lnTo>
                          <a:pt x="99" y="24"/>
                        </a:lnTo>
                        <a:lnTo>
                          <a:pt x="81" y="41"/>
                        </a:lnTo>
                        <a:lnTo>
                          <a:pt x="81" y="50"/>
                        </a:lnTo>
                        <a:lnTo>
                          <a:pt x="78" y="52"/>
                        </a:lnTo>
                        <a:lnTo>
                          <a:pt x="64" y="52"/>
                        </a:lnTo>
                        <a:lnTo>
                          <a:pt x="51" y="61"/>
                        </a:lnTo>
                        <a:lnTo>
                          <a:pt x="40" y="73"/>
                        </a:lnTo>
                        <a:lnTo>
                          <a:pt x="33" y="82"/>
                        </a:lnTo>
                        <a:lnTo>
                          <a:pt x="33" y="73"/>
                        </a:lnTo>
                        <a:lnTo>
                          <a:pt x="18" y="77"/>
                        </a:lnTo>
                        <a:lnTo>
                          <a:pt x="9" y="77"/>
                        </a:lnTo>
                        <a:lnTo>
                          <a:pt x="0" y="77"/>
                        </a:lnTo>
                        <a:lnTo>
                          <a:pt x="15" y="61"/>
                        </a:lnTo>
                        <a:lnTo>
                          <a:pt x="20" y="56"/>
                        </a:lnTo>
                        <a:lnTo>
                          <a:pt x="24" y="56"/>
                        </a:lnTo>
                        <a:lnTo>
                          <a:pt x="36" y="42"/>
                        </a:lnTo>
                        <a:lnTo>
                          <a:pt x="40" y="42"/>
                        </a:lnTo>
                        <a:lnTo>
                          <a:pt x="46" y="39"/>
                        </a:lnTo>
                        <a:lnTo>
                          <a:pt x="51" y="39"/>
                        </a:lnTo>
                        <a:lnTo>
                          <a:pt x="50" y="27"/>
                        </a:lnTo>
                        <a:lnTo>
                          <a:pt x="51" y="27"/>
                        </a:lnTo>
                        <a:lnTo>
                          <a:pt x="59" y="22"/>
                        </a:lnTo>
                        <a:lnTo>
                          <a:pt x="59" y="25"/>
                        </a:lnTo>
                        <a:lnTo>
                          <a:pt x="73" y="16"/>
                        </a:lnTo>
                        <a:lnTo>
                          <a:pt x="69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710200" y="1790640"/>
                    <a:ext cx="190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5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18" y="5"/>
                        </a:lnTo>
                        <a:lnTo>
                          <a:pt x="38" y="5"/>
                        </a:lnTo>
                        <a:lnTo>
                          <a:pt x="34" y="14"/>
                        </a:lnTo>
                        <a:lnTo>
                          <a:pt x="38" y="20"/>
                        </a:lnTo>
                        <a:lnTo>
                          <a:pt x="31" y="20"/>
                        </a:lnTo>
                        <a:lnTo>
                          <a:pt x="29" y="22"/>
                        </a:lnTo>
                        <a:lnTo>
                          <a:pt x="25" y="24"/>
                        </a:lnTo>
                        <a:lnTo>
                          <a:pt x="29" y="45"/>
                        </a:lnTo>
                        <a:lnTo>
                          <a:pt x="18" y="42"/>
                        </a:lnTo>
                        <a:lnTo>
                          <a:pt x="6" y="36"/>
                        </a:lnTo>
                        <a:lnTo>
                          <a:pt x="6" y="22"/>
                        </a:lnTo>
                        <a:lnTo>
                          <a:pt x="6" y="19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" name=""/>
                <p:cNvSpPr/>
                <p:nvPr/>
              </p:nvSpPr>
              <p:spPr>
                <a:xfrm>
                  <a:off x="8746920" y="1542960"/>
                  <a:ext cx="31680" cy="25200"/>
                </a:xfrm>
                <a:custGeom>
                  <a:avLst/>
                  <a:gdLst/>
                  <a:ahLst/>
                  <a:rect l="l" t="t" r="r" b="b"/>
                  <a:pathLst>
                    <a:path w="62" h="47">
                      <a:moveTo>
                        <a:pt x="12" y="19"/>
                      </a:moveTo>
                      <a:lnTo>
                        <a:pt x="0" y="38"/>
                      </a:lnTo>
                      <a:lnTo>
                        <a:pt x="3" y="46"/>
                      </a:lnTo>
                      <a:lnTo>
                        <a:pt x="22" y="47"/>
                      </a:lnTo>
                      <a:lnTo>
                        <a:pt x="36" y="47"/>
                      </a:lnTo>
                      <a:lnTo>
                        <a:pt x="43" y="41"/>
                      </a:lnTo>
                      <a:lnTo>
                        <a:pt x="46" y="32"/>
                      </a:lnTo>
                      <a:lnTo>
                        <a:pt x="62" y="32"/>
                      </a:lnTo>
                      <a:lnTo>
                        <a:pt x="58" y="20"/>
                      </a:lnTo>
                      <a:lnTo>
                        <a:pt x="58" y="10"/>
                      </a:lnTo>
                      <a:lnTo>
                        <a:pt x="44" y="0"/>
                      </a:lnTo>
                      <a:lnTo>
                        <a:pt x="41" y="15"/>
                      </a:lnTo>
                      <a:lnTo>
                        <a:pt x="49" y="22"/>
                      </a:lnTo>
                      <a:lnTo>
                        <a:pt x="35" y="22"/>
                      </a:lnTo>
                      <a:lnTo>
                        <a:pt x="30" y="27"/>
                      </a:lnTo>
                      <a:lnTo>
                        <a:pt x="12" y="19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" name=""/>
                <p:cNvGrpSpPr/>
                <p:nvPr/>
              </p:nvGrpSpPr>
              <p:grpSpPr>
                <a:xfrm>
                  <a:off x="8388000" y="1166760"/>
                  <a:ext cx="382680" cy="612720"/>
                  <a:chOff x="8388000" y="1166760"/>
                  <a:chExt cx="382680" cy="612720"/>
                </a:xfrm>
              </p:grpSpPr>
              <p:grpSp>
                <p:nvGrpSpPr>
                  <p:cNvPr id="75" name=""/>
                  <p:cNvGrpSpPr/>
                  <p:nvPr/>
                </p:nvGrpSpPr>
                <p:grpSpPr>
                  <a:xfrm>
                    <a:off x="8449920" y="1230120"/>
                    <a:ext cx="84240" cy="182520"/>
                    <a:chOff x="8449920" y="1230120"/>
                    <a:chExt cx="84240" cy="182520"/>
                  </a:xfrm>
                </p:grpSpPr>
                <p:sp>
                  <p:nvSpPr>
                    <p:cNvPr id="76" name=""/>
                    <p:cNvSpPr/>
                    <p:nvPr/>
                  </p:nvSpPr>
                  <p:spPr>
                    <a:xfrm>
                      <a:off x="8449920" y="1395360"/>
                      <a:ext cx="1908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35">
                          <a:moveTo>
                            <a:pt x="0" y="26"/>
                          </a:moveTo>
                          <a:lnTo>
                            <a:pt x="6" y="35"/>
                          </a:lnTo>
                          <a:lnTo>
                            <a:pt x="14" y="32"/>
                          </a:lnTo>
                          <a:lnTo>
                            <a:pt x="27" y="35"/>
                          </a:lnTo>
                          <a:lnTo>
                            <a:pt x="36" y="35"/>
                          </a:lnTo>
                          <a:lnTo>
                            <a:pt x="37" y="24"/>
                          </a:lnTo>
                          <a:lnTo>
                            <a:pt x="33" y="14"/>
                          </a:lnTo>
                          <a:lnTo>
                            <a:pt x="28" y="5"/>
                          </a:lnTo>
                          <a:lnTo>
                            <a:pt x="22" y="5"/>
                          </a:lnTo>
                          <a:lnTo>
                            <a:pt x="18" y="0"/>
                          </a:lnTo>
                          <a:lnTo>
                            <a:pt x="10" y="0"/>
                          </a:lnTo>
                          <a:lnTo>
                            <a:pt x="10" y="10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8503920" y="1361880"/>
                      <a:ext cx="190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43">
                          <a:moveTo>
                            <a:pt x="8" y="0"/>
                          </a:moveTo>
                          <a:lnTo>
                            <a:pt x="21" y="2"/>
                          </a:lnTo>
                          <a:lnTo>
                            <a:pt x="30" y="13"/>
                          </a:lnTo>
                          <a:lnTo>
                            <a:pt x="36" y="21"/>
                          </a:lnTo>
                          <a:lnTo>
                            <a:pt x="31" y="26"/>
                          </a:lnTo>
                          <a:lnTo>
                            <a:pt x="36" y="32"/>
                          </a:lnTo>
                          <a:lnTo>
                            <a:pt x="32" y="40"/>
                          </a:lnTo>
                          <a:lnTo>
                            <a:pt x="27" y="43"/>
                          </a:lnTo>
                          <a:lnTo>
                            <a:pt x="16" y="43"/>
                          </a:lnTo>
                          <a:lnTo>
                            <a:pt x="9" y="43"/>
                          </a:lnTo>
                          <a:lnTo>
                            <a:pt x="5" y="38"/>
                          </a:lnTo>
                          <a:lnTo>
                            <a:pt x="0" y="31"/>
                          </a:lnTo>
                          <a:lnTo>
                            <a:pt x="0" y="26"/>
                          </a:lnTo>
                          <a:lnTo>
                            <a:pt x="0" y="16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>
                      <a:off x="8499240" y="1230120"/>
                      <a:ext cx="3492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40">
                          <a:moveTo>
                            <a:pt x="10" y="0"/>
                          </a:moveTo>
                          <a:lnTo>
                            <a:pt x="19" y="5"/>
                          </a:lnTo>
                          <a:lnTo>
                            <a:pt x="27" y="4"/>
                          </a:lnTo>
                          <a:lnTo>
                            <a:pt x="41" y="5"/>
                          </a:lnTo>
                          <a:lnTo>
                            <a:pt x="50" y="5"/>
                          </a:lnTo>
                          <a:lnTo>
                            <a:pt x="55" y="9"/>
                          </a:lnTo>
                          <a:lnTo>
                            <a:pt x="62" y="18"/>
                          </a:lnTo>
                          <a:lnTo>
                            <a:pt x="67" y="20"/>
                          </a:lnTo>
                          <a:lnTo>
                            <a:pt x="51" y="24"/>
                          </a:lnTo>
                          <a:lnTo>
                            <a:pt x="46" y="28"/>
                          </a:lnTo>
                          <a:lnTo>
                            <a:pt x="51" y="34"/>
                          </a:lnTo>
                          <a:lnTo>
                            <a:pt x="51" y="40"/>
                          </a:lnTo>
                          <a:lnTo>
                            <a:pt x="37" y="34"/>
                          </a:lnTo>
                          <a:lnTo>
                            <a:pt x="26" y="31"/>
                          </a:lnTo>
                          <a:lnTo>
                            <a:pt x="19" y="31"/>
                          </a:lnTo>
                          <a:lnTo>
                            <a:pt x="19" y="40"/>
                          </a:lnTo>
                          <a:lnTo>
                            <a:pt x="10" y="40"/>
                          </a:lnTo>
                          <a:lnTo>
                            <a:pt x="9" y="34"/>
                          </a:lnTo>
                          <a:lnTo>
                            <a:pt x="6" y="24"/>
                          </a:lnTo>
                          <a:lnTo>
                            <a:pt x="0" y="23"/>
                          </a:lnTo>
                          <a:lnTo>
                            <a:pt x="6" y="18"/>
                          </a:lnTo>
                          <a:lnTo>
                            <a:pt x="13" y="14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" name=""/>
                  <p:cNvSpPr/>
                  <p:nvPr/>
                </p:nvSpPr>
                <p:spPr>
                  <a:xfrm>
                    <a:off x="8529480" y="1601640"/>
                    <a:ext cx="2412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456" h="336">
                        <a:moveTo>
                          <a:pt x="328" y="0"/>
                        </a:moveTo>
                        <a:lnTo>
                          <a:pt x="351" y="0"/>
                        </a:lnTo>
                        <a:lnTo>
                          <a:pt x="351" y="28"/>
                        </a:lnTo>
                        <a:lnTo>
                          <a:pt x="361" y="36"/>
                        </a:lnTo>
                        <a:lnTo>
                          <a:pt x="365" y="41"/>
                        </a:lnTo>
                        <a:lnTo>
                          <a:pt x="369" y="41"/>
                        </a:lnTo>
                        <a:lnTo>
                          <a:pt x="372" y="45"/>
                        </a:lnTo>
                        <a:lnTo>
                          <a:pt x="375" y="72"/>
                        </a:lnTo>
                        <a:lnTo>
                          <a:pt x="387" y="90"/>
                        </a:lnTo>
                        <a:lnTo>
                          <a:pt x="408" y="115"/>
                        </a:lnTo>
                        <a:lnTo>
                          <a:pt x="408" y="120"/>
                        </a:lnTo>
                        <a:lnTo>
                          <a:pt x="431" y="142"/>
                        </a:lnTo>
                        <a:lnTo>
                          <a:pt x="431" y="145"/>
                        </a:lnTo>
                        <a:lnTo>
                          <a:pt x="453" y="162"/>
                        </a:lnTo>
                        <a:lnTo>
                          <a:pt x="456" y="193"/>
                        </a:lnTo>
                        <a:lnTo>
                          <a:pt x="453" y="220"/>
                        </a:lnTo>
                        <a:lnTo>
                          <a:pt x="445" y="234"/>
                        </a:lnTo>
                        <a:lnTo>
                          <a:pt x="437" y="240"/>
                        </a:lnTo>
                        <a:lnTo>
                          <a:pt x="433" y="255"/>
                        </a:lnTo>
                        <a:lnTo>
                          <a:pt x="426" y="268"/>
                        </a:lnTo>
                        <a:lnTo>
                          <a:pt x="420" y="270"/>
                        </a:lnTo>
                        <a:lnTo>
                          <a:pt x="422" y="276"/>
                        </a:lnTo>
                        <a:lnTo>
                          <a:pt x="411" y="285"/>
                        </a:lnTo>
                        <a:lnTo>
                          <a:pt x="408" y="301"/>
                        </a:lnTo>
                        <a:lnTo>
                          <a:pt x="406" y="312"/>
                        </a:lnTo>
                        <a:lnTo>
                          <a:pt x="400" y="315"/>
                        </a:lnTo>
                        <a:lnTo>
                          <a:pt x="397" y="321"/>
                        </a:lnTo>
                        <a:lnTo>
                          <a:pt x="392" y="327"/>
                        </a:lnTo>
                        <a:lnTo>
                          <a:pt x="384" y="327"/>
                        </a:lnTo>
                        <a:lnTo>
                          <a:pt x="375" y="331"/>
                        </a:lnTo>
                        <a:lnTo>
                          <a:pt x="366" y="336"/>
                        </a:lnTo>
                        <a:lnTo>
                          <a:pt x="352" y="324"/>
                        </a:lnTo>
                        <a:lnTo>
                          <a:pt x="341" y="327"/>
                        </a:lnTo>
                        <a:lnTo>
                          <a:pt x="336" y="327"/>
                        </a:lnTo>
                        <a:lnTo>
                          <a:pt x="316" y="330"/>
                        </a:lnTo>
                        <a:lnTo>
                          <a:pt x="306" y="321"/>
                        </a:lnTo>
                        <a:lnTo>
                          <a:pt x="296" y="307"/>
                        </a:lnTo>
                        <a:lnTo>
                          <a:pt x="293" y="310"/>
                        </a:lnTo>
                        <a:lnTo>
                          <a:pt x="288" y="300"/>
                        </a:lnTo>
                        <a:lnTo>
                          <a:pt x="284" y="292"/>
                        </a:lnTo>
                        <a:lnTo>
                          <a:pt x="283" y="290"/>
                        </a:lnTo>
                        <a:lnTo>
                          <a:pt x="283" y="276"/>
                        </a:lnTo>
                        <a:lnTo>
                          <a:pt x="283" y="268"/>
                        </a:lnTo>
                        <a:lnTo>
                          <a:pt x="279" y="263"/>
                        </a:lnTo>
                        <a:lnTo>
                          <a:pt x="269" y="265"/>
                        </a:lnTo>
                        <a:lnTo>
                          <a:pt x="263" y="268"/>
                        </a:lnTo>
                        <a:lnTo>
                          <a:pt x="254" y="268"/>
                        </a:lnTo>
                        <a:lnTo>
                          <a:pt x="252" y="268"/>
                        </a:lnTo>
                        <a:lnTo>
                          <a:pt x="247" y="268"/>
                        </a:lnTo>
                        <a:lnTo>
                          <a:pt x="239" y="259"/>
                        </a:lnTo>
                        <a:lnTo>
                          <a:pt x="232" y="250"/>
                        </a:lnTo>
                        <a:lnTo>
                          <a:pt x="231" y="250"/>
                        </a:lnTo>
                        <a:lnTo>
                          <a:pt x="221" y="250"/>
                        </a:lnTo>
                        <a:lnTo>
                          <a:pt x="218" y="245"/>
                        </a:lnTo>
                        <a:lnTo>
                          <a:pt x="209" y="250"/>
                        </a:lnTo>
                        <a:lnTo>
                          <a:pt x="204" y="250"/>
                        </a:lnTo>
                        <a:lnTo>
                          <a:pt x="193" y="250"/>
                        </a:lnTo>
                        <a:lnTo>
                          <a:pt x="189" y="245"/>
                        </a:lnTo>
                        <a:lnTo>
                          <a:pt x="186" y="250"/>
                        </a:lnTo>
                        <a:lnTo>
                          <a:pt x="172" y="251"/>
                        </a:lnTo>
                        <a:lnTo>
                          <a:pt x="171" y="250"/>
                        </a:lnTo>
                        <a:lnTo>
                          <a:pt x="165" y="255"/>
                        </a:lnTo>
                        <a:lnTo>
                          <a:pt x="157" y="263"/>
                        </a:lnTo>
                        <a:lnTo>
                          <a:pt x="150" y="263"/>
                        </a:lnTo>
                        <a:lnTo>
                          <a:pt x="142" y="270"/>
                        </a:lnTo>
                        <a:lnTo>
                          <a:pt x="131" y="270"/>
                        </a:lnTo>
                        <a:lnTo>
                          <a:pt x="120" y="270"/>
                        </a:lnTo>
                        <a:lnTo>
                          <a:pt x="110" y="276"/>
                        </a:lnTo>
                        <a:lnTo>
                          <a:pt x="105" y="282"/>
                        </a:lnTo>
                        <a:lnTo>
                          <a:pt x="100" y="281"/>
                        </a:lnTo>
                        <a:lnTo>
                          <a:pt x="97" y="286"/>
                        </a:lnTo>
                        <a:lnTo>
                          <a:pt x="90" y="287"/>
                        </a:lnTo>
                        <a:lnTo>
                          <a:pt x="84" y="292"/>
                        </a:lnTo>
                        <a:lnTo>
                          <a:pt x="61" y="292"/>
                        </a:lnTo>
                        <a:lnTo>
                          <a:pt x="53" y="285"/>
                        </a:lnTo>
                        <a:lnTo>
                          <a:pt x="51" y="281"/>
                        </a:lnTo>
                        <a:lnTo>
                          <a:pt x="50" y="285"/>
                        </a:lnTo>
                        <a:lnTo>
                          <a:pt x="45" y="276"/>
                        </a:lnTo>
                        <a:lnTo>
                          <a:pt x="46" y="260"/>
                        </a:lnTo>
                        <a:lnTo>
                          <a:pt x="50" y="250"/>
                        </a:lnTo>
                        <a:lnTo>
                          <a:pt x="45" y="240"/>
                        </a:lnTo>
                        <a:lnTo>
                          <a:pt x="41" y="234"/>
                        </a:lnTo>
                        <a:lnTo>
                          <a:pt x="41" y="224"/>
                        </a:lnTo>
                        <a:lnTo>
                          <a:pt x="33" y="218"/>
                        </a:lnTo>
                        <a:lnTo>
                          <a:pt x="30" y="218"/>
                        </a:lnTo>
                        <a:lnTo>
                          <a:pt x="29" y="214"/>
                        </a:lnTo>
                        <a:lnTo>
                          <a:pt x="20" y="202"/>
                        </a:lnTo>
                        <a:lnTo>
                          <a:pt x="8" y="173"/>
                        </a:lnTo>
                        <a:lnTo>
                          <a:pt x="5" y="152"/>
                        </a:lnTo>
                        <a:lnTo>
                          <a:pt x="5" y="142"/>
                        </a:lnTo>
                        <a:lnTo>
                          <a:pt x="0" y="137"/>
                        </a:lnTo>
                        <a:lnTo>
                          <a:pt x="2" y="125"/>
                        </a:lnTo>
                        <a:lnTo>
                          <a:pt x="5" y="121"/>
                        </a:lnTo>
                        <a:lnTo>
                          <a:pt x="20" y="107"/>
                        </a:lnTo>
                        <a:lnTo>
                          <a:pt x="34" y="107"/>
                        </a:lnTo>
                        <a:lnTo>
                          <a:pt x="39" y="111"/>
                        </a:lnTo>
                        <a:lnTo>
                          <a:pt x="56" y="111"/>
                        </a:lnTo>
                        <a:lnTo>
                          <a:pt x="59" y="107"/>
                        </a:lnTo>
                        <a:lnTo>
                          <a:pt x="61" y="107"/>
                        </a:lnTo>
                        <a:lnTo>
                          <a:pt x="69" y="103"/>
                        </a:lnTo>
                        <a:lnTo>
                          <a:pt x="73" y="103"/>
                        </a:lnTo>
                        <a:lnTo>
                          <a:pt x="77" y="102"/>
                        </a:lnTo>
                        <a:lnTo>
                          <a:pt x="75" y="97"/>
                        </a:lnTo>
                        <a:lnTo>
                          <a:pt x="79" y="89"/>
                        </a:lnTo>
                        <a:lnTo>
                          <a:pt x="84" y="85"/>
                        </a:lnTo>
                        <a:lnTo>
                          <a:pt x="81" y="81"/>
                        </a:lnTo>
                        <a:lnTo>
                          <a:pt x="84" y="77"/>
                        </a:lnTo>
                        <a:lnTo>
                          <a:pt x="81" y="76"/>
                        </a:lnTo>
                        <a:lnTo>
                          <a:pt x="90" y="67"/>
                        </a:lnTo>
                        <a:lnTo>
                          <a:pt x="101" y="66"/>
                        </a:lnTo>
                        <a:lnTo>
                          <a:pt x="114" y="50"/>
                        </a:lnTo>
                        <a:lnTo>
                          <a:pt x="128" y="36"/>
                        </a:lnTo>
                        <a:lnTo>
                          <a:pt x="136" y="36"/>
                        </a:lnTo>
                        <a:lnTo>
                          <a:pt x="140" y="31"/>
                        </a:lnTo>
                        <a:lnTo>
                          <a:pt x="146" y="31"/>
                        </a:lnTo>
                        <a:lnTo>
                          <a:pt x="158" y="44"/>
                        </a:lnTo>
                        <a:lnTo>
                          <a:pt x="163" y="45"/>
                        </a:lnTo>
                        <a:lnTo>
                          <a:pt x="167" y="41"/>
                        </a:lnTo>
                        <a:lnTo>
                          <a:pt x="173" y="31"/>
                        </a:lnTo>
                        <a:lnTo>
                          <a:pt x="180" y="30"/>
                        </a:lnTo>
                        <a:lnTo>
                          <a:pt x="186" y="19"/>
                        </a:lnTo>
                        <a:lnTo>
                          <a:pt x="191" y="19"/>
                        </a:lnTo>
                        <a:lnTo>
                          <a:pt x="198" y="16"/>
                        </a:lnTo>
                        <a:lnTo>
                          <a:pt x="204" y="9"/>
                        </a:lnTo>
                        <a:lnTo>
                          <a:pt x="209" y="9"/>
                        </a:lnTo>
                        <a:lnTo>
                          <a:pt x="217" y="5"/>
                        </a:lnTo>
                        <a:lnTo>
                          <a:pt x="224" y="5"/>
                        </a:lnTo>
                        <a:lnTo>
                          <a:pt x="234" y="5"/>
                        </a:lnTo>
                        <a:lnTo>
                          <a:pt x="247" y="5"/>
                        </a:lnTo>
                        <a:lnTo>
                          <a:pt x="254" y="14"/>
                        </a:lnTo>
                        <a:lnTo>
                          <a:pt x="257" y="18"/>
                        </a:lnTo>
                        <a:lnTo>
                          <a:pt x="258" y="19"/>
                        </a:lnTo>
                        <a:lnTo>
                          <a:pt x="260" y="26"/>
                        </a:lnTo>
                        <a:lnTo>
                          <a:pt x="258" y="28"/>
                        </a:lnTo>
                        <a:lnTo>
                          <a:pt x="258" y="36"/>
                        </a:lnTo>
                        <a:lnTo>
                          <a:pt x="257" y="41"/>
                        </a:lnTo>
                        <a:lnTo>
                          <a:pt x="277" y="55"/>
                        </a:lnTo>
                        <a:lnTo>
                          <a:pt x="283" y="62"/>
                        </a:lnTo>
                        <a:lnTo>
                          <a:pt x="291" y="64"/>
                        </a:lnTo>
                        <a:lnTo>
                          <a:pt x="298" y="67"/>
                        </a:lnTo>
                        <a:lnTo>
                          <a:pt x="305" y="72"/>
                        </a:lnTo>
                        <a:lnTo>
                          <a:pt x="314" y="66"/>
                        </a:lnTo>
                        <a:lnTo>
                          <a:pt x="319" y="55"/>
                        </a:lnTo>
                        <a:lnTo>
                          <a:pt x="321" y="45"/>
                        </a:lnTo>
                        <a:lnTo>
                          <a:pt x="324" y="26"/>
                        </a:lnTo>
                        <a:lnTo>
                          <a:pt x="328" y="19"/>
                        </a:lnTo>
                        <a:lnTo>
                          <a:pt x="328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473680" y="1563480"/>
                    <a:ext cx="13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45">
                        <a:moveTo>
                          <a:pt x="0" y="0"/>
                        </a:moveTo>
                        <a:lnTo>
                          <a:pt x="17" y="7"/>
                        </a:lnTo>
                        <a:lnTo>
                          <a:pt x="34" y="7"/>
                        </a:lnTo>
                        <a:lnTo>
                          <a:pt x="48" y="7"/>
                        </a:lnTo>
                        <a:lnTo>
                          <a:pt x="58" y="7"/>
                        </a:lnTo>
                        <a:lnTo>
                          <a:pt x="67" y="8"/>
                        </a:lnTo>
                        <a:lnTo>
                          <a:pt x="77" y="12"/>
                        </a:lnTo>
                        <a:lnTo>
                          <a:pt x="84" y="22"/>
                        </a:lnTo>
                        <a:lnTo>
                          <a:pt x="89" y="25"/>
                        </a:lnTo>
                        <a:lnTo>
                          <a:pt x="98" y="25"/>
                        </a:lnTo>
                        <a:lnTo>
                          <a:pt x="110" y="25"/>
                        </a:lnTo>
                        <a:lnTo>
                          <a:pt x="122" y="30"/>
                        </a:lnTo>
                        <a:lnTo>
                          <a:pt x="129" y="34"/>
                        </a:lnTo>
                        <a:lnTo>
                          <a:pt x="134" y="34"/>
                        </a:lnTo>
                        <a:lnTo>
                          <a:pt x="135" y="25"/>
                        </a:lnTo>
                        <a:lnTo>
                          <a:pt x="139" y="22"/>
                        </a:lnTo>
                        <a:lnTo>
                          <a:pt x="156" y="25"/>
                        </a:lnTo>
                        <a:lnTo>
                          <a:pt x="169" y="25"/>
                        </a:lnTo>
                        <a:lnTo>
                          <a:pt x="182" y="25"/>
                        </a:lnTo>
                        <a:lnTo>
                          <a:pt x="191" y="29"/>
                        </a:lnTo>
                        <a:lnTo>
                          <a:pt x="196" y="32"/>
                        </a:lnTo>
                        <a:lnTo>
                          <a:pt x="206" y="30"/>
                        </a:lnTo>
                        <a:lnTo>
                          <a:pt x="214" y="29"/>
                        </a:lnTo>
                        <a:lnTo>
                          <a:pt x="219" y="25"/>
                        </a:lnTo>
                        <a:lnTo>
                          <a:pt x="227" y="25"/>
                        </a:lnTo>
                        <a:lnTo>
                          <a:pt x="236" y="22"/>
                        </a:lnTo>
                        <a:lnTo>
                          <a:pt x="245" y="20"/>
                        </a:lnTo>
                        <a:lnTo>
                          <a:pt x="250" y="20"/>
                        </a:lnTo>
                        <a:lnTo>
                          <a:pt x="247" y="29"/>
                        </a:lnTo>
                        <a:lnTo>
                          <a:pt x="245" y="34"/>
                        </a:lnTo>
                        <a:lnTo>
                          <a:pt x="241" y="37"/>
                        </a:lnTo>
                        <a:lnTo>
                          <a:pt x="236" y="37"/>
                        </a:lnTo>
                        <a:lnTo>
                          <a:pt x="233" y="37"/>
                        </a:lnTo>
                        <a:lnTo>
                          <a:pt x="225" y="39"/>
                        </a:lnTo>
                        <a:lnTo>
                          <a:pt x="220" y="43"/>
                        </a:lnTo>
                        <a:lnTo>
                          <a:pt x="217" y="43"/>
                        </a:lnTo>
                        <a:lnTo>
                          <a:pt x="210" y="40"/>
                        </a:lnTo>
                        <a:lnTo>
                          <a:pt x="205" y="43"/>
                        </a:lnTo>
                        <a:lnTo>
                          <a:pt x="200" y="43"/>
                        </a:lnTo>
                        <a:lnTo>
                          <a:pt x="195" y="43"/>
                        </a:lnTo>
                        <a:lnTo>
                          <a:pt x="191" y="45"/>
                        </a:lnTo>
                        <a:lnTo>
                          <a:pt x="182" y="45"/>
                        </a:lnTo>
                        <a:lnTo>
                          <a:pt x="178" y="43"/>
                        </a:lnTo>
                        <a:lnTo>
                          <a:pt x="170" y="37"/>
                        </a:lnTo>
                        <a:lnTo>
                          <a:pt x="165" y="43"/>
                        </a:lnTo>
                        <a:lnTo>
                          <a:pt x="160" y="45"/>
                        </a:lnTo>
                        <a:lnTo>
                          <a:pt x="155" y="45"/>
                        </a:lnTo>
                        <a:lnTo>
                          <a:pt x="146" y="37"/>
                        </a:lnTo>
                        <a:lnTo>
                          <a:pt x="144" y="39"/>
                        </a:lnTo>
                        <a:lnTo>
                          <a:pt x="138" y="39"/>
                        </a:lnTo>
                        <a:lnTo>
                          <a:pt x="133" y="43"/>
                        </a:lnTo>
                        <a:lnTo>
                          <a:pt x="125" y="43"/>
                        </a:lnTo>
                        <a:lnTo>
                          <a:pt x="117" y="43"/>
                        </a:lnTo>
                        <a:lnTo>
                          <a:pt x="113" y="40"/>
                        </a:lnTo>
                        <a:lnTo>
                          <a:pt x="108" y="37"/>
                        </a:lnTo>
                        <a:lnTo>
                          <a:pt x="99" y="39"/>
                        </a:lnTo>
                        <a:lnTo>
                          <a:pt x="93" y="43"/>
                        </a:lnTo>
                        <a:lnTo>
                          <a:pt x="88" y="43"/>
                        </a:lnTo>
                        <a:lnTo>
                          <a:pt x="77" y="40"/>
                        </a:lnTo>
                        <a:lnTo>
                          <a:pt x="68" y="35"/>
                        </a:lnTo>
                        <a:lnTo>
                          <a:pt x="61" y="35"/>
                        </a:lnTo>
                        <a:lnTo>
                          <a:pt x="44" y="32"/>
                        </a:lnTo>
                        <a:lnTo>
                          <a:pt x="34" y="29"/>
                        </a:lnTo>
                        <a:lnTo>
                          <a:pt x="27" y="29"/>
                        </a:lnTo>
                        <a:lnTo>
                          <a:pt x="17" y="25"/>
                        </a:lnTo>
                        <a:lnTo>
                          <a:pt x="8" y="20"/>
                        </a:lnTo>
                        <a:lnTo>
                          <a:pt x="3" y="20"/>
                        </a:lnTo>
                        <a:lnTo>
                          <a:pt x="0" y="18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8545320" y="1515960"/>
                    <a:ext cx="601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88">
                        <a:moveTo>
                          <a:pt x="30" y="0"/>
                        </a:moveTo>
                        <a:lnTo>
                          <a:pt x="56" y="2"/>
                        </a:lnTo>
                        <a:lnTo>
                          <a:pt x="84" y="2"/>
                        </a:lnTo>
                        <a:lnTo>
                          <a:pt x="97" y="0"/>
                        </a:lnTo>
                        <a:lnTo>
                          <a:pt x="115" y="7"/>
                        </a:lnTo>
                        <a:lnTo>
                          <a:pt x="105" y="11"/>
                        </a:lnTo>
                        <a:lnTo>
                          <a:pt x="97" y="15"/>
                        </a:lnTo>
                        <a:lnTo>
                          <a:pt x="90" y="16"/>
                        </a:lnTo>
                        <a:lnTo>
                          <a:pt x="89" y="20"/>
                        </a:lnTo>
                        <a:lnTo>
                          <a:pt x="89" y="25"/>
                        </a:lnTo>
                        <a:lnTo>
                          <a:pt x="89" y="26"/>
                        </a:lnTo>
                        <a:lnTo>
                          <a:pt x="82" y="30"/>
                        </a:lnTo>
                        <a:lnTo>
                          <a:pt x="75" y="30"/>
                        </a:lnTo>
                        <a:lnTo>
                          <a:pt x="71" y="30"/>
                        </a:lnTo>
                        <a:lnTo>
                          <a:pt x="65" y="30"/>
                        </a:lnTo>
                        <a:lnTo>
                          <a:pt x="61" y="26"/>
                        </a:lnTo>
                        <a:lnTo>
                          <a:pt x="56" y="21"/>
                        </a:lnTo>
                        <a:lnTo>
                          <a:pt x="51" y="16"/>
                        </a:lnTo>
                        <a:lnTo>
                          <a:pt x="40" y="16"/>
                        </a:lnTo>
                        <a:lnTo>
                          <a:pt x="39" y="16"/>
                        </a:lnTo>
                        <a:lnTo>
                          <a:pt x="34" y="26"/>
                        </a:lnTo>
                        <a:lnTo>
                          <a:pt x="35" y="30"/>
                        </a:lnTo>
                        <a:lnTo>
                          <a:pt x="35" y="35"/>
                        </a:lnTo>
                        <a:lnTo>
                          <a:pt x="39" y="38"/>
                        </a:lnTo>
                        <a:lnTo>
                          <a:pt x="44" y="38"/>
                        </a:lnTo>
                        <a:lnTo>
                          <a:pt x="51" y="34"/>
                        </a:lnTo>
                        <a:lnTo>
                          <a:pt x="56" y="34"/>
                        </a:lnTo>
                        <a:lnTo>
                          <a:pt x="60" y="37"/>
                        </a:lnTo>
                        <a:lnTo>
                          <a:pt x="60" y="38"/>
                        </a:lnTo>
                        <a:lnTo>
                          <a:pt x="57" y="43"/>
                        </a:lnTo>
                        <a:lnTo>
                          <a:pt x="56" y="45"/>
                        </a:lnTo>
                        <a:lnTo>
                          <a:pt x="56" y="48"/>
                        </a:lnTo>
                        <a:lnTo>
                          <a:pt x="56" y="53"/>
                        </a:lnTo>
                        <a:lnTo>
                          <a:pt x="57" y="58"/>
                        </a:lnTo>
                        <a:lnTo>
                          <a:pt x="62" y="62"/>
                        </a:lnTo>
                        <a:lnTo>
                          <a:pt x="65" y="61"/>
                        </a:lnTo>
                        <a:lnTo>
                          <a:pt x="65" y="66"/>
                        </a:lnTo>
                        <a:lnTo>
                          <a:pt x="61" y="71"/>
                        </a:lnTo>
                        <a:lnTo>
                          <a:pt x="60" y="75"/>
                        </a:lnTo>
                        <a:lnTo>
                          <a:pt x="57" y="83"/>
                        </a:lnTo>
                        <a:lnTo>
                          <a:pt x="52" y="84"/>
                        </a:lnTo>
                        <a:lnTo>
                          <a:pt x="49" y="84"/>
                        </a:lnTo>
                        <a:lnTo>
                          <a:pt x="45" y="84"/>
                        </a:lnTo>
                        <a:lnTo>
                          <a:pt x="45" y="78"/>
                        </a:lnTo>
                        <a:lnTo>
                          <a:pt x="44" y="70"/>
                        </a:lnTo>
                        <a:lnTo>
                          <a:pt x="39" y="66"/>
                        </a:lnTo>
                        <a:lnTo>
                          <a:pt x="39" y="62"/>
                        </a:lnTo>
                        <a:lnTo>
                          <a:pt x="39" y="56"/>
                        </a:lnTo>
                        <a:lnTo>
                          <a:pt x="34" y="51"/>
                        </a:lnTo>
                        <a:lnTo>
                          <a:pt x="25" y="56"/>
                        </a:lnTo>
                        <a:lnTo>
                          <a:pt x="21" y="51"/>
                        </a:lnTo>
                        <a:lnTo>
                          <a:pt x="16" y="57"/>
                        </a:lnTo>
                        <a:lnTo>
                          <a:pt x="21" y="61"/>
                        </a:lnTo>
                        <a:lnTo>
                          <a:pt x="29" y="61"/>
                        </a:lnTo>
                        <a:lnTo>
                          <a:pt x="30" y="65"/>
                        </a:lnTo>
                        <a:lnTo>
                          <a:pt x="34" y="70"/>
                        </a:lnTo>
                        <a:lnTo>
                          <a:pt x="34" y="73"/>
                        </a:lnTo>
                        <a:lnTo>
                          <a:pt x="30" y="78"/>
                        </a:lnTo>
                        <a:lnTo>
                          <a:pt x="25" y="87"/>
                        </a:lnTo>
                        <a:lnTo>
                          <a:pt x="21" y="88"/>
                        </a:lnTo>
                        <a:lnTo>
                          <a:pt x="21" y="83"/>
                        </a:lnTo>
                        <a:lnTo>
                          <a:pt x="21" y="78"/>
                        </a:lnTo>
                        <a:lnTo>
                          <a:pt x="23" y="73"/>
                        </a:lnTo>
                        <a:lnTo>
                          <a:pt x="16" y="70"/>
                        </a:lnTo>
                        <a:lnTo>
                          <a:pt x="11" y="66"/>
                        </a:lnTo>
                        <a:lnTo>
                          <a:pt x="9" y="61"/>
                        </a:lnTo>
                        <a:lnTo>
                          <a:pt x="0" y="61"/>
                        </a:lnTo>
                        <a:lnTo>
                          <a:pt x="3" y="51"/>
                        </a:lnTo>
                        <a:lnTo>
                          <a:pt x="9" y="47"/>
                        </a:lnTo>
                        <a:lnTo>
                          <a:pt x="13" y="42"/>
                        </a:lnTo>
                        <a:lnTo>
                          <a:pt x="16" y="35"/>
                        </a:lnTo>
                        <a:lnTo>
                          <a:pt x="16" y="29"/>
                        </a:lnTo>
                        <a:lnTo>
                          <a:pt x="16" y="21"/>
                        </a:lnTo>
                        <a:lnTo>
                          <a:pt x="20" y="17"/>
                        </a:lnTo>
                        <a:lnTo>
                          <a:pt x="21" y="16"/>
                        </a:lnTo>
                        <a:lnTo>
                          <a:pt x="16" y="1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8483400" y="1495440"/>
                    <a:ext cx="651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24">
                        <a:moveTo>
                          <a:pt x="0" y="43"/>
                        </a:moveTo>
                        <a:lnTo>
                          <a:pt x="24" y="22"/>
                        </a:lnTo>
                        <a:lnTo>
                          <a:pt x="40" y="14"/>
                        </a:lnTo>
                        <a:lnTo>
                          <a:pt x="45" y="9"/>
                        </a:lnTo>
                        <a:lnTo>
                          <a:pt x="63" y="0"/>
                        </a:lnTo>
                        <a:lnTo>
                          <a:pt x="77" y="17"/>
                        </a:lnTo>
                        <a:lnTo>
                          <a:pt x="86" y="11"/>
                        </a:lnTo>
                        <a:lnTo>
                          <a:pt x="91" y="7"/>
                        </a:lnTo>
                        <a:lnTo>
                          <a:pt x="100" y="0"/>
                        </a:lnTo>
                        <a:lnTo>
                          <a:pt x="107" y="0"/>
                        </a:lnTo>
                        <a:lnTo>
                          <a:pt x="107" y="9"/>
                        </a:lnTo>
                        <a:lnTo>
                          <a:pt x="107" y="12"/>
                        </a:lnTo>
                        <a:lnTo>
                          <a:pt x="103" y="17"/>
                        </a:lnTo>
                        <a:lnTo>
                          <a:pt x="103" y="22"/>
                        </a:lnTo>
                        <a:lnTo>
                          <a:pt x="116" y="40"/>
                        </a:lnTo>
                        <a:lnTo>
                          <a:pt x="118" y="48"/>
                        </a:lnTo>
                        <a:lnTo>
                          <a:pt x="122" y="48"/>
                        </a:lnTo>
                        <a:lnTo>
                          <a:pt x="124" y="56"/>
                        </a:lnTo>
                        <a:lnTo>
                          <a:pt x="118" y="61"/>
                        </a:lnTo>
                        <a:lnTo>
                          <a:pt x="116" y="57"/>
                        </a:lnTo>
                        <a:lnTo>
                          <a:pt x="107" y="62"/>
                        </a:lnTo>
                        <a:lnTo>
                          <a:pt x="107" y="72"/>
                        </a:lnTo>
                        <a:lnTo>
                          <a:pt x="96" y="79"/>
                        </a:lnTo>
                        <a:lnTo>
                          <a:pt x="96" y="98"/>
                        </a:lnTo>
                        <a:lnTo>
                          <a:pt x="96" y="108"/>
                        </a:lnTo>
                        <a:lnTo>
                          <a:pt x="91" y="114"/>
                        </a:lnTo>
                        <a:lnTo>
                          <a:pt x="86" y="124"/>
                        </a:lnTo>
                        <a:lnTo>
                          <a:pt x="81" y="119"/>
                        </a:lnTo>
                        <a:lnTo>
                          <a:pt x="73" y="117"/>
                        </a:lnTo>
                        <a:lnTo>
                          <a:pt x="67" y="114"/>
                        </a:lnTo>
                        <a:lnTo>
                          <a:pt x="60" y="107"/>
                        </a:lnTo>
                        <a:lnTo>
                          <a:pt x="41" y="107"/>
                        </a:lnTo>
                        <a:lnTo>
                          <a:pt x="26" y="103"/>
                        </a:lnTo>
                        <a:lnTo>
                          <a:pt x="15" y="92"/>
                        </a:lnTo>
                        <a:lnTo>
                          <a:pt x="9" y="84"/>
                        </a:lnTo>
                        <a:lnTo>
                          <a:pt x="4" y="79"/>
                        </a:lnTo>
                        <a:lnTo>
                          <a:pt x="4" y="67"/>
                        </a:lnTo>
                        <a:lnTo>
                          <a:pt x="0" y="43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624520" y="1531800"/>
                    <a:ext cx="1270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13">
                        <a:moveTo>
                          <a:pt x="0" y="0"/>
                        </a:moveTo>
                        <a:lnTo>
                          <a:pt x="22" y="0"/>
                        </a:lnTo>
                        <a:lnTo>
                          <a:pt x="38" y="1"/>
                        </a:lnTo>
                        <a:lnTo>
                          <a:pt x="46" y="17"/>
                        </a:lnTo>
                        <a:lnTo>
                          <a:pt x="47" y="23"/>
                        </a:lnTo>
                        <a:lnTo>
                          <a:pt x="49" y="27"/>
                        </a:lnTo>
                        <a:lnTo>
                          <a:pt x="55" y="21"/>
                        </a:lnTo>
                        <a:lnTo>
                          <a:pt x="64" y="21"/>
                        </a:lnTo>
                        <a:lnTo>
                          <a:pt x="72" y="27"/>
                        </a:lnTo>
                        <a:lnTo>
                          <a:pt x="73" y="26"/>
                        </a:lnTo>
                        <a:lnTo>
                          <a:pt x="80" y="17"/>
                        </a:lnTo>
                        <a:lnTo>
                          <a:pt x="82" y="17"/>
                        </a:lnTo>
                        <a:lnTo>
                          <a:pt x="89" y="13"/>
                        </a:lnTo>
                        <a:lnTo>
                          <a:pt x="97" y="13"/>
                        </a:lnTo>
                        <a:lnTo>
                          <a:pt x="116" y="21"/>
                        </a:lnTo>
                        <a:lnTo>
                          <a:pt x="128" y="21"/>
                        </a:lnTo>
                        <a:lnTo>
                          <a:pt x="136" y="31"/>
                        </a:lnTo>
                        <a:lnTo>
                          <a:pt x="145" y="31"/>
                        </a:lnTo>
                        <a:lnTo>
                          <a:pt x="154" y="36"/>
                        </a:lnTo>
                        <a:lnTo>
                          <a:pt x="161" y="37"/>
                        </a:lnTo>
                        <a:lnTo>
                          <a:pt x="179" y="43"/>
                        </a:lnTo>
                        <a:lnTo>
                          <a:pt x="186" y="53"/>
                        </a:lnTo>
                        <a:lnTo>
                          <a:pt x="190" y="58"/>
                        </a:lnTo>
                        <a:lnTo>
                          <a:pt x="189" y="62"/>
                        </a:lnTo>
                        <a:lnTo>
                          <a:pt x="195" y="66"/>
                        </a:lnTo>
                        <a:lnTo>
                          <a:pt x="201" y="67"/>
                        </a:lnTo>
                        <a:lnTo>
                          <a:pt x="204" y="68"/>
                        </a:lnTo>
                        <a:lnTo>
                          <a:pt x="211" y="71"/>
                        </a:lnTo>
                        <a:lnTo>
                          <a:pt x="223" y="79"/>
                        </a:lnTo>
                        <a:lnTo>
                          <a:pt x="223" y="84"/>
                        </a:lnTo>
                        <a:lnTo>
                          <a:pt x="228" y="89"/>
                        </a:lnTo>
                        <a:lnTo>
                          <a:pt x="230" y="93"/>
                        </a:lnTo>
                        <a:lnTo>
                          <a:pt x="240" y="102"/>
                        </a:lnTo>
                        <a:lnTo>
                          <a:pt x="230" y="113"/>
                        </a:lnTo>
                        <a:lnTo>
                          <a:pt x="228" y="113"/>
                        </a:lnTo>
                        <a:lnTo>
                          <a:pt x="221" y="113"/>
                        </a:lnTo>
                        <a:lnTo>
                          <a:pt x="217" y="108"/>
                        </a:lnTo>
                        <a:lnTo>
                          <a:pt x="215" y="108"/>
                        </a:lnTo>
                        <a:lnTo>
                          <a:pt x="207" y="108"/>
                        </a:lnTo>
                        <a:lnTo>
                          <a:pt x="189" y="88"/>
                        </a:lnTo>
                        <a:lnTo>
                          <a:pt x="176" y="89"/>
                        </a:lnTo>
                        <a:lnTo>
                          <a:pt x="164" y="88"/>
                        </a:lnTo>
                        <a:lnTo>
                          <a:pt x="161" y="91"/>
                        </a:lnTo>
                        <a:lnTo>
                          <a:pt x="156" y="94"/>
                        </a:lnTo>
                        <a:lnTo>
                          <a:pt x="156" y="93"/>
                        </a:lnTo>
                        <a:lnTo>
                          <a:pt x="153" y="99"/>
                        </a:lnTo>
                        <a:lnTo>
                          <a:pt x="141" y="108"/>
                        </a:lnTo>
                        <a:lnTo>
                          <a:pt x="134" y="103"/>
                        </a:lnTo>
                        <a:lnTo>
                          <a:pt x="128" y="102"/>
                        </a:lnTo>
                        <a:lnTo>
                          <a:pt x="119" y="102"/>
                        </a:lnTo>
                        <a:lnTo>
                          <a:pt x="114" y="99"/>
                        </a:lnTo>
                        <a:lnTo>
                          <a:pt x="109" y="102"/>
                        </a:lnTo>
                        <a:lnTo>
                          <a:pt x="104" y="88"/>
                        </a:lnTo>
                        <a:lnTo>
                          <a:pt x="95" y="76"/>
                        </a:lnTo>
                        <a:lnTo>
                          <a:pt x="83" y="62"/>
                        </a:lnTo>
                        <a:lnTo>
                          <a:pt x="78" y="53"/>
                        </a:lnTo>
                        <a:lnTo>
                          <a:pt x="72" y="45"/>
                        </a:lnTo>
                        <a:lnTo>
                          <a:pt x="55" y="45"/>
                        </a:lnTo>
                        <a:lnTo>
                          <a:pt x="44" y="48"/>
                        </a:lnTo>
                        <a:lnTo>
                          <a:pt x="36" y="43"/>
                        </a:lnTo>
                        <a:lnTo>
                          <a:pt x="22" y="40"/>
                        </a:lnTo>
                        <a:lnTo>
                          <a:pt x="14" y="36"/>
                        </a:lnTo>
                        <a:lnTo>
                          <a:pt x="14" y="18"/>
                        </a:lnTo>
                        <a:lnTo>
                          <a:pt x="16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388000" y="1488960"/>
                    <a:ext cx="777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148">
                        <a:moveTo>
                          <a:pt x="0" y="5"/>
                        </a:moveTo>
                        <a:lnTo>
                          <a:pt x="15" y="0"/>
                        </a:lnTo>
                        <a:lnTo>
                          <a:pt x="32" y="5"/>
                        </a:lnTo>
                        <a:lnTo>
                          <a:pt x="35" y="12"/>
                        </a:lnTo>
                        <a:lnTo>
                          <a:pt x="35" y="17"/>
                        </a:lnTo>
                        <a:lnTo>
                          <a:pt x="41" y="19"/>
                        </a:lnTo>
                        <a:lnTo>
                          <a:pt x="41" y="21"/>
                        </a:lnTo>
                        <a:lnTo>
                          <a:pt x="45" y="22"/>
                        </a:lnTo>
                        <a:lnTo>
                          <a:pt x="45" y="27"/>
                        </a:lnTo>
                        <a:lnTo>
                          <a:pt x="60" y="41"/>
                        </a:lnTo>
                        <a:lnTo>
                          <a:pt x="63" y="41"/>
                        </a:lnTo>
                        <a:lnTo>
                          <a:pt x="67" y="46"/>
                        </a:lnTo>
                        <a:lnTo>
                          <a:pt x="71" y="51"/>
                        </a:lnTo>
                        <a:lnTo>
                          <a:pt x="73" y="51"/>
                        </a:lnTo>
                        <a:lnTo>
                          <a:pt x="84" y="57"/>
                        </a:lnTo>
                        <a:lnTo>
                          <a:pt x="108" y="58"/>
                        </a:lnTo>
                        <a:lnTo>
                          <a:pt x="111" y="77"/>
                        </a:lnTo>
                        <a:lnTo>
                          <a:pt x="113" y="81"/>
                        </a:lnTo>
                        <a:lnTo>
                          <a:pt x="112" y="88"/>
                        </a:lnTo>
                        <a:lnTo>
                          <a:pt x="126" y="96"/>
                        </a:lnTo>
                        <a:lnTo>
                          <a:pt x="139" y="99"/>
                        </a:lnTo>
                        <a:lnTo>
                          <a:pt x="139" y="129"/>
                        </a:lnTo>
                        <a:lnTo>
                          <a:pt x="147" y="144"/>
                        </a:lnTo>
                        <a:lnTo>
                          <a:pt x="140" y="147"/>
                        </a:lnTo>
                        <a:lnTo>
                          <a:pt x="134" y="148"/>
                        </a:lnTo>
                        <a:lnTo>
                          <a:pt x="133" y="139"/>
                        </a:lnTo>
                        <a:lnTo>
                          <a:pt x="117" y="148"/>
                        </a:lnTo>
                        <a:lnTo>
                          <a:pt x="111" y="134"/>
                        </a:lnTo>
                        <a:lnTo>
                          <a:pt x="104" y="122"/>
                        </a:lnTo>
                        <a:lnTo>
                          <a:pt x="88" y="108"/>
                        </a:lnTo>
                        <a:lnTo>
                          <a:pt x="82" y="108"/>
                        </a:lnTo>
                        <a:lnTo>
                          <a:pt x="67" y="98"/>
                        </a:lnTo>
                        <a:lnTo>
                          <a:pt x="66" y="91"/>
                        </a:lnTo>
                        <a:lnTo>
                          <a:pt x="66" y="86"/>
                        </a:lnTo>
                        <a:lnTo>
                          <a:pt x="55" y="63"/>
                        </a:lnTo>
                        <a:lnTo>
                          <a:pt x="48" y="51"/>
                        </a:lnTo>
                        <a:lnTo>
                          <a:pt x="32" y="40"/>
                        </a:lnTo>
                        <a:lnTo>
                          <a:pt x="14" y="21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524800" y="1403280"/>
                    <a:ext cx="759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167">
                        <a:moveTo>
                          <a:pt x="10" y="0"/>
                        </a:moveTo>
                        <a:lnTo>
                          <a:pt x="23" y="0"/>
                        </a:lnTo>
                        <a:lnTo>
                          <a:pt x="36" y="18"/>
                        </a:lnTo>
                        <a:lnTo>
                          <a:pt x="32" y="34"/>
                        </a:lnTo>
                        <a:lnTo>
                          <a:pt x="41" y="40"/>
                        </a:lnTo>
                        <a:lnTo>
                          <a:pt x="44" y="50"/>
                        </a:lnTo>
                        <a:lnTo>
                          <a:pt x="54" y="55"/>
                        </a:lnTo>
                        <a:lnTo>
                          <a:pt x="64" y="56"/>
                        </a:lnTo>
                        <a:lnTo>
                          <a:pt x="82" y="65"/>
                        </a:lnTo>
                        <a:lnTo>
                          <a:pt x="92" y="76"/>
                        </a:lnTo>
                        <a:lnTo>
                          <a:pt x="94" y="76"/>
                        </a:lnTo>
                        <a:lnTo>
                          <a:pt x="108" y="82"/>
                        </a:lnTo>
                        <a:lnTo>
                          <a:pt x="108" y="104"/>
                        </a:lnTo>
                        <a:lnTo>
                          <a:pt x="113" y="114"/>
                        </a:lnTo>
                        <a:lnTo>
                          <a:pt x="117" y="118"/>
                        </a:lnTo>
                        <a:lnTo>
                          <a:pt x="122" y="123"/>
                        </a:lnTo>
                        <a:lnTo>
                          <a:pt x="127" y="131"/>
                        </a:lnTo>
                        <a:lnTo>
                          <a:pt x="128" y="138"/>
                        </a:lnTo>
                        <a:lnTo>
                          <a:pt x="143" y="145"/>
                        </a:lnTo>
                        <a:lnTo>
                          <a:pt x="140" y="153"/>
                        </a:lnTo>
                        <a:lnTo>
                          <a:pt x="128" y="155"/>
                        </a:lnTo>
                        <a:lnTo>
                          <a:pt x="123" y="150"/>
                        </a:lnTo>
                        <a:lnTo>
                          <a:pt x="117" y="150"/>
                        </a:lnTo>
                        <a:lnTo>
                          <a:pt x="117" y="167"/>
                        </a:lnTo>
                        <a:lnTo>
                          <a:pt x="109" y="167"/>
                        </a:lnTo>
                        <a:lnTo>
                          <a:pt x="100" y="158"/>
                        </a:lnTo>
                        <a:lnTo>
                          <a:pt x="95" y="153"/>
                        </a:lnTo>
                        <a:lnTo>
                          <a:pt x="95" y="145"/>
                        </a:lnTo>
                        <a:lnTo>
                          <a:pt x="85" y="145"/>
                        </a:lnTo>
                        <a:lnTo>
                          <a:pt x="81" y="153"/>
                        </a:lnTo>
                        <a:lnTo>
                          <a:pt x="77" y="145"/>
                        </a:lnTo>
                        <a:lnTo>
                          <a:pt x="73" y="135"/>
                        </a:lnTo>
                        <a:lnTo>
                          <a:pt x="89" y="131"/>
                        </a:lnTo>
                        <a:lnTo>
                          <a:pt x="98" y="132"/>
                        </a:lnTo>
                        <a:lnTo>
                          <a:pt x="98" y="116"/>
                        </a:lnTo>
                        <a:lnTo>
                          <a:pt x="90" y="112"/>
                        </a:lnTo>
                        <a:lnTo>
                          <a:pt x="85" y="99"/>
                        </a:lnTo>
                        <a:lnTo>
                          <a:pt x="82" y="81"/>
                        </a:lnTo>
                        <a:lnTo>
                          <a:pt x="67" y="77"/>
                        </a:lnTo>
                        <a:lnTo>
                          <a:pt x="59" y="69"/>
                        </a:lnTo>
                        <a:lnTo>
                          <a:pt x="49" y="65"/>
                        </a:lnTo>
                        <a:lnTo>
                          <a:pt x="54" y="79"/>
                        </a:lnTo>
                        <a:lnTo>
                          <a:pt x="41" y="86"/>
                        </a:lnTo>
                        <a:lnTo>
                          <a:pt x="32" y="71"/>
                        </a:lnTo>
                        <a:lnTo>
                          <a:pt x="27" y="65"/>
                        </a:lnTo>
                        <a:lnTo>
                          <a:pt x="27" y="56"/>
                        </a:lnTo>
                        <a:lnTo>
                          <a:pt x="16" y="45"/>
                        </a:lnTo>
                        <a:lnTo>
                          <a:pt x="5" y="40"/>
                        </a:lnTo>
                        <a:lnTo>
                          <a:pt x="0" y="33"/>
                        </a:lnTo>
                        <a:lnTo>
                          <a:pt x="2" y="26"/>
                        </a:lnTo>
                        <a:lnTo>
                          <a:pt x="11" y="31"/>
                        </a:lnTo>
                        <a:lnTo>
                          <a:pt x="13" y="23"/>
                        </a:lnTo>
                        <a:lnTo>
                          <a:pt x="11" y="14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508600" y="1255680"/>
                    <a:ext cx="54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39">
                        <a:moveTo>
                          <a:pt x="22" y="0"/>
                        </a:moveTo>
                        <a:lnTo>
                          <a:pt x="41" y="7"/>
                        </a:lnTo>
                        <a:lnTo>
                          <a:pt x="54" y="18"/>
                        </a:lnTo>
                        <a:lnTo>
                          <a:pt x="62" y="30"/>
                        </a:lnTo>
                        <a:lnTo>
                          <a:pt x="67" y="30"/>
                        </a:lnTo>
                        <a:lnTo>
                          <a:pt x="67" y="37"/>
                        </a:lnTo>
                        <a:lnTo>
                          <a:pt x="73" y="44"/>
                        </a:lnTo>
                        <a:lnTo>
                          <a:pt x="80" y="52"/>
                        </a:lnTo>
                        <a:lnTo>
                          <a:pt x="94" y="67"/>
                        </a:lnTo>
                        <a:lnTo>
                          <a:pt x="103" y="87"/>
                        </a:lnTo>
                        <a:lnTo>
                          <a:pt x="85" y="85"/>
                        </a:lnTo>
                        <a:lnTo>
                          <a:pt x="72" y="82"/>
                        </a:lnTo>
                        <a:lnTo>
                          <a:pt x="82" y="95"/>
                        </a:lnTo>
                        <a:lnTo>
                          <a:pt x="82" y="104"/>
                        </a:lnTo>
                        <a:lnTo>
                          <a:pt x="82" y="112"/>
                        </a:lnTo>
                        <a:lnTo>
                          <a:pt x="75" y="109"/>
                        </a:lnTo>
                        <a:lnTo>
                          <a:pt x="68" y="103"/>
                        </a:lnTo>
                        <a:lnTo>
                          <a:pt x="58" y="92"/>
                        </a:lnTo>
                        <a:lnTo>
                          <a:pt x="51" y="89"/>
                        </a:lnTo>
                        <a:lnTo>
                          <a:pt x="39" y="92"/>
                        </a:lnTo>
                        <a:lnTo>
                          <a:pt x="32" y="95"/>
                        </a:lnTo>
                        <a:lnTo>
                          <a:pt x="36" y="103"/>
                        </a:lnTo>
                        <a:lnTo>
                          <a:pt x="47" y="109"/>
                        </a:lnTo>
                        <a:lnTo>
                          <a:pt x="58" y="113"/>
                        </a:lnTo>
                        <a:lnTo>
                          <a:pt x="63" y="123"/>
                        </a:lnTo>
                        <a:lnTo>
                          <a:pt x="62" y="135"/>
                        </a:lnTo>
                        <a:lnTo>
                          <a:pt x="62" y="139"/>
                        </a:lnTo>
                        <a:lnTo>
                          <a:pt x="58" y="139"/>
                        </a:lnTo>
                        <a:lnTo>
                          <a:pt x="51" y="135"/>
                        </a:lnTo>
                        <a:lnTo>
                          <a:pt x="47" y="134"/>
                        </a:lnTo>
                        <a:lnTo>
                          <a:pt x="44" y="131"/>
                        </a:lnTo>
                        <a:lnTo>
                          <a:pt x="39" y="136"/>
                        </a:lnTo>
                        <a:lnTo>
                          <a:pt x="32" y="139"/>
                        </a:lnTo>
                        <a:lnTo>
                          <a:pt x="28" y="134"/>
                        </a:lnTo>
                        <a:lnTo>
                          <a:pt x="28" y="122"/>
                        </a:lnTo>
                        <a:lnTo>
                          <a:pt x="27" y="114"/>
                        </a:lnTo>
                        <a:lnTo>
                          <a:pt x="19" y="109"/>
                        </a:lnTo>
                        <a:lnTo>
                          <a:pt x="11" y="118"/>
                        </a:lnTo>
                        <a:lnTo>
                          <a:pt x="1" y="118"/>
                        </a:lnTo>
                        <a:lnTo>
                          <a:pt x="0" y="112"/>
                        </a:lnTo>
                        <a:lnTo>
                          <a:pt x="1" y="97"/>
                        </a:lnTo>
                        <a:lnTo>
                          <a:pt x="9" y="90"/>
                        </a:lnTo>
                        <a:lnTo>
                          <a:pt x="8" y="69"/>
                        </a:lnTo>
                        <a:lnTo>
                          <a:pt x="8" y="63"/>
                        </a:lnTo>
                        <a:lnTo>
                          <a:pt x="14" y="61"/>
                        </a:lnTo>
                        <a:lnTo>
                          <a:pt x="23" y="67"/>
                        </a:lnTo>
                        <a:lnTo>
                          <a:pt x="36" y="72"/>
                        </a:lnTo>
                        <a:lnTo>
                          <a:pt x="36" y="59"/>
                        </a:lnTo>
                        <a:lnTo>
                          <a:pt x="28" y="56"/>
                        </a:lnTo>
                        <a:lnTo>
                          <a:pt x="28" y="52"/>
                        </a:lnTo>
                        <a:lnTo>
                          <a:pt x="31" y="52"/>
                        </a:lnTo>
                        <a:lnTo>
                          <a:pt x="33" y="52"/>
                        </a:lnTo>
                        <a:lnTo>
                          <a:pt x="36" y="52"/>
                        </a:lnTo>
                        <a:lnTo>
                          <a:pt x="39" y="52"/>
                        </a:lnTo>
                        <a:lnTo>
                          <a:pt x="44" y="47"/>
                        </a:lnTo>
                        <a:lnTo>
                          <a:pt x="42" y="44"/>
                        </a:lnTo>
                        <a:lnTo>
                          <a:pt x="37" y="33"/>
                        </a:lnTo>
                        <a:lnTo>
                          <a:pt x="28" y="25"/>
                        </a:lnTo>
                        <a:lnTo>
                          <a:pt x="19" y="20"/>
                        </a:lnTo>
                        <a:lnTo>
                          <a:pt x="13" y="13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445240" y="1166760"/>
                    <a:ext cx="586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14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14" y="9"/>
                        </a:lnTo>
                        <a:lnTo>
                          <a:pt x="30" y="20"/>
                        </a:lnTo>
                        <a:lnTo>
                          <a:pt x="36" y="33"/>
                        </a:lnTo>
                        <a:lnTo>
                          <a:pt x="47" y="35"/>
                        </a:lnTo>
                        <a:lnTo>
                          <a:pt x="55" y="36"/>
                        </a:lnTo>
                        <a:lnTo>
                          <a:pt x="62" y="43"/>
                        </a:lnTo>
                        <a:lnTo>
                          <a:pt x="71" y="43"/>
                        </a:lnTo>
                        <a:lnTo>
                          <a:pt x="80" y="48"/>
                        </a:lnTo>
                        <a:lnTo>
                          <a:pt x="88" y="56"/>
                        </a:lnTo>
                        <a:lnTo>
                          <a:pt x="97" y="62"/>
                        </a:lnTo>
                        <a:lnTo>
                          <a:pt x="95" y="66"/>
                        </a:lnTo>
                        <a:lnTo>
                          <a:pt x="90" y="67"/>
                        </a:lnTo>
                        <a:lnTo>
                          <a:pt x="85" y="67"/>
                        </a:lnTo>
                        <a:lnTo>
                          <a:pt x="83" y="71"/>
                        </a:lnTo>
                        <a:lnTo>
                          <a:pt x="93" y="79"/>
                        </a:lnTo>
                        <a:lnTo>
                          <a:pt x="100" y="87"/>
                        </a:lnTo>
                        <a:lnTo>
                          <a:pt x="112" y="97"/>
                        </a:lnTo>
                        <a:lnTo>
                          <a:pt x="106" y="106"/>
                        </a:lnTo>
                        <a:lnTo>
                          <a:pt x="98" y="107"/>
                        </a:lnTo>
                        <a:lnTo>
                          <a:pt x="98" y="114"/>
                        </a:lnTo>
                        <a:lnTo>
                          <a:pt x="88" y="114"/>
                        </a:lnTo>
                        <a:lnTo>
                          <a:pt x="85" y="109"/>
                        </a:lnTo>
                        <a:lnTo>
                          <a:pt x="75" y="101"/>
                        </a:lnTo>
                        <a:lnTo>
                          <a:pt x="67" y="89"/>
                        </a:lnTo>
                        <a:lnTo>
                          <a:pt x="57" y="72"/>
                        </a:lnTo>
                        <a:lnTo>
                          <a:pt x="44" y="62"/>
                        </a:lnTo>
                        <a:lnTo>
                          <a:pt x="31" y="43"/>
                        </a:lnTo>
                        <a:lnTo>
                          <a:pt x="22" y="38"/>
                        </a:lnTo>
                        <a:lnTo>
                          <a:pt x="16" y="35"/>
                        </a:lnTo>
                        <a:lnTo>
                          <a:pt x="13" y="25"/>
                        </a:lnTo>
                        <a:lnTo>
                          <a:pt x="3" y="16"/>
                        </a:lnTo>
                        <a:lnTo>
                          <a:pt x="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" name=""/>
                <p:cNvSpPr/>
                <p:nvPr/>
              </p:nvSpPr>
              <p:spPr>
                <a:xfrm>
                  <a:off x="7657920" y="1290600"/>
                  <a:ext cx="436680" cy="460080"/>
                </a:xfrm>
                <a:custGeom>
                  <a:avLst/>
                  <a:gdLst/>
                  <a:ahLst/>
                  <a:rect l="l" t="t" r="r" b="b"/>
                  <a:pathLst>
                    <a:path w="825" h="870">
                      <a:moveTo>
                        <a:pt x="618" y="104"/>
                      </a:moveTo>
                      <a:lnTo>
                        <a:pt x="632" y="141"/>
                      </a:lnTo>
                      <a:lnTo>
                        <a:pt x="659" y="197"/>
                      </a:lnTo>
                      <a:lnTo>
                        <a:pt x="708" y="286"/>
                      </a:lnTo>
                      <a:lnTo>
                        <a:pt x="729" y="296"/>
                      </a:lnTo>
                      <a:lnTo>
                        <a:pt x="739" y="324"/>
                      </a:lnTo>
                      <a:lnTo>
                        <a:pt x="780" y="322"/>
                      </a:lnTo>
                      <a:lnTo>
                        <a:pt x="807" y="314"/>
                      </a:lnTo>
                      <a:lnTo>
                        <a:pt x="825" y="314"/>
                      </a:lnTo>
                      <a:lnTo>
                        <a:pt x="823" y="347"/>
                      </a:lnTo>
                      <a:lnTo>
                        <a:pt x="820" y="367"/>
                      </a:lnTo>
                      <a:lnTo>
                        <a:pt x="745" y="444"/>
                      </a:lnTo>
                      <a:lnTo>
                        <a:pt x="677" y="525"/>
                      </a:lnTo>
                      <a:lnTo>
                        <a:pt x="677" y="557"/>
                      </a:lnTo>
                      <a:lnTo>
                        <a:pt x="698" y="580"/>
                      </a:lnTo>
                      <a:lnTo>
                        <a:pt x="687" y="596"/>
                      </a:lnTo>
                      <a:lnTo>
                        <a:pt x="694" y="621"/>
                      </a:lnTo>
                      <a:lnTo>
                        <a:pt x="687" y="638"/>
                      </a:lnTo>
                      <a:lnTo>
                        <a:pt x="672" y="652"/>
                      </a:lnTo>
                      <a:lnTo>
                        <a:pt x="659" y="652"/>
                      </a:lnTo>
                      <a:lnTo>
                        <a:pt x="636" y="678"/>
                      </a:lnTo>
                      <a:lnTo>
                        <a:pt x="614" y="709"/>
                      </a:lnTo>
                      <a:lnTo>
                        <a:pt x="618" y="740"/>
                      </a:lnTo>
                      <a:lnTo>
                        <a:pt x="599" y="755"/>
                      </a:lnTo>
                      <a:lnTo>
                        <a:pt x="578" y="788"/>
                      </a:lnTo>
                      <a:lnTo>
                        <a:pt x="556" y="821"/>
                      </a:lnTo>
                      <a:lnTo>
                        <a:pt x="543" y="831"/>
                      </a:lnTo>
                      <a:lnTo>
                        <a:pt x="534" y="834"/>
                      </a:lnTo>
                      <a:lnTo>
                        <a:pt x="515" y="856"/>
                      </a:lnTo>
                      <a:lnTo>
                        <a:pt x="483" y="867"/>
                      </a:lnTo>
                      <a:lnTo>
                        <a:pt x="444" y="870"/>
                      </a:lnTo>
                      <a:lnTo>
                        <a:pt x="424" y="856"/>
                      </a:lnTo>
                      <a:lnTo>
                        <a:pt x="418" y="843"/>
                      </a:lnTo>
                      <a:lnTo>
                        <a:pt x="415" y="824"/>
                      </a:lnTo>
                      <a:lnTo>
                        <a:pt x="402" y="816"/>
                      </a:lnTo>
                      <a:lnTo>
                        <a:pt x="387" y="783"/>
                      </a:lnTo>
                      <a:lnTo>
                        <a:pt x="384" y="766"/>
                      </a:lnTo>
                      <a:lnTo>
                        <a:pt x="382" y="745"/>
                      </a:lnTo>
                      <a:lnTo>
                        <a:pt x="376" y="731"/>
                      </a:lnTo>
                      <a:lnTo>
                        <a:pt x="376" y="723"/>
                      </a:lnTo>
                      <a:lnTo>
                        <a:pt x="363" y="708"/>
                      </a:lnTo>
                      <a:lnTo>
                        <a:pt x="349" y="695"/>
                      </a:lnTo>
                      <a:lnTo>
                        <a:pt x="339" y="674"/>
                      </a:lnTo>
                      <a:lnTo>
                        <a:pt x="334" y="660"/>
                      </a:lnTo>
                      <a:lnTo>
                        <a:pt x="337" y="636"/>
                      </a:lnTo>
                      <a:lnTo>
                        <a:pt x="354" y="601"/>
                      </a:lnTo>
                      <a:lnTo>
                        <a:pt x="359" y="560"/>
                      </a:lnTo>
                      <a:lnTo>
                        <a:pt x="346" y="516"/>
                      </a:lnTo>
                      <a:lnTo>
                        <a:pt x="323" y="499"/>
                      </a:lnTo>
                      <a:lnTo>
                        <a:pt x="308" y="473"/>
                      </a:lnTo>
                      <a:lnTo>
                        <a:pt x="315" y="435"/>
                      </a:lnTo>
                      <a:lnTo>
                        <a:pt x="305" y="409"/>
                      </a:lnTo>
                      <a:lnTo>
                        <a:pt x="278" y="406"/>
                      </a:lnTo>
                      <a:lnTo>
                        <a:pt x="251" y="383"/>
                      </a:lnTo>
                      <a:lnTo>
                        <a:pt x="216" y="373"/>
                      </a:lnTo>
                      <a:lnTo>
                        <a:pt x="180" y="391"/>
                      </a:lnTo>
                      <a:lnTo>
                        <a:pt x="89" y="386"/>
                      </a:lnTo>
                      <a:lnTo>
                        <a:pt x="41" y="338"/>
                      </a:lnTo>
                      <a:lnTo>
                        <a:pt x="0" y="278"/>
                      </a:lnTo>
                      <a:lnTo>
                        <a:pt x="7" y="255"/>
                      </a:lnTo>
                      <a:lnTo>
                        <a:pt x="26" y="235"/>
                      </a:lnTo>
                      <a:lnTo>
                        <a:pt x="31" y="193"/>
                      </a:lnTo>
                      <a:lnTo>
                        <a:pt x="46" y="162"/>
                      </a:lnTo>
                      <a:lnTo>
                        <a:pt x="81" y="127"/>
                      </a:lnTo>
                      <a:lnTo>
                        <a:pt x="117" y="111"/>
                      </a:lnTo>
                      <a:lnTo>
                        <a:pt x="152" y="76"/>
                      </a:lnTo>
                      <a:lnTo>
                        <a:pt x="158" y="61"/>
                      </a:lnTo>
                      <a:lnTo>
                        <a:pt x="203" y="23"/>
                      </a:lnTo>
                      <a:lnTo>
                        <a:pt x="231" y="39"/>
                      </a:lnTo>
                      <a:lnTo>
                        <a:pt x="251" y="39"/>
                      </a:lnTo>
                      <a:lnTo>
                        <a:pt x="277" y="16"/>
                      </a:lnTo>
                      <a:lnTo>
                        <a:pt x="305" y="14"/>
                      </a:lnTo>
                      <a:lnTo>
                        <a:pt x="323" y="19"/>
                      </a:lnTo>
                      <a:lnTo>
                        <a:pt x="341" y="3"/>
                      </a:lnTo>
                      <a:lnTo>
                        <a:pt x="364" y="0"/>
                      </a:lnTo>
                      <a:lnTo>
                        <a:pt x="371" y="28"/>
                      </a:lnTo>
                      <a:lnTo>
                        <a:pt x="384" y="50"/>
                      </a:lnTo>
                      <a:lnTo>
                        <a:pt x="429" y="72"/>
                      </a:lnTo>
                      <a:lnTo>
                        <a:pt x="463" y="77"/>
                      </a:lnTo>
                      <a:lnTo>
                        <a:pt x="465" y="54"/>
                      </a:lnTo>
                      <a:lnTo>
                        <a:pt x="492" y="54"/>
                      </a:lnTo>
                      <a:lnTo>
                        <a:pt x="525" y="67"/>
                      </a:lnTo>
                      <a:lnTo>
                        <a:pt x="560" y="76"/>
                      </a:lnTo>
                      <a:lnTo>
                        <a:pt x="591" y="67"/>
                      </a:lnTo>
                      <a:lnTo>
                        <a:pt x="618" y="10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" name=""/>
                <p:cNvGrpSpPr/>
                <p:nvPr/>
              </p:nvGrpSpPr>
              <p:grpSpPr>
                <a:xfrm>
                  <a:off x="7688160" y="1042920"/>
                  <a:ext cx="191880" cy="156960"/>
                  <a:chOff x="7688160" y="1042920"/>
                  <a:chExt cx="191880" cy="156960"/>
                </a:xfrm>
              </p:grpSpPr>
              <p:grpSp>
                <p:nvGrpSpPr>
                  <p:cNvPr id="90" name=""/>
                  <p:cNvGrpSpPr/>
                  <p:nvPr/>
                </p:nvGrpSpPr>
                <p:grpSpPr>
                  <a:xfrm>
                    <a:off x="7764120" y="1141200"/>
                    <a:ext cx="60480" cy="58680"/>
                    <a:chOff x="7764120" y="1141200"/>
                    <a:chExt cx="60480" cy="58680"/>
                  </a:xfrm>
                </p:grpSpPr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7764120" y="1161720"/>
                      <a:ext cx="2880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62">
                          <a:moveTo>
                            <a:pt x="13" y="21"/>
                          </a:moveTo>
                          <a:lnTo>
                            <a:pt x="18" y="14"/>
                          </a:lnTo>
                          <a:lnTo>
                            <a:pt x="28" y="14"/>
                          </a:lnTo>
                          <a:lnTo>
                            <a:pt x="40" y="0"/>
                          </a:lnTo>
                          <a:lnTo>
                            <a:pt x="45" y="9"/>
                          </a:lnTo>
                          <a:lnTo>
                            <a:pt x="50" y="9"/>
                          </a:lnTo>
                          <a:lnTo>
                            <a:pt x="54" y="14"/>
                          </a:lnTo>
                          <a:lnTo>
                            <a:pt x="50" y="21"/>
                          </a:lnTo>
                          <a:lnTo>
                            <a:pt x="45" y="21"/>
                          </a:lnTo>
                          <a:lnTo>
                            <a:pt x="45" y="29"/>
                          </a:lnTo>
                          <a:lnTo>
                            <a:pt x="45" y="30"/>
                          </a:lnTo>
                          <a:lnTo>
                            <a:pt x="41" y="35"/>
                          </a:lnTo>
                          <a:lnTo>
                            <a:pt x="45" y="40"/>
                          </a:lnTo>
                          <a:lnTo>
                            <a:pt x="40" y="45"/>
                          </a:lnTo>
                          <a:lnTo>
                            <a:pt x="35" y="49"/>
                          </a:lnTo>
                          <a:lnTo>
                            <a:pt x="31" y="49"/>
                          </a:lnTo>
                          <a:lnTo>
                            <a:pt x="30" y="49"/>
                          </a:lnTo>
                          <a:lnTo>
                            <a:pt x="30" y="54"/>
                          </a:lnTo>
                          <a:lnTo>
                            <a:pt x="23" y="56"/>
                          </a:lnTo>
                          <a:lnTo>
                            <a:pt x="23" y="54"/>
                          </a:lnTo>
                          <a:lnTo>
                            <a:pt x="15" y="57"/>
                          </a:lnTo>
                          <a:lnTo>
                            <a:pt x="13" y="57"/>
                          </a:lnTo>
                          <a:lnTo>
                            <a:pt x="8" y="62"/>
                          </a:lnTo>
                          <a:lnTo>
                            <a:pt x="5" y="62"/>
                          </a:lnTo>
                          <a:lnTo>
                            <a:pt x="4" y="59"/>
                          </a:lnTo>
                          <a:lnTo>
                            <a:pt x="2" y="54"/>
                          </a:lnTo>
                          <a:lnTo>
                            <a:pt x="0" y="52"/>
                          </a:lnTo>
                          <a:lnTo>
                            <a:pt x="0" y="47"/>
                          </a:lnTo>
                          <a:lnTo>
                            <a:pt x="5" y="44"/>
                          </a:lnTo>
                          <a:lnTo>
                            <a:pt x="9" y="42"/>
                          </a:lnTo>
                          <a:lnTo>
                            <a:pt x="10" y="35"/>
                          </a:lnTo>
                          <a:lnTo>
                            <a:pt x="15" y="35"/>
                          </a:lnTo>
                          <a:lnTo>
                            <a:pt x="19" y="40"/>
                          </a:lnTo>
                          <a:lnTo>
                            <a:pt x="23" y="35"/>
                          </a:lnTo>
                          <a:lnTo>
                            <a:pt x="19" y="35"/>
                          </a:lnTo>
                          <a:lnTo>
                            <a:pt x="13" y="21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7789680" y="1141200"/>
                      <a:ext cx="3492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12">
                          <a:moveTo>
                            <a:pt x="19" y="16"/>
                          </a:moveTo>
                          <a:lnTo>
                            <a:pt x="26" y="13"/>
                          </a:lnTo>
                          <a:lnTo>
                            <a:pt x="35" y="14"/>
                          </a:lnTo>
                          <a:lnTo>
                            <a:pt x="39" y="10"/>
                          </a:lnTo>
                          <a:lnTo>
                            <a:pt x="41" y="8"/>
                          </a:lnTo>
                          <a:lnTo>
                            <a:pt x="44" y="8"/>
                          </a:lnTo>
                          <a:lnTo>
                            <a:pt x="47" y="5"/>
                          </a:lnTo>
                          <a:lnTo>
                            <a:pt x="50" y="4"/>
                          </a:lnTo>
                          <a:lnTo>
                            <a:pt x="57" y="0"/>
                          </a:lnTo>
                          <a:lnTo>
                            <a:pt x="64" y="3"/>
                          </a:lnTo>
                          <a:lnTo>
                            <a:pt x="62" y="8"/>
                          </a:lnTo>
                          <a:lnTo>
                            <a:pt x="61" y="10"/>
                          </a:lnTo>
                          <a:lnTo>
                            <a:pt x="57" y="13"/>
                          </a:lnTo>
                          <a:lnTo>
                            <a:pt x="54" y="14"/>
                          </a:lnTo>
                          <a:lnTo>
                            <a:pt x="45" y="16"/>
                          </a:lnTo>
                          <a:lnTo>
                            <a:pt x="45" y="23"/>
                          </a:lnTo>
                          <a:lnTo>
                            <a:pt x="47" y="26"/>
                          </a:lnTo>
                          <a:lnTo>
                            <a:pt x="55" y="23"/>
                          </a:lnTo>
                          <a:lnTo>
                            <a:pt x="62" y="18"/>
                          </a:lnTo>
                          <a:lnTo>
                            <a:pt x="64" y="23"/>
                          </a:lnTo>
                          <a:lnTo>
                            <a:pt x="64" y="30"/>
                          </a:lnTo>
                          <a:lnTo>
                            <a:pt x="57" y="31"/>
                          </a:lnTo>
                          <a:lnTo>
                            <a:pt x="54" y="31"/>
                          </a:lnTo>
                          <a:lnTo>
                            <a:pt x="49" y="36"/>
                          </a:lnTo>
                          <a:lnTo>
                            <a:pt x="47" y="39"/>
                          </a:lnTo>
                          <a:lnTo>
                            <a:pt x="47" y="41"/>
                          </a:lnTo>
                          <a:lnTo>
                            <a:pt x="50" y="47"/>
                          </a:lnTo>
                          <a:lnTo>
                            <a:pt x="55" y="52"/>
                          </a:lnTo>
                          <a:lnTo>
                            <a:pt x="57" y="57"/>
                          </a:lnTo>
                          <a:lnTo>
                            <a:pt x="61" y="62"/>
                          </a:lnTo>
                          <a:lnTo>
                            <a:pt x="61" y="66"/>
                          </a:lnTo>
                          <a:lnTo>
                            <a:pt x="64" y="72"/>
                          </a:lnTo>
                          <a:lnTo>
                            <a:pt x="64" y="83"/>
                          </a:lnTo>
                          <a:lnTo>
                            <a:pt x="61" y="88"/>
                          </a:lnTo>
                          <a:lnTo>
                            <a:pt x="55" y="93"/>
                          </a:lnTo>
                          <a:lnTo>
                            <a:pt x="54" y="95"/>
                          </a:lnTo>
                          <a:lnTo>
                            <a:pt x="57" y="98"/>
                          </a:lnTo>
                          <a:lnTo>
                            <a:pt x="61" y="106"/>
                          </a:lnTo>
                          <a:lnTo>
                            <a:pt x="50" y="106"/>
                          </a:lnTo>
                          <a:lnTo>
                            <a:pt x="44" y="106"/>
                          </a:lnTo>
                          <a:lnTo>
                            <a:pt x="41" y="103"/>
                          </a:lnTo>
                          <a:lnTo>
                            <a:pt x="35" y="103"/>
                          </a:lnTo>
                          <a:lnTo>
                            <a:pt x="30" y="106"/>
                          </a:lnTo>
                          <a:lnTo>
                            <a:pt x="26" y="107"/>
                          </a:lnTo>
                          <a:lnTo>
                            <a:pt x="19" y="107"/>
                          </a:lnTo>
                          <a:lnTo>
                            <a:pt x="16" y="111"/>
                          </a:lnTo>
                          <a:lnTo>
                            <a:pt x="10" y="112"/>
                          </a:lnTo>
                          <a:lnTo>
                            <a:pt x="9" y="112"/>
                          </a:lnTo>
                          <a:lnTo>
                            <a:pt x="8" y="107"/>
                          </a:lnTo>
                          <a:lnTo>
                            <a:pt x="4" y="106"/>
                          </a:lnTo>
                          <a:lnTo>
                            <a:pt x="0" y="106"/>
                          </a:lnTo>
                          <a:lnTo>
                            <a:pt x="0" y="98"/>
                          </a:lnTo>
                          <a:lnTo>
                            <a:pt x="4" y="93"/>
                          </a:lnTo>
                          <a:lnTo>
                            <a:pt x="8" y="93"/>
                          </a:lnTo>
                          <a:lnTo>
                            <a:pt x="10" y="93"/>
                          </a:lnTo>
                          <a:lnTo>
                            <a:pt x="16" y="93"/>
                          </a:lnTo>
                          <a:lnTo>
                            <a:pt x="16" y="90"/>
                          </a:lnTo>
                          <a:lnTo>
                            <a:pt x="10" y="88"/>
                          </a:lnTo>
                          <a:lnTo>
                            <a:pt x="10" y="85"/>
                          </a:lnTo>
                          <a:lnTo>
                            <a:pt x="10" y="81"/>
                          </a:lnTo>
                          <a:lnTo>
                            <a:pt x="16" y="81"/>
                          </a:lnTo>
                          <a:lnTo>
                            <a:pt x="18" y="76"/>
                          </a:lnTo>
                          <a:lnTo>
                            <a:pt x="21" y="76"/>
                          </a:lnTo>
                          <a:lnTo>
                            <a:pt x="26" y="76"/>
                          </a:lnTo>
                          <a:lnTo>
                            <a:pt x="30" y="75"/>
                          </a:lnTo>
                          <a:lnTo>
                            <a:pt x="30" y="62"/>
                          </a:lnTo>
                          <a:lnTo>
                            <a:pt x="32" y="57"/>
                          </a:lnTo>
                          <a:lnTo>
                            <a:pt x="32" y="52"/>
                          </a:lnTo>
                          <a:lnTo>
                            <a:pt x="26" y="50"/>
                          </a:lnTo>
                          <a:lnTo>
                            <a:pt x="27" y="44"/>
                          </a:lnTo>
                          <a:lnTo>
                            <a:pt x="19" y="40"/>
                          </a:lnTo>
                          <a:lnTo>
                            <a:pt x="14" y="40"/>
                          </a:lnTo>
                          <a:lnTo>
                            <a:pt x="21" y="31"/>
                          </a:lnTo>
                          <a:lnTo>
                            <a:pt x="19" y="16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3" name=""/>
                  <p:cNvSpPr/>
                  <p:nvPr/>
                </p:nvSpPr>
                <p:spPr>
                  <a:xfrm>
                    <a:off x="7688160" y="1042920"/>
                    <a:ext cx="19188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187">
                        <a:moveTo>
                          <a:pt x="0" y="187"/>
                        </a:moveTo>
                        <a:lnTo>
                          <a:pt x="24" y="180"/>
                        </a:lnTo>
                        <a:lnTo>
                          <a:pt x="29" y="175"/>
                        </a:lnTo>
                        <a:lnTo>
                          <a:pt x="36" y="167"/>
                        </a:lnTo>
                        <a:lnTo>
                          <a:pt x="37" y="164"/>
                        </a:lnTo>
                        <a:lnTo>
                          <a:pt x="45" y="164"/>
                        </a:lnTo>
                        <a:lnTo>
                          <a:pt x="50" y="161"/>
                        </a:lnTo>
                        <a:lnTo>
                          <a:pt x="55" y="161"/>
                        </a:lnTo>
                        <a:lnTo>
                          <a:pt x="60" y="161"/>
                        </a:lnTo>
                        <a:lnTo>
                          <a:pt x="63" y="161"/>
                        </a:lnTo>
                        <a:lnTo>
                          <a:pt x="67" y="161"/>
                        </a:lnTo>
                        <a:lnTo>
                          <a:pt x="73" y="156"/>
                        </a:lnTo>
                        <a:lnTo>
                          <a:pt x="77" y="152"/>
                        </a:lnTo>
                        <a:lnTo>
                          <a:pt x="82" y="147"/>
                        </a:lnTo>
                        <a:lnTo>
                          <a:pt x="87" y="147"/>
                        </a:lnTo>
                        <a:lnTo>
                          <a:pt x="92" y="142"/>
                        </a:lnTo>
                        <a:lnTo>
                          <a:pt x="98" y="139"/>
                        </a:lnTo>
                        <a:lnTo>
                          <a:pt x="101" y="139"/>
                        </a:lnTo>
                        <a:lnTo>
                          <a:pt x="108" y="136"/>
                        </a:lnTo>
                        <a:lnTo>
                          <a:pt x="113" y="133"/>
                        </a:lnTo>
                        <a:lnTo>
                          <a:pt x="118" y="129"/>
                        </a:lnTo>
                        <a:lnTo>
                          <a:pt x="126" y="131"/>
                        </a:lnTo>
                        <a:lnTo>
                          <a:pt x="136" y="133"/>
                        </a:lnTo>
                        <a:lnTo>
                          <a:pt x="148" y="133"/>
                        </a:lnTo>
                        <a:lnTo>
                          <a:pt x="159" y="129"/>
                        </a:lnTo>
                        <a:lnTo>
                          <a:pt x="167" y="127"/>
                        </a:lnTo>
                        <a:lnTo>
                          <a:pt x="170" y="121"/>
                        </a:lnTo>
                        <a:lnTo>
                          <a:pt x="174" y="116"/>
                        </a:lnTo>
                        <a:lnTo>
                          <a:pt x="184" y="107"/>
                        </a:lnTo>
                        <a:lnTo>
                          <a:pt x="189" y="105"/>
                        </a:lnTo>
                        <a:lnTo>
                          <a:pt x="189" y="98"/>
                        </a:lnTo>
                        <a:lnTo>
                          <a:pt x="194" y="95"/>
                        </a:lnTo>
                        <a:lnTo>
                          <a:pt x="199" y="91"/>
                        </a:lnTo>
                        <a:lnTo>
                          <a:pt x="202" y="88"/>
                        </a:lnTo>
                        <a:lnTo>
                          <a:pt x="204" y="86"/>
                        </a:lnTo>
                        <a:lnTo>
                          <a:pt x="220" y="77"/>
                        </a:lnTo>
                        <a:lnTo>
                          <a:pt x="220" y="86"/>
                        </a:lnTo>
                        <a:lnTo>
                          <a:pt x="215" y="90"/>
                        </a:lnTo>
                        <a:lnTo>
                          <a:pt x="220" y="93"/>
                        </a:lnTo>
                        <a:lnTo>
                          <a:pt x="226" y="95"/>
                        </a:lnTo>
                        <a:lnTo>
                          <a:pt x="233" y="95"/>
                        </a:lnTo>
                        <a:lnTo>
                          <a:pt x="238" y="91"/>
                        </a:lnTo>
                        <a:lnTo>
                          <a:pt x="243" y="86"/>
                        </a:lnTo>
                        <a:lnTo>
                          <a:pt x="243" y="81"/>
                        </a:lnTo>
                        <a:lnTo>
                          <a:pt x="248" y="77"/>
                        </a:lnTo>
                        <a:lnTo>
                          <a:pt x="248" y="72"/>
                        </a:lnTo>
                        <a:lnTo>
                          <a:pt x="251" y="69"/>
                        </a:lnTo>
                        <a:lnTo>
                          <a:pt x="255" y="66"/>
                        </a:lnTo>
                        <a:lnTo>
                          <a:pt x="260" y="66"/>
                        </a:lnTo>
                        <a:lnTo>
                          <a:pt x="271" y="66"/>
                        </a:lnTo>
                        <a:lnTo>
                          <a:pt x="284" y="60"/>
                        </a:lnTo>
                        <a:lnTo>
                          <a:pt x="294" y="52"/>
                        </a:lnTo>
                        <a:lnTo>
                          <a:pt x="302" y="49"/>
                        </a:lnTo>
                        <a:lnTo>
                          <a:pt x="315" y="44"/>
                        </a:lnTo>
                        <a:lnTo>
                          <a:pt x="320" y="32"/>
                        </a:lnTo>
                        <a:lnTo>
                          <a:pt x="336" y="19"/>
                        </a:lnTo>
                        <a:lnTo>
                          <a:pt x="346" y="14"/>
                        </a:lnTo>
                        <a:lnTo>
                          <a:pt x="352" y="9"/>
                        </a:lnTo>
                        <a:lnTo>
                          <a:pt x="365" y="1"/>
                        </a:lnTo>
                        <a:lnTo>
                          <a:pt x="347" y="0"/>
                        </a:lnTo>
                        <a:lnTo>
                          <a:pt x="330" y="0"/>
                        </a:lnTo>
                        <a:lnTo>
                          <a:pt x="316" y="4"/>
                        </a:lnTo>
                        <a:lnTo>
                          <a:pt x="307" y="9"/>
                        </a:lnTo>
                        <a:lnTo>
                          <a:pt x="294" y="13"/>
                        </a:lnTo>
                        <a:lnTo>
                          <a:pt x="280" y="13"/>
                        </a:lnTo>
                        <a:lnTo>
                          <a:pt x="270" y="16"/>
                        </a:lnTo>
                        <a:lnTo>
                          <a:pt x="255" y="21"/>
                        </a:lnTo>
                        <a:lnTo>
                          <a:pt x="243" y="24"/>
                        </a:lnTo>
                        <a:lnTo>
                          <a:pt x="233" y="31"/>
                        </a:lnTo>
                        <a:lnTo>
                          <a:pt x="220" y="35"/>
                        </a:lnTo>
                        <a:lnTo>
                          <a:pt x="204" y="36"/>
                        </a:lnTo>
                        <a:lnTo>
                          <a:pt x="193" y="44"/>
                        </a:lnTo>
                        <a:lnTo>
                          <a:pt x="182" y="49"/>
                        </a:lnTo>
                        <a:lnTo>
                          <a:pt x="174" y="57"/>
                        </a:lnTo>
                        <a:lnTo>
                          <a:pt x="167" y="62"/>
                        </a:lnTo>
                        <a:lnTo>
                          <a:pt x="159" y="66"/>
                        </a:lnTo>
                        <a:lnTo>
                          <a:pt x="144" y="72"/>
                        </a:lnTo>
                        <a:lnTo>
                          <a:pt x="131" y="81"/>
                        </a:lnTo>
                        <a:lnTo>
                          <a:pt x="113" y="91"/>
                        </a:lnTo>
                        <a:lnTo>
                          <a:pt x="98" y="103"/>
                        </a:lnTo>
                        <a:lnTo>
                          <a:pt x="86" y="112"/>
                        </a:lnTo>
                        <a:lnTo>
                          <a:pt x="76" y="119"/>
                        </a:lnTo>
                        <a:lnTo>
                          <a:pt x="63" y="129"/>
                        </a:lnTo>
                        <a:lnTo>
                          <a:pt x="55" y="138"/>
                        </a:lnTo>
                        <a:lnTo>
                          <a:pt x="45" y="147"/>
                        </a:lnTo>
                        <a:lnTo>
                          <a:pt x="32" y="152"/>
                        </a:lnTo>
                        <a:lnTo>
                          <a:pt x="24" y="157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4" name=""/>
                <p:cNvSpPr/>
                <p:nvPr/>
              </p:nvSpPr>
              <p:spPr>
                <a:xfrm>
                  <a:off x="8029440" y="1603080"/>
                  <a:ext cx="56880" cy="100080"/>
                </a:xfrm>
                <a:custGeom>
                  <a:avLst/>
                  <a:gdLst/>
                  <a:ahLst/>
                  <a:rect l="l" t="t" r="r" b="b"/>
                  <a:pathLst>
                    <a:path w="108" h="187">
                      <a:moveTo>
                        <a:pt x="21" y="59"/>
                      </a:moveTo>
                      <a:lnTo>
                        <a:pt x="19" y="97"/>
                      </a:lnTo>
                      <a:lnTo>
                        <a:pt x="9" y="120"/>
                      </a:lnTo>
                      <a:lnTo>
                        <a:pt x="0" y="142"/>
                      </a:lnTo>
                      <a:lnTo>
                        <a:pt x="0" y="157"/>
                      </a:lnTo>
                      <a:lnTo>
                        <a:pt x="4" y="169"/>
                      </a:lnTo>
                      <a:lnTo>
                        <a:pt x="14" y="182"/>
                      </a:lnTo>
                      <a:lnTo>
                        <a:pt x="21" y="183"/>
                      </a:lnTo>
                      <a:lnTo>
                        <a:pt x="27" y="183"/>
                      </a:lnTo>
                      <a:lnTo>
                        <a:pt x="35" y="187"/>
                      </a:lnTo>
                      <a:lnTo>
                        <a:pt x="41" y="177"/>
                      </a:lnTo>
                      <a:lnTo>
                        <a:pt x="45" y="151"/>
                      </a:lnTo>
                      <a:lnTo>
                        <a:pt x="57" y="137"/>
                      </a:lnTo>
                      <a:lnTo>
                        <a:pt x="58" y="111"/>
                      </a:lnTo>
                      <a:lnTo>
                        <a:pt x="63" y="102"/>
                      </a:lnTo>
                      <a:lnTo>
                        <a:pt x="71" y="94"/>
                      </a:lnTo>
                      <a:lnTo>
                        <a:pt x="75" y="76"/>
                      </a:lnTo>
                      <a:lnTo>
                        <a:pt x="83" y="67"/>
                      </a:lnTo>
                      <a:lnTo>
                        <a:pt x="86" y="57"/>
                      </a:lnTo>
                      <a:lnTo>
                        <a:pt x="93" y="52"/>
                      </a:lnTo>
                      <a:lnTo>
                        <a:pt x="93" y="49"/>
                      </a:lnTo>
                      <a:lnTo>
                        <a:pt x="106" y="39"/>
                      </a:lnTo>
                      <a:lnTo>
                        <a:pt x="107" y="23"/>
                      </a:lnTo>
                      <a:lnTo>
                        <a:pt x="108" y="14"/>
                      </a:lnTo>
                      <a:lnTo>
                        <a:pt x="97" y="11"/>
                      </a:lnTo>
                      <a:lnTo>
                        <a:pt x="92" y="0"/>
                      </a:lnTo>
                      <a:lnTo>
                        <a:pt x="83" y="11"/>
                      </a:lnTo>
                      <a:lnTo>
                        <a:pt x="75" y="25"/>
                      </a:lnTo>
                      <a:lnTo>
                        <a:pt x="63" y="36"/>
                      </a:lnTo>
                      <a:lnTo>
                        <a:pt x="57" y="48"/>
                      </a:lnTo>
                      <a:lnTo>
                        <a:pt x="52" y="48"/>
                      </a:lnTo>
                      <a:lnTo>
                        <a:pt x="45" y="52"/>
                      </a:lnTo>
                      <a:lnTo>
                        <a:pt x="41" y="57"/>
                      </a:lnTo>
                      <a:lnTo>
                        <a:pt x="21" y="59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752960" y="1052280"/>
                  <a:ext cx="784440" cy="459000"/>
                </a:xfrm>
                <a:custGeom>
                  <a:avLst/>
                  <a:gdLst/>
                  <a:ahLst/>
                  <a:rect l="l" t="t" r="r" b="b"/>
                  <a:pathLst>
                    <a:path w="1483" h="867">
                      <a:moveTo>
                        <a:pt x="0" y="388"/>
                      </a:moveTo>
                      <a:lnTo>
                        <a:pt x="16" y="377"/>
                      </a:lnTo>
                      <a:lnTo>
                        <a:pt x="23" y="368"/>
                      </a:lnTo>
                      <a:lnTo>
                        <a:pt x="42" y="368"/>
                      </a:lnTo>
                      <a:lnTo>
                        <a:pt x="59" y="370"/>
                      </a:lnTo>
                      <a:lnTo>
                        <a:pt x="75" y="363"/>
                      </a:lnTo>
                      <a:lnTo>
                        <a:pt x="87" y="361"/>
                      </a:lnTo>
                      <a:lnTo>
                        <a:pt x="89" y="346"/>
                      </a:lnTo>
                      <a:lnTo>
                        <a:pt x="98" y="337"/>
                      </a:lnTo>
                      <a:lnTo>
                        <a:pt x="79" y="324"/>
                      </a:lnTo>
                      <a:lnTo>
                        <a:pt x="75" y="315"/>
                      </a:lnTo>
                      <a:lnTo>
                        <a:pt x="76" y="301"/>
                      </a:lnTo>
                      <a:lnTo>
                        <a:pt x="90" y="301"/>
                      </a:lnTo>
                      <a:lnTo>
                        <a:pt x="101" y="299"/>
                      </a:lnTo>
                      <a:lnTo>
                        <a:pt x="102" y="301"/>
                      </a:lnTo>
                      <a:lnTo>
                        <a:pt x="112" y="292"/>
                      </a:lnTo>
                      <a:lnTo>
                        <a:pt x="125" y="289"/>
                      </a:lnTo>
                      <a:lnTo>
                        <a:pt x="128" y="289"/>
                      </a:lnTo>
                      <a:lnTo>
                        <a:pt x="135" y="280"/>
                      </a:lnTo>
                      <a:lnTo>
                        <a:pt x="142" y="279"/>
                      </a:lnTo>
                      <a:lnTo>
                        <a:pt x="148" y="263"/>
                      </a:lnTo>
                      <a:lnTo>
                        <a:pt x="157" y="266"/>
                      </a:lnTo>
                      <a:lnTo>
                        <a:pt x="168" y="258"/>
                      </a:lnTo>
                      <a:lnTo>
                        <a:pt x="179" y="249"/>
                      </a:lnTo>
                      <a:lnTo>
                        <a:pt x="191" y="244"/>
                      </a:lnTo>
                      <a:lnTo>
                        <a:pt x="201" y="244"/>
                      </a:lnTo>
                      <a:lnTo>
                        <a:pt x="207" y="244"/>
                      </a:lnTo>
                      <a:lnTo>
                        <a:pt x="202" y="230"/>
                      </a:lnTo>
                      <a:lnTo>
                        <a:pt x="199" y="222"/>
                      </a:lnTo>
                      <a:lnTo>
                        <a:pt x="196" y="198"/>
                      </a:lnTo>
                      <a:lnTo>
                        <a:pt x="213" y="195"/>
                      </a:lnTo>
                      <a:lnTo>
                        <a:pt x="222" y="194"/>
                      </a:lnTo>
                      <a:lnTo>
                        <a:pt x="218" y="203"/>
                      </a:lnTo>
                      <a:lnTo>
                        <a:pt x="224" y="208"/>
                      </a:lnTo>
                      <a:lnTo>
                        <a:pt x="229" y="218"/>
                      </a:lnTo>
                      <a:lnTo>
                        <a:pt x="233" y="223"/>
                      </a:lnTo>
                      <a:lnTo>
                        <a:pt x="252" y="222"/>
                      </a:lnTo>
                      <a:lnTo>
                        <a:pt x="271" y="200"/>
                      </a:lnTo>
                      <a:lnTo>
                        <a:pt x="283" y="193"/>
                      </a:lnTo>
                      <a:lnTo>
                        <a:pt x="289" y="184"/>
                      </a:lnTo>
                      <a:lnTo>
                        <a:pt x="295" y="177"/>
                      </a:lnTo>
                      <a:lnTo>
                        <a:pt x="305" y="164"/>
                      </a:lnTo>
                      <a:lnTo>
                        <a:pt x="311" y="171"/>
                      </a:lnTo>
                      <a:lnTo>
                        <a:pt x="311" y="163"/>
                      </a:lnTo>
                      <a:lnTo>
                        <a:pt x="316" y="162"/>
                      </a:lnTo>
                      <a:lnTo>
                        <a:pt x="326" y="162"/>
                      </a:lnTo>
                      <a:lnTo>
                        <a:pt x="347" y="178"/>
                      </a:lnTo>
                      <a:lnTo>
                        <a:pt x="344" y="131"/>
                      </a:lnTo>
                      <a:lnTo>
                        <a:pt x="326" y="151"/>
                      </a:lnTo>
                      <a:lnTo>
                        <a:pt x="312" y="151"/>
                      </a:lnTo>
                      <a:lnTo>
                        <a:pt x="309" y="140"/>
                      </a:lnTo>
                      <a:lnTo>
                        <a:pt x="309" y="131"/>
                      </a:lnTo>
                      <a:lnTo>
                        <a:pt x="305" y="126"/>
                      </a:lnTo>
                      <a:lnTo>
                        <a:pt x="316" y="117"/>
                      </a:lnTo>
                      <a:lnTo>
                        <a:pt x="321" y="108"/>
                      </a:lnTo>
                      <a:lnTo>
                        <a:pt x="330" y="106"/>
                      </a:lnTo>
                      <a:lnTo>
                        <a:pt x="335" y="105"/>
                      </a:lnTo>
                      <a:lnTo>
                        <a:pt x="339" y="96"/>
                      </a:lnTo>
                      <a:lnTo>
                        <a:pt x="344" y="96"/>
                      </a:lnTo>
                      <a:lnTo>
                        <a:pt x="350" y="96"/>
                      </a:lnTo>
                      <a:lnTo>
                        <a:pt x="339" y="84"/>
                      </a:lnTo>
                      <a:lnTo>
                        <a:pt x="326" y="87"/>
                      </a:lnTo>
                      <a:lnTo>
                        <a:pt x="319" y="87"/>
                      </a:lnTo>
                      <a:lnTo>
                        <a:pt x="311" y="82"/>
                      </a:lnTo>
                      <a:lnTo>
                        <a:pt x="311" y="89"/>
                      </a:lnTo>
                      <a:lnTo>
                        <a:pt x="305" y="100"/>
                      </a:lnTo>
                      <a:lnTo>
                        <a:pt x="295" y="111"/>
                      </a:lnTo>
                      <a:lnTo>
                        <a:pt x="285" y="117"/>
                      </a:lnTo>
                      <a:lnTo>
                        <a:pt x="280" y="117"/>
                      </a:lnTo>
                      <a:lnTo>
                        <a:pt x="276" y="126"/>
                      </a:lnTo>
                      <a:lnTo>
                        <a:pt x="276" y="131"/>
                      </a:lnTo>
                      <a:lnTo>
                        <a:pt x="271" y="136"/>
                      </a:lnTo>
                      <a:lnTo>
                        <a:pt x="278" y="151"/>
                      </a:lnTo>
                      <a:lnTo>
                        <a:pt x="283" y="162"/>
                      </a:lnTo>
                      <a:lnTo>
                        <a:pt x="274" y="172"/>
                      </a:lnTo>
                      <a:lnTo>
                        <a:pt x="264" y="178"/>
                      </a:lnTo>
                      <a:lnTo>
                        <a:pt x="260" y="193"/>
                      </a:lnTo>
                      <a:lnTo>
                        <a:pt x="255" y="200"/>
                      </a:lnTo>
                      <a:lnTo>
                        <a:pt x="250" y="200"/>
                      </a:lnTo>
                      <a:lnTo>
                        <a:pt x="244" y="203"/>
                      </a:lnTo>
                      <a:lnTo>
                        <a:pt x="233" y="207"/>
                      </a:lnTo>
                      <a:lnTo>
                        <a:pt x="229" y="204"/>
                      </a:lnTo>
                      <a:lnTo>
                        <a:pt x="229" y="198"/>
                      </a:lnTo>
                      <a:lnTo>
                        <a:pt x="229" y="186"/>
                      </a:lnTo>
                      <a:lnTo>
                        <a:pt x="224" y="186"/>
                      </a:lnTo>
                      <a:lnTo>
                        <a:pt x="219" y="181"/>
                      </a:lnTo>
                      <a:lnTo>
                        <a:pt x="222" y="172"/>
                      </a:lnTo>
                      <a:lnTo>
                        <a:pt x="223" y="164"/>
                      </a:lnTo>
                      <a:lnTo>
                        <a:pt x="222" y="163"/>
                      </a:lnTo>
                      <a:lnTo>
                        <a:pt x="215" y="164"/>
                      </a:lnTo>
                      <a:lnTo>
                        <a:pt x="213" y="164"/>
                      </a:lnTo>
                      <a:lnTo>
                        <a:pt x="207" y="164"/>
                      </a:lnTo>
                      <a:lnTo>
                        <a:pt x="205" y="163"/>
                      </a:lnTo>
                      <a:lnTo>
                        <a:pt x="199" y="168"/>
                      </a:lnTo>
                      <a:lnTo>
                        <a:pt x="193" y="176"/>
                      </a:lnTo>
                      <a:lnTo>
                        <a:pt x="187" y="182"/>
                      </a:lnTo>
                      <a:lnTo>
                        <a:pt x="171" y="181"/>
                      </a:lnTo>
                      <a:lnTo>
                        <a:pt x="161" y="178"/>
                      </a:lnTo>
                      <a:lnTo>
                        <a:pt x="156" y="173"/>
                      </a:lnTo>
                      <a:lnTo>
                        <a:pt x="156" y="168"/>
                      </a:lnTo>
                      <a:lnTo>
                        <a:pt x="159" y="163"/>
                      </a:lnTo>
                      <a:lnTo>
                        <a:pt x="164" y="162"/>
                      </a:lnTo>
                      <a:lnTo>
                        <a:pt x="168" y="154"/>
                      </a:lnTo>
                      <a:lnTo>
                        <a:pt x="159" y="156"/>
                      </a:lnTo>
                      <a:lnTo>
                        <a:pt x="156" y="149"/>
                      </a:lnTo>
                      <a:lnTo>
                        <a:pt x="156" y="146"/>
                      </a:lnTo>
                      <a:lnTo>
                        <a:pt x="168" y="145"/>
                      </a:lnTo>
                      <a:lnTo>
                        <a:pt x="179" y="142"/>
                      </a:lnTo>
                      <a:lnTo>
                        <a:pt x="173" y="140"/>
                      </a:lnTo>
                      <a:lnTo>
                        <a:pt x="159" y="141"/>
                      </a:lnTo>
                      <a:lnTo>
                        <a:pt x="159" y="133"/>
                      </a:lnTo>
                      <a:lnTo>
                        <a:pt x="166" y="126"/>
                      </a:lnTo>
                      <a:lnTo>
                        <a:pt x="177" y="122"/>
                      </a:lnTo>
                      <a:lnTo>
                        <a:pt x="179" y="117"/>
                      </a:lnTo>
                      <a:lnTo>
                        <a:pt x="187" y="113"/>
                      </a:lnTo>
                      <a:lnTo>
                        <a:pt x="196" y="111"/>
                      </a:lnTo>
                      <a:lnTo>
                        <a:pt x="202" y="113"/>
                      </a:lnTo>
                      <a:lnTo>
                        <a:pt x="207" y="117"/>
                      </a:lnTo>
                      <a:lnTo>
                        <a:pt x="214" y="111"/>
                      </a:lnTo>
                      <a:lnTo>
                        <a:pt x="207" y="111"/>
                      </a:lnTo>
                      <a:lnTo>
                        <a:pt x="207" y="101"/>
                      </a:lnTo>
                      <a:lnTo>
                        <a:pt x="224" y="89"/>
                      </a:lnTo>
                      <a:lnTo>
                        <a:pt x="233" y="81"/>
                      </a:lnTo>
                      <a:lnTo>
                        <a:pt x="238" y="79"/>
                      </a:lnTo>
                      <a:lnTo>
                        <a:pt x="238" y="75"/>
                      </a:lnTo>
                      <a:lnTo>
                        <a:pt x="249" y="65"/>
                      </a:lnTo>
                      <a:lnTo>
                        <a:pt x="255" y="53"/>
                      </a:lnTo>
                      <a:lnTo>
                        <a:pt x="266" y="48"/>
                      </a:lnTo>
                      <a:lnTo>
                        <a:pt x="259" y="43"/>
                      </a:lnTo>
                      <a:lnTo>
                        <a:pt x="281" y="30"/>
                      </a:lnTo>
                      <a:lnTo>
                        <a:pt x="289" y="30"/>
                      </a:lnTo>
                      <a:lnTo>
                        <a:pt x="289" y="24"/>
                      </a:lnTo>
                      <a:lnTo>
                        <a:pt x="308" y="24"/>
                      </a:lnTo>
                      <a:lnTo>
                        <a:pt x="341" y="2"/>
                      </a:lnTo>
                      <a:lnTo>
                        <a:pt x="347" y="0"/>
                      </a:lnTo>
                      <a:lnTo>
                        <a:pt x="341" y="16"/>
                      </a:lnTo>
                      <a:lnTo>
                        <a:pt x="349" y="7"/>
                      </a:lnTo>
                      <a:lnTo>
                        <a:pt x="359" y="5"/>
                      </a:lnTo>
                      <a:lnTo>
                        <a:pt x="356" y="12"/>
                      </a:lnTo>
                      <a:lnTo>
                        <a:pt x="385" y="3"/>
                      </a:lnTo>
                      <a:lnTo>
                        <a:pt x="398" y="8"/>
                      </a:lnTo>
                      <a:lnTo>
                        <a:pt x="378" y="19"/>
                      </a:lnTo>
                      <a:lnTo>
                        <a:pt x="385" y="24"/>
                      </a:lnTo>
                      <a:lnTo>
                        <a:pt x="412" y="24"/>
                      </a:lnTo>
                      <a:lnTo>
                        <a:pt x="452" y="36"/>
                      </a:lnTo>
                      <a:lnTo>
                        <a:pt x="448" y="50"/>
                      </a:lnTo>
                      <a:lnTo>
                        <a:pt x="433" y="61"/>
                      </a:lnTo>
                      <a:lnTo>
                        <a:pt x="408" y="66"/>
                      </a:lnTo>
                      <a:lnTo>
                        <a:pt x="403" y="82"/>
                      </a:lnTo>
                      <a:lnTo>
                        <a:pt x="406" y="96"/>
                      </a:lnTo>
                      <a:lnTo>
                        <a:pt x="412" y="100"/>
                      </a:lnTo>
                      <a:lnTo>
                        <a:pt x="412" y="106"/>
                      </a:lnTo>
                      <a:lnTo>
                        <a:pt x="416" y="108"/>
                      </a:lnTo>
                      <a:lnTo>
                        <a:pt x="423" y="111"/>
                      </a:lnTo>
                      <a:lnTo>
                        <a:pt x="424" y="118"/>
                      </a:lnTo>
                      <a:lnTo>
                        <a:pt x="431" y="127"/>
                      </a:lnTo>
                      <a:lnTo>
                        <a:pt x="431" y="133"/>
                      </a:lnTo>
                      <a:lnTo>
                        <a:pt x="439" y="133"/>
                      </a:lnTo>
                      <a:lnTo>
                        <a:pt x="443" y="136"/>
                      </a:lnTo>
                      <a:lnTo>
                        <a:pt x="448" y="140"/>
                      </a:lnTo>
                      <a:lnTo>
                        <a:pt x="453" y="133"/>
                      </a:lnTo>
                      <a:lnTo>
                        <a:pt x="457" y="126"/>
                      </a:lnTo>
                      <a:lnTo>
                        <a:pt x="461" y="123"/>
                      </a:lnTo>
                      <a:lnTo>
                        <a:pt x="466" y="123"/>
                      </a:lnTo>
                      <a:lnTo>
                        <a:pt x="474" y="117"/>
                      </a:lnTo>
                      <a:lnTo>
                        <a:pt x="474" y="110"/>
                      </a:lnTo>
                      <a:lnTo>
                        <a:pt x="479" y="105"/>
                      </a:lnTo>
                      <a:lnTo>
                        <a:pt x="479" y="101"/>
                      </a:lnTo>
                      <a:lnTo>
                        <a:pt x="495" y="96"/>
                      </a:lnTo>
                      <a:lnTo>
                        <a:pt x="509" y="91"/>
                      </a:lnTo>
                      <a:lnTo>
                        <a:pt x="526" y="87"/>
                      </a:lnTo>
                      <a:lnTo>
                        <a:pt x="546" y="89"/>
                      </a:lnTo>
                      <a:lnTo>
                        <a:pt x="568" y="89"/>
                      </a:lnTo>
                      <a:lnTo>
                        <a:pt x="600" y="89"/>
                      </a:lnTo>
                      <a:lnTo>
                        <a:pt x="607" y="56"/>
                      </a:lnTo>
                      <a:lnTo>
                        <a:pt x="626" y="59"/>
                      </a:lnTo>
                      <a:lnTo>
                        <a:pt x="640" y="84"/>
                      </a:lnTo>
                      <a:lnTo>
                        <a:pt x="641" y="61"/>
                      </a:lnTo>
                      <a:lnTo>
                        <a:pt x="702" y="3"/>
                      </a:lnTo>
                      <a:lnTo>
                        <a:pt x="728" y="3"/>
                      </a:lnTo>
                      <a:lnTo>
                        <a:pt x="750" y="16"/>
                      </a:lnTo>
                      <a:lnTo>
                        <a:pt x="778" y="15"/>
                      </a:lnTo>
                      <a:lnTo>
                        <a:pt x="815" y="36"/>
                      </a:lnTo>
                      <a:lnTo>
                        <a:pt x="860" y="48"/>
                      </a:lnTo>
                      <a:lnTo>
                        <a:pt x="890" y="46"/>
                      </a:lnTo>
                      <a:lnTo>
                        <a:pt x="931" y="59"/>
                      </a:lnTo>
                      <a:lnTo>
                        <a:pt x="963" y="59"/>
                      </a:lnTo>
                      <a:lnTo>
                        <a:pt x="981" y="50"/>
                      </a:lnTo>
                      <a:lnTo>
                        <a:pt x="1019" y="50"/>
                      </a:lnTo>
                      <a:lnTo>
                        <a:pt x="1039" y="59"/>
                      </a:lnTo>
                      <a:lnTo>
                        <a:pt x="1089" y="59"/>
                      </a:lnTo>
                      <a:lnTo>
                        <a:pt x="1132" y="79"/>
                      </a:lnTo>
                      <a:lnTo>
                        <a:pt x="1213" y="75"/>
                      </a:lnTo>
                      <a:lnTo>
                        <a:pt x="1339" y="84"/>
                      </a:lnTo>
                      <a:lnTo>
                        <a:pt x="1399" y="110"/>
                      </a:lnTo>
                      <a:lnTo>
                        <a:pt x="1452" y="123"/>
                      </a:lnTo>
                      <a:lnTo>
                        <a:pt x="1483" y="140"/>
                      </a:lnTo>
                      <a:lnTo>
                        <a:pt x="1473" y="142"/>
                      </a:lnTo>
                      <a:lnTo>
                        <a:pt x="1452" y="133"/>
                      </a:lnTo>
                      <a:lnTo>
                        <a:pt x="1399" y="127"/>
                      </a:lnTo>
                      <a:lnTo>
                        <a:pt x="1411" y="140"/>
                      </a:lnTo>
                      <a:lnTo>
                        <a:pt x="1437" y="145"/>
                      </a:lnTo>
                      <a:lnTo>
                        <a:pt x="1430" y="162"/>
                      </a:lnTo>
                      <a:lnTo>
                        <a:pt x="1404" y="173"/>
                      </a:lnTo>
                      <a:lnTo>
                        <a:pt x="1397" y="191"/>
                      </a:lnTo>
                      <a:lnTo>
                        <a:pt x="1430" y="207"/>
                      </a:lnTo>
                      <a:lnTo>
                        <a:pt x="1452" y="229"/>
                      </a:lnTo>
                      <a:lnTo>
                        <a:pt x="1465" y="258"/>
                      </a:lnTo>
                      <a:lnTo>
                        <a:pt x="1451" y="261"/>
                      </a:lnTo>
                      <a:lnTo>
                        <a:pt x="1417" y="253"/>
                      </a:lnTo>
                      <a:lnTo>
                        <a:pt x="1384" y="230"/>
                      </a:lnTo>
                      <a:lnTo>
                        <a:pt x="1370" y="218"/>
                      </a:lnTo>
                      <a:lnTo>
                        <a:pt x="1363" y="200"/>
                      </a:lnTo>
                      <a:lnTo>
                        <a:pt x="1353" y="177"/>
                      </a:lnTo>
                      <a:lnTo>
                        <a:pt x="1340" y="168"/>
                      </a:lnTo>
                      <a:lnTo>
                        <a:pt x="1327" y="168"/>
                      </a:lnTo>
                      <a:lnTo>
                        <a:pt x="1317" y="171"/>
                      </a:lnTo>
                      <a:lnTo>
                        <a:pt x="1330" y="191"/>
                      </a:lnTo>
                      <a:lnTo>
                        <a:pt x="1295" y="193"/>
                      </a:lnTo>
                      <a:lnTo>
                        <a:pt x="1282" y="182"/>
                      </a:lnTo>
                      <a:lnTo>
                        <a:pt x="1254" y="186"/>
                      </a:lnTo>
                      <a:lnTo>
                        <a:pt x="1232" y="203"/>
                      </a:lnTo>
                      <a:lnTo>
                        <a:pt x="1232" y="209"/>
                      </a:lnTo>
                      <a:lnTo>
                        <a:pt x="1242" y="225"/>
                      </a:lnTo>
                      <a:lnTo>
                        <a:pt x="1274" y="229"/>
                      </a:lnTo>
                      <a:lnTo>
                        <a:pt x="1300" y="244"/>
                      </a:lnTo>
                      <a:lnTo>
                        <a:pt x="1348" y="289"/>
                      </a:lnTo>
                      <a:lnTo>
                        <a:pt x="1366" y="319"/>
                      </a:lnTo>
                      <a:lnTo>
                        <a:pt x="1368" y="348"/>
                      </a:lnTo>
                      <a:lnTo>
                        <a:pt x="1364" y="373"/>
                      </a:lnTo>
                      <a:lnTo>
                        <a:pt x="1353" y="373"/>
                      </a:lnTo>
                      <a:lnTo>
                        <a:pt x="1340" y="365"/>
                      </a:lnTo>
                      <a:lnTo>
                        <a:pt x="1323" y="377"/>
                      </a:lnTo>
                      <a:lnTo>
                        <a:pt x="1305" y="388"/>
                      </a:lnTo>
                      <a:lnTo>
                        <a:pt x="1304" y="408"/>
                      </a:lnTo>
                      <a:lnTo>
                        <a:pt x="1322" y="428"/>
                      </a:lnTo>
                      <a:lnTo>
                        <a:pt x="1312" y="445"/>
                      </a:lnTo>
                      <a:lnTo>
                        <a:pt x="1305" y="475"/>
                      </a:lnTo>
                      <a:lnTo>
                        <a:pt x="1330" y="495"/>
                      </a:lnTo>
                      <a:lnTo>
                        <a:pt x="1354" y="499"/>
                      </a:lnTo>
                      <a:lnTo>
                        <a:pt x="1381" y="520"/>
                      </a:lnTo>
                      <a:lnTo>
                        <a:pt x="1404" y="547"/>
                      </a:lnTo>
                      <a:lnTo>
                        <a:pt x="1406" y="588"/>
                      </a:lnTo>
                      <a:lnTo>
                        <a:pt x="1399" y="607"/>
                      </a:lnTo>
                      <a:lnTo>
                        <a:pt x="1373" y="622"/>
                      </a:lnTo>
                      <a:lnTo>
                        <a:pt x="1344" y="629"/>
                      </a:lnTo>
                      <a:lnTo>
                        <a:pt x="1325" y="643"/>
                      </a:lnTo>
                      <a:lnTo>
                        <a:pt x="1313" y="638"/>
                      </a:lnTo>
                      <a:lnTo>
                        <a:pt x="1305" y="643"/>
                      </a:lnTo>
                      <a:lnTo>
                        <a:pt x="1303" y="674"/>
                      </a:lnTo>
                      <a:lnTo>
                        <a:pt x="1309" y="689"/>
                      </a:lnTo>
                      <a:lnTo>
                        <a:pt x="1339" y="708"/>
                      </a:lnTo>
                      <a:lnTo>
                        <a:pt x="1349" y="730"/>
                      </a:lnTo>
                      <a:lnTo>
                        <a:pt x="1361" y="742"/>
                      </a:lnTo>
                      <a:lnTo>
                        <a:pt x="1359" y="764"/>
                      </a:lnTo>
                      <a:lnTo>
                        <a:pt x="1339" y="779"/>
                      </a:lnTo>
                      <a:lnTo>
                        <a:pt x="1318" y="779"/>
                      </a:lnTo>
                      <a:lnTo>
                        <a:pt x="1285" y="756"/>
                      </a:lnTo>
                      <a:lnTo>
                        <a:pt x="1261" y="744"/>
                      </a:lnTo>
                      <a:lnTo>
                        <a:pt x="1254" y="741"/>
                      </a:lnTo>
                      <a:lnTo>
                        <a:pt x="1244" y="755"/>
                      </a:lnTo>
                      <a:lnTo>
                        <a:pt x="1247" y="774"/>
                      </a:lnTo>
                      <a:lnTo>
                        <a:pt x="1256" y="788"/>
                      </a:lnTo>
                      <a:lnTo>
                        <a:pt x="1259" y="810"/>
                      </a:lnTo>
                      <a:lnTo>
                        <a:pt x="1280" y="818"/>
                      </a:lnTo>
                      <a:lnTo>
                        <a:pt x="1274" y="832"/>
                      </a:lnTo>
                      <a:lnTo>
                        <a:pt x="1277" y="849"/>
                      </a:lnTo>
                      <a:lnTo>
                        <a:pt x="1282" y="867"/>
                      </a:lnTo>
                      <a:lnTo>
                        <a:pt x="1268" y="863"/>
                      </a:lnTo>
                      <a:lnTo>
                        <a:pt x="1254" y="846"/>
                      </a:lnTo>
                      <a:lnTo>
                        <a:pt x="1256" y="823"/>
                      </a:lnTo>
                      <a:lnTo>
                        <a:pt x="1249" y="817"/>
                      </a:lnTo>
                      <a:lnTo>
                        <a:pt x="1244" y="792"/>
                      </a:lnTo>
                      <a:lnTo>
                        <a:pt x="1237" y="786"/>
                      </a:lnTo>
                      <a:lnTo>
                        <a:pt x="1233" y="751"/>
                      </a:lnTo>
                      <a:lnTo>
                        <a:pt x="1224" y="730"/>
                      </a:lnTo>
                      <a:lnTo>
                        <a:pt x="1207" y="710"/>
                      </a:lnTo>
                      <a:lnTo>
                        <a:pt x="1178" y="701"/>
                      </a:lnTo>
                      <a:lnTo>
                        <a:pt x="1156" y="683"/>
                      </a:lnTo>
                      <a:lnTo>
                        <a:pt x="1147" y="670"/>
                      </a:lnTo>
                      <a:lnTo>
                        <a:pt x="1132" y="654"/>
                      </a:lnTo>
                      <a:lnTo>
                        <a:pt x="1110" y="621"/>
                      </a:lnTo>
                      <a:lnTo>
                        <a:pt x="1089" y="624"/>
                      </a:lnTo>
                      <a:lnTo>
                        <a:pt x="1061" y="639"/>
                      </a:lnTo>
                      <a:lnTo>
                        <a:pt x="1050" y="653"/>
                      </a:lnTo>
                      <a:lnTo>
                        <a:pt x="1025" y="679"/>
                      </a:lnTo>
                      <a:lnTo>
                        <a:pt x="1010" y="706"/>
                      </a:lnTo>
                      <a:lnTo>
                        <a:pt x="1002" y="715"/>
                      </a:lnTo>
                      <a:lnTo>
                        <a:pt x="1010" y="746"/>
                      </a:lnTo>
                      <a:lnTo>
                        <a:pt x="1007" y="779"/>
                      </a:lnTo>
                      <a:lnTo>
                        <a:pt x="988" y="800"/>
                      </a:lnTo>
                      <a:lnTo>
                        <a:pt x="972" y="801"/>
                      </a:lnTo>
                      <a:lnTo>
                        <a:pt x="948" y="759"/>
                      </a:lnTo>
                      <a:lnTo>
                        <a:pt x="930" y="728"/>
                      </a:lnTo>
                      <a:lnTo>
                        <a:pt x="887" y="665"/>
                      </a:lnTo>
                      <a:lnTo>
                        <a:pt x="885" y="643"/>
                      </a:lnTo>
                      <a:lnTo>
                        <a:pt x="876" y="633"/>
                      </a:lnTo>
                      <a:lnTo>
                        <a:pt x="871" y="647"/>
                      </a:lnTo>
                      <a:lnTo>
                        <a:pt x="836" y="613"/>
                      </a:lnTo>
                      <a:lnTo>
                        <a:pt x="788" y="588"/>
                      </a:lnTo>
                      <a:lnTo>
                        <a:pt x="757" y="593"/>
                      </a:lnTo>
                      <a:lnTo>
                        <a:pt x="716" y="590"/>
                      </a:lnTo>
                      <a:lnTo>
                        <a:pt x="693" y="571"/>
                      </a:lnTo>
                      <a:lnTo>
                        <a:pt x="671" y="576"/>
                      </a:lnTo>
                      <a:lnTo>
                        <a:pt x="640" y="567"/>
                      </a:lnTo>
                      <a:lnTo>
                        <a:pt x="573" y="500"/>
                      </a:lnTo>
                      <a:lnTo>
                        <a:pt x="574" y="527"/>
                      </a:lnTo>
                      <a:lnTo>
                        <a:pt x="595" y="566"/>
                      </a:lnTo>
                      <a:lnTo>
                        <a:pt x="617" y="590"/>
                      </a:lnTo>
                      <a:lnTo>
                        <a:pt x="643" y="602"/>
                      </a:lnTo>
                      <a:lnTo>
                        <a:pt x="670" y="593"/>
                      </a:lnTo>
                      <a:lnTo>
                        <a:pt x="692" y="593"/>
                      </a:lnTo>
                      <a:lnTo>
                        <a:pt x="719" y="617"/>
                      </a:lnTo>
                      <a:lnTo>
                        <a:pt x="734" y="633"/>
                      </a:lnTo>
                      <a:lnTo>
                        <a:pt x="733" y="643"/>
                      </a:lnTo>
                      <a:lnTo>
                        <a:pt x="684" y="694"/>
                      </a:lnTo>
                      <a:lnTo>
                        <a:pt x="653" y="711"/>
                      </a:lnTo>
                      <a:lnTo>
                        <a:pt x="585" y="739"/>
                      </a:lnTo>
                      <a:lnTo>
                        <a:pt x="565" y="744"/>
                      </a:lnTo>
                      <a:lnTo>
                        <a:pt x="551" y="739"/>
                      </a:lnTo>
                      <a:lnTo>
                        <a:pt x="549" y="728"/>
                      </a:lnTo>
                      <a:lnTo>
                        <a:pt x="546" y="711"/>
                      </a:lnTo>
                      <a:lnTo>
                        <a:pt x="541" y="698"/>
                      </a:lnTo>
                      <a:lnTo>
                        <a:pt x="531" y="685"/>
                      </a:lnTo>
                      <a:lnTo>
                        <a:pt x="523" y="674"/>
                      </a:lnTo>
                      <a:lnTo>
                        <a:pt x="513" y="660"/>
                      </a:lnTo>
                      <a:lnTo>
                        <a:pt x="504" y="652"/>
                      </a:lnTo>
                      <a:lnTo>
                        <a:pt x="500" y="639"/>
                      </a:lnTo>
                      <a:lnTo>
                        <a:pt x="490" y="627"/>
                      </a:lnTo>
                      <a:lnTo>
                        <a:pt x="474" y="602"/>
                      </a:lnTo>
                      <a:lnTo>
                        <a:pt x="466" y="590"/>
                      </a:lnTo>
                      <a:lnTo>
                        <a:pt x="457" y="577"/>
                      </a:lnTo>
                      <a:lnTo>
                        <a:pt x="438" y="554"/>
                      </a:lnTo>
                      <a:lnTo>
                        <a:pt x="428" y="542"/>
                      </a:lnTo>
                      <a:lnTo>
                        <a:pt x="421" y="534"/>
                      </a:lnTo>
                      <a:lnTo>
                        <a:pt x="411" y="517"/>
                      </a:lnTo>
                      <a:lnTo>
                        <a:pt x="439" y="500"/>
                      </a:lnTo>
                      <a:lnTo>
                        <a:pt x="452" y="466"/>
                      </a:lnTo>
                      <a:lnTo>
                        <a:pt x="426" y="458"/>
                      </a:lnTo>
                      <a:lnTo>
                        <a:pt x="388" y="460"/>
                      </a:lnTo>
                      <a:lnTo>
                        <a:pt x="378" y="459"/>
                      </a:lnTo>
                      <a:lnTo>
                        <a:pt x="375" y="459"/>
                      </a:lnTo>
                      <a:lnTo>
                        <a:pt x="370" y="459"/>
                      </a:lnTo>
                      <a:lnTo>
                        <a:pt x="366" y="459"/>
                      </a:lnTo>
                      <a:lnTo>
                        <a:pt x="363" y="450"/>
                      </a:lnTo>
                      <a:lnTo>
                        <a:pt x="362" y="445"/>
                      </a:lnTo>
                      <a:lnTo>
                        <a:pt x="362" y="435"/>
                      </a:lnTo>
                      <a:lnTo>
                        <a:pt x="354" y="430"/>
                      </a:lnTo>
                      <a:lnTo>
                        <a:pt x="354" y="423"/>
                      </a:lnTo>
                      <a:lnTo>
                        <a:pt x="349" y="422"/>
                      </a:lnTo>
                      <a:lnTo>
                        <a:pt x="345" y="416"/>
                      </a:lnTo>
                      <a:lnTo>
                        <a:pt x="344" y="411"/>
                      </a:lnTo>
                      <a:lnTo>
                        <a:pt x="341" y="406"/>
                      </a:lnTo>
                      <a:lnTo>
                        <a:pt x="339" y="402"/>
                      </a:lnTo>
                      <a:lnTo>
                        <a:pt x="331" y="402"/>
                      </a:lnTo>
                      <a:lnTo>
                        <a:pt x="322" y="402"/>
                      </a:lnTo>
                      <a:lnTo>
                        <a:pt x="321" y="402"/>
                      </a:lnTo>
                      <a:lnTo>
                        <a:pt x="319" y="408"/>
                      </a:lnTo>
                      <a:lnTo>
                        <a:pt x="319" y="416"/>
                      </a:lnTo>
                      <a:lnTo>
                        <a:pt x="319" y="423"/>
                      </a:lnTo>
                      <a:lnTo>
                        <a:pt x="319" y="432"/>
                      </a:lnTo>
                      <a:lnTo>
                        <a:pt x="319" y="438"/>
                      </a:lnTo>
                      <a:lnTo>
                        <a:pt x="314" y="440"/>
                      </a:lnTo>
                      <a:lnTo>
                        <a:pt x="309" y="445"/>
                      </a:lnTo>
                      <a:lnTo>
                        <a:pt x="303" y="438"/>
                      </a:lnTo>
                      <a:lnTo>
                        <a:pt x="295" y="427"/>
                      </a:lnTo>
                      <a:lnTo>
                        <a:pt x="295" y="414"/>
                      </a:lnTo>
                      <a:lnTo>
                        <a:pt x="289" y="397"/>
                      </a:lnTo>
                      <a:lnTo>
                        <a:pt x="283" y="386"/>
                      </a:lnTo>
                      <a:lnTo>
                        <a:pt x="274" y="379"/>
                      </a:lnTo>
                      <a:lnTo>
                        <a:pt x="264" y="373"/>
                      </a:lnTo>
                      <a:lnTo>
                        <a:pt x="259" y="363"/>
                      </a:lnTo>
                      <a:lnTo>
                        <a:pt x="254" y="356"/>
                      </a:lnTo>
                      <a:lnTo>
                        <a:pt x="247" y="355"/>
                      </a:lnTo>
                      <a:lnTo>
                        <a:pt x="244" y="352"/>
                      </a:lnTo>
                      <a:lnTo>
                        <a:pt x="235" y="352"/>
                      </a:lnTo>
                      <a:lnTo>
                        <a:pt x="229" y="357"/>
                      </a:lnTo>
                      <a:lnTo>
                        <a:pt x="224" y="363"/>
                      </a:lnTo>
                      <a:lnTo>
                        <a:pt x="237" y="371"/>
                      </a:lnTo>
                      <a:lnTo>
                        <a:pt x="245" y="379"/>
                      </a:lnTo>
                      <a:lnTo>
                        <a:pt x="255" y="391"/>
                      </a:lnTo>
                      <a:lnTo>
                        <a:pt x="260" y="397"/>
                      </a:lnTo>
                      <a:lnTo>
                        <a:pt x="271" y="402"/>
                      </a:lnTo>
                      <a:lnTo>
                        <a:pt x="278" y="411"/>
                      </a:lnTo>
                      <a:lnTo>
                        <a:pt x="271" y="419"/>
                      </a:lnTo>
                      <a:lnTo>
                        <a:pt x="266" y="416"/>
                      </a:lnTo>
                      <a:lnTo>
                        <a:pt x="266" y="411"/>
                      </a:lnTo>
                      <a:lnTo>
                        <a:pt x="264" y="423"/>
                      </a:lnTo>
                      <a:lnTo>
                        <a:pt x="263" y="433"/>
                      </a:lnTo>
                      <a:lnTo>
                        <a:pt x="254" y="437"/>
                      </a:lnTo>
                      <a:lnTo>
                        <a:pt x="258" y="423"/>
                      </a:lnTo>
                      <a:lnTo>
                        <a:pt x="255" y="416"/>
                      </a:lnTo>
                      <a:lnTo>
                        <a:pt x="249" y="411"/>
                      </a:lnTo>
                      <a:lnTo>
                        <a:pt x="244" y="408"/>
                      </a:lnTo>
                      <a:lnTo>
                        <a:pt x="238" y="404"/>
                      </a:lnTo>
                      <a:lnTo>
                        <a:pt x="229" y="401"/>
                      </a:lnTo>
                      <a:lnTo>
                        <a:pt x="224" y="393"/>
                      </a:lnTo>
                      <a:lnTo>
                        <a:pt x="219" y="388"/>
                      </a:lnTo>
                      <a:lnTo>
                        <a:pt x="213" y="383"/>
                      </a:lnTo>
                      <a:lnTo>
                        <a:pt x="207" y="377"/>
                      </a:lnTo>
                      <a:lnTo>
                        <a:pt x="207" y="370"/>
                      </a:lnTo>
                      <a:lnTo>
                        <a:pt x="202" y="368"/>
                      </a:lnTo>
                      <a:lnTo>
                        <a:pt x="196" y="361"/>
                      </a:lnTo>
                      <a:lnTo>
                        <a:pt x="187" y="361"/>
                      </a:lnTo>
                      <a:lnTo>
                        <a:pt x="174" y="363"/>
                      </a:lnTo>
                      <a:lnTo>
                        <a:pt x="166" y="361"/>
                      </a:lnTo>
                      <a:lnTo>
                        <a:pt x="146" y="363"/>
                      </a:lnTo>
                      <a:lnTo>
                        <a:pt x="133" y="365"/>
                      </a:lnTo>
                      <a:lnTo>
                        <a:pt x="128" y="368"/>
                      </a:lnTo>
                      <a:lnTo>
                        <a:pt x="128" y="377"/>
                      </a:lnTo>
                      <a:lnTo>
                        <a:pt x="128" y="386"/>
                      </a:lnTo>
                      <a:lnTo>
                        <a:pt x="120" y="393"/>
                      </a:lnTo>
                      <a:lnTo>
                        <a:pt x="115" y="399"/>
                      </a:lnTo>
                      <a:lnTo>
                        <a:pt x="111" y="402"/>
                      </a:lnTo>
                      <a:lnTo>
                        <a:pt x="106" y="408"/>
                      </a:lnTo>
                      <a:lnTo>
                        <a:pt x="103" y="414"/>
                      </a:lnTo>
                      <a:lnTo>
                        <a:pt x="110" y="418"/>
                      </a:lnTo>
                      <a:lnTo>
                        <a:pt x="110" y="427"/>
                      </a:lnTo>
                      <a:lnTo>
                        <a:pt x="106" y="430"/>
                      </a:lnTo>
                      <a:lnTo>
                        <a:pt x="103" y="437"/>
                      </a:lnTo>
                      <a:lnTo>
                        <a:pt x="98" y="445"/>
                      </a:lnTo>
                      <a:lnTo>
                        <a:pt x="92" y="442"/>
                      </a:lnTo>
                      <a:lnTo>
                        <a:pt x="89" y="444"/>
                      </a:lnTo>
                      <a:lnTo>
                        <a:pt x="85" y="447"/>
                      </a:lnTo>
                      <a:lnTo>
                        <a:pt x="76" y="449"/>
                      </a:lnTo>
                      <a:lnTo>
                        <a:pt x="67" y="458"/>
                      </a:lnTo>
                      <a:lnTo>
                        <a:pt x="59" y="459"/>
                      </a:lnTo>
                      <a:lnTo>
                        <a:pt x="51" y="459"/>
                      </a:lnTo>
                      <a:lnTo>
                        <a:pt x="44" y="459"/>
                      </a:lnTo>
                      <a:lnTo>
                        <a:pt x="26" y="460"/>
                      </a:lnTo>
                      <a:lnTo>
                        <a:pt x="18" y="460"/>
                      </a:lnTo>
                      <a:lnTo>
                        <a:pt x="13" y="450"/>
                      </a:lnTo>
                      <a:lnTo>
                        <a:pt x="11" y="440"/>
                      </a:lnTo>
                      <a:lnTo>
                        <a:pt x="8" y="430"/>
                      </a:lnTo>
                      <a:lnTo>
                        <a:pt x="8" y="418"/>
                      </a:lnTo>
                      <a:lnTo>
                        <a:pt x="8" y="406"/>
                      </a:lnTo>
                      <a:lnTo>
                        <a:pt x="0" y="388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838560" y="1079280"/>
                  <a:ext cx="463680" cy="397080"/>
                </a:xfrm>
                <a:custGeom>
                  <a:avLst/>
                  <a:gdLst/>
                  <a:ahLst/>
                  <a:rect l="l" t="t" r="r" b="b"/>
                  <a:pathLst>
                    <a:path w="876" h="750">
                      <a:moveTo>
                        <a:pt x="0" y="193"/>
                      </a:moveTo>
                      <a:lnTo>
                        <a:pt x="41" y="167"/>
                      </a:lnTo>
                      <a:lnTo>
                        <a:pt x="65" y="157"/>
                      </a:lnTo>
                      <a:lnTo>
                        <a:pt x="68" y="142"/>
                      </a:lnTo>
                      <a:lnTo>
                        <a:pt x="50" y="131"/>
                      </a:lnTo>
                      <a:lnTo>
                        <a:pt x="47" y="112"/>
                      </a:lnTo>
                      <a:lnTo>
                        <a:pt x="56" y="108"/>
                      </a:lnTo>
                      <a:lnTo>
                        <a:pt x="55" y="98"/>
                      </a:lnTo>
                      <a:lnTo>
                        <a:pt x="86" y="95"/>
                      </a:lnTo>
                      <a:lnTo>
                        <a:pt x="96" y="82"/>
                      </a:lnTo>
                      <a:lnTo>
                        <a:pt x="98" y="67"/>
                      </a:lnTo>
                      <a:lnTo>
                        <a:pt x="123" y="64"/>
                      </a:lnTo>
                      <a:lnTo>
                        <a:pt x="127" y="52"/>
                      </a:lnTo>
                      <a:lnTo>
                        <a:pt x="100" y="45"/>
                      </a:lnTo>
                      <a:lnTo>
                        <a:pt x="113" y="38"/>
                      </a:lnTo>
                      <a:lnTo>
                        <a:pt x="154" y="38"/>
                      </a:lnTo>
                      <a:lnTo>
                        <a:pt x="167" y="26"/>
                      </a:lnTo>
                      <a:lnTo>
                        <a:pt x="185" y="24"/>
                      </a:lnTo>
                      <a:lnTo>
                        <a:pt x="197" y="15"/>
                      </a:lnTo>
                      <a:lnTo>
                        <a:pt x="210" y="31"/>
                      </a:lnTo>
                      <a:lnTo>
                        <a:pt x="260" y="30"/>
                      </a:lnTo>
                      <a:lnTo>
                        <a:pt x="286" y="45"/>
                      </a:lnTo>
                      <a:lnTo>
                        <a:pt x="365" y="40"/>
                      </a:lnTo>
                      <a:lnTo>
                        <a:pt x="376" y="33"/>
                      </a:lnTo>
                      <a:lnTo>
                        <a:pt x="406" y="45"/>
                      </a:lnTo>
                      <a:lnTo>
                        <a:pt x="437" y="59"/>
                      </a:lnTo>
                      <a:lnTo>
                        <a:pt x="453" y="54"/>
                      </a:lnTo>
                      <a:lnTo>
                        <a:pt x="462" y="45"/>
                      </a:lnTo>
                      <a:lnTo>
                        <a:pt x="488" y="52"/>
                      </a:lnTo>
                      <a:lnTo>
                        <a:pt x="470" y="40"/>
                      </a:lnTo>
                      <a:lnTo>
                        <a:pt x="454" y="41"/>
                      </a:lnTo>
                      <a:lnTo>
                        <a:pt x="428" y="45"/>
                      </a:lnTo>
                      <a:lnTo>
                        <a:pt x="418" y="31"/>
                      </a:lnTo>
                      <a:lnTo>
                        <a:pt x="404" y="24"/>
                      </a:lnTo>
                      <a:lnTo>
                        <a:pt x="404" y="13"/>
                      </a:lnTo>
                      <a:lnTo>
                        <a:pt x="406" y="2"/>
                      </a:lnTo>
                      <a:lnTo>
                        <a:pt x="421" y="0"/>
                      </a:lnTo>
                      <a:lnTo>
                        <a:pt x="434" y="10"/>
                      </a:lnTo>
                      <a:lnTo>
                        <a:pt x="437" y="4"/>
                      </a:lnTo>
                      <a:lnTo>
                        <a:pt x="450" y="0"/>
                      </a:lnTo>
                      <a:lnTo>
                        <a:pt x="465" y="8"/>
                      </a:lnTo>
                      <a:lnTo>
                        <a:pt x="473" y="2"/>
                      </a:lnTo>
                      <a:lnTo>
                        <a:pt x="480" y="10"/>
                      </a:lnTo>
                      <a:lnTo>
                        <a:pt x="482" y="21"/>
                      </a:lnTo>
                      <a:lnTo>
                        <a:pt x="504" y="30"/>
                      </a:lnTo>
                      <a:lnTo>
                        <a:pt x="494" y="38"/>
                      </a:lnTo>
                      <a:lnTo>
                        <a:pt x="494" y="49"/>
                      </a:lnTo>
                      <a:lnTo>
                        <a:pt x="533" y="52"/>
                      </a:lnTo>
                      <a:lnTo>
                        <a:pt x="542" y="38"/>
                      </a:lnTo>
                      <a:lnTo>
                        <a:pt x="535" y="30"/>
                      </a:lnTo>
                      <a:lnTo>
                        <a:pt x="518" y="31"/>
                      </a:lnTo>
                      <a:lnTo>
                        <a:pt x="521" y="15"/>
                      </a:lnTo>
                      <a:lnTo>
                        <a:pt x="555" y="24"/>
                      </a:lnTo>
                      <a:lnTo>
                        <a:pt x="562" y="36"/>
                      </a:lnTo>
                      <a:lnTo>
                        <a:pt x="591" y="36"/>
                      </a:lnTo>
                      <a:lnTo>
                        <a:pt x="615" y="50"/>
                      </a:lnTo>
                      <a:lnTo>
                        <a:pt x="628" y="45"/>
                      </a:lnTo>
                      <a:lnTo>
                        <a:pt x="642" y="59"/>
                      </a:lnTo>
                      <a:lnTo>
                        <a:pt x="628" y="72"/>
                      </a:lnTo>
                      <a:lnTo>
                        <a:pt x="615" y="62"/>
                      </a:lnTo>
                      <a:lnTo>
                        <a:pt x="607" y="66"/>
                      </a:lnTo>
                      <a:lnTo>
                        <a:pt x="596" y="75"/>
                      </a:lnTo>
                      <a:lnTo>
                        <a:pt x="579" y="85"/>
                      </a:lnTo>
                      <a:lnTo>
                        <a:pt x="589" y="95"/>
                      </a:lnTo>
                      <a:lnTo>
                        <a:pt x="571" y="97"/>
                      </a:lnTo>
                      <a:lnTo>
                        <a:pt x="560" y="113"/>
                      </a:lnTo>
                      <a:lnTo>
                        <a:pt x="544" y="133"/>
                      </a:lnTo>
                      <a:lnTo>
                        <a:pt x="566" y="152"/>
                      </a:lnTo>
                      <a:lnTo>
                        <a:pt x="580" y="172"/>
                      </a:lnTo>
                      <a:lnTo>
                        <a:pt x="611" y="176"/>
                      </a:lnTo>
                      <a:lnTo>
                        <a:pt x="638" y="172"/>
                      </a:lnTo>
                      <a:lnTo>
                        <a:pt x="651" y="181"/>
                      </a:lnTo>
                      <a:lnTo>
                        <a:pt x="642" y="188"/>
                      </a:lnTo>
                      <a:lnTo>
                        <a:pt x="637" y="198"/>
                      </a:lnTo>
                      <a:lnTo>
                        <a:pt x="649" y="215"/>
                      </a:lnTo>
                      <a:lnTo>
                        <a:pt x="652" y="233"/>
                      </a:lnTo>
                      <a:lnTo>
                        <a:pt x="668" y="238"/>
                      </a:lnTo>
                      <a:lnTo>
                        <a:pt x="689" y="224"/>
                      </a:lnTo>
                      <a:lnTo>
                        <a:pt x="683" y="207"/>
                      </a:lnTo>
                      <a:lnTo>
                        <a:pt x="664" y="193"/>
                      </a:lnTo>
                      <a:lnTo>
                        <a:pt x="686" y="176"/>
                      </a:lnTo>
                      <a:lnTo>
                        <a:pt x="668" y="144"/>
                      </a:lnTo>
                      <a:lnTo>
                        <a:pt x="652" y="133"/>
                      </a:lnTo>
                      <a:lnTo>
                        <a:pt x="664" y="122"/>
                      </a:lnTo>
                      <a:lnTo>
                        <a:pt x="661" y="108"/>
                      </a:lnTo>
                      <a:lnTo>
                        <a:pt x="672" y="97"/>
                      </a:lnTo>
                      <a:lnTo>
                        <a:pt x="689" y="108"/>
                      </a:lnTo>
                      <a:lnTo>
                        <a:pt x="727" y="143"/>
                      </a:lnTo>
                      <a:lnTo>
                        <a:pt x="749" y="147"/>
                      </a:lnTo>
                      <a:lnTo>
                        <a:pt x="754" y="140"/>
                      </a:lnTo>
                      <a:lnTo>
                        <a:pt x="749" y="120"/>
                      </a:lnTo>
                      <a:lnTo>
                        <a:pt x="764" y="122"/>
                      </a:lnTo>
                      <a:lnTo>
                        <a:pt x="785" y="144"/>
                      </a:lnTo>
                      <a:lnTo>
                        <a:pt x="789" y="156"/>
                      </a:lnTo>
                      <a:lnTo>
                        <a:pt x="804" y="162"/>
                      </a:lnTo>
                      <a:lnTo>
                        <a:pt x="831" y="174"/>
                      </a:lnTo>
                      <a:lnTo>
                        <a:pt x="844" y="189"/>
                      </a:lnTo>
                      <a:lnTo>
                        <a:pt x="865" y="202"/>
                      </a:lnTo>
                      <a:lnTo>
                        <a:pt x="875" y="207"/>
                      </a:lnTo>
                      <a:lnTo>
                        <a:pt x="876" y="215"/>
                      </a:lnTo>
                      <a:lnTo>
                        <a:pt x="861" y="223"/>
                      </a:lnTo>
                      <a:lnTo>
                        <a:pt x="852" y="215"/>
                      </a:lnTo>
                      <a:lnTo>
                        <a:pt x="842" y="215"/>
                      </a:lnTo>
                      <a:lnTo>
                        <a:pt x="839" y="234"/>
                      </a:lnTo>
                      <a:lnTo>
                        <a:pt x="826" y="238"/>
                      </a:lnTo>
                      <a:lnTo>
                        <a:pt x="812" y="229"/>
                      </a:lnTo>
                      <a:lnTo>
                        <a:pt x="781" y="229"/>
                      </a:lnTo>
                      <a:lnTo>
                        <a:pt x="776" y="250"/>
                      </a:lnTo>
                      <a:lnTo>
                        <a:pt x="785" y="261"/>
                      </a:lnTo>
                      <a:lnTo>
                        <a:pt x="799" y="254"/>
                      </a:lnTo>
                      <a:lnTo>
                        <a:pt x="809" y="250"/>
                      </a:lnTo>
                      <a:lnTo>
                        <a:pt x="820" y="260"/>
                      </a:lnTo>
                      <a:lnTo>
                        <a:pt x="804" y="273"/>
                      </a:lnTo>
                      <a:lnTo>
                        <a:pt x="820" y="286"/>
                      </a:lnTo>
                      <a:lnTo>
                        <a:pt x="842" y="291"/>
                      </a:lnTo>
                      <a:lnTo>
                        <a:pt x="839" y="300"/>
                      </a:lnTo>
                      <a:lnTo>
                        <a:pt x="834" y="301"/>
                      </a:lnTo>
                      <a:lnTo>
                        <a:pt x="812" y="346"/>
                      </a:lnTo>
                      <a:lnTo>
                        <a:pt x="812" y="317"/>
                      </a:lnTo>
                      <a:lnTo>
                        <a:pt x="824" y="304"/>
                      </a:lnTo>
                      <a:lnTo>
                        <a:pt x="812" y="295"/>
                      </a:lnTo>
                      <a:lnTo>
                        <a:pt x="801" y="304"/>
                      </a:lnTo>
                      <a:lnTo>
                        <a:pt x="807" y="312"/>
                      </a:lnTo>
                      <a:lnTo>
                        <a:pt x="799" y="319"/>
                      </a:lnTo>
                      <a:lnTo>
                        <a:pt x="786" y="326"/>
                      </a:lnTo>
                      <a:lnTo>
                        <a:pt x="789" y="342"/>
                      </a:lnTo>
                      <a:lnTo>
                        <a:pt x="776" y="351"/>
                      </a:lnTo>
                      <a:lnTo>
                        <a:pt x="756" y="355"/>
                      </a:lnTo>
                      <a:lnTo>
                        <a:pt x="764" y="365"/>
                      </a:lnTo>
                      <a:lnTo>
                        <a:pt x="756" y="377"/>
                      </a:lnTo>
                      <a:lnTo>
                        <a:pt x="764" y="387"/>
                      </a:lnTo>
                      <a:lnTo>
                        <a:pt x="753" y="408"/>
                      </a:lnTo>
                      <a:lnTo>
                        <a:pt x="749" y="425"/>
                      </a:lnTo>
                      <a:lnTo>
                        <a:pt x="732" y="438"/>
                      </a:lnTo>
                      <a:lnTo>
                        <a:pt x="712" y="466"/>
                      </a:lnTo>
                      <a:lnTo>
                        <a:pt x="712" y="484"/>
                      </a:lnTo>
                      <a:lnTo>
                        <a:pt x="717" y="503"/>
                      </a:lnTo>
                      <a:lnTo>
                        <a:pt x="727" y="525"/>
                      </a:lnTo>
                      <a:lnTo>
                        <a:pt x="730" y="544"/>
                      </a:lnTo>
                      <a:lnTo>
                        <a:pt x="722" y="552"/>
                      </a:lnTo>
                      <a:lnTo>
                        <a:pt x="712" y="547"/>
                      </a:lnTo>
                      <a:lnTo>
                        <a:pt x="712" y="537"/>
                      </a:lnTo>
                      <a:lnTo>
                        <a:pt x="705" y="511"/>
                      </a:lnTo>
                      <a:lnTo>
                        <a:pt x="696" y="506"/>
                      </a:lnTo>
                      <a:lnTo>
                        <a:pt x="692" y="494"/>
                      </a:lnTo>
                      <a:lnTo>
                        <a:pt x="682" y="494"/>
                      </a:lnTo>
                      <a:lnTo>
                        <a:pt x="668" y="484"/>
                      </a:lnTo>
                      <a:lnTo>
                        <a:pt x="656" y="488"/>
                      </a:lnTo>
                      <a:lnTo>
                        <a:pt x="642" y="480"/>
                      </a:lnTo>
                      <a:lnTo>
                        <a:pt x="628" y="488"/>
                      </a:lnTo>
                      <a:lnTo>
                        <a:pt x="602" y="483"/>
                      </a:lnTo>
                      <a:lnTo>
                        <a:pt x="620" y="501"/>
                      </a:lnTo>
                      <a:lnTo>
                        <a:pt x="596" y="499"/>
                      </a:lnTo>
                      <a:lnTo>
                        <a:pt x="580" y="484"/>
                      </a:lnTo>
                      <a:lnTo>
                        <a:pt x="552" y="484"/>
                      </a:lnTo>
                      <a:lnTo>
                        <a:pt x="560" y="506"/>
                      </a:lnTo>
                      <a:lnTo>
                        <a:pt x="537" y="501"/>
                      </a:lnTo>
                      <a:lnTo>
                        <a:pt x="529" y="525"/>
                      </a:lnTo>
                      <a:lnTo>
                        <a:pt x="535" y="534"/>
                      </a:lnTo>
                      <a:lnTo>
                        <a:pt x="529" y="557"/>
                      </a:lnTo>
                      <a:lnTo>
                        <a:pt x="537" y="588"/>
                      </a:lnTo>
                      <a:lnTo>
                        <a:pt x="547" y="607"/>
                      </a:lnTo>
                      <a:lnTo>
                        <a:pt x="560" y="626"/>
                      </a:lnTo>
                      <a:lnTo>
                        <a:pt x="596" y="624"/>
                      </a:lnTo>
                      <a:lnTo>
                        <a:pt x="611" y="623"/>
                      </a:lnTo>
                      <a:lnTo>
                        <a:pt x="615" y="607"/>
                      </a:lnTo>
                      <a:lnTo>
                        <a:pt x="606" y="597"/>
                      </a:lnTo>
                      <a:lnTo>
                        <a:pt x="607" y="588"/>
                      </a:lnTo>
                      <a:lnTo>
                        <a:pt x="630" y="590"/>
                      </a:lnTo>
                      <a:lnTo>
                        <a:pt x="654" y="587"/>
                      </a:lnTo>
                      <a:lnTo>
                        <a:pt x="654" y="597"/>
                      </a:lnTo>
                      <a:lnTo>
                        <a:pt x="647" y="614"/>
                      </a:lnTo>
                      <a:lnTo>
                        <a:pt x="637" y="628"/>
                      </a:lnTo>
                      <a:lnTo>
                        <a:pt x="633" y="647"/>
                      </a:lnTo>
                      <a:lnTo>
                        <a:pt x="649" y="655"/>
                      </a:lnTo>
                      <a:lnTo>
                        <a:pt x="668" y="654"/>
                      </a:lnTo>
                      <a:lnTo>
                        <a:pt x="682" y="657"/>
                      </a:lnTo>
                      <a:lnTo>
                        <a:pt x="692" y="657"/>
                      </a:lnTo>
                      <a:lnTo>
                        <a:pt x="696" y="668"/>
                      </a:lnTo>
                      <a:lnTo>
                        <a:pt x="687" y="688"/>
                      </a:lnTo>
                      <a:lnTo>
                        <a:pt x="694" y="696"/>
                      </a:lnTo>
                      <a:lnTo>
                        <a:pt x="696" y="719"/>
                      </a:lnTo>
                      <a:lnTo>
                        <a:pt x="712" y="735"/>
                      </a:lnTo>
                      <a:lnTo>
                        <a:pt x="727" y="737"/>
                      </a:lnTo>
                      <a:lnTo>
                        <a:pt x="740" y="735"/>
                      </a:lnTo>
                      <a:lnTo>
                        <a:pt x="745" y="736"/>
                      </a:lnTo>
                      <a:lnTo>
                        <a:pt x="768" y="736"/>
                      </a:lnTo>
                      <a:lnTo>
                        <a:pt x="786" y="737"/>
                      </a:lnTo>
                      <a:lnTo>
                        <a:pt x="794" y="728"/>
                      </a:lnTo>
                      <a:lnTo>
                        <a:pt x="776" y="745"/>
                      </a:lnTo>
                      <a:lnTo>
                        <a:pt x="764" y="744"/>
                      </a:lnTo>
                      <a:lnTo>
                        <a:pt x="750" y="745"/>
                      </a:lnTo>
                      <a:lnTo>
                        <a:pt x="727" y="750"/>
                      </a:lnTo>
                      <a:lnTo>
                        <a:pt x="708" y="741"/>
                      </a:lnTo>
                      <a:lnTo>
                        <a:pt x="689" y="735"/>
                      </a:lnTo>
                      <a:lnTo>
                        <a:pt x="681" y="736"/>
                      </a:lnTo>
                      <a:lnTo>
                        <a:pt x="682" y="726"/>
                      </a:lnTo>
                      <a:lnTo>
                        <a:pt x="681" y="710"/>
                      </a:lnTo>
                      <a:lnTo>
                        <a:pt x="663" y="696"/>
                      </a:lnTo>
                      <a:lnTo>
                        <a:pt x="630" y="690"/>
                      </a:lnTo>
                      <a:lnTo>
                        <a:pt x="625" y="683"/>
                      </a:lnTo>
                      <a:lnTo>
                        <a:pt x="615" y="685"/>
                      </a:lnTo>
                      <a:lnTo>
                        <a:pt x="605" y="678"/>
                      </a:lnTo>
                      <a:lnTo>
                        <a:pt x="592" y="670"/>
                      </a:lnTo>
                      <a:lnTo>
                        <a:pt x="575" y="654"/>
                      </a:lnTo>
                      <a:lnTo>
                        <a:pt x="556" y="647"/>
                      </a:lnTo>
                      <a:lnTo>
                        <a:pt x="546" y="657"/>
                      </a:lnTo>
                      <a:lnTo>
                        <a:pt x="534" y="650"/>
                      </a:lnTo>
                      <a:lnTo>
                        <a:pt x="518" y="650"/>
                      </a:lnTo>
                      <a:lnTo>
                        <a:pt x="489" y="643"/>
                      </a:lnTo>
                      <a:lnTo>
                        <a:pt x="434" y="609"/>
                      </a:lnTo>
                      <a:lnTo>
                        <a:pt x="430" y="576"/>
                      </a:lnTo>
                      <a:lnTo>
                        <a:pt x="426" y="565"/>
                      </a:lnTo>
                      <a:lnTo>
                        <a:pt x="417" y="552"/>
                      </a:lnTo>
                      <a:lnTo>
                        <a:pt x="404" y="535"/>
                      </a:lnTo>
                      <a:lnTo>
                        <a:pt x="347" y="470"/>
                      </a:lnTo>
                      <a:lnTo>
                        <a:pt x="347" y="494"/>
                      </a:lnTo>
                      <a:lnTo>
                        <a:pt x="383" y="539"/>
                      </a:lnTo>
                      <a:lnTo>
                        <a:pt x="398" y="573"/>
                      </a:lnTo>
                      <a:lnTo>
                        <a:pt x="376" y="566"/>
                      </a:lnTo>
                      <a:lnTo>
                        <a:pt x="370" y="544"/>
                      </a:lnTo>
                      <a:lnTo>
                        <a:pt x="342" y="531"/>
                      </a:lnTo>
                      <a:lnTo>
                        <a:pt x="360" y="525"/>
                      </a:lnTo>
                      <a:lnTo>
                        <a:pt x="320" y="499"/>
                      </a:lnTo>
                      <a:lnTo>
                        <a:pt x="336" y="484"/>
                      </a:lnTo>
                      <a:lnTo>
                        <a:pt x="323" y="458"/>
                      </a:lnTo>
                      <a:lnTo>
                        <a:pt x="277" y="402"/>
                      </a:lnTo>
                      <a:lnTo>
                        <a:pt x="271" y="371"/>
                      </a:lnTo>
                      <a:lnTo>
                        <a:pt x="274" y="342"/>
                      </a:lnTo>
                      <a:lnTo>
                        <a:pt x="286" y="319"/>
                      </a:lnTo>
                      <a:lnTo>
                        <a:pt x="286" y="291"/>
                      </a:lnTo>
                      <a:lnTo>
                        <a:pt x="277" y="274"/>
                      </a:lnTo>
                      <a:lnTo>
                        <a:pt x="302" y="269"/>
                      </a:lnTo>
                      <a:lnTo>
                        <a:pt x="271" y="238"/>
                      </a:lnTo>
                      <a:lnTo>
                        <a:pt x="274" y="223"/>
                      </a:lnTo>
                      <a:lnTo>
                        <a:pt x="260" y="202"/>
                      </a:lnTo>
                      <a:lnTo>
                        <a:pt x="265" y="189"/>
                      </a:lnTo>
                      <a:lnTo>
                        <a:pt x="255" y="183"/>
                      </a:lnTo>
                      <a:lnTo>
                        <a:pt x="255" y="171"/>
                      </a:lnTo>
                      <a:lnTo>
                        <a:pt x="244" y="158"/>
                      </a:lnTo>
                      <a:lnTo>
                        <a:pt x="255" y="149"/>
                      </a:lnTo>
                      <a:lnTo>
                        <a:pt x="243" y="144"/>
                      </a:lnTo>
                      <a:lnTo>
                        <a:pt x="226" y="153"/>
                      </a:lnTo>
                      <a:lnTo>
                        <a:pt x="212" y="133"/>
                      </a:lnTo>
                      <a:lnTo>
                        <a:pt x="190" y="127"/>
                      </a:lnTo>
                      <a:lnTo>
                        <a:pt x="165" y="127"/>
                      </a:lnTo>
                      <a:lnTo>
                        <a:pt x="148" y="144"/>
                      </a:lnTo>
                      <a:lnTo>
                        <a:pt x="139" y="142"/>
                      </a:lnTo>
                      <a:lnTo>
                        <a:pt x="153" y="117"/>
                      </a:lnTo>
                      <a:lnTo>
                        <a:pt x="139" y="122"/>
                      </a:lnTo>
                      <a:lnTo>
                        <a:pt x="113" y="144"/>
                      </a:lnTo>
                      <a:lnTo>
                        <a:pt x="85" y="167"/>
                      </a:lnTo>
                      <a:lnTo>
                        <a:pt x="60" y="174"/>
                      </a:lnTo>
                      <a:lnTo>
                        <a:pt x="15" y="193"/>
                      </a:lnTo>
                      <a:lnTo>
                        <a:pt x="0" y="193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170480" y="1041120"/>
                  <a:ext cx="158760" cy="104760"/>
                </a:xfrm>
                <a:custGeom>
                  <a:avLst/>
                  <a:gdLst/>
                  <a:ahLst/>
                  <a:rect l="l" t="t" r="r" b="b"/>
                  <a:pathLst>
                    <a:path w="301" h="197">
                      <a:moveTo>
                        <a:pt x="0" y="39"/>
                      </a:moveTo>
                      <a:lnTo>
                        <a:pt x="6" y="25"/>
                      </a:lnTo>
                      <a:lnTo>
                        <a:pt x="6" y="14"/>
                      </a:lnTo>
                      <a:lnTo>
                        <a:pt x="15" y="0"/>
                      </a:lnTo>
                      <a:lnTo>
                        <a:pt x="70" y="8"/>
                      </a:lnTo>
                      <a:lnTo>
                        <a:pt x="163" y="25"/>
                      </a:lnTo>
                      <a:lnTo>
                        <a:pt x="202" y="40"/>
                      </a:lnTo>
                      <a:lnTo>
                        <a:pt x="249" y="54"/>
                      </a:lnTo>
                      <a:lnTo>
                        <a:pt x="275" y="79"/>
                      </a:lnTo>
                      <a:lnTo>
                        <a:pt x="301" y="94"/>
                      </a:lnTo>
                      <a:lnTo>
                        <a:pt x="290" y="102"/>
                      </a:lnTo>
                      <a:lnTo>
                        <a:pt x="290" y="115"/>
                      </a:lnTo>
                      <a:lnTo>
                        <a:pt x="280" y="116"/>
                      </a:lnTo>
                      <a:lnTo>
                        <a:pt x="273" y="128"/>
                      </a:lnTo>
                      <a:lnTo>
                        <a:pt x="280" y="138"/>
                      </a:lnTo>
                      <a:lnTo>
                        <a:pt x="280" y="146"/>
                      </a:lnTo>
                      <a:lnTo>
                        <a:pt x="270" y="160"/>
                      </a:lnTo>
                      <a:lnTo>
                        <a:pt x="271" y="168"/>
                      </a:lnTo>
                      <a:lnTo>
                        <a:pt x="289" y="182"/>
                      </a:lnTo>
                      <a:lnTo>
                        <a:pt x="289" y="191"/>
                      </a:lnTo>
                      <a:lnTo>
                        <a:pt x="285" y="196"/>
                      </a:lnTo>
                      <a:lnTo>
                        <a:pt x="266" y="197"/>
                      </a:lnTo>
                      <a:lnTo>
                        <a:pt x="256" y="192"/>
                      </a:lnTo>
                      <a:lnTo>
                        <a:pt x="243" y="179"/>
                      </a:lnTo>
                      <a:lnTo>
                        <a:pt x="238" y="179"/>
                      </a:lnTo>
                      <a:lnTo>
                        <a:pt x="230" y="171"/>
                      </a:lnTo>
                      <a:lnTo>
                        <a:pt x="222" y="157"/>
                      </a:lnTo>
                      <a:lnTo>
                        <a:pt x="215" y="151"/>
                      </a:lnTo>
                      <a:lnTo>
                        <a:pt x="198" y="143"/>
                      </a:lnTo>
                      <a:lnTo>
                        <a:pt x="182" y="137"/>
                      </a:lnTo>
                      <a:lnTo>
                        <a:pt x="159" y="123"/>
                      </a:lnTo>
                      <a:lnTo>
                        <a:pt x="152" y="111"/>
                      </a:lnTo>
                      <a:lnTo>
                        <a:pt x="153" y="104"/>
                      </a:lnTo>
                      <a:lnTo>
                        <a:pt x="162" y="97"/>
                      </a:lnTo>
                      <a:lnTo>
                        <a:pt x="154" y="86"/>
                      </a:lnTo>
                      <a:lnTo>
                        <a:pt x="146" y="94"/>
                      </a:lnTo>
                      <a:lnTo>
                        <a:pt x="132" y="79"/>
                      </a:lnTo>
                      <a:lnTo>
                        <a:pt x="129" y="86"/>
                      </a:lnTo>
                      <a:lnTo>
                        <a:pt x="118" y="86"/>
                      </a:lnTo>
                      <a:lnTo>
                        <a:pt x="115" y="81"/>
                      </a:lnTo>
                      <a:lnTo>
                        <a:pt x="115" y="73"/>
                      </a:lnTo>
                      <a:lnTo>
                        <a:pt x="110" y="66"/>
                      </a:lnTo>
                      <a:lnTo>
                        <a:pt x="101" y="68"/>
                      </a:lnTo>
                      <a:lnTo>
                        <a:pt x="91" y="53"/>
                      </a:lnTo>
                      <a:lnTo>
                        <a:pt x="85" y="50"/>
                      </a:lnTo>
                      <a:lnTo>
                        <a:pt x="69" y="44"/>
                      </a:lnTo>
                      <a:lnTo>
                        <a:pt x="45" y="48"/>
                      </a:lnTo>
                      <a:lnTo>
                        <a:pt x="20" y="44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137000" y="1077840"/>
                  <a:ext cx="101880" cy="54000"/>
                </a:xfrm>
                <a:custGeom>
                  <a:avLst/>
                  <a:gdLst/>
                  <a:ahLst/>
                  <a:rect l="l" t="t" r="r" b="b"/>
                  <a:pathLst>
                    <a:path w="192" h="101">
                      <a:moveTo>
                        <a:pt x="5" y="0"/>
                      </a:moveTo>
                      <a:lnTo>
                        <a:pt x="0" y="6"/>
                      </a:lnTo>
                      <a:lnTo>
                        <a:pt x="0" y="16"/>
                      </a:lnTo>
                      <a:lnTo>
                        <a:pt x="13" y="27"/>
                      </a:lnTo>
                      <a:lnTo>
                        <a:pt x="19" y="25"/>
                      </a:lnTo>
                      <a:lnTo>
                        <a:pt x="25" y="29"/>
                      </a:lnTo>
                      <a:lnTo>
                        <a:pt x="34" y="31"/>
                      </a:lnTo>
                      <a:lnTo>
                        <a:pt x="36" y="24"/>
                      </a:lnTo>
                      <a:lnTo>
                        <a:pt x="57" y="25"/>
                      </a:lnTo>
                      <a:lnTo>
                        <a:pt x="59" y="31"/>
                      </a:lnTo>
                      <a:lnTo>
                        <a:pt x="67" y="34"/>
                      </a:lnTo>
                      <a:lnTo>
                        <a:pt x="83" y="32"/>
                      </a:lnTo>
                      <a:lnTo>
                        <a:pt x="88" y="37"/>
                      </a:lnTo>
                      <a:lnTo>
                        <a:pt x="95" y="39"/>
                      </a:lnTo>
                      <a:lnTo>
                        <a:pt x="102" y="50"/>
                      </a:lnTo>
                      <a:lnTo>
                        <a:pt x="102" y="60"/>
                      </a:lnTo>
                      <a:lnTo>
                        <a:pt x="97" y="61"/>
                      </a:lnTo>
                      <a:lnTo>
                        <a:pt x="98" y="67"/>
                      </a:lnTo>
                      <a:lnTo>
                        <a:pt x="92" y="73"/>
                      </a:lnTo>
                      <a:lnTo>
                        <a:pt x="92" y="83"/>
                      </a:lnTo>
                      <a:lnTo>
                        <a:pt x="103" y="83"/>
                      </a:lnTo>
                      <a:lnTo>
                        <a:pt x="111" y="81"/>
                      </a:lnTo>
                      <a:lnTo>
                        <a:pt x="115" y="76"/>
                      </a:lnTo>
                      <a:lnTo>
                        <a:pt x="117" y="81"/>
                      </a:lnTo>
                      <a:lnTo>
                        <a:pt x="125" y="77"/>
                      </a:lnTo>
                      <a:lnTo>
                        <a:pt x="139" y="83"/>
                      </a:lnTo>
                      <a:lnTo>
                        <a:pt x="148" y="92"/>
                      </a:lnTo>
                      <a:lnTo>
                        <a:pt x="152" y="92"/>
                      </a:lnTo>
                      <a:lnTo>
                        <a:pt x="152" y="98"/>
                      </a:lnTo>
                      <a:lnTo>
                        <a:pt x="162" y="101"/>
                      </a:lnTo>
                      <a:lnTo>
                        <a:pt x="174" y="101"/>
                      </a:lnTo>
                      <a:lnTo>
                        <a:pt x="166" y="96"/>
                      </a:lnTo>
                      <a:lnTo>
                        <a:pt x="169" y="91"/>
                      </a:lnTo>
                      <a:lnTo>
                        <a:pt x="178" y="96"/>
                      </a:lnTo>
                      <a:lnTo>
                        <a:pt x="187" y="96"/>
                      </a:lnTo>
                      <a:lnTo>
                        <a:pt x="188" y="90"/>
                      </a:lnTo>
                      <a:lnTo>
                        <a:pt x="179" y="83"/>
                      </a:lnTo>
                      <a:lnTo>
                        <a:pt x="173" y="83"/>
                      </a:lnTo>
                      <a:lnTo>
                        <a:pt x="162" y="73"/>
                      </a:lnTo>
                      <a:lnTo>
                        <a:pt x="173" y="73"/>
                      </a:lnTo>
                      <a:lnTo>
                        <a:pt x="179" y="81"/>
                      </a:lnTo>
                      <a:lnTo>
                        <a:pt x="192" y="81"/>
                      </a:lnTo>
                      <a:lnTo>
                        <a:pt x="188" y="72"/>
                      </a:lnTo>
                      <a:lnTo>
                        <a:pt x="178" y="63"/>
                      </a:lnTo>
                      <a:lnTo>
                        <a:pt x="169" y="61"/>
                      </a:lnTo>
                      <a:lnTo>
                        <a:pt x="157" y="53"/>
                      </a:lnTo>
                      <a:lnTo>
                        <a:pt x="143" y="51"/>
                      </a:lnTo>
                      <a:lnTo>
                        <a:pt x="130" y="46"/>
                      </a:lnTo>
                      <a:lnTo>
                        <a:pt x="121" y="34"/>
                      </a:lnTo>
                      <a:lnTo>
                        <a:pt x="115" y="16"/>
                      </a:lnTo>
                      <a:lnTo>
                        <a:pt x="103" y="16"/>
                      </a:lnTo>
                      <a:lnTo>
                        <a:pt x="102" y="14"/>
                      </a:lnTo>
                      <a:lnTo>
                        <a:pt x="95" y="15"/>
                      </a:lnTo>
                      <a:lnTo>
                        <a:pt x="86" y="9"/>
                      </a:lnTo>
                      <a:lnTo>
                        <a:pt x="71" y="5"/>
                      </a:lnTo>
                      <a:lnTo>
                        <a:pt x="64" y="9"/>
                      </a:lnTo>
                      <a:lnTo>
                        <a:pt x="49" y="5"/>
                      </a:lnTo>
                      <a:lnTo>
                        <a:pt x="39" y="5"/>
                      </a:lnTo>
                      <a:lnTo>
                        <a:pt x="36" y="1"/>
                      </a:lnTo>
                      <a:lnTo>
                        <a:pt x="30" y="0"/>
                      </a:lnTo>
                      <a:lnTo>
                        <a:pt x="25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194240" y="1377720"/>
                  <a:ext cx="73080" cy="23760"/>
                </a:xfrm>
                <a:custGeom>
                  <a:avLst/>
                  <a:gdLst/>
                  <a:ahLst/>
                  <a:rect l="l" t="t" r="r" b="b"/>
                  <a:pathLst>
                    <a:path w="138" h="43">
                      <a:moveTo>
                        <a:pt x="0" y="22"/>
                      </a:moveTo>
                      <a:lnTo>
                        <a:pt x="14" y="7"/>
                      </a:lnTo>
                      <a:lnTo>
                        <a:pt x="19" y="7"/>
                      </a:lnTo>
                      <a:lnTo>
                        <a:pt x="27" y="1"/>
                      </a:lnTo>
                      <a:lnTo>
                        <a:pt x="39" y="1"/>
                      </a:lnTo>
                      <a:lnTo>
                        <a:pt x="41" y="0"/>
                      </a:lnTo>
                      <a:lnTo>
                        <a:pt x="45" y="0"/>
                      </a:lnTo>
                      <a:lnTo>
                        <a:pt x="59" y="7"/>
                      </a:lnTo>
                      <a:lnTo>
                        <a:pt x="64" y="12"/>
                      </a:lnTo>
                      <a:lnTo>
                        <a:pt x="67" y="9"/>
                      </a:lnTo>
                      <a:lnTo>
                        <a:pt x="76" y="16"/>
                      </a:lnTo>
                      <a:lnTo>
                        <a:pt x="83" y="16"/>
                      </a:lnTo>
                      <a:lnTo>
                        <a:pt x="91" y="21"/>
                      </a:lnTo>
                      <a:lnTo>
                        <a:pt x="98" y="22"/>
                      </a:lnTo>
                      <a:lnTo>
                        <a:pt x="98" y="30"/>
                      </a:lnTo>
                      <a:lnTo>
                        <a:pt x="116" y="30"/>
                      </a:lnTo>
                      <a:lnTo>
                        <a:pt x="121" y="35"/>
                      </a:lnTo>
                      <a:lnTo>
                        <a:pt x="131" y="35"/>
                      </a:lnTo>
                      <a:lnTo>
                        <a:pt x="138" y="43"/>
                      </a:lnTo>
                      <a:lnTo>
                        <a:pt x="134" y="43"/>
                      </a:lnTo>
                      <a:lnTo>
                        <a:pt x="131" y="41"/>
                      </a:lnTo>
                      <a:lnTo>
                        <a:pt x="130" y="40"/>
                      </a:lnTo>
                      <a:lnTo>
                        <a:pt x="121" y="41"/>
                      </a:lnTo>
                      <a:lnTo>
                        <a:pt x="116" y="43"/>
                      </a:lnTo>
                      <a:lnTo>
                        <a:pt x="111" y="43"/>
                      </a:lnTo>
                      <a:lnTo>
                        <a:pt x="97" y="43"/>
                      </a:lnTo>
                      <a:lnTo>
                        <a:pt x="91" y="43"/>
                      </a:lnTo>
                      <a:lnTo>
                        <a:pt x="91" y="40"/>
                      </a:lnTo>
                      <a:lnTo>
                        <a:pt x="76" y="30"/>
                      </a:lnTo>
                      <a:lnTo>
                        <a:pt x="76" y="22"/>
                      </a:lnTo>
                      <a:lnTo>
                        <a:pt x="64" y="22"/>
                      </a:lnTo>
                      <a:lnTo>
                        <a:pt x="57" y="21"/>
                      </a:lnTo>
                      <a:lnTo>
                        <a:pt x="54" y="22"/>
                      </a:lnTo>
                      <a:lnTo>
                        <a:pt x="50" y="19"/>
                      </a:lnTo>
                      <a:lnTo>
                        <a:pt x="45" y="19"/>
                      </a:lnTo>
                      <a:lnTo>
                        <a:pt x="45" y="10"/>
                      </a:lnTo>
                      <a:lnTo>
                        <a:pt x="41" y="7"/>
                      </a:lnTo>
                      <a:lnTo>
                        <a:pt x="30" y="9"/>
                      </a:lnTo>
                      <a:lnTo>
                        <a:pt x="21" y="19"/>
                      </a:lnTo>
                      <a:lnTo>
                        <a:pt x="13" y="21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259400" y="1395360"/>
                  <a:ext cx="46080" cy="20520"/>
                </a:xfrm>
                <a:custGeom>
                  <a:avLst/>
                  <a:gdLst/>
                  <a:ahLst/>
                  <a:rect l="l" t="t" r="r" b="b"/>
                  <a:pathLst>
                    <a:path w="87" h="39">
                      <a:moveTo>
                        <a:pt x="0" y="30"/>
                      </a:moveTo>
                      <a:lnTo>
                        <a:pt x="8" y="31"/>
                      </a:lnTo>
                      <a:lnTo>
                        <a:pt x="25" y="30"/>
                      </a:lnTo>
                      <a:lnTo>
                        <a:pt x="35" y="36"/>
                      </a:lnTo>
                      <a:lnTo>
                        <a:pt x="44" y="39"/>
                      </a:lnTo>
                      <a:lnTo>
                        <a:pt x="51" y="30"/>
                      </a:lnTo>
                      <a:lnTo>
                        <a:pt x="47" y="26"/>
                      </a:lnTo>
                      <a:lnTo>
                        <a:pt x="52" y="25"/>
                      </a:lnTo>
                      <a:lnTo>
                        <a:pt x="65" y="30"/>
                      </a:lnTo>
                      <a:lnTo>
                        <a:pt x="73" y="30"/>
                      </a:lnTo>
                      <a:lnTo>
                        <a:pt x="73" y="25"/>
                      </a:lnTo>
                      <a:lnTo>
                        <a:pt x="78" y="25"/>
                      </a:lnTo>
                      <a:lnTo>
                        <a:pt x="87" y="20"/>
                      </a:lnTo>
                      <a:lnTo>
                        <a:pt x="80" y="20"/>
                      </a:lnTo>
                      <a:lnTo>
                        <a:pt x="80" y="11"/>
                      </a:lnTo>
                      <a:lnTo>
                        <a:pt x="80" y="5"/>
                      </a:lnTo>
                      <a:lnTo>
                        <a:pt x="70" y="4"/>
                      </a:lnTo>
                      <a:lnTo>
                        <a:pt x="61" y="5"/>
                      </a:lnTo>
                      <a:lnTo>
                        <a:pt x="51" y="5"/>
                      </a:lnTo>
                      <a:lnTo>
                        <a:pt x="40" y="4"/>
                      </a:lnTo>
                      <a:lnTo>
                        <a:pt x="30" y="0"/>
                      </a:lnTo>
                      <a:lnTo>
                        <a:pt x="25" y="4"/>
                      </a:lnTo>
                      <a:lnTo>
                        <a:pt x="25" y="11"/>
                      </a:lnTo>
                      <a:lnTo>
                        <a:pt x="16" y="11"/>
                      </a:lnTo>
                      <a:lnTo>
                        <a:pt x="12" y="20"/>
                      </a:lnTo>
                      <a:lnTo>
                        <a:pt x="8" y="23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229160" y="1455480"/>
                  <a:ext cx="295200" cy="433440"/>
                </a:xfrm>
                <a:custGeom>
                  <a:avLst/>
                  <a:gdLst/>
                  <a:ahLst/>
                  <a:rect l="l" t="t" r="r" b="b"/>
                  <a:pathLst>
                    <a:path w="556" h="819">
                      <a:moveTo>
                        <a:pt x="44" y="36"/>
                      </a:moveTo>
                      <a:lnTo>
                        <a:pt x="49" y="27"/>
                      </a:lnTo>
                      <a:lnTo>
                        <a:pt x="63" y="13"/>
                      </a:lnTo>
                      <a:lnTo>
                        <a:pt x="84" y="5"/>
                      </a:lnTo>
                      <a:lnTo>
                        <a:pt x="95" y="0"/>
                      </a:lnTo>
                      <a:lnTo>
                        <a:pt x="104" y="1"/>
                      </a:lnTo>
                      <a:lnTo>
                        <a:pt x="102" y="8"/>
                      </a:lnTo>
                      <a:lnTo>
                        <a:pt x="90" y="15"/>
                      </a:lnTo>
                      <a:lnTo>
                        <a:pt x="86" y="28"/>
                      </a:lnTo>
                      <a:lnTo>
                        <a:pt x="90" y="37"/>
                      </a:lnTo>
                      <a:lnTo>
                        <a:pt x="99" y="37"/>
                      </a:lnTo>
                      <a:lnTo>
                        <a:pt x="104" y="27"/>
                      </a:lnTo>
                      <a:lnTo>
                        <a:pt x="107" y="15"/>
                      </a:lnTo>
                      <a:lnTo>
                        <a:pt x="116" y="17"/>
                      </a:lnTo>
                      <a:lnTo>
                        <a:pt x="122" y="24"/>
                      </a:lnTo>
                      <a:lnTo>
                        <a:pt x="135" y="23"/>
                      </a:lnTo>
                      <a:lnTo>
                        <a:pt x="145" y="28"/>
                      </a:lnTo>
                      <a:lnTo>
                        <a:pt x="148" y="33"/>
                      </a:lnTo>
                      <a:lnTo>
                        <a:pt x="167" y="32"/>
                      </a:lnTo>
                      <a:lnTo>
                        <a:pt x="208" y="28"/>
                      </a:lnTo>
                      <a:lnTo>
                        <a:pt x="224" y="51"/>
                      </a:lnTo>
                      <a:lnTo>
                        <a:pt x="248" y="59"/>
                      </a:lnTo>
                      <a:lnTo>
                        <a:pt x="247" y="68"/>
                      </a:lnTo>
                      <a:lnTo>
                        <a:pt x="260" y="64"/>
                      </a:lnTo>
                      <a:lnTo>
                        <a:pt x="270" y="64"/>
                      </a:lnTo>
                      <a:lnTo>
                        <a:pt x="284" y="73"/>
                      </a:lnTo>
                      <a:lnTo>
                        <a:pt x="303" y="72"/>
                      </a:lnTo>
                      <a:lnTo>
                        <a:pt x="319" y="73"/>
                      </a:lnTo>
                      <a:lnTo>
                        <a:pt x="341" y="90"/>
                      </a:lnTo>
                      <a:lnTo>
                        <a:pt x="369" y="113"/>
                      </a:lnTo>
                      <a:lnTo>
                        <a:pt x="381" y="139"/>
                      </a:lnTo>
                      <a:lnTo>
                        <a:pt x="370" y="156"/>
                      </a:lnTo>
                      <a:lnTo>
                        <a:pt x="403" y="161"/>
                      </a:lnTo>
                      <a:lnTo>
                        <a:pt x="454" y="172"/>
                      </a:lnTo>
                      <a:lnTo>
                        <a:pt x="508" y="181"/>
                      </a:lnTo>
                      <a:lnTo>
                        <a:pt x="540" y="203"/>
                      </a:lnTo>
                      <a:lnTo>
                        <a:pt x="556" y="223"/>
                      </a:lnTo>
                      <a:lnTo>
                        <a:pt x="556" y="248"/>
                      </a:lnTo>
                      <a:lnTo>
                        <a:pt x="543" y="271"/>
                      </a:lnTo>
                      <a:lnTo>
                        <a:pt x="529" y="283"/>
                      </a:lnTo>
                      <a:lnTo>
                        <a:pt x="518" y="293"/>
                      </a:lnTo>
                      <a:lnTo>
                        <a:pt x="508" y="310"/>
                      </a:lnTo>
                      <a:lnTo>
                        <a:pt x="507" y="324"/>
                      </a:lnTo>
                      <a:lnTo>
                        <a:pt x="508" y="341"/>
                      </a:lnTo>
                      <a:lnTo>
                        <a:pt x="502" y="363"/>
                      </a:lnTo>
                      <a:lnTo>
                        <a:pt x="495" y="366"/>
                      </a:lnTo>
                      <a:lnTo>
                        <a:pt x="491" y="377"/>
                      </a:lnTo>
                      <a:lnTo>
                        <a:pt x="481" y="386"/>
                      </a:lnTo>
                      <a:lnTo>
                        <a:pt x="479" y="395"/>
                      </a:lnTo>
                      <a:lnTo>
                        <a:pt x="468" y="405"/>
                      </a:lnTo>
                      <a:lnTo>
                        <a:pt x="449" y="422"/>
                      </a:lnTo>
                      <a:lnTo>
                        <a:pt x="432" y="430"/>
                      </a:lnTo>
                      <a:lnTo>
                        <a:pt x="422" y="427"/>
                      </a:lnTo>
                      <a:lnTo>
                        <a:pt x="401" y="440"/>
                      </a:lnTo>
                      <a:lnTo>
                        <a:pt x="382" y="457"/>
                      </a:lnTo>
                      <a:lnTo>
                        <a:pt x="375" y="467"/>
                      </a:lnTo>
                      <a:lnTo>
                        <a:pt x="375" y="477"/>
                      </a:lnTo>
                      <a:lnTo>
                        <a:pt x="382" y="489"/>
                      </a:lnTo>
                      <a:lnTo>
                        <a:pt x="370" y="502"/>
                      </a:lnTo>
                      <a:lnTo>
                        <a:pt x="370" y="510"/>
                      </a:lnTo>
                      <a:lnTo>
                        <a:pt x="355" y="524"/>
                      </a:lnTo>
                      <a:lnTo>
                        <a:pt x="345" y="529"/>
                      </a:lnTo>
                      <a:lnTo>
                        <a:pt x="334" y="542"/>
                      </a:lnTo>
                      <a:lnTo>
                        <a:pt x="330" y="555"/>
                      </a:lnTo>
                      <a:lnTo>
                        <a:pt x="315" y="569"/>
                      </a:lnTo>
                      <a:lnTo>
                        <a:pt x="311" y="566"/>
                      </a:lnTo>
                      <a:lnTo>
                        <a:pt x="300" y="566"/>
                      </a:lnTo>
                      <a:lnTo>
                        <a:pt x="285" y="573"/>
                      </a:lnTo>
                      <a:lnTo>
                        <a:pt x="296" y="579"/>
                      </a:lnTo>
                      <a:lnTo>
                        <a:pt x="296" y="593"/>
                      </a:lnTo>
                      <a:lnTo>
                        <a:pt x="296" y="601"/>
                      </a:lnTo>
                      <a:lnTo>
                        <a:pt x="289" y="610"/>
                      </a:lnTo>
                      <a:lnTo>
                        <a:pt x="270" y="614"/>
                      </a:lnTo>
                      <a:lnTo>
                        <a:pt x="257" y="617"/>
                      </a:lnTo>
                      <a:lnTo>
                        <a:pt x="249" y="624"/>
                      </a:lnTo>
                      <a:lnTo>
                        <a:pt x="249" y="637"/>
                      </a:lnTo>
                      <a:lnTo>
                        <a:pt x="234" y="640"/>
                      </a:lnTo>
                      <a:lnTo>
                        <a:pt x="221" y="637"/>
                      </a:lnTo>
                      <a:lnTo>
                        <a:pt x="217" y="645"/>
                      </a:lnTo>
                      <a:lnTo>
                        <a:pt x="224" y="651"/>
                      </a:lnTo>
                      <a:lnTo>
                        <a:pt x="221" y="668"/>
                      </a:lnTo>
                      <a:lnTo>
                        <a:pt x="213" y="686"/>
                      </a:lnTo>
                      <a:lnTo>
                        <a:pt x="196" y="686"/>
                      </a:lnTo>
                      <a:lnTo>
                        <a:pt x="189" y="694"/>
                      </a:lnTo>
                      <a:lnTo>
                        <a:pt x="191" y="708"/>
                      </a:lnTo>
                      <a:lnTo>
                        <a:pt x="203" y="708"/>
                      </a:lnTo>
                      <a:lnTo>
                        <a:pt x="208" y="716"/>
                      </a:lnTo>
                      <a:lnTo>
                        <a:pt x="204" y="729"/>
                      </a:lnTo>
                      <a:lnTo>
                        <a:pt x="194" y="729"/>
                      </a:lnTo>
                      <a:lnTo>
                        <a:pt x="181" y="736"/>
                      </a:lnTo>
                      <a:lnTo>
                        <a:pt x="176" y="745"/>
                      </a:lnTo>
                      <a:lnTo>
                        <a:pt x="176" y="763"/>
                      </a:lnTo>
                      <a:lnTo>
                        <a:pt x="166" y="770"/>
                      </a:lnTo>
                      <a:lnTo>
                        <a:pt x="198" y="798"/>
                      </a:lnTo>
                      <a:lnTo>
                        <a:pt x="208" y="810"/>
                      </a:lnTo>
                      <a:lnTo>
                        <a:pt x="203" y="819"/>
                      </a:lnTo>
                      <a:lnTo>
                        <a:pt x="189" y="813"/>
                      </a:lnTo>
                      <a:lnTo>
                        <a:pt x="176" y="803"/>
                      </a:lnTo>
                      <a:lnTo>
                        <a:pt x="158" y="794"/>
                      </a:lnTo>
                      <a:lnTo>
                        <a:pt x="142" y="780"/>
                      </a:lnTo>
                      <a:lnTo>
                        <a:pt x="130" y="767"/>
                      </a:lnTo>
                      <a:lnTo>
                        <a:pt x="130" y="752"/>
                      </a:lnTo>
                      <a:lnTo>
                        <a:pt x="131" y="740"/>
                      </a:lnTo>
                      <a:lnTo>
                        <a:pt x="130" y="653"/>
                      </a:lnTo>
                      <a:lnTo>
                        <a:pt x="126" y="637"/>
                      </a:lnTo>
                      <a:lnTo>
                        <a:pt x="116" y="620"/>
                      </a:lnTo>
                      <a:lnTo>
                        <a:pt x="116" y="606"/>
                      </a:lnTo>
                      <a:lnTo>
                        <a:pt x="122" y="589"/>
                      </a:lnTo>
                      <a:lnTo>
                        <a:pt x="130" y="566"/>
                      </a:lnTo>
                      <a:lnTo>
                        <a:pt x="126" y="544"/>
                      </a:lnTo>
                      <a:lnTo>
                        <a:pt x="125" y="537"/>
                      </a:lnTo>
                      <a:lnTo>
                        <a:pt x="125" y="525"/>
                      </a:lnTo>
                      <a:lnTo>
                        <a:pt x="128" y="519"/>
                      </a:lnTo>
                      <a:lnTo>
                        <a:pt x="130" y="494"/>
                      </a:lnTo>
                      <a:lnTo>
                        <a:pt x="128" y="483"/>
                      </a:lnTo>
                      <a:lnTo>
                        <a:pt x="133" y="453"/>
                      </a:lnTo>
                      <a:lnTo>
                        <a:pt x="128" y="427"/>
                      </a:lnTo>
                      <a:lnTo>
                        <a:pt x="131" y="416"/>
                      </a:lnTo>
                      <a:lnTo>
                        <a:pt x="138" y="389"/>
                      </a:lnTo>
                      <a:lnTo>
                        <a:pt x="131" y="373"/>
                      </a:lnTo>
                      <a:lnTo>
                        <a:pt x="117" y="360"/>
                      </a:lnTo>
                      <a:lnTo>
                        <a:pt x="116" y="349"/>
                      </a:lnTo>
                      <a:lnTo>
                        <a:pt x="99" y="335"/>
                      </a:lnTo>
                      <a:lnTo>
                        <a:pt x="84" y="328"/>
                      </a:lnTo>
                      <a:lnTo>
                        <a:pt x="61" y="324"/>
                      </a:lnTo>
                      <a:lnTo>
                        <a:pt x="49" y="304"/>
                      </a:lnTo>
                      <a:lnTo>
                        <a:pt x="35" y="288"/>
                      </a:lnTo>
                      <a:lnTo>
                        <a:pt x="33" y="271"/>
                      </a:lnTo>
                      <a:lnTo>
                        <a:pt x="31" y="259"/>
                      </a:lnTo>
                      <a:lnTo>
                        <a:pt x="28" y="248"/>
                      </a:lnTo>
                      <a:lnTo>
                        <a:pt x="19" y="238"/>
                      </a:lnTo>
                      <a:lnTo>
                        <a:pt x="9" y="233"/>
                      </a:lnTo>
                      <a:lnTo>
                        <a:pt x="0" y="223"/>
                      </a:lnTo>
                      <a:lnTo>
                        <a:pt x="9" y="212"/>
                      </a:lnTo>
                      <a:lnTo>
                        <a:pt x="9" y="190"/>
                      </a:lnTo>
                      <a:lnTo>
                        <a:pt x="5" y="179"/>
                      </a:lnTo>
                      <a:lnTo>
                        <a:pt x="0" y="165"/>
                      </a:lnTo>
                      <a:lnTo>
                        <a:pt x="5" y="149"/>
                      </a:lnTo>
                      <a:lnTo>
                        <a:pt x="26" y="104"/>
                      </a:lnTo>
                      <a:lnTo>
                        <a:pt x="28" y="87"/>
                      </a:lnTo>
                      <a:lnTo>
                        <a:pt x="40" y="68"/>
                      </a:lnTo>
                      <a:lnTo>
                        <a:pt x="40" y="56"/>
                      </a:lnTo>
                      <a:lnTo>
                        <a:pt x="44" y="3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" name=""/>
            <p:cNvGrpSpPr/>
            <p:nvPr/>
          </p:nvGrpSpPr>
          <p:grpSpPr>
            <a:xfrm>
              <a:off x="7105320" y="1211040"/>
              <a:ext cx="1019160" cy="1298520"/>
              <a:chOff x="7105320" y="1211040"/>
              <a:chExt cx="1019160" cy="1298520"/>
            </a:xfrm>
          </p:grpSpPr>
          <p:sp>
            <p:nvSpPr>
              <p:cNvPr id="103" name=""/>
              <p:cNvSpPr/>
              <p:nvPr/>
            </p:nvSpPr>
            <p:spPr>
              <a:xfrm>
                <a:off x="7105320" y="1211040"/>
                <a:ext cx="631800" cy="1298520"/>
              </a:xfrm>
              <a:custGeom>
                <a:avLst/>
                <a:gdLst/>
                <a:ahLst/>
                <a:rect l="l" t="t" r="r" b="b"/>
                <a:pathLst>
                  <a:path w="1194" h="2454">
                    <a:moveTo>
                      <a:pt x="455" y="76"/>
                    </a:moveTo>
                    <a:lnTo>
                      <a:pt x="409" y="102"/>
                    </a:lnTo>
                    <a:lnTo>
                      <a:pt x="362" y="143"/>
                    </a:lnTo>
                    <a:lnTo>
                      <a:pt x="349" y="170"/>
                    </a:lnTo>
                    <a:lnTo>
                      <a:pt x="369" y="228"/>
                    </a:lnTo>
                    <a:lnTo>
                      <a:pt x="369" y="261"/>
                    </a:lnTo>
                    <a:lnTo>
                      <a:pt x="401" y="315"/>
                    </a:lnTo>
                    <a:lnTo>
                      <a:pt x="434" y="331"/>
                    </a:lnTo>
                    <a:lnTo>
                      <a:pt x="425" y="373"/>
                    </a:lnTo>
                    <a:lnTo>
                      <a:pt x="389" y="409"/>
                    </a:lnTo>
                    <a:lnTo>
                      <a:pt x="201" y="476"/>
                    </a:lnTo>
                    <a:lnTo>
                      <a:pt x="0" y="818"/>
                    </a:lnTo>
                    <a:lnTo>
                      <a:pt x="222" y="1083"/>
                    </a:lnTo>
                    <a:lnTo>
                      <a:pt x="293" y="954"/>
                    </a:lnTo>
                    <a:lnTo>
                      <a:pt x="235" y="899"/>
                    </a:lnTo>
                    <a:lnTo>
                      <a:pt x="200" y="850"/>
                    </a:lnTo>
                    <a:lnTo>
                      <a:pt x="176" y="811"/>
                    </a:lnTo>
                    <a:lnTo>
                      <a:pt x="241" y="742"/>
                    </a:lnTo>
                    <a:lnTo>
                      <a:pt x="339" y="940"/>
                    </a:lnTo>
                    <a:lnTo>
                      <a:pt x="294" y="952"/>
                    </a:lnTo>
                    <a:lnTo>
                      <a:pt x="246" y="1039"/>
                    </a:lnTo>
                    <a:lnTo>
                      <a:pt x="316" y="1080"/>
                    </a:lnTo>
                    <a:lnTo>
                      <a:pt x="275" y="1405"/>
                    </a:lnTo>
                    <a:lnTo>
                      <a:pt x="304" y="1405"/>
                    </a:lnTo>
                    <a:lnTo>
                      <a:pt x="276" y="1780"/>
                    </a:lnTo>
                    <a:lnTo>
                      <a:pt x="263" y="1956"/>
                    </a:lnTo>
                    <a:lnTo>
                      <a:pt x="275" y="2356"/>
                    </a:lnTo>
                    <a:lnTo>
                      <a:pt x="311" y="2366"/>
                    </a:lnTo>
                    <a:lnTo>
                      <a:pt x="316" y="2424"/>
                    </a:lnTo>
                    <a:lnTo>
                      <a:pt x="338" y="2437"/>
                    </a:lnTo>
                    <a:lnTo>
                      <a:pt x="380" y="2443"/>
                    </a:lnTo>
                    <a:lnTo>
                      <a:pt x="424" y="2433"/>
                    </a:lnTo>
                    <a:lnTo>
                      <a:pt x="450" y="2414"/>
                    </a:lnTo>
                    <a:lnTo>
                      <a:pt x="455" y="2358"/>
                    </a:lnTo>
                    <a:lnTo>
                      <a:pt x="487" y="2336"/>
                    </a:lnTo>
                    <a:lnTo>
                      <a:pt x="487" y="1985"/>
                    </a:lnTo>
                    <a:lnTo>
                      <a:pt x="515" y="1653"/>
                    </a:lnTo>
                    <a:lnTo>
                      <a:pt x="558" y="1433"/>
                    </a:lnTo>
                    <a:lnTo>
                      <a:pt x="589" y="1432"/>
                    </a:lnTo>
                    <a:lnTo>
                      <a:pt x="643" y="1744"/>
                    </a:lnTo>
                    <a:lnTo>
                      <a:pt x="663" y="1788"/>
                    </a:lnTo>
                    <a:lnTo>
                      <a:pt x="691" y="2085"/>
                    </a:lnTo>
                    <a:lnTo>
                      <a:pt x="734" y="2340"/>
                    </a:lnTo>
                    <a:lnTo>
                      <a:pt x="759" y="2361"/>
                    </a:lnTo>
                    <a:lnTo>
                      <a:pt x="760" y="2437"/>
                    </a:lnTo>
                    <a:lnTo>
                      <a:pt x="778" y="2454"/>
                    </a:lnTo>
                    <a:lnTo>
                      <a:pt x="805" y="2452"/>
                    </a:lnTo>
                    <a:lnTo>
                      <a:pt x="836" y="2454"/>
                    </a:lnTo>
                    <a:lnTo>
                      <a:pt x="882" y="2432"/>
                    </a:lnTo>
                    <a:lnTo>
                      <a:pt x="925" y="2406"/>
                    </a:lnTo>
                    <a:lnTo>
                      <a:pt x="976" y="2392"/>
                    </a:lnTo>
                    <a:lnTo>
                      <a:pt x="1051" y="2333"/>
                    </a:lnTo>
                    <a:lnTo>
                      <a:pt x="1056" y="2309"/>
                    </a:lnTo>
                    <a:lnTo>
                      <a:pt x="1033" y="2294"/>
                    </a:lnTo>
                    <a:lnTo>
                      <a:pt x="944" y="2304"/>
                    </a:lnTo>
                    <a:lnTo>
                      <a:pt x="958" y="2289"/>
                    </a:lnTo>
                    <a:lnTo>
                      <a:pt x="851" y="1815"/>
                    </a:lnTo>
                    <a:lnTo>
                      <a:pt x="862" y="1762"/>
                    </a:lnTo>
                    <a:lnTo>
                      <a:pt x="851" y="1690"/>
                    </a:lnTo>
                    <a:lnTo>
                      <a:pt x="832" y="1385"/>
                    </a:lnTo>
                    <a:lnTo>
                      <a:pt x="864" y="1332"/>
                    </a:lnTo>
                    <a:lnTo>
                      <a:pt x="770" y="954"/>
                    </a:lnTo>
                    <a:lnTo>
                      <a:pt x="770" y="824"/>
                    </a:lnTo>
                    <a:lnTo>
                      <a:pt x="801" y="594"/>
                    </a:lnTo>
                    <a:lnTo>
                      <a:pt x="907" y="561"/>
                    </a:lnTo>
                    <a:lnTo>
                      <a:pt x="1001" y="507"/>
                    </a:lnTo>
                    <a:lnTo>
                      <a:pt x="1025" y="471"/>
                    </a:lnTo>
                    <a:lnTo>
                      <a:pt x="1122" y="295"/>
                    </a:lnTo>
                    <a:lnTo>
                      <a:pt x="1096" y="243"/>
                    </a:lnTo>
                    <a:lnTo>
                      <a:pt x="1111" y="238"/>
                    </a:lnTo>
                    <a:lnTo>
                      <a:pt x="1128" y="228"/>
                    </a:lnTo>
                    <a:lnTo>
                      <a:pt x="1147" y="202"/>
                    </a:lnTo>
                    <a:lnTo>
                      <a:pt x="1159" y="175"/>
                    </a:lnTo>
                    <a:lnTo>
                      <a:pt x="1158" y="158"/>
                    </a:lnTo>
                    <a:lnTo>
                      <a:pt x="1169" y="127"/>
                    </a:lnTo>
                    <a:lnTo>
                      <a:pt x="1162" y="116"/>
                    </a:lnTo>
                    <a:lnTo>
                      <a:pt x="1167" y="91"/>
                    </a:lnTo>
                    <a:lnTo>
                      <a:pt x="1159" y="75"/>
                    </a:lnTo>
                    <a:lnTo>
                      <a:pt x="1180" y="27"/>
                    </a:lnTo>
                    <a:lnTo>
                      <a:pt x="1194" y="4"/>
                    </a:lnTo>
                    <a:lnTo>
                      <a:pt x="1185" y="0"/>
                    </a:lnTo>
                    <a:lnTo>
                      <a:pt x="1173" y="13"/>
                    </a:lnTo>
                    <a:lnTo>
                      <a:pt x="1159" y="35"/>
                    </a:lnTo>
                    <a:lnTo>
                      <a:pt x="1137" y="67"/>
                    </a:lnTo>
                    <a:lnTo>
                      <a:pt x="1109" y="113"/>
                    </a:lnTo>
                    <a:lnTo>
                      <a:pt x="1083" y="119"/>
                    </a:lnTo>
                    <a:lnTo>
                      <a:pt x="1080" y="97"/>
                    </a:lnTo>
                    <a:lnTo>
                      <a:pt x="1078" y="76"/>
                    </a:lnTo>
                    <a:lnTo>
                      <a:pt x="1073" y="59"/>
                    </a:lnTo>
                    <a:lnTo>
                      <a:pt x="1060" y="52"/>
                    </a:lnTo>
                    <a:lnTo>
                      <a:pt x="1065" y="81"/>
                    </a:lnTo>
                    <a:lnTo>
                      <a:pt x="1038" y="129"/>
                    </a:lnTo>
                    <a:lnTo>
                      <a:pt x="1030" y="214"/>
                    </a:lnTo>
                    <a:lnTo>
                      <a:pt x="1021" y="203"/>
                    </a:lnTo>
                    <a:lnTo>
                      <a:pt x="963" y="337"/>
                    </a:lnTo>
                    <a:lnTo>
                      <a:pt x="934" y="371"/>
                    </a:lnTo>
                    <a:lnTo>
                      <a:pt x="938" y="382"/>
                    </a:lnTo>
                    <a:lnTo>
                      <a:pt x="922" y="373"/>
                    </a:lnTo>
                    <a:lnTo>
                      <a:pt x="887" y="390"/>
                    </a:lnTo>
                    <a:lnTo>
                      <a:pt x="756" y="402"/>
                    </a:lnTo>
                    <a:lnTo>
                      <a:pt x="640" y="390"/>
                    </a:lnTo>
                    <a:lnTo>
                      <a:pt x="624" y="403"/>
                    </a:lnTo>
                    <a:lnTo>
                      <a:pt x="593" y="379"/>
                    </a:lnTo>
                    <a:lnTo>
                      <a:pt x="629" y="281"/>
                    </a:lnTo>
                    <a:lnTo>
                      <a:pt x="622" y="243"/>
                    </a:lnTo>
                    <a:lnTo>
                      <a:pt x="633" y="214"/>
                    </a:lnTo>
                    <a:lnTo>
                      <a:pt x="633" y="172"/>
                    </a:lnTo>
                    <a:lnTo>
                      <a:pt x="658" y="157"/>
                    </a:lnTo>
                    <a:lnTo>
                      <a:pt x="644" y="156"/>
                    </a:lnTo>
                    <a:lnTo>
                      <a:pt x="656" y="144"/>
                    </a:lnTo>
                    <a:lnTo>
                      <a:pt x="613" y="127"/>
                    </a:lnTo>
                    <a:lnTo>
                      <a:pt x="577" y="95"/>
                    </a:lnTo>
                    <a:lnTo>
                      <a:pt x="540" y="86"/>
                    </a:lnTo>
                    <a:lnTo>
                      <a:pt x="495" y="66"/>
                    </a:lnTo>
                    <a:lnTo>
                      <a:pt x="455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7689600" y="1223640"/>
                <a:ext cx="434880" cy="1258920"/>
                <a:chOff x="7689600" y="1223640"/>
                <a:chExt cx="434880" cy="12589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7689600" y="1223640"/>
                  <a:ext cx="434880" cy="1258920"/>
                </a:xfrm>
                <a:custGeom>
                  <a:avLst/>
                  <a:gdLst/>
                  <a:ahLst/>
                  <a:rect l="l" t="t" r="r" b="b"/>
                  <a:pathLst>
                    <a:path w="820" h="2378">
                      <a:moveTo>
                        <a:pt x="201" y="90"/>
                      </a:moveTo>
                      <a:lnTo>
                        <a:pt x="229" y="43"/>
                      </a:lnTo>
                      <a:lnTo>
                        <a:pt x="291" y="23"/>
                      </a:lnTo>
                      <a:lnTo>
                        <a:pt x="348" y="1"/>
                      </a:lnTo>
                      <a:lnTo>
                        <a:pt x="383" y="0"/>
                      </a:lnTo>
                      <a:lnTo>
                        <a:pt x="421" y="17"/>
                      </a:lnTo>
                      <a:lnTo>
                        <a:pt x="436" y="26"/>
                      </a:lnTo>
                      <a:lnTo>
                        <a:pt x="501" y="79"/>
                      </a:lnTo>
                      <a:lnTo>
                        <a:pt x="518" y="141"/>
                      </a:lnTo>
                      <a:lnTo>
                        <a:pt x="484" y="216"/>
                      </a:lnTo>
                      <a:lnTo>
                        <a:pt x="484" y="236"/>
                      </a:lnTo>
                      <a:lnTo>
                        <a:pt x="492" y="228"/>
                      </a:lnTo>
                      <a:lnTo>
                        <a:pt x="506" y="251"/>
                      </a:lnTo>
                      <a:lnTo>
                        <a:pt x="517" y="241"/>
                      </a:lnTo>
                      <a:lnTo>
                        <a:pt x="537" y="290"/>
                      </a:lnTo>
                      <a:lnTo>
                        <a:pt x="653" y="361"/>
                      </a:lnTo>
                      <a:lnTo>
                        <a:pt x="667" y="375"/>
                      </a:lnTo>
                      <a:lnTo>
                        <a:pt x="730" y="543"/>
                      </a:lnTo>
                      <a:lnTo>
                        <a:pt x="820" y="760"/>
                      </a:lnTo>
                      <a:lnTo>
                        <a:pt x="820" y="793"/>
                      </a:lnTo>
                      <a:lnTo>
                        <a:pt x="674" y="948"/>
                      </a:lnTo>
                      <a:lnTo>
                        <a:pt x="756" y="1236"/>
                      </a:lnTo>
                      <a:lnTo>
                        <a:pt x="632" y="1333"/>
                      </a:lnTo>
                      <a:lnTo>
                        <a:pt x="635" y="1637"/>
                      </a:lnTo>
                      <a:lnTo>
                        <a:pt x="662" y="1962"/>
                      </a:lnTo>
                      <a:lnTo>
                        <a:pt x="643" y="2145"/>
                      </a:lnTo>
                      <a:lnTo>
                        <a:pt x="640" y="2281"/>
                      </a:lnTo>
                      <a:lnTo>
                        <a:pt x="593" y="2299"/>
                      </a:lnTo>
                      <a:lnTo>
                        <a:pt x="551" y="2294"/>
                      </a:lnTo>
                      <a:lnTo>
                        <a:pt x="517" y="2281"/>
                      </a:lnTo>
                      <a:lnTo>
                        <a:pt x="469" y="2281"/>
                      </a:lnTo>
                      <a:lnTo>
                        <a:pt x="414" y="2284"/>
                      </a:lnTo>
                      <a:lnTo>
                        <a:pt x="393" y="2276"/>
                      </a:lnTo>
                      <a:lnTo>
                        <a:pt x="377" y="2364"/>
                      </a:lnTo>
                      <a:lnTo>
                        <a:pt x="272" y="2370"/>
                      </a:lnTo>
                      <a:lnTo>
                        <a:pt x="250" y="2360"/>
                      </a:lnTo>
                      <a:lnTo>
                        <a:pt x="183" y="2370"/>
                      </a:lnTo>
                      <a:lnTo>
                        <a:pt x="56" y="2378"/>
                      </a:lnTo>
                      <a:lnTo>
                        <a:pt x="0" y="2365"/>
                      </a:lnTo>
                      <a:lnTo>
                        <a:pt x="0" y="2327"/>
                      </a:lnTo>
                      <a:lnTo>
                        <a:pt x="119" y="2288"/>
                      </a:lnTo>
                      <a:lnTo>
                        <a:pt x="169" y="2240"/>
                      </a:lnTo>
                      <a:lnTo>
                        <a:pt x="191" y="1962"/>
                      </a:lnTo>
                      <a:lnTo>
                        <a:pt x="212" y="1717"/>
                      </a:lnTo>
                      <a:lnTo>
                        <a:pt x="190" y="1645"/>
                      </a:lnTo>
                      <a:lnTo>
                        <a:pt x="217" y="1404"/>
                      </a:lnTo>
                      <a:lnTo>
                        <a:pt x="242" y="1197"/>
                      </a:lnTo>
                      <a:lnTo>
                        <a:pt x="231" y="1127"/>
                      </a:lnTo>
                      <a:lnTo>
                        <a:pt x="222" y="1070"/>
                      </a:lnTo>
                      <a:lnTo>
                        <a:pt x="232" y="948"/>
                      </a:lnTo>
                      <a:lnTo>
                        <a:pt x="222" y="921"/>
                      </a:lnTo>
                      <a:lnTo>
                        <a:pt x="222" y="834"/>
                      </a:lnTo>
                      <a:lnTo>
                        <a:pt x="222" y="755"/>
                      </a:lnTo>
                      <a:lnTo>
                        <a:pt x="291" y="488"/>
                      </a:lnTo>
                      <a:lnTo>
                        <a:pt x="312" y="451"/>
                      </a:lnTo>
                      <a:lnTo>
                        <a:pt x="327" y="406"/>
                      </a:lnTo>
                      <a:lnTo>
                        <a:pt x="327" y="385"/>
                      </a:lnTo>
                      <a:lnTo>
                        <a:pt x="349" y="335"/>
                      </a:lnTo>
                      <a:lnTo>
                        <a:pt x="362" y="328"/>
                      </a:lnTo>
                      <a:lnTo>
                        <a:pt x="348" y="317"/>
                      </a:lnTo>
                      <a:lnTo>
                        <a:pt x="285" y="325"/>
                      </a:lnTo>
                      <a:lnTo>
                        <a:pt x="273" y="314"/>
                      </a:lnTo>
                      <a:lnTo>
                        <a:pt x="267" y="292"/>
                      </a:lnTo>
                      <a:lnTo>
                        <a:pt x="257" y="283"/>
                      </a:lnTo>
                      <a:lnTo>
                        <a:pt x="253" y="272"/>
                      </a:lnTo>
                      <a:lnTo>
                        <a:pt x="253" y="256"/>
                      </a:lnTo>
                      <a:lnTo>
                        <a:pt x="251" y="246"/>
                      </a:lnTo>
                      <a:lnTo>
                        <a:pt x="222" y="241"/>
                      </a:lnTo>
                      <a:lnTo>
                        <a:pt x="240" y="184"/>
                      </a:lnTo>
                      <a:lnTo>
                        <a:pt x="227" y="164"/>
                      </a:lnTo>
                      <a:lnTo>
                        <a:pt x="232" y="110"/>
                      </a:lnTo>
                      <a:lnTo>
                        <a:pt x="201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7806960" y="1344240"/>
                  <a:ext cx="152640" cy="355680"/>
                </a:xfrm>
                <a:custGeom>
                  <a:avLst/>
                  <a:gdLst/>
                  <a:ahLst/>
                  <a:rect l="l" t="t" r="r" b="b"/>
                  <a:pathLst>
                    <a:path w="290" h="672">
                      <a:moveTo>
                        <a:pt x="275" y="0"/>
                      </a:moveTo>
                      <a:lnTo>
                        <a:pt x="290" y="31"/>
                      </a:lnTo>
                      <a:lnTo>
                        <a:pt x="107" y="346"/>
                      </a:lnTo>
                      <a:lnTo>
                        <a:pt x="97" y="572"/>
                      </a:lnTo>
                      <a:lnTo>
                        <a:pt x="168" y="659"/>
                      </a:lnTo>
                      <a:lnTo>
                        <a:pt x="0" y="672"/>
                      </a:lnTo>
                      <a:lnTo>
                        <a:pt x="0" y="507"/>
                      </a:lnTo>
                      <a:lnTo>
                        <a:pt x="71" y="264"/>
                      </a:lnTo>
                      <a:lnTo>
                        <a:pt x="107" y="181"/>
                      </a:lnTo>
                      <a:lnTo>
                        <a:pt x="150" y="148"/>
                      </a:lnTo>
                      <a:lnTo>
                        <a:pt x="129" y="107"/>
                      </a:lnTo>
                      <a:lnTo>
                        <a:pt x="27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805520" y="1403280"/>
                  <a:ext cx="81000" cy="225360"/>
                </a:xfrm>
                <a:custGeom>
                  <a:avLst/>
                  <a:gdLst/>
                  <a:ahLst/>
                  <a:rect l="l" t="t" r="r" b="b"/>
                  <a:pathLst>
                    <a:path w="155" h="426">
                      <a:moveTo>
                        <a:pt x="131" y="0"/>
                      </a:moveTo>
                      <a:lnTo>
                        <a:pt x="155" y="40"/>
                      </a:lnTo>
                      <a:lnTo>
                        <a:pt x="121" y="68"/>
                      </a:lnTo>
                      <a:lnTo>
                        <a:pt x="40" y="413"/>
                      </a:lnTo>
                      <a:lnTo>
                        <a:pt x="12" y="426"/>
                      </a:lnTo>
                      <a:lnTo>
                        <a:pt x="0" y="399"/>
                      </a:lnTo>
                      <a:lnTo>
                        <a:pt x="74" y="154"/>
                      </a:lnTo>
                      <a:lnTo>
                        <a:pt x="87" y="122"/>
                      </a:lnTo>
                      <a:lnTo>
                        <a:pt x="112" y="68"/>
                      </a:lnTo>
                      <a:lnTo>
                        <a:pt x="110" y="47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Włochy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Analiza połączenia Dublin/Medio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zedstawienie preliminarza koszt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koncentrowanie się na ruchu turystycznym </a:t>
            </a: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Opracowanie raportu w ciągu miesią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Możliwość utworzenia nowego połączenia do Rzy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240" y="52560"/>
            <a:ext cx="2255760" cy="1395360"/>
            <a:chOff x="30240" y="52560"/>
            <a:chExt cx="2255760" cy="1395360"/>
          </a:xfrm>
        </p:grpSpPr>
        <p:sp>
          <p:nvSpPr>
            <p:cNvPr id="111" name=""/>
            <p:cNvSpPr/>
            <p:nvPr/>
          </p:nvSpPr>
          <p:spPr>
            <a:xfrm>
              <a:off x="30240" y="52560"/>
              <a:ext cx="2255760" cy="1395360"/>
            </a:xfrm>
            <a:custGeom>
              <a:avLst/>
              <a:gdLst/>
              <a:ahLst/>
              <a:rect l="l" t="t" r="r" b="b"/>
              <a:pathLst>
                <a:path w="5685" h="3516">
                  <a:moveTo>
                    <a:pt x="5059" y="2838"/>
                  </a:moveTo>
                  <a:lnTo>
                    <a:pt x="5090" y="2889"/>
                  </a:lnTo>
                  <a:lnTo>
                    <a:pt x="5120" y="2939"/>
                  </a:lnTo>
                  <a:lnTo>
                    <a:pt x="5152" y="2989"/>
                  </a:lnTo>
                  <a:lnTo>
                    <a:pt x="5183" y="3038"/>
                  </a:lnTo>
                  <a:lnTo>
                    <a:pt x="5217" y="3085"/>
                  </a:lnTo>
                  <a:lnTo>
                    <a:pt x="5250" y="3130"/>
                  </a:lnTo>
                  <a:lnTo>
                    <a:pt x="5285" y="3175"/>
                  </a:lnTo>
                  <a:lnTo>
                    <a:pt x="5322" y="3218"/>
                  </a:lnTo>
                  <a:lnTo>
                    <a:pt x="5360" y="3260"/>
                  </a:lnTo>
                  <a:lnTo>
                    <a:pt x="5400" y="3300"/>
                  </a:lnTo>
                  <a:lnTo>
                    <a:pt x="5441" y="3339"/>
                  </a:lnTo>
                  <a:lnTo>
                    <a:pt x="5486" y="3375"/>
                  </a:lnTo>
                  <a:lnTo>
                    <a:pt x="5532" y="3410"/>
                  </a:lnTo>
                  <a:lnTo>
                    <a:pt x="5581" y="3444"/>
                  </a:lnTo>
                  <a:lnTo>
                    <a:pt x="5630" y="3476"/>
                  </a:lnTo>
                  <a:lnTo>
                    <a:pt x="5685" y="3506"/>
                  </a:lnTo>
                  <a:lnTo>
                    <a:pt x="5668" y="3509"/>
                  </a:lnTo>
                  <a:lnTo>
                    <a:pt x="5652" y="3513"/>
                  </a:lnTo>
                  <a:lnTo>
                    <a:pt x="5635" y="3514"/>
                  </a:lnTo>
                  <a:lnTo>
                    <a:pt x="5620" y="3515"/>
                  </a:lnTo>
                  <a:lnTo>
                    <a:pt x="5605" y="3516"/>
                  </a:lnTo>
                  <a:lnTo>
                    <a:pt x="5589" y="3516"/>
                  </a:lnTo>
                  <a:lnTo>
                    <a:pt x="5575" y="3515"/>
                  </a:lnTo>
                  <a:lnTo>
                    <a:pt x="5559" y="3513"/>
                  </a:lnTo>
                  <a:lnTo>
                    <a:pt x="5546" y="3511"/>
                  </a:lnTo>
                  <a:lnTo>
                    <a:pt x="5532" y="3508"/>
                  </a:lnTo>
                  <a:lnTo>
                    <a:pt x="5519" y="3505"/>
                  </a:lnTo>
                  <a:lnTo>
                    <a:pt x="5506" y="3501"/>
                  </a:lnTo>
                  <a:lnTo>
                    <a:pt x="5491" y="3498"/>
                  </a:lnTo>
                  <a:lnTo>
                    <a:pt x="5480" y="3492"/>
                  </a:lnTo>
                  <a:lnTo>
                    <a:pt x="5466" y="3486"/>
                  </a:lnTo>
                  <a:lnTo>
                    <a:pt x="5454" y="3481"/>
                  </a:lnTo>
                  <a:lnTo>
                    <a:pt x="5432" y="3472"/>
                  </a:lnTo>
                  <a:lnTo>
                    <a:pt x="5410" y="3459"/>
                  </a:lnTo>
                  <a:lnTo>
                    <a:pt x="5389" y="3448"/>
                  </a:lnTo>
                  <a:lnTo>
                    <a:pt x="5366" y="3433"/>
                  </a:lnTo>
                  <a:lnTo>
                    <a:pt x="5342" y="3419"/>
                  </a:lnTo>
                  <a:lnTo>
                    <a:pt x="5318" y="3405"/>
                  </a:lnTo>
                  <a:lnTo>
                    <a:pt x="5293" y="3389"/>
                  </a:lnTo>
                  <a:lnTo>
                    <a:pt x="5269" y="3374"/>
                  </a:lnTo>
                  <a:lnTo>
                    <a:pt x="5243" y="3359"/>
                  </a:lnTo>
                  <a:lnTo>
                    <a:pt x="5218" y="3343"/>
                  </a:lnTo>
                  <a:lnTo>
                    <a:pt x="5192" y="3329"/>
                  </a:lnTo>
                  <a:lnTo>
                    <a:pt x="5166" y="3316"/>
                  </a:lnTo>
                  <a:lnTo>
                    <a:pt x="5139" y="3301"/>
                  </a:lnTo>
                  <a:lnTo>
                    <a:pt x="5111" y="3290"/>
                  </a:lnTo>
                  <a:lnTo>
                    <a:pt x="5084" y="3278"/>
                  </a:lnTo>
                  <a:lnTo>
                    <a:pt x="5058" y="3269"/>
                  </a:lnTo>
                  <a:lnTo>
                    <a:pt x="5034" y="3261"/>
                  </a:lnTo>
                  <a:lnTo>
                    <a:pt x="5010" y="3256"/>
                  </a:lnTo>
                  <a:lnTo>
                    <a:pt x="4986" y="3251"/>
                  </a:lnTo>
                  <a:lnTo>
                    <a:pt x="4962" y="3248"/>
                  </a:lnTo>
                  <a:lnTo>
                    <a:pt x="4938" y="3245"/>
                  </a:lnTo>
                  <a:lnTo>
                    <a:pt x="4915" y="3243"/>
                  </a:lnTo>
                  <a:lnTo>
                    <a:pt x="4890" y="3243"/>
                  </a:lnTo>
                  <a:lnTo>
                    <a:pt x="4866" y="3243"/>
                  </a:lnTo>
                  <a:lnTo>
                    <a:pt x="4841" y="3244"/>
                  </a:lnTo>
                  <a:lnTo>
                    <a:pt x="4816" y="3246"/>
                  </a:lnTo>
                  <a:lnTo>
                    <a:pt x="4791" y="3249"/>
                  </a:lnTo>
                  <a:lnTo>
                    <a:pt x="4766" y="3252"/>
                  </a:lnTo>
                  <a:lnTo>
                    <a:pt x="4741" y="3256"/>
                  </a:lnTo>
                  <a:lnTo>
                    <a:pt x="4714" y="3261"/>
                  </a:lnTo>
                  <a:lnTo>
                    <a:pt x="4688" y="3266"/>
                  </a:lnTo>
                  <a:lnTo>
                    <a:pt x="4662" y="3271"/>
                  </a:lnTo>
                  <a:lnTo>
                    <a:pt x="4636" y="3277"/>
                  </a:lnTo>
                  <a:lnTo>
                    <a:pt x="4610" y="3284"/>
                  </a:lnTo>
                  <a:lnTo>
                    <a:pt x="4582" y="3291"/>
                  </a:lnTo>
                  <a:lnTo>
                    <a:pt x="4556" y="3298"/>
                  </a:lnTo>
                  <a:lnTo>
                    <a:pt x="4529" y="3304"/>
                  </a:lnTo>
                  <a:lnTo>
                    <a:pt x="4501" y="3312"/>
                  </a:lnTo>
                  <a:lnTo>
                    <a:pt x="4472" y="3319"/>
                  </a:lnTo>
                  <a:lnTo>
                    <a:pt x="4444" y="3327"/>
                  </a:lnTo>
                  <a:lnTo>
                    <a:pt x="4415" y="3335"/>
                  </a:lnTo>
                  <a:lnTo>
                    <a:pt x="4387" y="3342"/>
                  </a:lnTo>
                  <a:lnTo>
                    <a:pt x="4357" y="3349"/>
                  </a:lnTo>
                  <a:lnTo>
                    <a:pt x="4328" y="3357"/>
                  </a:lnTo>
                  <a:lnTo>
                    <a:pt x="4297" y="3364"/>
                  </a:lnTo>
                  <a:lnTo>
                    <a:pt x="4267" y="3369"/>
                  </a:lnTo>
                  <a:lnTo>
                    <a:pt x="4236" y="3376"/>
                  </a:lnTo>
                  <a:lnTo>
                    <a:pt x="4204" y="3382"/>
                  </a:lnTo>
                  <a:lnTo>
                    <a:pt x="4156" y="3390"/>
                  </a:lnTo>
                  <a:lnTo>
                    <a:pt x="4110" y="3400"/>
                  </a:lnTo>
                  <a:lnTo>
                    <a:pt x="4067" y="3410"/>
                  </a:lnTo>
                  <a:lnTo>
                    <a:pt x="4025" y="3419"/>
                  </a:lnTo>
                  <a:lnTo>
                    <a:pt x="3985" y="3431"/>
                  </a:lnTo>
                  <a:lnTo>
                    <a:pt x="3947" y="3440"/>
                  </a:lnTo>
                  <a:lnTo>
                    <a:pt x="3910" y="3449"/>
                  </a:lnTo>
                  <a:lnTo>
                    <a:pt x="3874" y="3456"/>
                  </a:lnTo>
                  <a:lnTo>
                    <a:pt x="3840" y="3464"/>
                  </a:lnTo>
                  <a:lnTo>
                    <a:pt x="3806" y="3469"/>
                  </a:lnTo>
                  <a:lnTo>
                    <a:pt x="3773" y="3473"/>
                  </a:lnTo>
                  <a:lnTo>
                    <a:pt x="3743" y="3475"/>
                  </a:lnTo>
                  <a:lnTo>
                    <a:pt x="3712" y="3474"/>
                  </a:lnTo>
                  <a:lnTo>
                    <a:pt x="3682" y="3472"/>
                  </a:lnTo>
                  <a:lnTo>
                    <a:pt x="3653" y="3465"/>
                  </a:lnTo>
                  <a:lnTo>
                    <a:pt x="3626" y="3456"/>
                  </a:lnTo>
                  <a:lnTo>
                    <a:pt x="3611" y="3449"/>
                  </a:lnTo>
                  <a:lnTo>
                    <a:pt x="3604" y="3439"/>
                  </a:lnTo>
                  <a:lnTo>
                    <a:pt x="3603" y="3428"/>
                  </a:lnTo>
                  <a:lnTo>
                    <a:pt x="3608" y="3416"/>
                  </a:lnTo>
                  <a:lnTo>
                    <a:pt x="3617" y="3405"/>
                  </a:lnTo>
                  <a:lnTo>
                    <a:pt x="3629" y="3390"/>
                  </a:lnTo>
                  <a:lnTo>
                    <a:pt x="3646" y="3376"/>
                  </a:lnTo>
                  <a:lnTo>
                    <a:pt x="3663" y="3361"/>
                  </a:lnTo>
                  <a:lnTo>
                    <a:pt x="3682" y="3345"/>
                  </a:lnTo>
                  <a:lnTo>
                    <a:pt x="3701" y="3329"/>
                  </a:lnTo>
                  <a:lnTo>
                    <a:pt x="3718" y="3314"/>
                  </a:lnTo>
                  <a:lnTo>
                    <a:pt x="3733" y="3296"/>
                  </a:lnTo>
                  <a:lnTo>
                    <a:pt x="3747" y="3282"/>
                  </a:lnTo>
                  <a:lnTo>
                    <a:pt x="3754" y="3266"/>
                  </a:lnTo>
                  <a:lnTo>
                    <a:pt x="3759" y="3251"/>
                  </a:lnTo>
                  <a:lnTo>
                    <a:pt x="3758" y="3235"/>
                  </a:lnTo>
                  <a:lnTo>
                    <a:pt x="3751" y="3223"/>
                  </a:lnTo>
                  <a:lnTo>
                    <a:pt x="3743" y="3211"/>
                  </a:lnTo>
                  <a:lnTo>
                    <a:pt x="3729" y="3203"/>
                  </a:lnTo>
                  <a:lnTo>
                    <a:pt x="3715" y="3194"/>
                  </a:lnTo>
                  <a:lnTo>
                    <a:pt x="3699" y="3187"/>
                  </a:lnTo>
                  <a:lnTo>
                    <a:pt x="3678" y="3183"/>
                  </a:lnTo>
                  <a:lnTo>
                    <a:pt x="3658" y="3179"/>
                  </a:lnTo>
                  <a:lnTo>
                    <a:pt x="3637" y="3177"/>
                  </a:lnTo>
                  <a:lnTo>
                    <a:pt x="3616" y="3176"/>
                  </a:lnTo>
                  <a:lnTo>
                    <a:pt x="3593" y="3175"/>
                  </a:lnTo>
                  <a:lnTo>
                    <a:pt x="3571" y="3175"/>
                  </a:lnTo>
                  <a:lnTo>
                    <a:pt x="3550" y="3176"/>
                  </a:lnTo>
                  <a:lnTo>
                    <a:pt x="3530" y="3178"/>
                  </a:lnTo>
                  <a:lnTo>
                    <a:pt x="3511" y="3180"/>
                  </a:lnTo>
                  <a:lnTo>
                    <a:pt x="3494" y="3183"/>
                  </a:lnTo>
                  <a:lnTo>
                    <a:pt x="3479" y="3186"/>
                  </a:lnTo>
                  <a:lnTo>
                    <a:pt x="3454" y="3193"/>
                  </a:lnTo>
                  <a:lnTo>
                    <a:pt x="3429" y="3202"/>
                  </a:lnTo>
                  <a:lnTo>
                    <a:pt x="3404" y="3210"/>
                  </a:lnTo>
                  <a:lnTo>
                    <a:pt x="3380" y="3220"/>
                  </a:lnTo>
                  <a:lnTo>
                    <a:pt x="3356" y="3229"/>
                  </a:lnTo>
                  <a:lnTo>
                    <a:pt x="3333" y="3242"/>
                  </a:lnTo>
                  <a:lnTo>
                    <a:pt x="3309" y="3252"/>
                  </a:lnTo>
                  <a:lnTo>
                    <a:pt x="3286" y="3266"/>
                  </a:lnTo>
                  <a:lnTo>
                    <a:pt x="3262" y="3277"/>
                  </a:lnTo>
                  <a:lnTo>
                    <a:pt x="3239" y="3291"/>
                  </a:lnTo>
                  <a:lnTo>
                    <a:pt x="3216" y="3304"/>
                  </a:lnTo>
                  <a:lnTo>
                    <a:pt x="3194" y="3318"/>
                  </a:lnTo>
                  <a:lnTo>
                    <a:pt x="3171" y="3332"/>
                  </a:lnTo>
                  <a:lnTo>
                    <a:pt x="3149" y="3344"/>
                  </a:lnTo>
                  <a:lnTo>
                    <a:pt x="3127" y="3359"/>
                  </a:lnTo>
                  <a:lnTo>
                    <a:pt x="3104" y="3373"/>
                  </a:lnTo>
                  <a:lnTo>
                    <a:pt x="3081" y="3386"/>
                  </a:lnTo>
                  <a:lnTo>
                    <a:pt x="3058" y="3399"/>
                  </a:lnTo>
                  <a:lnTo>
                    <a:pt x="3035" y="3411"/>
                  </a:lnTo>
                  <a:lnTo>
                    <a:pt x="3012" y="3425"/>
                  </a:lnTo>
                  <a:lnTo>
                    <a:pt x="2989" y="3436"/>
                  </a:lnTo>
                  <a:lnTo>
                    <a:pt x="2966" y="3448"/>
                  </a:lnTo>
                  <a:lnTo>
                    <a:pt x="2942" y="3458"/>
                  </a:lnTo>
                  <a:lnTo>
                    <a:pt x="2920" y="3468"/>
                  </a:lnTo>
                  <a:lnTo>
                    <a:pt x="2896" y="3478"/>
                  </a:lnTo>
                  <a:lnTo>
                    <a:pt x="2872" y="3486"/>
                  </a:lnTo>
                  <a:lnTo>
                    <a:pt x="2847" y="3493"/>
                  </a:lnTo>
                  <a:lnTo>
                    <a:pt x="2823" y="3500"/>
                  </a:lnTo>
                  <a:lnTo>
                    <a:pt x="2798" y="3505"/>
                  </a:lnTo>
                  <a:lnTo>
                    <a:pt x="2773" y="3509"/>
                  </a:lnTo>
                  <a:lnTo>
                    <a:pt x="2748" y="3513"/>
                  </a:lnTo>
                  <a:lnTo>
                    <a:pt x="2722" y="3514"/>
                  </a:lnTo>
                  <a:lnTo>
                    <a:pt x="2690" y="3511"/>
                  </a:lnTo>
                  <a:lnTo>
                    <a:pt x="2660" y="3506"/>
                  </a:lnTo>
                  <a:lnTo>
                    <a:pt x="2632" y="3496"/>
                  </a:lnTo>
                  <a:lnTo>
                    <a:pt x="2605" y="3482"/>
                  </a:lnTo>
                  <a:lnTo>
                    <a:pt x="2578" y="3465"/>
                  </a:lnTo>
                  <a:lnTo>
                    <a:pt x="2552" y="3447"/>
                  </a:lnTo>
                  <a:lnTo>
                    <a:pt x="2526" y="3426"/>
                  </a:lnTo>
                  <a:lnTo>
                    <a:pt x="2501" y="3405"/>
                  </a:lnTo>
                  <a:lnTo>
                    <a:pt x="2475" y="3383"/>
                  </a:lnTo>
                  <a:lnTo>
                    <a:pt x="2450" y="3360"/>
                  </a:lnTo>
                  <a:lnTo>
                    <a:pt x="2424" y="3339"/>
                  </a:lnTo>
                  <a:lnTo>
                    <a:pt x="2398" y="3318"/>
                  </a:lnTo>
                  <a:lnTo>
                    <a:pt x="2370" y="3299"/>
                  </a:lnTo>
                  <a:lnTo>
                    <a:pt x="2344" y="3282"/>
                  </a:lnTo>
                  <a:lnTo>
                    <a:pt x="2316" y="3269"/>
                  </a:lnTo>
                  <a:lnTo>
                    <a:pt x="2285" y="3258"/>
                  </a:lnTo>
                  <a:lnTo>
                    <a:pt x="2260" y="3251"/>
                  </a:lnTo>
                  <a:lnTo>
                    <a:pt x="2237" y="3249"/>
                  </a:lnTo>
                  <a:lnTo>
                    <a:pt x="2217" y="3245"/>
                  </a:lnTo>
                  <a:lnTo>
                    <a:pt x="2196" y="3244"/>
                  </a:lnTo>
                  <a:lnTo>
                    <a:pt x="2178" y="3244"/>
                  </a:lnTo>
                  <a:lnTo>
                    <a:pt x="2159" y="3245"/>
                  </a:lnTo>
                  <a:lnTo>
                    <a:pt x="2142" y="3248"/>
                  </a:lnTo>
                  <a:lnTo>
                    <a:pt x="2125" y="3250"/>
                  </a:lnTo>
                  <a:lnTo>
                    <a:pt x="2106" y="3252"/>
                  </a:lnTo>
                  <a:lnTo>
                    <a:pt x="2088" y="3254"/>
                  </a:lnTo>
                  <a:lnTo>
                    <a:pt x="2070" y="3258"/>
                  </a:lnTo>
                  <a:lnTo>
                    <a:pt x="2051" y="3261"/>
                  </a:lnTo>
                  <a:lnTo>
                    <a:pt x="2031" y="3265"/>
                  </a:lnTo>
                  <a:lnTo>
                    <a:pt x="2009" y="3267"/>
                  </a:lnTo>
                  <a:lnTo>
                    <a:pt x="1986" y="3268"/>
                  </a:lnTo>
                  <a:lnTo>
                    <a:pt x="1960" y="3269"/>
                  </a:lnTo>
                  <a:lnTo>
                    <a:pt x="1929" y="3269"/>
                  </a:lnTo>
                  <a:lnTo>
                    <a:pt x="1896" y="3268"/>
                  </a:lnTo>
                  <a:lnTo>
                    <a:pt x="1863" y="3265"/>
                  </a:lnTo>
                  <a:lnTo>
                    <a:pt x="1828" y="3261"/>
                  </a:lnTo>
                  <a:lnTo>
                    <a:pt x="1792" y="3258"/>
                  </a:lnTo>
                  <a:lnTo>
                    <a:pt x="1756" y="3253"/>
                  </a:lnTo>
                  <a:lnTo>
                    <a:pt x="1720" y="3250"/>
                  </a:lnTo>
                  <a:lnTo>
                    <a:pt x="1682" y="3246"/>
                  </a:lnTo>
                  <a:lnTo>
                    <a:pt x="1647" y="3242"/>
                  </a:lnTo>
                  <a:lnTo>
                    <a:pt x="1609" y="3238"/>
                  </a:lnTo>
                  <a:lnTo>
                    <a:pt x="1574" y="3236"/>
                  </a:lnTo>
                  <a:lnTo>
                    <a:pt x="1539" y="3235"/>
                  </a:lnTo>
                  <a:lnTo>
                    <a:pt x="1505" y="3235"/>
                  </a:lnTo>
                  <a:lnTo>
                    <a:pt x="1471" y="3237"/>
                  </a:lnTo>
                  <a:lnTo>
                    <a:pt x="1440" y="3241"/>
                  </a:lnTo>
                  <a:lnTo>
                    <a:pt x="1409" y="3246"/>
                  </a:lnTo>
                  <a:lnTo>
                    <a:pt x="1378" y="3253"/>
                  </a:lnTo>
                  <a:lnTo>
                    <a:pt x="1348" y="3262"/>
                  </a:lnTo>
                  <a:lnTo>
                    <a:pt x="1318" y="3273"/>
                  </a:lnTo>
                  <a:lnTo>
                    <a:pt x="1288" y="3284"/>
                  </a:lnTo>
                  <a:lnTo>
                    <a:pt x="1257" y="3296"/>
                  </a:lnTo>
                  <a:lnTo>
                    <a:pt x="1226" y="3309"/>
                  </a:lnTo>
                  <a:lnTo>
                    <a:pt x="1197" y="3321"/>
                  </a:lnTo>
                  <a:lnTo>
                    <a:pt x="1166" y="3335"/>
                  </a:lnTo>
                  <a:lnTo>
                    <a:pt x="1135" y="3349"/>
                  </a:lnTo>
                  <a:lnTo>
                    <a:pt x="1107" y="3362"/>
                  </a:lnTo>
                  <a:lnTo>
                    <a:pt x="1076" y="3376"/>
                  </a:lnTo>
                  <a:lnTo>
                    <a:pt x="1045" y="3389"/>
                  </a:lnTo>
                  <a:lnTo>
                    <a:pt x="1015" y="3401"/>
                  </a:lnTo>
                  <a:lnTo>
                    <a:pt x="986" y="3412"/>
                  </a:lnTo>
                  <a:lnTo>
                    <a:pt x="955" y="3423"/>
                  </a:lnTo>
                  <a:lnTo>
                    <a:pt x="925" y="3433"/>
                  </a:lnTo>
                  <a:lnTo>
                    <a:pt x="906" y="3436"/>
                  </a:lnTo>
                  <a:lnTo>
                    <a:pt x="887" y="3441"/>
                  </a:lnTo>
                  <a:lnTo>
                    <a:pt x="868" y="3444"/>
                  </a:lnTo>
                  <a:lnTo>
                    <a:pt x="847" y="3448"/>
                  </a:lnTo>
                  <a:lnTo>
                    <a:pt x="827" y="3450"/>
                  </a:lnTo>
                  <a:lnTo>
                    <a:pt x="808" y="3451"/>
                  </a:lnTo>
                  <a:lnTo>
                    <a:pt x="787" y="3452"/>
                  </a:lnTo>
                  <a:lnTo>
                    <a:pt x="768" y="3452"/>
                  </a:lnTo>
                  <a:lnTo>
                    <a:pt x="747" y="3453"/>
                  </a:lnTo>
                  <a:lnTo>
                    <a:pt x="726" y="3452"/>
                  </a:lnTo>
                  <a:lnTo>
                    <a:pt x="705" y="3452"/>
                  </a:lnTo>
                  <a:lnTo>
                    <a:pt x="686" y="3452"/>
                  </a:lnTo>
                  <a:lnTo>
                    <a:pt x="665" y="3451"/>
                  </a:lnTo>
                  <a:lnTo>
                    <a:pt x="645" y="3450"/>
                  </a:lnTo>
                  <a:lnTo>
                    <a:pt x="626" y="3450"/>
                  </a:lnTo>
                  <a:lnTo>
                    <a:pt x="606" y="344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5" y="23"/>
                  </a:lnTo>
                  <a:lnTo>
                    <a:pt x="58" y="30"/>
                  </a:lnTo>
                  <a:lnTo>
                    <a:pt x="68" y="35"/>
                  </a:lnTo>
                  <a:lnTo>
                    <a:pt x="81" y="41"/>
                  </a:lnTo>
                  <a:lnTo>
                    <a:pt x="91" y="48"/>
                  </a:lnTo>
                  <a:lnTo>
                    <a:pt x="104" y="53"/>
                  </a:lnTo>
                  <a:lnTo>
                    <a:pt x="114" y="58"/>
                  </a:lnTo>
                  <a:lnTo>
                    <a:pt x="126" y="64"/>
                  </a:lnTo>
                  <a:lnTo>
                    <a:pt x="138" y="69"/>
                  </a:lnTo>
                  <a:lnTo>
                    <a:pt x="149" y="74"/>
                  </a:lnTo>
                  <a:lnTo>
                    <a:pt x="160" y="78"/>
                  </a:lnTo>
                  <a:lnTo>
                    <a:pt x="174" y="81"/>
                  </a:lnTo>
                  <a:lnTo>
                    <a:pt x="185" y="84"/>
                  </a:lnTo>
                  <a:lnTo>
                    <a:pt x="208" y="89"/>
                  </a:lnTo>
                  <a:lnTo>
                    <a:pt x="230" y="91"/>
                  </a:lnTo>
                  <a:lnTo>
                    <a:pt x="252" y="93"/>
                  </a:lnTo>
                  <a:lnTo>
                    <a:pt x="274" y="93"/>
                  </a:lnTo>
                  <a:lnTo>
                    <a:pt x="297" y="92"/>
                  </a:lnTo>
                  <a:lnTo>
                    <a:pt x="318" y="91"/>
                  </a:lnTo>
                  <a:lnTo>
                    <a:pt x="340" y="90"/>
                  </a:lnTo>
                  <a:lnTo>
                    <a:pt x="363" y="88"/>
                  </a:lnTo>
                  <a:lnTo>
                    <a:pt x="384" y="85"/>
                  </a:lnTo>
                  <a:lnTo>
                    <a:pt x="406" y="84"/>
                  </a:lnTo>
                  <a:lnTo>
                    <a:pt x="428" y="83"/>
                  </a:lnTo>
                  <a:lnTo>
                    <a:pt x="449" y="83"/>
                  </a:lnTo>
                  <a:lnTo>
                    <a:pt x="471" y="84"/>
                  </a:lnTo>
                  <a:lnTo>
                    <a:pt x="494" y="85"/>
                  </a:lnTo>
                  <a:lnTo>
                    <a:pt x="515" y="89"/>
                  </a:lnTo>
                  <a:lnTo>
                    <a:pt x="538" y="94"/>
                  </a:lnTo>
                  <a:lnTo>
                    <a:pt x="583" y="107"/>
                  </a:lnTo>
                  <a:lnTo>
                    <a:pt x="627" y="123"/>
                  </a:lnTo>
                  <a:lnTo>
                    <a:pt x="669" y="139"/>
                  </a:lnTo>
                  <a:lnTo>
                    <a:pt x="711" y="156"/>
                  </a:lnTo>
                  <a:lnTo>
                    <a:pt x="751" y="174"/>
                  </a:lnTo>
                  <a:lnTo>
                    <a:pt x="793" y="193"/>
                  </a:lnTo>
                  <a:lnTo>
                    <a:pt x="833" y="213"/>
                  </a:lnTo>
                  <a:lnTo>
                    <a:pt x="871" y="232"/>
                  </a:lnTo>
                  <a:lnTo>
                    <a:pt x="912" y="251"/>
                  </a:lnTo>
                  <a:lnTo>
                    <a:pt x="952" y="270"/>
                  </a:lnTo>
                  <a:lnTo>
                    <a:pt x="993" y="288"/>
                  </a:lnTo>
                  <a:lnTo>
                    <a:pt x="1035" y="306"/>
                  </a:lnTo>
                  <a:lnTo>
                    <a:pt x="1076" y="322"/>
                  </a:lnTo>
                  <a:lnTo>
                    <a:pt x="1119" y="336"/>
                  </a:lnTo>
                  <a:lnTo>
                    <a:pt x="1162" y="349"/>
                  </a:lnTo>
                  <a:lnTo>
                    <a:pt x="1208" y="359"/>
                  </a:lnTo>
                  <a:lnTo>
                    <a:pt x="1235" y="364"/>
                  </a:lnTo>
                  <a:lnTo>
                    <a:pt x="1266" y="369"/>
                  </a:lnTo>
                  <a:lnTo>
                    <a:pt x="1298" y="371"/>
                  </a:lnTo>
                  <a:lnTo>
                    <a:pt x="1332" y="372"/>
                  </a:lnTo>
                  <a:lnTo>
                    <a:pt x="1368" y="372"/>
                  </a:lnTo>
                  <a:lnTo>
                    <a:pt x="1405" y="371"/>
                  </a:lnTo>
                  <a:lnTo>
                    <a:pt x="1441" y="370"/>
                  </a:lnTo>
                  <a:lnTo>
                    <a:pt x="1480" y="366"/>
                  </a:lnTo>
                  <a:lnTo>
                    <a:pt x="1516" y="364"/>
                  </a:lnTo>
                  <a:lnTo>
                    <a:pt x="1554" y="359"/>
                  </a:lnTo>
                  <a:lnTo>
                    <a:pt x="1589" y="356"/>
                  </a:lnTo>
                  <a:lnTo>
                    <a:pt x="1624" y="353"/>
                  </a:lnTo>
                  <a:lnTo>
                    <a:pt x="1657" y="348"/>
                  </a:lnTo>
                  <a:lnTo>
                    <a:pt x="1689" y="342"/>
                  </a:lnTo>
                  <a:lnTo>
                    <a:pt x="1717" y="338"/>
                  </a:lnTo>
                  <a:lnTo>
                    <a:pt x="1744" y="333"/>
                  </a:lnTo>
                  <a:lnTo>
                    <a:pt x="1789" y="325"/>
                  </a:lnTo>
                  <a:lnTo>
                    <a:pt x="1831" y="316"/>
                  </a:lnTo>
                  <a:lnTo>
                    <a:pt x="1869" y="308"/>
                  </a:lnTo>
                  <a:lnTo>
                    <a:pt x="1904" y="300"/>
                  </a:lnTo>
                  <a:lnTo>
                    <a:pt x="1936" y="291"/>
                  </a:lnTo>
                  <a:lnTo>
                    <a:pt x="1965" y="284"/>
                  </a:lnTo>
                  <a:lnTo>
                    <a:pt x="1994" y="276"/>
                  </a:lnTo>
                  <a:lnTo>
                    <a:pt x="2020" y="268"/>
                  </a:lnTo>
                  <a:lnTo>
                    <a:pt x="2046" y="263"/>
                  </a:lnTo>
                  <a:lnTo>
                    <a:pt x="2072" y="256"/>
                  </a:lnTo>
                  <a:lnTo>
                    <a:pt x="2097" y="250"/>
                  </a:lnTo>
                  <a:lnTo>
                    <a:pt x="2123" y="245"/>
                  </a:lnTo>
                  <a:lnTo>
                    <a:pt x="2151" y="240"/>
                  </a:lnTo>
                  <a:lnTo>
                    <a:pt x="2178" y="237"/>
                  </a:lnTo>
                  <a:lnTo>
                    <a:pt x="2209" y="233"/>
                  </a:lnTo>
                  <a:lnTo>
                    <a:pt x="2242" y="230"/>
                  </a:lnTo>
                  <a:lnTo>
                    <a:pt x="2255" y="230"/>
                  </a:lnTo>
                  <a:lnTo>
                    <a:pt x="2271" y="232"/>
                  </a:lnTo>
                  <a:lnTo>
                    <a:pt x="2285" y="235"/>
                  </a:lnTo>
                  <a:lnTo>
                    <a:pt x="2297" y="240"/>
                  </a:lnTo>
                  <a:lnTo>
                    <a:pt x="2312" y="247"/>
                  </a:lnTo>
                  <a:lnTo>
                    <a:pt x="2326" y="255"/>
                  </a:lnTo>
                  <a:lnTo>
                    <a:pt x="2340" y="263"/>
                  </a:lnTo>
                  <a:lnTo>
                    <a:pt x="2353" y="272"/>
                  </a:lnTo>
                  <a:lnTo>
                    <a:pt x="2367" y="282"/>
                  </a:lnTo>
                  <a:lnTo>
                    <a:pt x="2381" y="290"/>
                  </a:lnTo>
                  <a:lnTo>
                    <a:pt x="2393" y="300"/>
                  </a:lnTo>
                  <a:lnTo>
                    <a:pt x="2408" y="308"/>
                  </a:lnTo>
                  <a:lnTo>
                    <a:pt x="2421" y="316"/>
                  </a:lnTo>
                  <a:lnTo>
                    <a:pt x="2436" y="324"/>
                  </a:lnTo>
                  <a:lnTo>
                    <a:pt x="2450" y="331"/>
                  </a:lnTo>
                  <a:lnTo>
                    <a:pt x="2464" y="334"/>
                  </a:lnTo>
                  <a:lnTo>
                    <a:pt x="2477" y="338"/>
                  </a:lnTo>
                  <a:lnTo>
                    <a:pt x="2490" y="341"/>
                  </a:lnTo>
                  <a:lnTo>
                    <a:pt x="2503" y="344"/>
                  </a:lnTo>
                  <a:lnTo>
                    <a:pt x="2516" y="346"/>
                  </a:lnTo>
                  <a:lnTo>
                    <a:pt x="2530" y="347"/>
                  </a:lnTo>
                  <a:lnTo>
                    <a:pt x="2542" y="349"/>
                  </a:lnTo>
                  <a:lnTo>
                    <a:pt x="2557" y="350"/>
                  </a:lnTo>
                  <a:lnTo>
                    <a:pt x="2569" y="351"/>
                  </a:lnTo>
                  <a:lnTo>
                    <a:pt x="2583" y="354"/>
                  </a:lnTo>
                  <a:lnTo>
                    <a:pt x="2597" y="354"/>
                  </a:lnTo>
                  <a:lnTo>
                    <a:pt x="2609" y="356"/>
                  </a:lnTo>
                  <a:lnTo>
                    <a:pt x="2624" y="357"/>
                  </a:lnTo>
                  <a:lnTo>
                    <a:pt x="2636" y="359"/>
                  </a:lnTo>
                  <a:lnTo>
                    <a:pt x="2650" y="362"/>
                  </a:lnTo>
                  <a:lnTo>
                    <a:pt x="2663" y="365"/>
                  </a:lnTo>
                  <a:lnTo>
                    <a:pt x="2676" y="369"/>
                  </a:lnTo>
                  <a:lnTo>
                    <a:pt x="2691" y="373"/>
                  </a:lnTo>
                  <a:lnTo>
                    <a:pt x="2706" y="378"/>
                  </a:lnTo>
                  <a:lnTo>
                    <a:pt x="2721" y="383"/>
                  </a:lnTo>
                  <a:lnTo>
                    <a:pt x="2734" y="389"/>
                  </a:lnTo>
                  <a:lnTo>
                    <a:pt x="2749" y="395"/>
                  </a:lnTo>
                  <a:lnTo>
                    <a:pt x="2763" y="400"/>
                  </a:lnTo>
                  <a:lnTo>
                    <a:pt x="2776" y="406"/>
                  </a:lnTo>
                  <a:lnTo>
                    <a:pt x="2791" y="413"/>
                  </a:lnTo>
                  <a:lnTo>
                    <a:pt x="2805" y="419"/>
                  </a:lnTo>
                  <a:lnTo>
                    <a:pt x="2820" y="423"/>
                  </a:lnTo>
                  <a:lnTo>
                    <a:pt x="2834" y="428"/>
                  </a:lnTo>
                  <a:lnTo>
                    <a:pt x="2848" y="432"/>
                  </a:lnTo>
                  <a:lnTo>
                    <a:pt x="2864" y="436"/>
                  </a:lnTo>
                  <a:lnTo>
                    <a:pt x="2878" y="439"/>
                  </a:lnTo>
                  <a:lnTo>
                    <a:pt x="2893" y="440"/>
                  </a:lnTo>
                  <a:lnTo>
                    <a:pt x="2909" y="441"/>
                  </a:lnTo>
                  <a:lnTo>
                    <a:pt x="2939" y="441"/>
                  </a:lnTo>
                  <a:lnTo>
                    <a:pt x="2966" y="439"/>
                  </a:lnTo>
                  <a:lnTo>
                    <a:pt x="2995" y="435"/>
                  </a:lnTo>
                  <a:lnTo>
                    <a:pt x="3024" y="430"/>
                  </a:lnTo>
                  <a:lnTo>
                    <a:pt x="3053" y="423"/>
                  </a:lnTo>
                  <a:lnTo>
                    <a:pt x="3081" y="416"/>
                  </a:lnTo>
                  <a:lnTo>
                    <a:pt x="3108" y="408"/>
                  </a:lnTo>
                  <a:lnTo>
                    <a:pt x="3137" y="400"/>
                  </a:lnTo>
                  <a:lnTo>
                    <a:pt x="3165" y="392"/>
                  </a:lnTo>
                  <a:lnTo>
                    <a:pt x="3194" y="383"/>
                  </a:lnTo>
                  <a:lnTo>
                    <a:pt x="3222" y="377"/>
                  </a:lnTo>
                  <a:lnTo>
                    <a:pt x="3249" y="369"/>
                  </a:lnTo>
                  <a:lnTo>
                    <a:pt x="3279" y="362"/>
                  </a:lnTo>
                  <a:lnTo>
                    <a:pt x="3307" y="355"/>
                  </a:lnTo>
                  <a:lnTo>
                    <a:pt x="3336" y="351"/>
                  </a:lnTo>
                  <a:lnTo>
                    <a:pt x="3365" y="348"/>
                  </a:lnTo>
                  <a:lnTo>
                    <a:pt x="3386" y="347"/>
                  </a:lnTo>
                  <a:lnTo>
                    <a:pt x="3408" y="346"/>
                  </a:lnTo>
                  <a:lnTo>
                    <a:pt x="3428" y="346"/>
                  </a:lnTo>
                  <a:lnTo>
                    <a:pt x="3447" y="346"/>
                  </a:lnTo>
                  <a:lnTo>
                    <a:pt x="3468" y="347"/>
                  </a:lnTo>
                  <a:lnTo>
                    <a:pt x="3488" y="349"/>
                  </a:lnTo>
                  <a:lnTo>
                    <a:pt x="3509" y="351"/>
                  </a:lnTo>
                  <a:lnTo>
                    <a:pt x="3528" y="354"/>
                  </a:lnTo>
                  <a:lnTo>
                    <a:pt x="3549" y="356"/>
                  </a:lnTo>
                  <a:lnTo>
                    <a:pt x="3568" y="361"/>
                  </a:lnTo>
                  <a:lnTo>
                    <a:pt x="3587" y="364"/>
                  </a:lnTo>
                  <a:lnTo>
                    <a:pt x="3607" y="369"/>
                  </a:lnTo>
                  <a:lnTo>
                    <a:pt x="3628" y="374"/>
                  </a:lnTo>
                  <a:lnTo>
                    <a:pt x="3648" y="379"/>
                  </a:lnTo>
                  <a:lnTo>
                    <a:pt x="3667" y="384"/>
                  </a:lnTo>
                  <a:lnTo>
                    <a:pt x="3687" y="390"/>
                  </a:lnTo>
                  <a:lnTo>
                    <a:pt x="3702" y="395"/>
                  </a:lnTo>
                  <a:lnTo>
                    <a:pt x="3717" y="399"/>
                  </a:lnTo>
                  <a:lnTo>
                    <a:pt x="3732" y="404"/>
                  </a:lnTo>
                  <a:lnTo>
                    <a:pt x="3749" y="408"/>
                  </a:lnTo>
                  <a:lnTo>
                    <a:pt x="3764" y="414"/>
                  </a:lnTo>
                  <a:lnTo>
                    <a:pt x="3778" y="420"/>
                  </a:lnTo>
                  <a:lnTo>
                    <a:pt x="3794" y="425"/>
                  </a:lnTo>
                  <a:lnTo>
                    <a:pt x="3809" y="432"/>
                  </a:lnTo>
                  <a:lnTo>
                    <a:pt x="3824" y="440"/>
                  </a:lnTo>
                  <a:lnTo>
                    <a:pt x="3839" y="447"/>
                  </a:lnTo>
                  <a:lnTo>
                    <a:pt x="3851" y="455"/>
                  </a:lnTo>
                  <a:lnTo>
                    <a:pt x="3865" y="465"/>
                  </a:lnTo>
                  <a:lnTo>
                    <a:pt x="3876" y="474"/>
                  </a:lnTo>
                  <a:lnTo>
                    <a:pt x="3889" y="485"/>
                  </a:lnTo>
                  <a:lnTo>
                    <a:pt x="3898" y="496"/>
                  </a:lnTo>
                  <a:lnTo>
                    <a:pt x="3908" y="508"/>
                  </a:lnTo>
                  <a:lnTo>
                    <a:pt x="3927" y="543"/>
                  </a:lnTo>
                  <a:lnTo>
                    <a:pt x="3942" y="581"/>
                  </a:lnTo>
                  <a:lnTo>
                    <a:pt x="3954" y="620"/>
                  </a:lnTo>
                  <a:lnTo>
                    <a:pt x="3963" y="660"/>
                  </a:lnTo>
                  <a:lnTo>
                    <a:pt x="3972" y="701"/>
                  </a:lnTo>
                  <a:lnTo>
                    <a:pt x="3982" y="741"/>
                  </a:lnTo>
                  <a:lnTo>
                    <a:pt x="3997" y="778"/>
                  </a:lnTo>
                  <a:lnTo>
                    <a:pt x="4016" y="812"/>
                  </a:lnTo>
                  <a:lnTo>
                    <a:pt x="4029" y="829"/>
                  </a:lnTo>
                  <a:lnTo>
                    <a:pt x="4040" y="844"/>
                  </a:lnTo>
                  <a:lnTo>
                    <a:pt x="4054" y="860"/>
                  </a:lnTo>
                  <a:lnTo>
                    <a:pt x="4066" y="875"/>
                  </a:lnTo>
                  <a:lnTo>
                    <a:pt x="4081" y="890"/>
                  </a:lnTo>
                  <a:lnTo>
                    <a:pt x="4096" y="903"/>
                  </a:lnTo>
                  <a:lnTo>
                    <a:pt x="4110" y="918"/>
                  </a:lnTo>
                  <a:lnTo>
                    <a:pt x="4126" y="932"/>
                  </a:lnTo>
                  <a:lnTo>
                    <a:pt x="4141" y="945"/>
                  </a:lnTo>
                  <a:lnTo>
                    <a:pt x="4157" y="957"/>
                  </a:lnTo>
                  <a:lnTo>
                    <a:pt x="4175" y="969"/>
                  </a:lnTo>
                  <a:lnTo>
                    <a:pt x="4191" y="979"/>
                  </a:lnTo>
                  <a:lnTo>
                    <a:pt x="4208" y="990"/>
                  </a:lnTo>
                  <a:lnTo>
                    <a:pt x="4226" y="999"/>
                  </a:lnTo>
                  <a:lnTo>
                    <a:pt x="4245" y="1008"/>
                  </a:lnTo>
                  <a:lnTo>
                    <a:pt x="4263" y="1015"/>
                  </a:lnTo>
                  <a:lnTo>
                    <a:pt x="4272" y="1018"/>
                  </a:lnTo>
                  <a:lnTo>
                    <a:pt x="4284" y="1021"/>
                  </a:lnTo>
                  <a:lnTo>
                    <a:pt x="4296" y="1025"/>
                  </a:lnTo>
                  <a:lnTo>
                    <a:pt x="4310" y="1027"/>
                  </a:lnTo>
                  <a:lnTo>
                    <a:pt x="4322" y="1029"/>
                  </a:lnTo>
                  <a:lnTo>
                    <a:pt x="4337" y="1031"/>
                  </a:lnTo>
                  <a:lnTo>
                    <a:pt x="4350" y="1032"/>
                  </a:lnTo>
                  <a:lnTo>
                    <a:pt x="4366" y="1033"/>
                  </a:lnTo>
                  <a:lnTo>
                    <a:pt x="4380" y="1034"/>
                  </a:lnTo>
                  <a:lnTo>
                    <a:pt x="4394" y="1034"/>
                  </a:lnTo>
                  <a:lnTo>
                    <a:pt x="4408" y="1033"/>
                  </a:lnTo>
                  <a:lnTo>
                    <a:pt x="4422" y="1033"/>
                  </a:lnTo>
                  <a:lnTo>
                    <a:pt x="4436" y="1032"/>
                  </a:lnTo>
                  <a:lnTo>
                    <a:pt x="4448" y="1029"/>
                  </a:lnTo>
                  <a:lnTo>
                    <a:pt x="4460" y="1027"/>
                  </a:lnTo>
                  <a:lnTo>
                    <a:pt x="4470" y="1025"/>
                  </a:lnTo>
                  <a:lnTo>
                    <a:pt x="4460" y="1116"/>
                  </a:lnTo>
                  <a:lnTo>
                    <a:pt x="4444" y="1207"/>
                  </a:lnTo>
                  <a:lnTo>
                    <a:pt x="4428" y="1298"/>
                  </a:lnTo>
                  <a:lnTo>
                    <a:pt x="4410" y="1389"/>
                  </a:lnTo>
                  <a:lnTo>
                    <a:pt x="4391" y="1481"/>
                  </a:lnTo>
                  <a:lnTo>
                    <a:pt x="4374" y="1572"/>
                  </a:lnTo>
                  <a:lnTo>
                    <a:pt x="4360" y="1663"/>
                  </a:lnTo>
                  <a:lnTo>
                    <a:pt x="4348" y="1753"/>
                  </a:lnTo>
                  <a:lnTo>
                    <a:pt x="4352" y="1780"/>
                  </a:lnTo>
                  <a:lnTo>
                    <a:pt x="4361" y="1812"/>
                  </a:lnTo>
                  <a:lnTo>
                    <a:pt x="4371" y="1845"/>
                  </a:lnTo>
                  <a:lnTo>
                    <a:pt x="4386" y="1878"/>
                  </a:lnTo>
                  <a:lnTo>
                    <a:pt x="4403" y="1909"/>
                  </a:lnTo>
                  <a:lnTo>
                    <a:pt x="4421" y="1937"/>
                  </a:lnTo>
                  <a:lnTo>
                    <a:pt x="4441" y="1960"/>
                  </a:lnTo>
                  <a:lnTo>
                    <a:pt x="4463" y="1975"/>
                  </a:lnTo>
                  <a:lnTo>
                    <a:pt x="4489" y="1989"/>
                  </a:lnTo>
                  <a:lnTo>
                    <a:pt x="4515" y="2003"/>
                  </a:lnTo>
                  <a:lnTo>
                    <a:pt x="4542" y="2019"/>
                  </a:lnTo>
                  <a:lnTo>
                    <a:pt x="4568" y="2037"/>
                  </a:lnTo>
                  <a:lnTo>
                    <a:pt x="4594" y="2055"/>
                  </a:lnTo>
                  <a:lnTo>
                    <a:pt x="4619" y="2074"/>
                  </a:lnTo>
                  <a:lnTo>
                    <a:pt x="4644" y="2094"/>
                  </a:lnTo>
                  <a:lnTo>
                    <a:pt x="4668" y="2116"/>
                  </a:lnTo>
                  <a:lnTo>
                    <a:pt x="4692" y="2138"/>
                  </a:lnTo>
                  <a:lnTo>
                    <a:pt x="4716" y="2162"/>
                  </a:lnTo>
                  <a:lnTo>
                    <a:pt x="4738" y="2186"/>
                  </a:lnTo>
                  <a:lnTo>
                    <a:pt x="4760" y="2212"/>
                  </a:lnTo>
                  <a:lnTo>
                    <a:pt x="4780" y="2239"/>
                  </a:lnTo>
                  <a:lnTo>
                    <a:pt x="4801" y="2266"/>
                  </a:lnTo>
                  <a:lnTo>
                    <a:pt x="4820" y="2293"/>
                  </a:lnTo>
                  <a:lnTo>
                    <a:pt x="4840" y="2323"/>
                  </a:lnTo>
                  <a:lnTo>
                    <a:pt x="4855" y="2351"/>
                  </a:lnTo>
                  <a:lnTo>
                    <a:pt x="4870" y="2381"/>
                  </a:lnTo>
                  <a:lnTo>
                    <a:pt x="4886" y="2410"/>
                  </a:lnTo>
                  <a:lnTo>
                    <a:pt x="4901" y="2442"/>
                  </a:lnTo>
                  <a:lnTo>
                    <a:pt x="4915" y="2475"/>
                  </a:lnTo>
                  <a:lnTo>
                    <a:pt x="4929" y="2508"/>
                  </a:lnTo>
                  <a:lnTo>
                    <a:pt x="4943" y="2542"/>
                  </a:lnTo>
                  <a:lnTo>
                    <a:pt x="4958" y="2575"/>
                  </a:lnTo>
                  <a:lnTo>
                    <a:pt x="4970" y="2611"/>
                  </a:lnTo>
                  <a:lnTo>
                    <a:pt x="4984" y="2644"/>
                  </a:lnTo>
                  <a:lnTo>
                    <a:pt x="4996" y="2679"/>
                  </a:lnTo>
                  <a:lnTo>
                    <a:pt x="5010" y="2711"/>
                  </a:lnTo>
                  <a:lnTo>
                    <a:pt x="5021" y="2745"/>
                  </a:lnTo>
                  <a:lnTo>
                    <a:pt x="5034" y="2775"/>
                  </a:lnTo>
                  <a:lnTo>
                    <a:pt x="5047" y="2807"/>
                  </a:lnTo>
                  <a:lnTo>
                    <a:pt x="5059" y="28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02960" y="185760"/>
              <a:ext cx="703080" cy="1202040"/>
            </a:xfrm>
            <a:custGeom>
              <a:avLst/>
              <a:gdLst/>
              <a:ahLst/>
              <a:rect l="l" t="t" r="r" b="b"/>
              <a:pathLst>
                <a:path w="1773" h="3028">
                  <a:moveTo>
                    <a:pt x="0" y="0"/>
                  </a:moveTo>
                  <a:lnTo>
                    <a:pt x="15" y="3"/>
                  </a:lnTo>
                  <a:lnTo>
                    <a:pt x="30" y="6"/>
                  </a:lnTo>
                  <a:lnTo>
                    <a:pt x="45" y="8"/>
                  </a:lnTo>
                  <a:lnTo>
                    <a:pt x="59" y="12"/>
                  </a:lnTo>
                  <a:lnTo>
                    <a:pt x="74" y="14"/>
                  </a:lnTo>
                  <a:lnTo>
                    <a:pt x="88" y="17"/>
                  </a:lnTo>
                  <a:lnTo>
                    <a:pt x="104" y="20"/>
                  </a:lnTo>
                  <a:lnTo>
                    <a:pt x="118" y="21"/>
                  </a:lnTo>
                  <a:lnTo>
                    <a:pt x="132" y="24"/>
                  </a:lnTo>
                  <a:lnTo>
                    <a:pt x="148" y="27"/>
                  </a:lnTo>
                  <a:lnTo>
                    <a:pt x="163" y="30"/>
                  </a:lnTo>
                  <a:lnTo>
                    <a:pt x="178" y="32"/>
                  </a:lnTo>
                  <a:lnTo>
                    <a:pt x="192" y="36"/>
                  </a:lnTo>
                  <a:lnTo>
                    <a:pt x="207" y="38"/>
                  </a:lnTo>
                  <a:lnTo>
                    <a:pt x="222" y="41"/>
                  </a:lnTo>
                  <a:lnTo>
                    <a:pt x="237" y="43"/>
                  </a:lnTo>
                  <a:lnTo>
                    <a:pt x="249" y="95"/>
                  </a:lnTo>
                  <a:lnTo>
                    <a:pt x="258" y="148"/>
                  </a:lnTo>
                  <a:lnTo>
                    <a:pt x="267" y="202"/>
                  </a:lnTo>
                  <a:lnTo>
                    <a:pt x="275" y="256"/>
                  </a:lnTo>
                  <a:lnTo>
                    <a:pt x="288" y="309"/>
                  </a:lnTo>
                  <a:lnTo>
                    <a:pt x="303" y="360"/>
                  </a:lnTo>
                  <a:lnTo>
                    <a:pt x="325" y="407"/>
                  </a:lnTo>
                  <a:lnTo>
                    <a:pt x="355" y="450"/>
                  </a:lnTo>
                  <a:lnTo>
                    <a:pt x="387" y="484"/>
                  </a:lnTo>
                  <a:lnTo>
                    <a:pt x="420" y="516"/>
                  </a:lnTo>
                  <a:lnTo>
                    <a:pt x="455" y="544"/>
                  </a:lnTo>
                  <a:lnTo>
                    <a:pt x="493" y="573"/>
                  </a:lnTo>
                  <a:lnTo>
                    <a:pt x="531" y="600"/>
                  </a:lnTo>
                  <a:lnTo>
                    <a:pt x="571" y="625"/>
                  </a:lnTo>
                  <a:lnTo>
                    <a:pt x="611" y="650"/>
                  </a:lnTo>
                  <a:lnTo>
                    <a:pt x="653" y="675"/>
                  </a:lnTo>
                  <a:lnTo>
                    <a:pt x="693" y="700"/>
                  </a:lnTo>
                  <a:lnTo>
                    <a:pt x="734" y="724"/>
                  </a:lnTo>
                  <a:lnTo>
                    <a:pt x="774" y="750"/>
                  </a:lnTo>
                  <a:lnTo>
                    <a:pt x="813" y="775"/>
                  </a:lnTo>
                  <a:lnTo>
                    <a:pt x="851" y="802"/>
                  </a:lnTo>
                  <a:lnTo>
                    <a:pt x="887" y="832"/>
                  </a:lnTo>
                  <a:lnTo>
                    <a:pt x="921" y="864"/>
                  </a:lnTo>
                  <a:lnTo>
                    <a:pt x="954" y="897"/>
                  </a:lnTo>
                  <a:lnTo>
                    <a:pt x="973" y="918"/>
                  </a:lnTo>
                  <a:lnTo>
                    <a:pt x="990" y="941"/>
                  </a:lnTo>
                  <a:lnTo>
                    <a:pt x="1006" y="965"/>
                  </a:lnTo>
                  <a:lnTo>
                    <a:pt x="1020" y="990"/>
                  </a:lnTo>
                  <a:lnTo>
                    <a:pt x="1034" y="1015"/>
                  </a:lnTo>
                  <a:lnTo>
                    <a:pt x="1045" y="1041"/>
                  </a:lnTo>
                  <a:lnTo>
                    <a:pt x="1058" y="1069"/>
                  </a:lnTo>
                  <a:lnTo>
                    <a:pt x="1068" y="1095"/>
                  </a:lnTo>
                  <a:lnTo>
                    <a:pt x="1078" y="1122"/>
                  </a:lnTo>
                  <a:lnTo>
                    <a:pt x="1086" y="1150"/>
                  </a:lnTo>
                  <a:lnTo>
                    <a:pt x="1095" y="1179"/>
                  </a:lnTo>
                  <a:lnTo>
                    <a:pt x="1103" y="1206"/>
                  </a:lnTo>
                  <a:lnTo>
                    <a:pt x="1110" y="1235"/>
                  </a:lnTo>
                  <a:lnTo>
                    <a:pt x="1118" y="1263"/>
                  </a:lnTo>
                  <a:lnTo>
                    <a:pt x="1125" y="1291"/>
                  </a:lnTo>
                  <a:lnTo>
                    <a:pt x="1131" y="1320"/>
                  </a:lnTo>
                  <a:lnTo>
                    <a:pt x="1133" y="1343"/>
                  </a:lnTo>
                  <a:lnTo>
                    <a:pt x="1130" y="1365"/>
                  </a:lnTo>
                  <a:lnTo>
                    <a:pt x="1122" y="1390"/>
                  </a:lnTo>
                  <a:lnTo>
                    <a:pt x="1111" y="1414"/>
                  </a:lnTo>
                  <a:lnTo>
                    <a:pt x="1103" y="1438"/>
                  </a:lnTo>
                  <a:lnTo>
                    <a:pt x="1097" y="1461"/>
                  </a:lnTo>
                  <a:lnTo>
                    <a:pt x="1094" y="1484"/>
                  </a:lnTo>
                  <a:lnTo>
                    <a:pt x="1099" y="1506"/>
                  </a:lnTo>
                  <a:lnTo>
                    <a:pt x="1107" y="1525"/>
                  </a:lnTo>
                  <a:lnTo>
                    <a:pt x="1114" y="1546"/>
                  </a:lnTo>
                  <a:lnTo>
                    <a:pt x="1123" y="1569"/>
                  </a:lnTo>
                  <a:lnTo>
                    <a:pt x="1132" y="1592"/>
                  </a:lnTo>
                  <a:lnTo>
                    <a:pt x="1142" y="1616"/>
                  </a:lnTo>
                  <a:lnTo>
                    <a:pt x="1153" y="1638"/>
                  </a:lnTo>
                  <a:lnTo>
                    <a:pt x="1165" y="1661"/>
                  </a:lnTo>
                  <a:lnTo>
                    <a:pt x="1177" y="1682"/>
                  </a:lnTo>
                  <a:lnTo>
                    <a:pt x="1190" y="1701"/>
                  </a:lnTo>
                  <a:lnTo>
                    <a:pt x="1202" y="1718"/>
                  </a:lnTo>
                  <a:lnTo>
                    <a:pt x="1217" y="1732"/>
                  </a:lnTo>
                  <a:lnTo>
                    <a:pt x="1231" y="1743"/>
                  </a:lnTo>
                  <a:lnTo>
                    <a:pt x="1246" y="1751"/>
                  </a:lnTo>
                  <a:lnTo>
                    <a:pt x="1260" y="1753"/>
                  </a:lnTo>
                  <a:lnTo>
                    <a:pt x="1276" y="1751"/>
                  </a:lnTo>
                  <a:lnTo>
                    <a:pt x="1292" y="1743"/>
                  </a:lnTo>
                  <a:lnTo>
                    <a:pt x="1316" y="1716"/>
                  </a:lnTo>
                  <a:lnTo>
                    <a:pt x="1321" y="1683"/>
                  </a:lnTo>
                  <a:lnTo>
                    <a:pt x="1312" y="1643"/>
                  </a:lnTo>
                  <a:lnTo>
                    <a:pt x="1295" y="1600"/>
                  </a:lnTo>
                  <a:lnTo>
                    <a:pt x="1273" y="1554"/>
                  </a:lnTo>
                  <a:lnTo>
                    <a:pt x="1249" y="1509"/>
                  </a:lnTo>
                  <a:lnTo>
                    <a:pt x="1232" y="1463"/>
                  </a:lnTo>
                  <a:lnTo>
                    <a:pt x="1225" y="1421"/>
                  </a:lnTo>
                  <a:lnTo>
                    <a:pt x="1225" y="1401"/>
                  </a:lnTo>
                  <a:lnTo>
                    <a:pt x="1229" y="1375"/>
                  </a:lnTo>
                  <a:lnTo>
                    <a:pt x="1233" y="1347"/>
                  </a:lnTo>
                  <a:lnTo>
                    <a:pt x="1240" y="1321"/>
                  </a:lnTo>
                  <a:lnTo>
                    <a:pt x="1248" y="1299"/>
                  </a:lnTo>
                  <a:lnTo>
                    <a:pt x="1256" y="1285"/>
                  </a:lnTo>
                  <a:lnTo>
                    <a:pt x="1266" y="1279"/>
                  </a:lnTo>
                  <a:lnTo>
                    <a:pt x="1275" y="1287"/>
                  </a:lnTo>
                  <a:lnTo>
                    <a:pt x="1297" y="1324"/>
                  </a:lnTo>
                  <a:lnTo>
                    <a:pt x="1313" y="1365"/>
                  </a:lnTo>
                  <a:lnTo>
                    <a:pt x="1322" y="1408"/>
                  </a:lnTo>
                  <a:lnTo>
                    <a:pt x="1331" y="1451"/>
                  </a:lnTo>
                  <a:lnTo>
                    <a:pt x="1338" y="1495"/>
                  </a:lnTo>
                  <a:lnTo>
                    <a:pt x="1345" y="1539"/>
                  </a:lnTo>
                  <a:lnTo>
                    <a:pt x="1355" y="1583"/>
                  </a:lnTo>
                  <a:lnTo>
                    <a:pt x="1368" y="1624"/>
                  </a:lnTo>
                  <a:lnTo>
                    <a:pt x="1381" y="1652"/>
                  </a:lnTo>
                  <a:lnTo>
                    <a:pt x="1396" y="1678"/>
                  </a:lnTo>
                  <a:lnTo>
                    <a:pt x="1413" y="1704"/>
                  </a:lnTo>
                  <a:lnTo>
                    <a:pt x="1431" y="1731"/>
                  </a:lnTo>
                  <a:lnTo>
                    <a:pt x="1448" y="1756"/>
                  </a:lnTo>
                  <a:lnTo>
                    <a:pt x="1465" y="1782"/>
                  </a:lnTo>
                  <a:lnTo>
                    <a:pt x="1482" y="1808"/>
                  </a:lnTo>
                  <a:lnTo>
                    <a:pt x="1495" y="1836"/>
                  </a:lnTo>
                  <a:lnTo>
                    <a:pt x="1505" y="1863"/>
                  </a:lnTo>
                  <a:lnTo>
                    <a:pt x="1511" y="1890"/>
                  </a:lnTo>
                  <a:lnTo>
                    <a:pt x="1516" y="1916"/>
                  </a:lnTo>
                  <a:lnTo>
                    <a:pt x="1522" y="1944"/>
                  </a:lnTo>
                  <a:lnTo>
                    <a:pt x="1527" y="1973"/>
                  </a:lnTo>
                  <a:lnTo>
                    <a:pt x="1531" y="2001"/>
                  </a:lnTo>
                  <a:lnTo>
                    <a:pt x="1536" y="2027"/>
                  </a:lnTo>
                  <a:lnTo>
                    <a:pt x="1545" y="2055"/>
                  </a:lnTo>
                  <a:lnTo>
                    <a:pt x="1555" y="2082"/>
                  </a:lnTo>
                  <a:lnTo>
                    <a:pt x="1564" y="2109"/>
                  </a:lnTo>
                  <a:lnTo>
                    <a:pt x="1575" y="2136"/>
                  </a:lnTo>
                  <a:lnTo>
                    <a:pt x="1586" y="2162"/>
                  </a:lnTo>
                  <a:lnTo>
                    <a:pt x="1598" y="2188"/>
                  </a:lnTo>
                  <a:lnTo>
                    <a:pt x="1608" y="2214"/>
                  </a:lnTo>
                  <a:lnTo>
                    <a:pt x="1621" y="2240"/>
                  </a:lnTo>
                  <a:lnTo>
                    <a:pt x="1632" y="2266"/>
                  </a:lnTo>
                  <a:lnTo>
                    <a:pt x="1645" y="2294"/>
                  </a:lnTo>
                  <a:lnTo>
                    <a:pt x="1655" y="2320"/>
                  </a:lnTo>
                  <a:lnTo>
                    <a:pt x="1668" y="2346"/>
                  </a:lnTo>
                  <a:lnTo>
                    <a:pt x="1679" y="2371"/>
                  </a:lnTo>
                  <a:lnTo>
                    <a:pt x="1690" y="2397"/>
                  </a:lnTo>
                  <a:lnTo>
                    <a:pt x="1702" y="2424"/>
                  </a:lnTo>
                  <a:lnTo>
                    <a:pt x="1712" y="2451"/>
                  </a:lnTo>
                  <a:lnTo>
                    <a:pt x="1722" y="2478"/>
                  </a:lnTo>
                  <a:lnTo>
                    <a:pt x="1730" y="2503"/>
                  </a:lnTo>
                  <a:lnTo>
                    <a:pt x="1740" y="2528"/>
                  </a:lnTo>
                  <a:lnTo>
                    <a:pt x="1749" y="2552"/>
                  </a:lnTo>
                  <a:lnTo>
                    <a:pt x="1759" y="2577"/>
                  </a:lnTo>
                  <a:lnTo>
                    <a:pt x="1767" y="2603"/>
                  </a:lnTo>
                  <a:lnTo>
                    <a:pt x="1772" y="2629"/>
                  </a:lnTo>
                  <a:lnTo>
                    <a:pt x="1773" y="2655"/>
                  </a:lnTo>
                  <a:lnTo>
                    <a:pt x="1772" y="2682"/>
                  </a:lnTo>
                  <a:lnTo>
                    <a:pt x="1764" y="2714"/>
                  </a:lnTo>
                  <a:lnTo>
                    <a:pt x="1753" y="2747"/>
                  </a:lnTo>
                  <a:lnTo>
                    <a:pt x="1739" y="2779"/>
                  </a:lnTo>
                  <a:lnTo>
                    <a:pt x="1723" y="2810"/>
                  </a:lnTo>
                  <a:lnTo>
                    <a:pt x="1704" y="2842"/>
                  </a:lnTo>
                  <a:lnTo>
                    <a:pt x="1687" y="2871"/>
                  </a:lnTo>
                  <a:lnTo>
                    <a:pt x="1670" y="2903"/>
                  </a:lnTo>
                  <a:lnTo>
                    <a:pt x="1654" y="2935"/>
                  </a:lnTo>
                  <a:lnTo>
                    <a:pt x="1663" y="2895"/>
                  </a:lnTo>
                  <a:lnTo>
                    <a:pt x="1678" y="2853"/>
                  </a:lnTo>
                  <a:lnTo>
                    <a:pt x="1694" y="2809"/>
                  </a:lnTo>
                  <a:lnTo>
                    <a:pt x="1710" y="2765"/>
                  </a:lnTo>
                  <a:lnTo>
                    <a:pt x="1721" y="2725"/>
                  </a:lnTo>
                  <a:lnTo>
                    <a:pt x="1723" y="2689"/>
                  </a:lnTo>
                  <a:lnTo>
                    <a:pt x="1713" y="2664"/>
                  </a:lnTo>
                  <a:lnTo>
                    <a:pt x="1688" y="2647"/>
                  </a:lnTo>
                  <a:lnTo>
                    <a:pt x="1657" y="2646"/>
                  </a:lnTo>
                  <a:lnTo>
                    <a:pt x="1633" y="2663"/>
                  </a:lnTo>
                  <a:lnTo>
                    <a:pt x="1614" y="2693"/>
                  </a:lnTo>
                  <a:lnTo>
                    <a:pt x="1599" y="2733"/>
                  </a:lnTo>
                  <a:lnTo>
                    <a:pt x="1586" y="2776"/>
                  </a:lnTo>
                  <a:lnTo>
                    <a:pt x="1574" y="2821"/>
                  </a:lnTo>
                  <a:lnTo>
                    <a:pt x="1561" y="2865"/>
                  </a:lnTo>
                  <a:lnTo>
                    <a:pt x="1545" y="2901"/>
                  </a:lnTo>
                  <a:lnTo>
                    <a:pt x="1527" y="2917"/>
                  </a:lnTo>
                  <a:lnTo>
                    <a:pt x="1508" y="2933"/>
                  </a:lnTo>
                  <a:lnTo>
                    <a:pt x="1488" y="2949"/>
                  </a:lnTo>
                  <a:lnTo>
                    <a:pt x="1470" y="2964"/>
                  </a:lnTo>
                  <a:lnTo>
                    <a:pt x="1450" y="2981"/>
                  </a:lnTo>
                  <a:lnTo>
                    <a:pt x="1431" y="2997"/>
                  </a:lnTo>
                  <a:lnTo>
                    <a:pt x="1413" y="3011"/>
                  </a:lnTo>
                  <a:lnTo>
                    <a:pt x="1392" y="3028"/>
                  </a:lnTo>
                  <a:lnTo>
                    <a:pt x="1414" y="2980"/>
                  </a:lnTo>
                  <a:lnTo>
                    <a:pt x="1436" y="2932"/>
                  </a:lnTo>
                  <a:lnTo>
                    <a:pt x="1457" y="2883"/>
                  </a:lnTo>
                  <a:lnTo>
                    <a:pt x="1480" y="2835"/>
                  </a:lnTo>
                  <a:lnTo>
                    <a:pt x="1500" y="2786"/>
                  </a:lnTo>
                  <a:lnTo>
                    <a:pt x="1520" y="2738"/>
                  </a:lnTo>
                  <a:lnTo>
                    <a:pt x="1537" y="2688"/>
                  </a:lnTo>
                  <a:lnTo>
                    <a:pt x="1553" y="2639"/>
                  </a:lnTo>
                  <a:lnTo>
                    <a:pt x="1562" y="2602"/>
                  </a:lnTo>
                  <a:lnTo>
                    <a:pt x="1572" y="2564"/>
                  </a:lnTo>
                  <a:lnTo>
                    <a:pt x="1580" y="2527"/>
                  </a:lnTo>
                  <a:lnTo>
                    <a:pt x="1586" y="2487"/>
                  </a:lnTo>
                  <a:lnTo>
                    <a:pt x="1590" y="2449"/>
                  </a:lnTo>
                  <a:lnTo>
                    <a:pt x="1592" y="2411"/>
                  </a:lnTo>
                  <a:lnTo>
                    <a:pt x="1591" y="2372"/>
                  </a:lnTo>
                  <a:lnTo>
                    <a:pt x="1587" y="2335"/>
                  </a:lnTo>
                  <a:lnTo>
                    <a:pt x="1581" y="2305"/>
                  </a:lnTo>
                  <a:lnTo>
                    <a:pt x="1571" y="2270"/>
                  </a:lnTo>
                  <a:lnTo>
                    <a:pt x="1558" y="2233"/>
                  </a:lnTo>
                  <a:lnTo>
                    <a:pt x="1542" y="2199"/>
                  </a:lnTo>
                  <a:lnTo>
                    <a:pt x="1528" y="2170"/>
                  </a:lnTo>
                  <a:lnTo>
                    <a:pt x="1511" y="2151"/>
                  </a:lnTo>
                  <a:lnTo>
                    <a:pt x="1494" y="2146"/>
                  </a:lnTo>
                  <a:lnTo>
                    <a:pt x="1479" y="2157"/>
                  </a:lnTo>
                  <a:lnTo>
                    <a:pt x="1453" y="2209"/>
                  </a:lnTo>
                  <a:lnTo>
                    <a:pt x="1440" y="2270"/>
                  </a:lnTo>
                  <a:lnTo>
                    <a:pt x="1437" y="2335"/>
                  </a:lnTo>
                  <a:lnTo>
                    <a:pt x="1439" y="2401"/>
                  </a:lnTo>
                  <a:lnTo>
                    <a:pt x="1444" y="2469"/>
                  </a:lnTo>
                  <a:lnTo>
                    <a:pt x="1449" y="2537"/>
                  </a:lnTo>
                  <a:lnTo>
                    <a:pt x="1450" y="2602"/>
                  </a:lnTo>
                  <a:lnTo>
                    <a:pt x="1444" y="2664"/>
                  </a:lnTo>
                  <a:lnTo>
                    <a:pt x="1436" y="2696"/>
                  </a:lnTo>
                  <a:lnTo>
                    <a:pt x="1423" y="2728"/>
                  </a:lnTo>
                  <a:lnTo>
                    <a:pt x="1409" y="2757"/>
                  </a:lnTo>
                  <a:lnTo>
                    <a:pt x="1392" y="2785"/>
                  </a:lnTo>
                  <a:lnTo>
                    <a:pt x="1376" y="2815"/>
                  </a:lnTo>
                  <a:lnTo>
                    <a:pt x="1363" y="2844"/>
                  </a:lnTo>
                  <a:lnTo>
                    <a:pt x="1350" y="2875"/>
                  </a:lnTo>
                  <a:lnTo>
                    <a:pt x="1343" y="2909"/>
                  </a:lnTo>
                  <a:lnTo>
                    <a:pt x="1338" y="2871"/>
                  </a:lnTo>
                  <a:lnTo>
                    <a:pt x="1339" y="2832"/>
                  </a:lnTo>
                  <a:lnTo>
                    <a:pt x="1345" y="2791"/>
                  </a:lnTo>
                  <a:lnTo>
                    <a:pt x="1355" y="2749"/>
                  </a:lnTo>
                  <a:lnTo>
                    <a:pt x="1365" y="2707"/>
                  </a:lnTo>
                  <a:lnTo>
                    <a:pt x="1371" y="2666"/>
                  </a:lnTo>
                  <a:lnTo>
                    <a:pt x="1373" y="2625"/>
                  </a:lnTo>
                  <a:lnTo>
                    <a:pt x="1368" y="2588"/>
                  </a:lnTo>
                  <a:lnTo>
                    <a:pt x="1360" y="2565"/>
                  </a:lnTo>
                  <a:lnTo>
                    <a:pt x="1349" y="2543"/>
                  </a:lnTo>
                  <a:lnTo>
                    <a:pt x="1338" y="2522"/>
                  </a:lnTo>
                  <a:lnTo>
                    <a:pt x="1323" y="2501"/>
                  </a:lnTo>
                  <a:lnTo>
                    <a:pt x="1308" y="2480"/>
                  </a:lnTo>
                  <a:lnTo>
                    <a:pt x="1292" y="2460"/>
                  </a:lnTo>
                  <a:lnTo>
                    <a:pt x="1275" y="2438"/>
                  </a:lnTo>
                  <a:lnTo>
                    <a:pt x="1258" y="2419"/>
                  </a:lnTo>
                  <a:lnTo>
                    <a:pt x="1242" y="2398"/>
                  </a:lnTo>
                  <a:lnTo>
                    <a:pt x="1225" y="2378"/>
                  </a:lnTo>
                  <a:lnTo>
                    <a:pt x="1209" y="2357"/>
                  </a:lnTo>
                  <a:lnTo>
                    <a:pt x="1194" y="2337"/>
                  </a:lnTo>
                  <a:lnTo>
                    <a:pt x="1180" y="2316"/>
                  </a:lnTo>
                  <a:lnTo>
                    <a:pt x="1167" y="2295"/>
                  </a:lnTo>
                  <a:lnTo>
                    <a:pt x="1157" y="2273"/>
                  </a:lnTo>
                  <a:lnTo>
                    <a:pt x="1149" y="2250"/>
                  </a:lnTo>
                  <a:lnTo>
                    <a:pt x="1136" y="2212"/>
                  </a:lnTo>
                  <a:lnTo>
                    <a:pt x="1124" y="2175"/>
                  </a:lnTo>
                  <a:lnTo>
                    <a:pt x="1110" y="2138"/>
                  </a:lnTo>
                  <a:lnTo>
                    <a:pt x="1098" y="2100"/>
                  </a:lnTo>
                  <a:lnTo>
                    <a:pt x="1084" y="2064"/>
                  </a:lnTo>
                  <a:lnTo>
                    <a:pt x="1070" y="2026"/>
                  </a:lnTo>
                  <a:lnTo>
                    <a:pt x="1058" y="1989"/>
                  </a:lnTo>
                  <a:lnTo>
                    <a:pt x="1044" y="1951"/>
                  </a:lnTo>
                  <a:lnTo>
                    <a:pt x="1032" y="1914"/>
                  </a:lnTo>
                  <a:lnTo>
                    <a:pt x="1018" y="1877"/>
                  </a:lnTo>
                  <a:lnTo>
                    <a:pt x="1007" y="1840"/>
                  </a:lnTo>
                  <a:lnTo>
                    <a:pt x="994" y="1801"/>
                  </a:lnTo>
                  <a:lnTo>
                    <a:pt x="983" y="1764"/>
                  </a:lnTo>
                  <a:lnTo>
                    <a:pt x="973" y="1726"/>
                  </a:lnTo>
                  <a:lnTo>
                    <a:pt x="964" y="1687"/>
                  </a:lnTo>
                  <a:lnTo>
                    <a:pt x="954" y="1650"/>
                  </a:lnTo>
                  <a:lnTo>
                    <a:pt x="948" y="1602"/>
                  </a:lnTo>
                  <a:lnTo>
                    <a:pt x="946" y="1554"/>
                  </a:lnTo>
                  <a:lnTo>
                    <a:pt x="950" y="1505"/>
                  </a:lnTo>
                  <a:lnTo>
                    <a:pt x="953" y="1456"/>
                  </a:lnTo>
                  <a:lnTo>
                    <a:pt x="956" y="1410"/>
                  </a:lnTo>
                  <a:lnTo>
                    <a:pt x="956" y="1362"/>
                  </a:lnTo>
                  <a:lnTo>
                    <a:pt x="950" y="1315"/>
                  </a:lnTo>
                  <a:lnTo>
                    <a:pt x="939" y="1270"/>
                  </a:lnTo>
                  <a:lnTo>
                    <a:pt x="928" y="1248"/>
                  </a:lnTo>
                  <a:lnTo>
                    <a:pt x="917" y="1228"/>
                  </a:lnTo>
                  <a:lnTo>
                    <a:pt x="906" y="1206"/>
                  </a:lnTo>
                  <a:lnTo>
                    <a:pt x="892" y="1188"/>
                  </a:lnTo>
                  <a:lnTo>
                    <a:pt x="877" y="1170"/>
                  </a:lnTo>
                  <a:lnTo>
                    <a:pt x="862" y="1152"/>
                  </a:lnTo>
                  <a:lnTo>
                    <a:pt x="845" y="1133"/>
                  </a:lnTo>
                  <a:lnTo>
                    <a:pt x="829" y="1115"/>
                  </a:lnTo>
                  <a:lnTo>
                    <a:pt x="812" y="1098"/>
                  </a:lnTo>
                  <a:lnTo>
                    <a:pt x="795" y="1081"/>
                  </a:lnTo>
                  <a:lnTo>
                    <a:pt x="778" y="1064"/>
                  </a:lnTo>
                  <a:lnTo>
                    <a:pt x="761" y="1046"/>
                  </a:lnTo>
                  <a:lnTo>
                    <a:pt x="745" y="1029"/>
                  </a:lnTo>
                  <a:lnTo>
                    <a:pt x="729" y="1012"/>
                  </a:lnTo>
                  <a:lnTo>
                    <a:pt x="716" y="993"/>
                  </a:lnTo>
                  <a:lnTo>
                    <a:pt x="702" y="974"/>
                  </a:lnTo>
                  <a:lnTo>
                    <a:pt x="681" y="940"/>
                  </a:lnTo>
                  <a:lnTo>
                    <a:pt x="666" y="906"/>
                  </a:lnTo>
                  <a:lnTo>
                    <a:pt x="651" y="868"/>
                  </a:lnTo>
                  <a:lnTo>
                    <a:pt x="635" y="832"/>
                  </a:lnTo>
                  <a:lnTo>
                    <a:pt x="620" y="796"/>
                  </a:lnTo>
                  <a:lnTo>
                    <a:pt x="603" y="763"/>
                  </a:lnTo>
                  <a:lnTo>
                    <a:pt x="583" y="731"/>
                  </a:lnTo>
                  <a:lnTo>
                    <a:pt x="559" y="703"/>
                  </a:lnTo>
                  <a:lnTo>
                    <a:pt x="537" y="684"/>
                  </a:lnTo>
                  <a:lnTo>
                    <a:pt x="514" y="667"/>
                  </a:lnTo>
                  <a:lnTo>
                    <a:pt x="490" y="652"/>
                  </a:lnTo>
                  <a:lnTo>
                    <a:pt x="466" y="637"/>
                  </a:lnTo>
                  <a:lnTo>
                    <a:pt x="440" y="625"/>
                  </a:lnTo>
                  <a:lnTo>
                    <a:pt x="415" y="612"/>
                  </a:lnTo>
                  <a:lnTo>
                    <a:pt x="389" y="601"/>
                  </a:lnTo>
                  <a:lnTo>
                    <a:pt x="363" y="590"/>
                  </a:lnTo>
                  <a:lnTo>
                    <a:pt x="337" y="577"/>
                  </a:lnTo>
                  <a:lnTo>
                    <a:pt x="311" y="565"/>
                  </a:lnTo>
                  <a:lnTo>
                    <a:pt x="286" y="551"/>
                  </a:lnTo>
                  <a:lnTo>
                    <a:pt x="262" y="537"/>
                  </a:lnTo>
                  <a:lnTo>
                    <a:pt x="238" y="521"/>
                  </a:lnTo>
                  <a:lnTo>
                    <a:pt x="216" y="504"/>
                  </a:lnTo>
                  <a:lnTo>
                    <a:pt x="197" y="486"/>
                  </a:lnTo>
                  <a:lnTo>
                    <a:pt x="178" y="466"/>
                  </a:lnTo>
                  <a:lnTo>
                    <a:pt x="159" y="441"/>
                  </a:lnTo>
                  <a:lnTo>
                    <a:pt x="143" y="414"/>
                  </a:lnTo>
                  <a:lnTo>
                    <a:pt x="129" y="387"/>
                  </a:lnTo>
                  <a:lnTo>
                    <a:pt x="115" y="360"/>
                  </a:lnTo>
                  <a:lnTo>
                    <a:pt x="104" y="331"/>
                  </a:lnTo>
                  <a:lnTo>
                    <a:pt x="92" y="302"/>
                  </a:lnTo>
                  <a:lnTo>
                    <a:pt x="82" y="272"/>
                  </a:lnTo>
                  <a:lnTo>
                    <a:pt x="73" y="243"/>
                  </a:lnTo>
                  <a:lnTo>
                    <a:pt x="63" y="212"/>
                  </a:lnTo>
                  <a:lnTo>
                    <a:pt x="56" y="181"/>
                  </a:lnTo>
                  <a:lnTo>
                    <a:pt x="47" y="152"/>
                  </a:lnTo>
                  <a:lnTo>
                    <a:pt x="38" y="120"/>
                  </a:lnTo>
                  <a:lnTo>
                    <a:pt x="30" y="89"/>
                  </a:lnTo>
                  <a:lnTo>
                    <a:pt x="21" y="61"/>
                  </a:lnTo>
                  <a:lnTo>
                    <a:pt x="1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84040" y="189000"/>
              <a:ext cx="1101600" cy="1258920"/>
            </a:xfrm>
            <a:custGeom>
              <a:avLst/>
              <a:gdLst/>
              <a:ahLst/>
              <a:rect l="l" t="t" r="r" b="b"/>
              <a:pathLst>
                <a:path w="2778" h="3171">
                  <a:moveTo>
                    <a:pt x="2152" y="2493"/>
                  </a:moveTo>
                  <a:lnTo>
                    <a:pt x="2183" y="2544"/>
                  </a:lnTo>
                  <a:lnTo>
                    <a:pt x="2213" y="2594"/>
                  </a:lnTo>
                  <a:lnTo>
                    <a:pt x="2245" y="2644"/>
                  </a:lnTo>
                  <a:lnTo>
                    <a:pt x="2276" y="2693"/>
                  </a:lnTo>
                  <a:lnTo>
                    <a:pt x="2310" y="2740"/>
                  </a:lnTo>
                  <a:lnTo>
                    <a:pt x="2343" y="2785"/>
                  </a:lnTo>
                  <a:lnTo>
                    <a:pt x="2378" y="2830"/>
                  </a:lnTo>
                  <a:lnTo>
                    <a:pt x="2415" y="2873"/>
                  </a:lnTo>
                  <a:lnTo>
                    <a:pt x="2453" y="2915"/>
                  </a:lnTo>
                  <a:lnTo>
                    <a:pt x="2493" y="2955"/>
                  </a:lnTo>
                  <a:lnTo>
                    <a:pt x="2534" y="2994"/>
                  </a:lnTo>
                  <a:lnTo>
                    <a:pt x="2579" y="3030"/>
                  </a:lnTo>
                  <a:lnTo>
                    <a:pt x="2625" y="3065"/>
                  </a:lnTo>
                  <a:lnTo>
                    <a:pt x="2674" y="3099"/>
                  </a:lnTo>
                  <a:lnTo>
                    <a:pt x="2723" y="3131"/>
                  </a:lnTo>
                  <a:lnTo>
                    <a:pt x="2778" y="3161"/>
                  </a:lnTo>
                  <a:lnTo>
                    <a:pt x="2761" y="3164"/>
                  </a:lnTo>
                  <a:lnTo>
                    <a:pt x="2745" y="3168"/>
                  </a:lnTo>
                  <a:lnTo>
                    <a:pt x="2728" y="3169"/>
                  </a:lnTo>
                  <a:lnTo>
                    <a:pt x="2713" y="3170"/>
                  </a:lnTo>
                  <a:lnTo>
                    <a:pt x="2698" y="3171"/>
                  </a:lnTo>
                  <a:lnTo>
                    <a:pt x="2682" y="3171"/>
                  </a:lnTo>
                  <a:lnTo>
                    <a:pt x="2668" y="3170"/>
                  </a:lnTo>
                  <a:lnTo>
                    <a:pt x="2652" y="3168"/>
                  </a:lnTo>
                  <a:lnTo>
                    <a:pt x="2639" y="3166"/>
                  </a:lnTo>
                  <a:lnTo>
                    <a:pt x="2625" y="3163"/>
                  </a:lnTo>
                  <a:lnTo>
                    <a:pt x="2612" y="3160"/>
                  </a:lnTo>
                  <a:lnTo>
                    <a:pt x="2599" y="3156"/>
                  </a:lnTo>
                  <a:lnTo>
                    <a:pt x="2584" y="3153"/>
                  </a:lnTo>
                  <a:lnTo>
                    <a:pt x="2573" y="3147"/>
                  </a:lnTo>
                  <a:lnTo>
                    <a:pt x="2559" y="3141"/>
                  </a:lnTo>
                  <a:lnTo>
                    <a:pt x="2547" y="3136"/>
                  </a:lnTo>
                  <a:lnTo>
                    <a:pt x="2525" y="3127"/>
                  </a:lnTo>
                  <a:lnTo>
                    <a:pt x="2503" y="3114"/>
                  </a:lnTo>
                  <a:lnTo>
                    <a:pt x="2482" y="3103"/>
                  </a:lnTo>
                  <a:lnTo>
                    <a:pt x="2459" y="3088"/>
                  </a:lnTo>
                  <a:lnTo>
                    <a:pt x="2435" y="3074"/>
                  </a:lnTo>
                  <a:lnTo>
                    <a:pt x="2411" y="3060"/>
                  </a:lnTo>
                  <a:lnTo>
                    <a:pt x="2386" y="3044"/>
                  </a:lnTo>
                  <a:lnTo>
                    <a:pt x="2362" y="3029"/>
                  </a:lnTo>
                  <a:lnTo>
                    <a:pt x="2336" y="3014"/>
                  </a:lnTo>
                  <a:lnTo>
                    <a:pt x="2311" y="2998"/>
                  </a:lnTo>
                  <a:lnTo>
                    <a:pt x="2285" y="2984"/>
                  </a:lnTo>
                  <a:lnTo>
                    <a:pt x="2259" y="2971"/>
                  </a:lnTo>
                  <a:lnTo>
                    <a:pt x="2232" y="2956"/>
                  </a:lnTo>
                  <a:lnTo>
                    <a:pt x="2204" y="2945"/>
                  </a:lnTo>
                  <a:lnTo>
                    <a:pt x="2177" y="2933"/>
                  </a:lnTo>
                  <a:lnTo>
                    <a:pt x="2151" y="2924"/>
                  </a:lnTo>
                  <a:lnTo>
                    <a:pt x="2127" y="2916"/>
                  </a:lnTo>
                  <a:lnTo>
                    <a:pt x="2103" y="2911"/>
                  </a:lnTo>
                  <a:lnTo>
                    <a:pt x="2079" y="2906"/>
                  </a:lnTo>
                  <a:lnTo>
                    <a:pt x="2055" y="2903"/>
                  </a:lnTo>
                  <a:lnTo>
                    <a:pt x="2031" y="2900"/>
                  </a:lnTo>
                  <a:lnTo>
                    <a:pt x="2006" y="2898"/>
                  </a:lnTo>
                  <a:lnTo>
                    <a:pt x="1983" y="2898"/>
                  </a:lnTo>
                  <a:lnTo>
                    <a:pt x="1958" y="2898"/>
                  </a:lnTo>
                  <a:lnTo>
                    <a:pt x="1934" y="2899"/>
                  </a:lnTo>
                  <a:lnTo>
                    <a:pt x="1909" y="2901"/>
                  </a:lnTo>
                  <a:lnTo>
                    <a:pt x="1884" y="2904"/>
                  </a:lnTo>
                  <a:lnTo>
                    <a:pt x="1859" y="2906"/>
                  </a:lnTo>
                  <a:lnTo>
                    <a:pt x="1832" y="2911"/>
                  </a:lnTo>
                  <a:lnTo>
                    <a:pt x="1807" y="2915"/>
                  </a:lnTo>
                  <a:lnTo>
                    <a:pt x="1781" y="2921"/>
                  </a:lnTo>
                  <a:lnTo>
                    <a:pt x="1755" y="2926"/>
                  </a:lnTo>
                  <a:lnTo>
                    <a:pt x="1728" y="2932"/>
                  </a:lnTo>
                  <a:lnTo>
                    <a:pt x="1702" y="2938"/>
                  </a:lnTo>
                  <a:lnTo>
                    <a:pt x="1674" y="2946"/>
                  </a:lnTo>
                  <a:lnTo>
                    <a:pt x="1648" y="2951"/>
                  </a:lnTo>
                  <a:lnTo>
                    <a:pt x="1621" y="2959"/>
                  </a:lnTo>
                  <a:lnTo>
                    <a:pt x="1592" y="2966"/>
                  </a:lnTo>
                  <a:lnTo>
                    <a:pt x="1564" y="2974"/>
                  </a:lnTo>
                  <a:lnTo>
                    <a:pt x="1536" y="2981"/>
                  </a:lnTo>
                  <a:lnTo>
                    <a:pt x="1507" y="2989"/>
                  </a:lnTo>
                  <a:lnTo>
                    <a:pt x="1479" y="2996"/>
                  </a:lnTo>
                  <a:lnTo>
                    <a:pt x="1448" y="3003"/>
                  </a:lnTo>
                  <a:lnTo>
                    <a:pt x="1418" y="3011"/>
                  </a:lnTo>
                  <a:lnTo>
                    <a:pt x="1389" y="3017"/>
                  </a:lnTo>
                  <a:lnTo>
                    <a:pt x="1358" y="3023"/>
                  </a:lnTo>
                  <a:lnTo>
                    <a:pt x="1326" y="3030"/>
                  </a:lnTo>
                  <a:lnTo>
                    <a:pt x="1294" y="3036"/>
                  </a:lnTo>
                  <a:lnTo>
                    <a:pt x="1294" y="2948"/>
                  </a:lnTo>
                  <a:lnTo>
                    <a:pt x="1288" y="2865"/>
                  </a:lnTo>
                  <a:lnTo>
                    <a:pt x="1274" y="2789"/>
                  </a:lnTo>
                  <a:lnTo>
                    <a:pt x="1256" y="2715"/>
                  </a:lnTo>
                  <a:lnTo>
                    <a:pt x="1233" y="2645"/>
                  </a:lnTo>
                  <a:lnTo>
                    <a:pt x="1206" y="2580"/>
                  </a:lnTo>
                  <a:lnTo>
                    <a:pt x="1175" y="2517"/>
                  </a:lnTo>
                  <a:lnTo>
                    <a:pt x="1142" y="2454"/>
                  </a:lnTo>
                  <a:lnTo>
                    <a:pt x="1106" y="2395"/>
                  </a:lnTo>
                  <a:lnTo>
                    <a:pt x="1070" y="2336"/>
                  </a:lnTo>
                  <a:lnTo>
                    <a:pt x="1033" y="2279"/>
                  </a:lnTo>
                  <a:lnTo>
                    <a:pt x="996" y="2221"/>
                  </a:lnTo>
                  <a:lnTo>
                    <a:pt x="960" y="2162"/>
                  </a:lnTo>
                  <a:lnTo>
                    <a:pt x="924" y="2102"/>
                  </a:lnTo>
                  <a:lnTo>
                    <a:pt x="891" y="2039"/>
                  </a:lnTo>
                  <a:lnTo>
                    <a:pt x="861" y="1975"/>
                  </a:lnTo>
                  <a:lnTo>
                    <a:pt x="833" y="1911"/>
                  </a:lnTo>
                  <a:lnTo>
                    <a:pt x="807" y="1846"/>
                  </a:lnTo>
                  <a:lnTo>
                    <a:pt x="780" y="1781"/>
                  </a:lnTo>
                  <a:lnTo>
                    <a:pt x="756" y="1717"/>
                  </a:lnTo>
                  <a:lnTo>
                    <a:pt x="733" y="1652"/>
                  </a:lnTo>
                  <a:lnTo>
                    <a:pt x="710" y="1588"/>
                  </a:lnTo>
                  <a:lnTo>
                    <a:pt x="688" y="1524"/>
                  </a:lnTo>
                  <a:lnTo>
                    <a:pt x="665" y="1460"/>
                  </a:lnTo>
                  <a:lnTo>
                    <a:pt x="644" y="1397"/>
                  </a:lnTo>
                  <a:lnTo>
                    <a:pt x="621" y="1332"/>
                  </a:lnTo>
                  <a:lnTo>
                    <a:pt x="598" y="1267"/>
                  </a:lnTo>
                  <a:lnTo>
                    <a:pt x="576" y="1203"/>
                  </a:lnTo>
                  <a:lnTo>
                    <a:pt x="551" y="1138"/>
                  </a:lnTo>
                  <a:lnTo>
                    <a:pt x="526" y="1073"/>
                  </a:lnTo>
                  <a:lnTo>
                    <a:pt x="499" y="1009"/>
                  </a:lnTo>
                  <a:lnTo>
                    <a:pt x="471" y="944"/>
                  </a:lnTo>
                  <a:lnTo>
                    <a:pt x="458" y="916"/>
                  </a:lnTo>
                  <a:lnTo>
                    <a:pt x="440" y="889"/>
                  </a:lnTo>
                  <a:lnTo>
                    <a:pt x="421" y="862"/>
                  </a:lnTo>
                  <a:lnTo>
                    <a:pt x="398" y="833"/>
                  </a:lnTo>
                  <a:lnTo>
                    <a:pt x="374" y="806"/>
                  </a:lnTo>
                  <a:lnTo>
                    <a:pt x="348" y="777"/>
                  </a:lnTo>
                  <a:lnTo>
                    <a:pt x="321" y="748"/>
                  </a:lnTo>
                  <a:lnTo>
                    <a:pt x="295" y="719"/>
                  </a:lnTo>
                  <a:lnTo>
                    <a:pt x="267" y="691"/>
                  </a:lnTo>
                  <a:lnTo>
                    <a:pt x="241" y="663"/>
                  </a:lnTo>
                  <a:lnTo>
                    <a:pt x="215" y="633"/>
                  </a:lnTo>
                  <a:lnTo>
                    <a:pt x="190" y="605"/>
                  </a:lnTo>
                  <a:lnTo>
                    <a:pt x="168" y="578"/>
                  </a:lnTo>
                  <a:lnTo>
                    <a:pt x="148" y="550"/>
                  </a:lnTo>
                  <a:lnTo>
                    <a:pt x="131" y="523"/>
                  </a:lnTo>
                  <a:lnTo>
                    <a:pt x="117" y="496"/>
                  </a:lnTo>
                  <a:lnTo>
                    <a:pt x="98" y="443"/>
                  </a:lnTo>
                  <a:lnTo>
                    <a:pt x="82" y="394"/>
                  </a:lnTo>
                  <a:lnTo>
                    <a:pt x="71" y="345"/>
                  </a:lnTo>
                  <a:lnTo>
                    <a:pt x="59" y="297"/>
                  </a:lnTo>
                  <a:lnTo>
                    <a:pt x="49" y="248"/>
                  </a:lnTo>
                  <a:lnTo>
                    <a:pt x="35" y="198"/>
                  </a:lnTo>
                  <a:lnTo>
                    <a:pt x="21" y="146"/>
                  </a:lnTo>
                  <a:lnTo>
                    <a:pt x="0" y="95"/>
                  </a:lnTo>
                  <a:lnTo>
                    <a:pt x="30" y="95"/>
                  </a:lnTo>
                  <a:lnTo>
                    <a:pt x="57" y="93"/>
                  </a:lnTo>
                  <a:lnTo>
                    <a:pt x="87" y="88"/>
                  </a:lnTo>
                  <a:lnTo>
                    <a:pt x="115" y="84"/>
                  </a:lnTo>
                  <a:lnTo>
                    <a:pt x="143" y="77"/>
                  </a:lnTo>
                  <a:lnTo>
                    <a:pt x="172" y="70"/>
                  </a:lnTo>
                  <a:lnTo>
                    <a:pt x="199" y="62"/>
                  </a:lnTo>
                  <a:lnTo>
                    <a:pt x="229" y="54"/>
                  </a:lnTo>
                  <a:lnTo>
                    <a:pt x="257" y="46"/>
                  </a:lnTo>
                  <a:lnTo>
                    <a:pt x="286" y="37"/>
                  </a:lnTo>
                  <a:lnTo>
                    <a:pt x="314" y="30"/>
                  </a:lnTo>
                  <a:lnTo>
                    <a:pt x="342" y="22"/>
                  </a:lnTo>
                  <a:lnTo>
                    <a:pt x="370" y="16"/>
                  </a:lnTo>
                  <a:lnTo>
                    <a:pt x="399" y="9"/>
                  </a:lnTo>
                  <a:lnTo>
                    <a:pt x="428" y="5"/>
                  </a:lnTo>
                  <a:lnTo>
                    <a:pt x="457" y="2"/>
                  </a:lnTo>
                  <a:lnTo>
                    <a:pt x="478" y="1"/>
                  </a:lnTo>
                  <a:lnTo>
                    <a:pt x="498" y="0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59" y="1"/>
                  </a:lnTo>
                  <a:lnTo>
                    <a:pt x="580" y="3"/>
                  </a:lnTo>
                  <a:lnTo>
                    <a:pt x="600" y="5"/>
                  </a:lnTo>
                  <a:lnTo>
                    <a:pt x="620" y="8"/>
                  </a:lnTo>
                  <a:lnTo>
                    <a:pt x="639" y="10"/>
                  </a:lnTo>
                  <a:lnTo>
                    <a:pt x="659" y="14"/>
                  </a:lnTo>
                  <a:lnTo>
                    <a:pt x="678" y="18"/>
                  </a:lnTo>
                  <a:lnTo>
                    <a:pt x="698" y="22"/>
                  </a:lnTo>
                  <a:lnTo>
                    <a:pt x="719" y="28"/>
                  </a:lnTo>
                  <a:lnTo>
                    <a:pt x="738" y="33"/>
                  </a:lnTo>
                  <a:lnTo>
                    <a:pt x="758" y="38"/>
                  </a:lnTo>
                  <a:lnTo>
                    <a:pt x="778" y="44"/>
                  </a:lnTo>
                  <a:lnTo>
                    <a:pt x="794" y="49"/>
                  </a:lnTo>
                  <a:lnTo>
                    <a:pt x="808" y="53"/>
                  </a:lnTo>
                  <a:lnTo>
                    <a:pt x="822" y="58"/>
                  </a:lnTo>
                  <a:lnTo>
                    <a:pt x="840" y="62"/>
                  </a:lnTo>
                  <a:lnTo>
                    <a:pt x="854" y="68"/>
                  </a:lnTo>
                  <a:lnTo>
                    <a:pt x="869" y="75"/>
                  </a:lnTo>
                  <a:lnTo>
                    <a:pt x="885" y="79"/>
                  </a:lnTo>
                  <a:lnTo>
                    <a:pt x="900" y="86"/>
                  </a:lnTo>
                  <a:lnTo>
                    <a:pt x="915" y="94"/>
                  </a:lnTo>
                  <a:lnTo>
                    <a:pt x="929" y="101"/>
                  </a:lnTo>
                  <a:lnTo>
                    <a:pt x="942" y="110"/>
                  </a:lnTo>
                  <a:lnTo>
                    <a:pt x="956" y="119"/>
                  </a:lnTo>
                  <a:lnTo>
                    <a:pt x="967" y="128"/>
                  </a:lnTo>
                  <a:lnTo>
                    <a:pt x="979" y="140"/>
                  </a:lnTo>
                  <a:lnTo>
                    <a:pt x="989" y="150"/>
                  </a:lnTo>
                  <a:lnTo>
                    <a:pt x="999" y="162"/>
                  </a:lnTo>
                  <a:lnTo>
                    <a:pt x="1019" y="196"/>
                  </a:lnTo>
                  <a:lnTo>
                    <a:pt x="1033" y="235"/>
                  </a:lnTo>
                  <a:lnTo>
                    <a:pt x="1044" y="274"/>
                  </a:lnTo>
                  <a:lnTo>
                    <a:pt x="1054" y="314"/>
                  </a:lnTo>
                  <a:lnTo>
                    <a:pt x="1064" y="355"/>
                  </a:lnTo>
                  <a:lnTo>
                    <a:pt x="1074" y="394"/>
                  </a:lnTo>
                  <a:lnTo>
                    <a:pt x="1087" y="432"/>
                  </a:lnTo>
                  <a:lnTo>
                    <a:pt x="1108" y="466"/>
                  </a:lnTo>
                  <a:lnTo>
                    <a:pt x="1120" y="483"/>
                  </a:lnTo>
                  <a:lnTo>
                    <a:pt x="1132" y="498"/>
                  </a:lnTo>
                  <a:lnTo>
                    <a:pt x="1145" y="514"/>
                  </a:lnTo>
                  <a:lnTo>
                    <a:pt x="1158" y="530"/>
                  </a:lnTo>
                  <a:lnTo>
                    <a:pt x="1173" y="543"/>
                  </a:lnTo>
                  <a:lnTo>
                    <a:pt x="1186" y="558"/>
                  </a:lnTo>
                  <a:lnTo>
                    <a:pt x="1201" y="573"/>
                  </a:lnTo>
                  <a:lnTo>
                    <a:pt x="1217" y="585"/>
                  </a:lnTo>
                  <a:lnTo>
                    <a:pt x="1233" y="599"/>
                  </a:lnTo>
                  <a:lnTo>
                    <a:pt x="1249" y="610"/>
                  </a:lnTo>
                  <a:lnTo>
                    <a:pt x="1266" y="623"/>
                  </a:lnTo>
                  <a:lnTo>
                    <a:pt x="1283" y="633"/>
                  </a:lnTo>
                  <a:lnTo>
                    <a:pt x="1300" y="645"/>
                  </a:lnTo>
                  <a:lnTo>
                    <a:pt x="1318" y="653"/>
                  </a:lnTo>
                  <a:lnTo>
                    <a:pt x="1337" y="662"/>
                  </a:lnTo>
                  <a:lnTo>
                    <a:pt x="1355" y="670"/>
                  </a:lnTo>
                  <a:lnTo>
                    <a:pt x="1365" y="672"/>
                  </a:lnTo>
                  <a:lnTo>
                    <a:pt x="1376" y="675"/>
                  </a:lnTo>
                  <a:lnTo>
                    <a:pt x="1389" y="679"/>
                  </a:lnTo>
                  <a:lnTo>
                    <a:pt x="1401" y="681"/>
                  </a:lnTo>
                  <a:lnTo>
                    <a:pt x="1414" y="683"/>
                  </a:lnTo>
                  <a:lnTo>
                    <a:pt x="1429" y="686"/>
                  </a:lnTo>
                  <a:lnTo>
                    <a:pt x="1443" y="687"/>
                  </a:lnTo>
                  <a:lnTo>
                    <a:pt x="1458" y="688"/>
                  </a:lnTo>
                  <a:lnTo>
                    <a:pt x="1473" y="688"/>
                  </a:lnTo>
                  <a:lnTo>
                    <a:pt x="1487" y="689"/>
                  </a:lnTo>
                  <a:lnTo>
                    <a:pt x="1501" y="688"/>
                  </a:lnTo>
                  <a:lnTo>
                    <a:pt x="1515" y="688"/>
                  </a:lnTo>
                  <a:lnTo>
                    <a:pt x="1529" y="687"/>
                  </a:lnTo>
                  <a:lnTo>
                    <a:pt x="1541" y="684"/>
                  </a:lnTo>
                  <a:lnTo>
                    <a:pt x="1553" y="682"/>
                  </a:lnTo>
                  <a:lnTo>
                    <a:pt x="1563" y="680"/>
                  </a:lnTo>
                  <a:lnTo>
                    <a:pt x="1553" y="771"/>
                  </a:lnTo>
                  <a:lnTo>
                    <a:pt x="1537" y="862"/>
                  </a:lnTo>
                  <a:lnTo>
                    <a:pt x="1521" y="953"/>
                  </a:lnTo>
                  <a:lnTo>
                    <a:pt x="1503" y="1044"/>
                  </a:lnTo>
                  <a:lnTo>
                    <a:pt x="1484" y="1136"/>
                  </a:lnTo>
                  <a:lnTo>
                    <a:pt x="1467" y="1227"/>
                  </a:lnTo>
                  <a:lnTo>
                    <a:pt x="1453" y="1318"/>
                  </a:lnTo>
                  <a:lnTo>
                    <a:pt x="1441" y="1408"/>
                  </a:lnTo>
                  <a:lnTo>
                    <a:pt x="1445" y="1435"/>
                  </a:lnTo>
                  <a:lnTo>
                    <a:pt x="1454" y="1467"/>
                  </a:lnTo>
                  <a:lnTo>
                    <a:pt x="1464" y="1500"/>
                  </a:lnTo>
                  <a:lnTo>
                    <a:pt x="1479" y="1533"/>
                  </a:lnTo>
                  <a:lnTo>
                    <a:pt x="1496" y="1564"/>
                  </a:lnTo>
                  <a:lnTo>
                    <a:pt x="1514" y="1592"/>
                  </a:lnTo>
                  <a:lnTo>
                    <a:pt x="1534" y="1615"/>
                  </a:lnTo>
                  <a:lnTo>
                    <a:pt x="1556" y="1630"/>
                  </a:lnTo>
                  <a:lnTo>
                    <a:pt x="1582" y="1644"/>
                  </a:lnTo>
                  <a:lnTo>
                    <a:pt x="1608" y="1658"/>
                  </a:lnTo>
                  <a:lnTo>
                    <a:pt x="1635" y="1674"/>
                  </a:lnTo>
                  <a:lnTo>
                    <a:pt x="1661" y="1692"/>
                  </a:lnTo>
                  <a:lnTo>
                    <a:pt x="1687" y="1710"/>
                  </a:lnTo>
                  <a:lnTo>
                    <a:pt x="1712" y="1729"/>
                  </a:lnTo>
                  <a:lnTo>
                    <a:pt x="1737" y="1749"/>
                  </a:lnTo>
                  <a:lnTo>
                    <a:pt x="1761" y="1771"/>
                  </a:lnTo>
                  <a:lnTo>
                    <a:pt x="1785" y="1793"/>
                  </a:lnTo>
                  <a:lnTo>
                    <a:pt x="1809" y="1817"/>
                  </a:lnTo>
                  <a:lnTo>
                    <a:pt x="1831" y="1841"/>
                  </a:lnTo>
                  <a:lnTo>
                    <a:pt x="1853" y="1867"/>
                  </a:lnTo>
                  <a:lnTo>
                    <a:pt x="1873" y="1894"/>
                  </a:lnTo>
                  <a:lnTo>
                    <a:pt x="1894" y="1921"/>
                  </a:lnTo>
                  <a:lnTo>
                    <a:pt x="1913" y="1948"/>
                  </a:lnTo>
                  <a:lnTo>
                    <a:pt x="1933" y="1978"/>
                  </a:lnTo>
                  <a:lnTo>
                    <a:pt x="1948" y="2006"/>
                  </a:lnTo>
                  <a:lnTo>
                    <a:pt x="1963" y="2036"/>
                  </a:lnTo>
                  <a:lnTo>
                    <a:pt x="1979" y="2065"/>
                  </a:lnTo>
                  <a:lnTo>
                    <a:pt x="1994" y="2097"/>
                  </a:lnTo>
                  <a:lnTo>
                    <a:pt x="2008" y="2130"/>
                  </a:lnTo>
                  <a:lnTo>
                    <a:pt x="2022" y="2163"/>
                  </a:lnTo>
                  <a:lnTo>
                    <a:pt x="2036" y="2197"/>
                  </a:lnTo>
                  <a:lnTo>
                    <a:pt x="2051" y="2230"/>
                  </a:lnTo>
                  <a:lnTo>
                    <a:pt x="2063" y="2266"/>
                  </a:lnTo>
                  <a:lnTo>
                    <a:pt x="2077" y="2299"/>
                  </a:lnTo>
                  <a:lnTo>
                    <a:pt x="2089" y="2334"/>
                  </a:lnTo>
                  <a:lnTo>
                    <a:pt x="2103" y="2366"/>
                  </a:lnTo>
                  <a:lnTo>
                    <a:pt x="2114" y="2400"/>
                  </a:lnTo>
                  <a:lnTo>
                    <a:pt x="2127" y="2430"/>
                  </a:lnTo>
                  <a:lnTo>
                    <a:pt x="2140" y="2462"/>
                  </a:lnTo>
                  <a:lnTo>
                    <a:pt x="2152" y="2493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240" y="52560"/>
              <a:ext cx="1079280" cy="1393920"/>
            </a:xfrm>
            <a:custGeom>
              <a:avLst/>
              <a:gdLst/>
              <a:ahLst/>
              <a:rect l="l" t="t" r="r" b="b"/>
              <a:pathLst>
                <a:path w="2722" h="3514">
                  <a:moveTo>
                    <a:pt x="2722" y="3514"/>
                  </a:moveTo>
                  <a:lnTo>
                    <a:pt x="2690" y="3511"/>
                  </a:lnTo>
                  <a:lnTo>
                    <a:pt x="2660" y="3506"/>
                  </a:lnTo>
                  <a:lnTo>
                    <a:pt x="2632" y="3496"/>
                  </a:lnTo>
                  <a:lnTo>
                    <a:pt x="2605" y="3482"/>
                  </a:lnTo>
                  <a:lnTo>
                    <a:pt x="2578" y="3465"/>
                  </a:lnTo>
                  <a:lnTo>
                    <a:pt x="2552" y="3447"/>
                  </a:lnTo>
                  <a:lnTo>
                    <a:pt x="2526" y="3426"/>
                  </a:lnTo>
                  <a:lnTo>
                    <a:pt x="2501" y="3405"/>
                  </a:lnTo>
                  <a:lnTo>
                    <a:pt x="2475" y="3383"/>
                  </a:lnTo>
                  <a:lnTo>
                    <a:pt x="2450" y="3360"/>
                  </a:lnTo>
                  <a:lnTo>
                    <a:pt x="2424" y="3339"/>
                  </a:lnTo>
                  <a:lnTo>
                    <a:pt x="2398" y="3318"/>
                  </a:lnTo>
                  <a:lnTo>
                    <a:pt x="2370" y="3299"/>
                  </a:lnTo>
                  <a:lnTo>
                    <a:pt x="2344" y="3282"/>
                  </a:lnTo>
                  <a:lnTo>
                    <a:pt x="2316" y="3269"/>
                  </a:lnTo>
                  <a:lnTo>
                    <a:pt x="2285" y="3258"/>
                  </a:lnTo>
                  <a:lnTo>
                    <a:pt x="2260" y="3251"/>
                  </a:lnTo>
                  <a:lnTo>
                    <a:pt x="2237" y="3249"/>
                  </a:lnTo>
                  <a:lnTo>
                    <a:pt x="2217" y="3245"/>
                  </a:lnTo>
                  <a:lnTo>
                    <a:pt x="2196" y="3244"/>
                  </a:lnTo>
                  <a:lnTo>
                    <a:pt x="2178" y="3244"/>
                  </a:lnTo>
                  <a:lnTo>
                    <a:pt x="2159" y="3245"/>
                  </a:lnTo>
                  <a:lnTo>
                    <a:pt x="2142" y="3248"/>
                  </a:lnTo>
                  <a:lnTo>
                    <a:pt x="2125" y="3250"/>
                  </a:lnTo>
                  <a:lnTo>
                    <a:pt x="2106" y="3252"/>
                  </a:lnTo>
                  <a:lnTo>
                    <a:pt x="2088" y="3254"/>
                  </a:lnTo>
                  <a:lnTo>
                    <a:pt x="2070" y="3258"/>
                  </a:lnTo>
                  <a:lnTo>
                    <a:pt x="2051" y="3261"/>
                  </a:lnTo>
                  <a:lnTo>
                    <a:pt x="2031" y="3265"/>
                  </a:lnTo>
                  <a:lnTo>
                    <a:pt x="2009" y="3267"/>
                  </a:lnTo>
                  <a:lnTo>
                    <a:pt x="1986" y="3268"/>
                  </a:lnTo>
                  <a:lnTo>
                    <a:pt x="1960" y="3269"/>
                  </a:lnTo>
                  <a:lnTo>
                    <a:pt x="1929" y="3269"/>
                  </a:lnTo>
                  <a:lnTo>
                    <a:pt x="1896" y="3268"/>
                  </a:lnTo>
                  <a:lnTo>
                    <a:pt x="1863" y="3265"/>
                  </a:lnTo>
                  <a:lnTo>
                    <a:pt x="1828" y="3261"/>
                  </a:lnTo>
                  <a:lnTo>
                    <a:pt x="1792" y="3258"/>
                  </a:lnTo>
                  <a:lnTo>
                    <a:pt x="1756" y="3253"/>
                  </a:lnTo>
                  <a:lnTo>
                    <a:pt x="1720" y="3250"/>
                  </a:lnTo>
                  <a:lnTo>
                    <a:pt x="1682" y="3246"/>
                  </a:lnTo>
                  <a:lnTo>
                    <a:pt x="1647" y="3242"/>
                  </a:lnTo>
                  <a:lnTo>
                    <a:pt x="1609" y="3238"/>
                  </a:lnTo>
                  <a:lnTo>
                    <a:pt x="1574" y="3236"/>
                  </a:lnTo>
                  <a:lnTo>
                    <a:pt x="1539" y="3235"/>
                  </a:lnTo>
                  <a:lnTo>
                    <a:pt x="1505" y="3235"/>
                  </a:lnTo>
                  <a:lnTo>
                    <a:pt x="1471" y="3237"/>
                  </a:lnTo>
                  <a:lnTo>
                    <a:pt x="1440" y="3241"/>
                  </a:lnTo>
                  <a:lnTo>
                    <a:pt x="1409" y="3246"/>
                  </a:lnTo>
                  <a:lnTo>
                    <a:pt x="1378" y="3253"/>
                  </a:lnTo>
                  <a:lnTo>
                    <a:pt x="1348" y="3262"/>
                  </a:lnTo>
                  <a:lnTo>
                    <a:pt x="1318" y="3273"/>
                  </a:lnTo>
                  <a:lnTo>
                    <a:pt x="1288" y="3284"/>
                  </a:lnTo>
                  <a:lnTo>
                    <a:pt x="1257" y="3296"/>
                  </a:lnTo>
                  <a:lnTo>
                    <a:pt x="1226" y="3309"/>
                  </a:lnTo>
                  <a:lnTo>
                    <a:pt x="1197" y="3321"/>
                  </a:lnTo>
                  <a:lnTo>
                    <a:pt x="1166" y="3335"/>
                  </a:lnTo>
                  <a:lnTo>
                    <a:pt x="1135" y="3349"/>
                  </a:lnTo>
                  <a:lnTo>
                    <a:pt x="1107" y="3362"/>
                  </a:lnTo>
                  <a:lnTo>
                    <a:pt x="1076" y="3376"/>
                  </a:lnTo>
                  <a:lnTo>
                    <a:pt x="1045" y="3389"/>
                  </a:lnTo>
                  <a:lnTo>
                    <a:pt x="1015" y="3401"/>
                  </a:lnTo>
                  <a:lnTo>
                    <a:pt x="986" y="3412"/>
                  </a:lnTo>
                  <a:lnTo>
                    <a:pt x="955" y="3423"/>
                  </a:lnTo>
                  <a:lnTo>
                    <a:pt x="925" y="3433"/>
                  </a:lnTo>
                  <a:lnTo>
                    <a:pt x="906" y="3436"/>
                  </a:lnTo>
                  <a:lnTo>
                    <a:pt x="887" y="3441"/>
                  </a:lnTo>
                  <a:lnTo>
                    <a:pt x="868" y="3444"/>
                  </a:lnTo>
                  <a:lnTo>
                    <a:pt x="847" y="3448"/>
                  </a:lnTo>
                  <a:lnTo>
                    <a:pt x="827" y="3450"/>
                  </a:lnTo>
                  <a:lnTo>
                    <a:pt x="808" y="3451"/>
                  </a:lnTo>
                  <a:lnTo>
                    <a:pt x="787" y="3452"/>
                  </a:lnTo>
                  <a:lnTo>
                    <a:pt x="768" y="3452"/>
                  </a:lnTo>
                  <a:lnTo>
                    <a:pt x="747" y="3453"/>
                  </a:lnTo>
                  <a:lnTo>
                    <a:pt x="726" y="3452"/>
                  </a:lnTo>
                  <a:lnTo>
                    <a:pt x="705" y="3452"/>
                  </a:lnTo>
                  <a:lnTo>
                    <a:pt x="686" y="3452"/>
                  </a:lnTo>
                  <a:lnTo>
                    <a:pt x="665" y="3451"/>
                  </a:lnTo>
                  <a:lnTo>
                    <a:pt x="645" y="3450"/>
                  </a:lnTo>
                  <a:lnTo>
                    <a:pt x="626" y="3450"/>
                  </a:lnTo>
                  <a:lnTo>
                    <a:pt x="606" y="344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5" y="23"/>
                  </a:lnTo>
                  <a:lnTo>
                    <a:pt x="58" y="30"/>
                  </a:lnTo>
                  <a:lnTo>
                    <a:pt x="68" y="35"/>
                  </a:lnTo>
                  <a:lnTo>
                    <a:pt x="81" y="41"/>
                  </a:lnTo>
                  <a:lnTo>
                    <a:pt x="91" y="48"/>
                  </a:lnTo>
                  <a:lnTo>
                    <a:pt x="104" y="53"/>
                  </a:lnTo>
                  <a:lnTo>
                    <a:pt x="114" y="58"/>
                  </a:lnTo>
                  <a:lnTo>
                    <a:pt x="126" y="64"/>
                  </a:lnTo>
                  <a:lnTo>
                    <a:pt x="138" y="69"/>
                  </a:lnTo>
                  <a:lnTo>
                    <a:pt x="149" y="74"/>
                  </a:lnTo>
                  <a:lnTo>
                    <a:pt x="160" y="78"/>
                  </a:lnTo>
                  <a:lnTo>
                    <a:pt x="174" y="81"/>
                  </a:lnTo>
                  <a:lnTo>
                    <a:pt x="185" y="84"/>
                  </a:lnTo>
                  <a:lnTo>
                    <a:pt x="208" y="89"/>
                  </a:lnTo>
                  <a:lnTo>
                    <a:pt x="230" y="91"/>
                  </a:lnTo>
                  <a:lnTo>
                    <a:pt x="252" y="93"/>
                  </a:lnTo>
                  <a:lnTo>
                    <a:pt x="274" y="93"/>
                  </a:lnTo>
                  <a:lnTo>
                    <a:pt x="297" y="92"/>
                  </a:lnTo>
                  <a:lnTo>
                    <a:pt x="318" y="91"/>
                  </a:lnTo>
                  <a:lnTo>
                    <a:pt x="340" y="90"/>
                  </a:lnTo>
                  <a:lnTo>
                    <a:pt x="363" y="88"/>
                  </a:lnTo>
                  <a:lnTo>
                    <a:pt x="384" y="85"/>
                  </a:lnTo>
                  <a:lnTo>
                    <a:pt x="406" y="84"/>
                  </a:lnTo>
                  <a:lnTo>
                    <a:pt x="428" y="83"/>
                  </a:lnTo>
                  <a:lnTo>
                    <a:pt x="449" y="83"/>
                  </a:lnTo>
                  <a:lnTo>
                    <a:pt x="471" y="84"/>
                  </a:lnTo>
                  <a:lnTo>
                    <a:pt x="494" y="85"/>
                  </a:lnTo>
                  <a:lnTo>
                    <a:pt x="515" y="89"/>
                  </a:lnTo>
                  <a:lnTo>
                    <a:pt x="538" y="94"/>
                  </a:lnTo>
                  <a:lnTo>
                    <a:pt x="583" y="107"/>
                  </a:lnTo>
                  <a:lnTo>
                    <a:pt x="627" y="123"/>
                  </a:lnTo>
                  <a:lnTo>
                    <a:pt x="669" y="139"/>
                  </a:lnTo>
                  <a:lnTo>
                    <a:pt x="711" y="156"/>
                  </a:lnTo>
                  <a:lnTo>
                    <a:pt x="751" y="174"/>
                  </a:lnTo>
                  <a:lnTo>
                    <a:pt x="793" y="193"/>
                  </a:lnTo>
                  <a:lnTo>
                    <a:pt x="833" y="213"/>
                  </a:lnTo>
                  <a:lnTo>
                    <a:pt x="871" y="232"/>
                  </a:lnTo>
                  <a:lnTo>
                    <a:pt x="912" y="251"/>
                  </a:lnTo>
                  <a:lnTo>
                    <a:pt x="952" y="270"/>
                  </a:lnTo>
                  <a:lnTo>
                    <a:pt x="993" y="288"/>
                  </a:lnTo>
                  <a:lnTo>
                    <a:pt x="1035" y="306"/>
                  </a:lnTo>
                  <a:lnTo>
                    <a:pt x="1076" y="322"/>
                  </a:lnTo>
                  <a:lnTo>
                    <a:pt x="1119" y="336"/>
                  </a:lnTo>
                  <a:lnTo>
                    <a:pt x="1162" y="349"/>
                  </a:lnTo>
                  <a:lnTo>
                    <a:pt x="1208" y="359"/>
                  </a:lnTo>
                  <a:lnTo>
                    <a:pt x="1235" y="364"/>
                  </a:lnTo>
                  <a:lnTo>
                    <a:pt x="1266" y="369"/>
                  </a:lnTo>
                  <a:lnTo>
                    <a:pt x="1298" y="371"/>
                  </a:lnTo>
                  <a:lnTo>
                    <a:pt x="1332" y="372"/>
                  </a:lnTo>
                  <a:lnTo>
                    <a:pt x="1368" y="372"/>
                  </a:lnTo>
                  <a:lnTo>
                    <a:pt x="1405" y="371"/>
                  </a:lnTo>
                  <a:lnTo>
                    <a:pt x="1441" y="370"/>
                  </a:lnTo>
                  <a:lnTo>
                    <a:pt x="1480" y="366"/>
                  </a:lnTo>
                  <a:lnTo>
                    <a:pt x="1516" y="364"/>
                  </a:lnTo>
                  <a:lnTo>
                    <a:pt x="1554" y="359"/>
                  </a:lnTo>
                  <a:lnTo>
                    <a:pt x="1589" y="356"/>
                  </a:lnTo>
                  <a:lnTo>
                    <a:pt x="1624" y="353"/>
                  </a:lnTo>
                  <a:lnTo>
                    <a:pt x="1657" y="348"/>
                  </a:lnTo>
                  <a:lnTo>
                    <a:pt x="1689" y="342"/>
                  </a:lnTo>
                  <a:lnTo>
                    <a:pt x="1717" y="338"/>
                  </a:lnTo>
                  <a:lnTo>
                    <a:pt x="1744" y="333"/>
                  </a:lnTo>
                  <a:lnTo>
                    <a:pt x="1779" y="402"/>
                  </a:lnTo>
                  <a:lnTo>
                    <a:pt x="1808" y="466"/>
                  </a:lnTo>
                  <a:lnTo>
                    <a:pt x="1831" y="527"/>
                  </a:lnTo>
                  <a:lnTo>
                    <a:pt x="1851" y="585"/>
                  </a:lnTo>
                  <a:lnTo>
                    <a:pt x="1866" y="642"/>
                  </a:lnTo>
                  <a:lnTo>
                    <a:pt x="1877" y="696"/>
                  </a:lnTo>
                  <a:lnTo>
                    <a:pt x="1887" y="750"/>
                  </a:lnTo>
                  <a:lnTo>
                    <a:pt x="1893" y="803"/>
                  </a:lnTo>
                  <a:lnTo>
                    <a:pt x="1899" y="855"/>
                  </a:lnTo>
                  <a:lnTo>
                    <a:pt x="1905" y="910"/>
                  </a:lnTo>
                  <a:lnTo>
                    <a:pt x="1912" y="966"/>
                  </a:lnTo>
                  <a:lnTo>
                    <a:pt x="1919" y="1023"/>
                  </a:lnTo>
                  <a:lnTo>
                    <a:pt x="1929" y="1083"/>
                  </a:lnTo>
                  <a:lnTo>
                    <a:pt x="1940" y="1145"/>
                  </a:lnTo>
                  <a:lnTo>
                    <a:pt x="1957" y="1210"/>
                  </a:lnTo>
                  <a:lnTo>
                    <a:pt x="1977" y="1281"/>
                  </a:lnTo>
                  <a:lnTo>
                    <a:pt x="1989" y="1315"/>
                  </a:lnTo>
                  <a:lnTo>
                    <a:pt x="2011" y="1358"/>
                  </a:lnTo>
                  <a:lnTo>
                    <a:pt x="2037" y="1409"/>
                  </a:lnTo>
                  <a:lnTo>
                    <a:pt x="2070" y="1466"/>
                  </a:lnTo>
                  <a:lnTo>
                    <a:pt x="2106" y="1528"/>
                  </a:lnTo>
                  <a:lnTo>
                    <a:pt x="2146" y="1592"/>
                  </a:lnTo>
                  <a:lnTo>
                    <a:pt x="2187" y="1660"/>
                  </a:lnTo>
                  <a:lnTo>
                    <a:pt x="2229" y="1728"/>
                  </a:lnTo>
                  <a:lnTo>
                    <a:pt x="2274" y="1797"/>
                  </a:lnTo>
                  <a:lnTo>
                    <a:pt x="2315" y="1864"/>
                  </a:lnTo>
                  <a:lnTo>
                    <a:pt x="2353" y="1929"/>
                  </a:lnTo>
                  <a:lnTo>
                    <a:pt x="2391" y="1992"/>
                  </a:lnTo>
                  <a:lnTo>
                    <a:pt x="2421" y="2047"/>
                  </a:lnTo>
                  <a:lnTo>
                    <a:pt x="2449" y="2099"/>
                  </a:lnTo>
                  <a:lnTo>
                    <a:pt x="2469" y="2142"/>
                  </a:lnTo>
                  <a:lnTo>
                    <a:pt x="2483" y="2177"/>
                  </a:lnTo>
                  <a:lnTo>
                    <a:pt x="2510" y="2270"/>
                  </a:lnTo>
                  <a:lnTo>
                    <a:pt x="2532" y="2360"/>
                  </a:lnTo>
                  <a:lnTo>
                    <a:pt x="2550" y="2447"/>
                  </a:lnTo>
                  <a:lnTo>
                    <a:pt x="2564" y="2530"/>
                  </a:lnTo>
                  <a:lnTo>
                    <a:pt x="2576" y="2611"/>
                  </a:lnTo>
                  <a:lnTo>
                    <a:pt x="2585" y="2689"/>
                  </a:lnTo>
                  <a:lnTo>
                    <a:pt x="2594" y="2768"/>
                  </a:lnTo>
                  <a:lnTo>
                    <a:pt x="2602" y="2845"/>
                  </a:lnTo>
                  <a:lnTo>
                    <a:pt x="2609" y="2922"/>
                  </a:lnTo>
                  <a:lnTo>
                    <a:pt x="2618" y="3000"/>
                  </a:lnTo>
                  <a:lnTo>
                    <a:pt x="2628" y="3079"/>
                  </a:lnTo>
                  <a:lnTo>
                    <a:pt x="2640" y="3160"/>
                  </a:lnTo>
                  <a:lnTo>
                    <a:pt x="2653" y="3244"/>
                  </a:lnTo>
                  <a:lnTo>
                    <a:pt x="2673" y="3329"/>
                  </a:lnTo>
                  <a:lnTo>
                    <a:pt x="2694" y="3419"/>
                  </a:lnTo>
                  <a:lnTo>
                    <a:pt x="2722" y="3514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04720" y="1310040"/>
              <a:ext cx="118800" cy="107640"/>
            </a:xfrm>
            <a:custGeom>
              <a:avLst/>
              <a:gdLst/>
              <a:ahLst/>
              <a:rect l="l" t="t" r="r" b="b"/>
              <a:pathLst>
                <a:path w="303" h="274">
                  <a:moveTo>
                    <a:pt x="145" y="274"/>
                  </a:moveTo>
                  <a:lnTo>
                    <a:pt x="0" y="23"/>
                  </a:lnTo>
                  <a:lnTo>
                    <a:pt x="17" y="18"/>
                  </a:lnTo>
                  <a:lnTo>
                    <a:pt x="34" y="15"/>
                  </a:lnTo>
                  <a:lnTo>
                    <a:pt x="53" y="10"/>
                  </a:lnTo>
                  <a:lnTo>
                    <a:pt x="72" y="7"/>
                  </a:lnTo>
                  <a:lnTo>
                    <a:pt x="92" y="3"/>
                  </a:lnTo>
                  <a:lnTo>
                    <a:pt x="113" y="1"/>
                  </a:lnTo>
                  <a:lnTo>
                    <a:pt x="133" y="0"/>
                  </a:lnTo>
                  <a:lnTo>
                    <a:pt x="154" y="0"/>
                  </a:lnTo>
                  <a:lnTo>
                    <a:pt x="174" y="1"/>
                  </a:lnTo>
                  <a:lnTo>
                    <a:pt x="194" y="3"/>
                  </a:lnTo>
                  <a:lnTo>
                    <a:pt x="213" y="7"/>
                  </a:lnTo>
                  <a:lnTo>
                    <a:pt x="231" y="11"/>
                  </a:lnTo>
                  <a:lnTo>
                    <a:pt x="247" y="17"/>
                  </a:lnTo>
                  <a:lnTo>
                    <a:pt x="262" y="26"/>
                  </a:lnTo>
                  <a:lnTo>
                    <a:pt x="276" y="35"/>
                  </a:lnTo>
                  <a:lnTo>
                    <a:pt x="287" y="46"/>
                  </a:lnTo>
                  <a:lnTo>
                    <a:pt x="298" y="62"/>
                  </a:lnTo>
                  <a:lnTo>
                    <a:pt x="303" y="79"/>
                  </a:lnTo>
                  <a:lnTo>
                    <a:pt x="302" y="94"/>
                  </a:lnTo>
                  <a:lnTo>
                    <a:pt x="295" y="109"/>
                  </a:lnTo>
                  <a:lnTo>
                    <a:pt x="286" y="124"/>
                  </a:lnTo>
                  <a:lnTo>
                    <a:pt x="272" y="137"/>
                  </a:lnTo>
                  <a:lnTo>
                    <a:pt x="256" y="151"/>
                  </a:lnTo>
                  <a:lnTo>
                    <a:pt x="239" y="165"/>
                  </a:lnTo>
                  <a:lnTo>
                    <a:pt x="221" y="177"/>
                  </a:lnTo>
                  <a:lnTo>
                    <a:pt x="204" y="191"/>
                  </a:lnTo>
                  <a:lnTo>
                    <a:pt x="187" y="203"/>
                  </a:lnTo>
                  <a:lnTo>
                    <a:pt x="171" y="218"/>
                  </a:lnTo>
                  <a:lnTo>
                    <a:pt x="160" y="231"/>
                  </a:lnTo>
                  <a:lnTo>
                    <a:pt x="149" y="244"/>
                  </a:lnTo>
                  <a:lnTo>
                    <a:pt x="145" y="259"/>
                  </a:lnTo>
                  <a:lnTo>
                    <a:pt x="145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5800" y="86040"/>
              <a:ext cx="311040" cy="750600"/>
            </a:xfrm>
            <a:custGeom>
              <a:avLst/>
              <a:gdLst/>
              <a:ahLst/>
              <a:rect l="l" t="t" r="r" b="b"/>
              <a:pathLst>
                <a:path w="786" h="1892">
                  <a:moveTo>
                    <a:pt x="0" y="14"/>
                  </a:moveTo>
                  <a:lnTo>
                    <a:pt x="4" y="65"/>
                  </a:lnTo>
                  <a:lnTo>
                    <a:pt x="6" y="119"/>
                  </a:lnTo>
                  <a:lnTo>
                    <a:pt x="10" y="170"/>
                  </a:lnTo>
                  <a:lnTo>
                    <a:pt x="26" y="218"/>
                  </a:lnTo>
                  <a:lnTo>
                    <a:pt x="35" y="236"/>
                  </a:lnTo>
                  <a:lnTo>
                    <a:pt x="47" y="253"/>
                  </a:lnTo>
                  <a:lnTo>
                    <a:pt x="57" y="270"/>
                  </a:lnTo>
                  <a:lnTo>
                    <a:pt x="68" y="288"/>
                  </a:lnTo>
                  <a:lnTo>
                    <a:pt x="80" y="304"/>
                  </a:lnTo>
                  <a:lnTo>
                    <a:pt x="92" y="319"/>
                  </a:lnTo>
                  <a:lnTo>
                    <a:pt x="104" y="336"/>
                  </a:lnTo>
                  <a:lnTo>
                    <a:pt x="117" y="351"/>
                  </a:lnTo>
                  <a:lnTo>
                    <a:pt x="129" y="367"/>
                  </a:lnTo>
                  <a:lnTo>
                    <a:pt x="142" y="383"/>
                  </a:lnTo>
                  <a:lnTo>
                    <a:pt x="154" y="398"/>
                  </a:lnTo>
                  <a:lnTo>
                    <a:pt x="166" y="414"/>
                  </a:lnTo>
                  <a:lnTo>
                    <a:pt x="178" y="430"/>
                  </a:lnTo>
                  <a:lnTo>
                    <a:pt x="189" y="448"/>
                  </a:lnTo>
                  <a:lnTo>
                    <a:pt x="199" y="467"/>
                  </a:lnTo>
                  <a:lnTo>
                    <a:pt x="209" y="485"/>
                  </a:lnTo>
                  <a:lnTo>
                    <a:pt x="222" y="518"/>
                  </a:lnTo>
                  <a:lnTo>
                    <a:pt x="231" y="552"/>
                  </a:lnTo>
                  <a:lnTo>
                    <a:pt x="237" y="588"/>
                  </a:lnTo>
                  <a:lnTo>
                    <a:pt x="241" y="624"/>
                  </a:lnTo>
                  <a:lnTo>
                    <a:pt x="245" y="659"/>
                  </a:lnTo>
                  <a:lnTo>
                    <a:pt x="253" y="694"/>
                  </a:lnTo>
                  <a:lnTo>
                    <a:pt x="265" y="726"/>
                  </a:lnTo>
                  <a:lnTo>
                    <a:pt x="282" y="757"/>
                  </a:lnTo>
                  <a:lnTo>
                    <a:pt x="297" y="769"/>
                  </a:lnTo>
                  <a:lnTo>
                    <a:pt x="312" y="764"/>
                  </a:lnTo>
                  <a:lnTo>
                    <a:pt x="323" y="747"/>
                  </a:lnTo>
                  <a:lnTo>
                    <a:pt x="335" y="725"/>
                  </a:lnTo>
                  <a:lnTo>
                    <a:pt x="344" y="703"/>
                  </a:lnTo>
                  <a:lnTo>
                    <a:pt x="355" y="692"/>
                  </a:lnTo>
                  <a:lnTo>
                    <a:pt x="366" y="693"/>
                  </a:lnTo>
                  <a:lnTo>
                    <a:pt x="380" y="716"/>
                  </a:lnTo>
                  <a:lnTo>
                    <a:pt x="406" y="784"/>
                  </a:lnTo>
                  <a:lnTo>
                    <a:pt x="432" y="852"/>
                  </a:lnTo>
                  <a:lnTo>
                    <a:pt x="457" y="922"/>
                  </a:lnTo>
                  <a:lnTo>
                    <a:pt x="480" y="991"/>
                  </a:lnTo>
                  <a:lnTo>
                    <a:pt x="502" y="1062"/>
                  </a:lnTo>
                  <a:lnTo>
                    <a:pt x="523" y="1131"/>
                  </a:lnTo>
                  <a:lnTo>
                    <a:pt x="543" y="1203"/>
                  </a:lnTo>
                  <a:lnTo>
                    <a:pt x="561" y="1272"/>
                  </a:lnTo>
                  <a:lnTo>
                    <a:pt x="578" y="1345"/>
                  </a:lnTo>
                  <a:lnTo>
                    <a:pt x="595" y="1416"/>
                  </a:lnTo>
                  <a:lnTo>
                    <a:pt x="609" y="1489"/>
                  </a:lnTo>
                  <a:lnTo>
                    <a:pt x="622" y="1562"/>
                  </a:lnTo>
                  <a:lnTo>
                    <a:pt x="634" y="1636"/>
                  </a:lnTo>
                  <a:lnTo>
                    <a:pt x="644" y="1708"/>
                  </a:lnTo>
                  <a:lnTo>
                    <a:pt x="652" y="1783"/>
                  </a:lnTo>
                  <a:lnTo>
                    <a:pt x="659" y="1857"/>
                  </a:lnTo>
                  <a:lnTo>
                    <a:pt x="669" y="1892"/>
                  </a:lnTo>
                  <a:lnTo>
                    <a:pt x="685" y="1875"/>
                  </a:lnTo>
                  <a:lnTo>
                    <a:pt x="706" y="1818"/>
                  </a:lnTo>
                  <a:lnTo>
                    <a:pt x="729" y="1730"/>
                  </a:lnTo>
                  <a:lnTo>
                    <a:pt x="751" y="1629"/>
                  </a:lnTo>
                  <a:lnTo>
                    <a:pt x="769" y="1522"/>
                  </a:lnTo>
                  <a:lnTo>
                    <a:pt x="783" y="1422"/>
                  </a:lnTo>
                  <a:lnTo>
                    <a:pt x="786" y="1341"/>
                  </a:lnTo>
                  <a:lnTo>
                    <a:pt x="778" y="1273"/>
                  </a:lnTo>
                  <a:lnTo>
                    <a:pt x="763" y="1205"/>
                  </a:lnTo>
                  <a:lnTo>
                    <a:pt x="743" y="1139"/>
                  </a:lnTo>
                  <a:lnTo>
                    <a:pt x="718" y="1073"/>
                  </a:lnTo>
                  <a:lnTo>
                    <a:pt x="692" y="1008"/>
                  </a:lnTo>
                  <a:lnTo>
                    <a:pt x="666" y="942"/>
                  </a:lnTo>
                  <a:lnTo>
                    <a:pt x="643" y="876"/>
                  </a:lnTo>
                  <a:lnTo>
                    <a:pt x="626" y="809"/>
                  </a:lnTo>
                  <a:lnTo>
                    <a:pt x="620" y="772"/>
                  </a:lnTo>
                  <a:lnTo>
                    <a:pt x="619" y="731"/>
                  </a:lnTo>
                  <a:lnTo>
                    <a:pt x="619" y="686"/>
                  </a:lnTo>
                  <a:lnTo>
                    <a:pt x="618" y="641"/>
                  </a:lnTo>
                  <a:lnTo>
                    <a:pt x="615" y="597"/>
                  </a:lnTo>
                  <a:lnTo>
                    <a:pt x="609" y="558"/>
                  </a:lnTo>
                  <a:lnTo>
                    <a:pt x="597" y="521"/>
                  </a:lnTo>
                  <a:lnTo>
                    <a:pt x="578" y="494"/>
                  </a:lnTo>
                  <a:lnTo>
                    <a:pt x="538" y="446"/>
                  </a:lnTo>
                  <a:lnTo>
                    <a:pt x="509" y="396"/>
                  </a:lnTo>
                  <a:lnTo>
                    <a:pt x="488" y="344"/>
                  </a:lnTo>
                  <a:lnTo>
                    <a:pt x="474" y="290"/>
                  </a:lnTo>
                  <a:lnTo>
                    <a:pt x="461" y="236"/>
                  </a:lnTo>
                  <a:lnTo>
                    <a:pt x="449" y="179"/>
                  </a:lnTo>
                  <a:lnTo>
                    <a:pt x="435" y="122"/>
                  </a:lnTo>
                  <a:lnTo>
                    <a:pt x="413" y="64"/>
                  </a:lnTo>
                  <a:lnTo>
                    <a:pt x="388" y="53"/>
                  </a:lnTo>
                  <a:lnTo>
                    <a:pt x="363" y="42"/>
                  </a:lnTo>
                  <a:lnTo>
                    <a:pt x="336" y="34"/>
                  </a:lnTo>
                  <a:lnTo>
                    <a:pt x="310" y="25"/>
                  </a:lnTo>
                  <a:lnTo>
                    <a:pt x="282" y="19"/>
                  </a:lnTo>
                  <a:lnTo>
                    <a:pt x="255" y="14"/>
                  </a:lnTo>
                  <a:lnTo>
                    <a:pt x="228" y="9"/>
                  </a:lnTo>
                  <a:lnTo>
                    <a:pt x="201" y="5"/>
                  </a:lnTo>
                  <a:lnTo>
                    <a:pt x="174" y="3"/>
                  </a:lnTo>
                  <a:lnTo>
                    <a:pt x="149" y="1"/>
                  </a:lnTo>
                  <a:lnTo>
                    <a:pt x="123" y="0"/>
                  </a:lnTo>
                  <a:lnTo>
                    <a:pt x="97" y="1"/>
                  </a:lnTo>
                  <a:lnTo>
                    <a:pt x="72" y="3"/>
                  </a:lnTo>
                  <a:lnTo>
                    <a:pt x="47" y="6"/>
                  </a:lnTo>
                  <a:lnTo>
                    <a:pt x="23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6880" y="773280"/>
              <a:ext cx="213840" cy="576360"/>
            </a:xfrm>
            <a:custGeom>
              <a:avLst/>
              <a:gdLst/>
              <a:ahLst/>
              <a:rect l="l" t="t" r="r" b="b"/>
              <a:pathLst>
                <a:path w="540" h="1452">
                  <a:moveTo>
                    <a:pt x="132" y="1417"/>
                  </a:moveTo>
                  <a:lnTo>
                    <a:pt x="133" y="1376"/>
                  </a:lnTo>
                  <a:lnTo>
                    <a:pt x="133" y="1335"/>
                  </a:lnTo>
                  <a:lnTo>
                    <a:pt x="136" y="1295"/>
                  </a:lnTo>
                  <a:lnTo>
                    <a:pt x="145" y="1255"/>
                  </a:lnTo>
                  <a:lnTo>
                    <a:pt x="151" y="1244"/>
                  </a:lnTo>
                  <a:lnTo>
                    <a:pt x="156" y="1230"/>
                  </a:lnTo>
                  <a:lnTo>
                    <a:pt x="164" y="1220"/>
                  </a:lnTo>
                  <a:lnTo>
                    <a:pt x="172" y="1207"/>
                  </a:lnTo>
                  <a:lnTo>
                    <a:pt x="179" y="1196"/>
                  </a:lnTo>
                  <a:lnTo>
                    <a:pt x="185" y="1185"/>
                  </a:lnTo>
                  <a:lnTo>
                    <a:pt x="189" y="1171"/>
                  </a:lnTo>
                  <a:lnTo>
                    <a:pt x="191" y="1158"/>
                  </a:lnTo>
                  <a:lnTo>
                    <a:pt x="190" y="1129"/>
                  </a:lnTo>
                  <a:lnTo>
                    <a:pt x="185" y="1105"/>
                  </a:lnTo>
                  <a:lnTo>
                    <a:pt x="178" y="1080"/>
                  </a:lnTo>
                  <a:lnTo>
                    <a:pt x="173" y="1051"/>
                  </a:lnTo>
                  <a:lnTo>
                    <a:pt x="171" y="1000"/>
                  </a:lnTo>
                  <a:lnTo>
                    <a:pt x="172" y="947"/>
                  </a:lnTo>
                  <a:lnTo>
                    <a:pt x="172" y="895"/>
                  </a:lnTo>
                  <a:lnTo>
                    <a:pt x="164" y="843"/>
                  </a:lnTo>
                  <a:lnTo>
                    <a:pt x="155" y="818"/>
                  </a:lnTo>
                  <a:lnTo>
                    <a:pt x="141" y="792"/>
                  </a:lnTo>
                  <a:lnTo>
                    <a:pt x="126" y="767"/>
                  </a:lnTo>
                  <a:lnTo>
                    <a:pt x="108" y="742"/>
                  </a:lnTo>
                  <a:lnTo>
                    <a:pt x="91" y="717"/>
                  </a:lnTo>
                  <a:lnTo>
                    <a:pt x="75" y="692"/>
                  </a:lnTo>
                  <a:lnTo>
                    <a:pt x="63" y="666"/>
                  </a:lnTo>
                  <a:lnTo>
                    <a:pt x="55" y="640"/>
                  </a:lnTo>
                  <a:lnTo>
                    <a:pt x="52" y="614"/>
                  </a:lnTo>
                  <a:lnTo>
                    <a:pt x="53" y="587"/>
                  </a:lnTo>
                  <a:lnTo>
                    <a:pt x="57" y="562"/>
                  </a:lnTo>
                  <a:lnTo>
                    <a:pt x="63" y="537"/>
                  </a:lnTo>
                  <a:lnTo>
                    <a:pt x="69" y="512"/>
                  </a:lnTo>
                  <a:lnTo>
                    <a:pt x="74" y="486"/>
                  </a:lnTo>
                  <a:lnTo>
                    <a:pt x="78" y="460"/>
                  </a:lnTo>
                  <a:lnTo>
                    <a:pt x="78" y="432"/>
                  </a:lnTo>
                  <a:lnTo>
                    <a:pt x="69" y="366"/>
                  </a:lnTo>
                  <a:lnTo>
                    <a:pt x="54" y="286"/>
                  </a:lnTo>
                  <a:lnTo>
                    <a:pt x="37" y="203"/>
                  </a:lnTo>
                  <a:lnTo>
                    <a:pt x="19" y="123"/>
                  </a:lnTo>
                  <a:lnTo>
                    <a:pt x="6" y="57"/>
                  </a:lnTo>
                  <a:lnTo>
                    <a:pt x="0" y="14"/>
                  </a:lnTo>
                  <a:lnTo>
                    <a:pt x="6" y="0"/>
                  </a:lnTo>
                  <a:lnTo>
                    <a:pt x="27" y="27"/>
                  </a:lnTo>
                  <a:lnTo>
                    <a:pt x="52" y="71"/>
                  </a:lnTo>
                  <a:lnTo>
                    <a:pt x="73" y="110"/>
                  </a:lnTo>
                  <a:lnTo>
                    <a:pt x="90" y="145"/>
                  </a:lnTo>
                  <a:lnTo>
                    <a:pt x="106" y="178"/>
                  </a:lnTo>
                  <a:lnTo>
                    <a:pt x="119" y="209"/>
                  </a:lnTo>
                  <a:lnTo>
                    <a:pt x="131" y="243"/>
                  </a:lnTo>
                  <a:lnTo>
                    <a:pt x="141" y="278"/>
                  </a:lnTo>
                  <a:lnTo>
                    <a:pt x="153" y="318"/>
                  </a:lnTo>
                  <a:lnTo>
                    <a:pt x="164" y="392"/>
                  </a:lnTo>
                  <a:lnTo>
                    <a:pt x="168" y="463"/>
                  </a:lnTo>
                  <a:lnTo>
                    <a:pt x="170" y="535"/>
                  </a:lnTo>
                  <a:lnTo>
                    <a:pt x="177" y="609"/>
                  </a:lnTo>
                  <a:lnTo>
                    <a:pt x="184" y="647"/>
                  </a:lnTo>
                  <a:lnTo>
                    <a:pt x="195" y="683"/>
                  </a:lnTo>
                  <a:lnTo>
                    <a:pt x="206" y="717"/>
                  </a:lnTo>
                  <a:lnTo>
                    <a:pt x="222" y="751"/>
                  </a:lnTo>
                  <a:lnTo>
                    <a:pt x="237" y="785"/>
                  </a:lnTo>
                  <a:lnTo>
                    <a:pt x="254" y="819"/>
                  </a:lnTo>
                  <a:lnTo>
                    <a:pt x="272" y="852"/>
                  </a:lnTo>
                  <a:lnTo>
                    <a:pt x="290" y="888"/>
                  </a:lnTo>
                  <a:lnTo>
                    <a:pt x="307" y="914"/>
                  </a:lnTo>
                  <a:lnTo>
                    <a:pt x="330" y="939"/>
                  </a:lnTo>
                  <a:lnTo>
                    <a:pt x="355" y="964"/>
                  </a:lnTo>
                  <a:lnTo>
                    <a:pt x="381" y="989"/>
                  </a:lnTo>
                  <a:lnTo>
                    <a:pt x="404" y="1015"/>
                  </a:lnTo>
                  <a:lnTo>
                    <a:pt x="422" y="1044"/>
                  </a:lnTo>
                  <a:lnTo>
                    <a:pt x="436" y="1073"/>
                  </a:lnTo>
                  <a:lnTo>
                    <a:pt x="439" y="1107"/>
                  </a:lnTo>
                  <a:lnTo>
                    <a:pt x="442" y="1152"/>
                  </a:lnTo>
                  <a:lnTo>
                    <a:pt x="447" y="1195"/>
                  </a:lnTo>
                  <a:lnTo>
                    <a:pt x="460" y="1238"/>
                  </a:lnTo>
                  <a:lnTo>
                    <a:pt x="475" y="1280"/>
                  </a:lnTo>
                  <a:lnTo>
                    <a:pt x="492" y="1323"/>
                  </a:lnTo>
                  <a:lnTo>
                    <a:pt x="510" y="1367"/>
                  </a:lnTo>
                  <a:lnTo>
                    <a:pt x="526" y="1409"/>
                  </a:lnTo>
                  <a:lnTo>
                    <a:pt x="540" y="1452"/>
                  </a:lnTo>
                  <a:lnTo>
                    <a:pt x="513" y="1452"/>
                  </a:lnTo>
                  <a:lnTo>
                    <a:pt x="488" y="1451"/>
                  </a:lnTo>
                  <a:lnTo>
                    <a:pt x="462" y="1450"/>
                  </a:lnTo>
                  <a:lnTo>
                    <a:pt x="437" y="1447"/>
                  </a:lnTo>
                  <a:lnTo>
                    <a:pt x="411" y="1446"/>
                  </a:lnTo>
                  <a:lnTo>
                    <a:pt x="386" y="1444"/>
                  </a:lnTo>
                  <a:lnTo>
                    <a:pt x="360" y="1441"/>
                  </a:lnTo>
                  <a:lnTo>
                    <a:pt x="335" y="1438"/>
                  </a:lnTo>
                  <a:lnTo>
                    <a:pt x="310" y="1436"/>
                  </a:lnTo>
                  <a:lnTo>
                    <a:pt x="285" y="1434"/>
                  </a:lnTo>
                  <a:lnTo>
                    <a:pt x="259" y="1430"/>
                  </a:lnTo>
                  <a:lnTo>
                    <a:pt x="234" y="1427"/>
                  </a:lnTo>
                  <a:lnTo>
                    <a:pt x="209" y="1425"/>
                  </a:lnTo>
                  <a:lnTo>
                    <a:pt x="184" y="1421"/>
                  </a:lnTo>
                  <a:lnTo>
                    <a:pt x="157" y="1419"/>
                  </a:lnTo>
                  <a:lnTo>
                    <a:pt x="132" y="1417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2640" y="1154160"/>
              <a:ext cx="356760" cy="270000"/>
            </a:xfrm>
            <a:custGeom>
              <a:avLst/>
              <a:gdLst/>
              <a:ahLst/>
              <a:rect l="l" t="t" r="r" b="b"/>
              <a:pathLst>
                <a:path w="902" h="681">
                  <a:moveTo>
                    <a:pt x="73" y="668"/>
                  </a:moveTo>
                  <a:lnTo>
                    <a:pt x="89" y="668"/>
                  </a:lnTo>
                  <a:lnTo>
                    <a:pt x="105" y="669"/>
                  </a:lnTo>
                  <a:lnTo>
                    <a:pt x="120" y="670"/>
                  </a:lnTo>
                  <a:lnTo>
                    <a:pt x="137" y="673"/>
                  </a:lnTo>
                  <a:lnTo>
                    <a:pt x="153" y="674"/>
                  </a:lnTo>
                  <a:lnTo>
                    <a:pt x="168" y="675"/>
                  </a:lnTo>
                  <a:lnTo>
                    <a:pt x="185" y="677"/>
                  </a:lnTo>
                  <a:lnTo>
                    <a:pt x="200" y="678"/>
                  </a:lnTo>
                  <a:lnTo>
                    <a:pt x="216" y="680"/>
                  </a:lnTo>
                  <a:lnTo>
                    <a:pt x="232" y="681"/>
                  </a:lnTo>
                  <a:lnTo>
                    <a:pt x="248" y="681"/>
                  </a:lnTo>
                  <a:lnTo>
                    <a:pt x="262" y="681"/>
                  </a:lnTo>
                  <a:lnTo>
                    <a:pt x="278" y="680"/>
                  </a:lnTo>
                  <a:lnTo>
                    <a:pt x="294" y="677"/>
                  </a:lnTo>
                  <a:lnTo>
                    <a:pt x="310" y="675"/>
                  </a:lnTo>
                  <a:lnTo>
                    <a:pt x="325" y="672"/>
                  </a:lnTo>
                  <a:lnTo>
                    <a:pt x="361" y="661"/>
                  </a:lnTo>
                  <a:lnTo>
                    <a:pt x="398" y="651"/>
                  </a:lnTo>
                  <a:lnTo>
                    <a:pt x="433" y="639"/>
                  </a:lnTo>
                  <a:lnTo>
                    <a:pt x="469" y="626"/>
                  </a:lnTo>
                  <a:lnTo>
                    <a:pt x="505" y="612"/>
                  </a:lnTo>
                  <a:lnTo>
                    <a:pt x="540" y="597"/>
                  </a:lnTo>
                  <a:lnTo>
                    <a:pt x="575" y="583"/>
                  </a:lnTo>
                  <a:lnTo>
                    <a:pt x="611" y="567"/>
                  </a:lnTo>
                  <a:lnTo>
                    <a:pt x="646" y="552"/>
                  </a:lnTo>
                  <a:lnTo>
                    <a:pt x="682" y="537"/>
                  </a:lnTo>
                  <a:lnTo>
                    <a:pt x="717" y="521"/>
                  </a:lnTo>
                  <a:lnTo>
                    <a:pt x="754" y="508"/>
                  </a:lnTo>
                  <a:lnTo>
                    <a:pt x="790" y="495"/>
                  </a:lnTo>
                  <a:lnTo>
                    <a:pt x="826" y="482"/>
                  </a:lnTo>
                  <a:lnTo>
                    <a:pt x="864" y="470"/>
                  </a:lnTo>
                  <a:lnTo>
                    <a:pt x="902" y="460"/>
                  </a:lnTo>
                  <a:lnTo>
                    <a:pt x="900" y="399"/>
                  </a:lnTo>
                  <a:lnTo>
                    <a:pt x="899" y="319"/>
                  </a:lnTo>
                  <a:lnTo>
                    <a:pt x="897" y="234"/>
                  </a:lnTo>
                  <a:lnTo>
                    <a:pt x="891" y="150"/>
                  </a:lnTo>
                  <a:lnTo>
                    <a:pt x="881" y="77"/>
                  </a:lnTo>
                  <a:lnTo>
                    <a:pt x="867" y="23"/>
                  </a:lnTo>
                  <a:lnTo>
                    <a:pt x="847" y="0"/>
                  </a:lnTo>
                  <a:lnTo>
                    <a:pt x="818" y="18"/>
                  </a:lnTo>
                  <a:lnTo>
                    <a:pt x="775" y="66"/>
                  </a:lnTo>
                  <a:lnTo>
                    <a:pt x="737" y="104"/>
                  </a:lnTo>
                  <a:lnTo>
                    <a:pt x="700" y="130"/>
                  </a:lnTo>
                  <a:lnTo>
                    <a:pt x="667" y="146"/>
                  </a:lnTo>
                  <a:lnTo>
                    <a:pt x="636" y="155"/>
                  </a:lnTo>
                  <a:lnTo>
                    <a:pt x="608" y="156"/>
                  </a:lnTo>
                  <a:lnTo>
                    <a:pt x="582" y="152"/>
                  </a:lnTo>
                  <a:lnTo>
                    <a:pt x="556" y="142"/>
                  </a:lnTo>
                  <a:lnTo>
                    <a:pt x="531" y="131"/>
                  </a:lnTo>
                  <a:lnTo>
                    <a:pt x="506" y="117"/>
                  </a:lnTo>
                  <a:lnTo>
                    <a:pt x="481" y="103"/>
                  </a:lnTo>
                  <a:lnTo>
                    <a:pt x="455" y="89"/>
                  </a:lnTo>
                  <a:lnTo>
                    <a:pt x="428" y="79"/>
                  </a:lnTo>
                  <a:lnTo>
                    <a:pt x="399" y="71"/>
                  </a:lnTo>
                  <a:lnTo>
                    <a:pt x="367" y="69"/>
                  </a:lnTo>
                  <a:lnTo>
                    <a:pt x="334" y="72"/>
                  </a:lnTo>
                  <a:lnTo>
                    <a:pt x="310" y="78"/>
                  </a:lnTo>
                  <a:lnTo>
                    <a:pt x="286" y="84"/>
                  </a:lnTo>
                  <a:lnTo>
                    <a:pt x="262" y="90"/>
                  </a:lnTo>
                  <a:lnTo>
                    <a:pt x="240" y="97"/>
                  </a:lnTo>
                  <a:lnTo>
                    <a:pt x="218" y="106"/>
                  </a:lnTo>
                  <a:lnTo>
                    <a:pt x="196" y="114"/>
                  </a:lnTo>
                  <a:lnTo>
                    <a:pt x="176" y="124"/>
                  </a:lnTo>
                  <a:lnTo>
                    <a:pt x="155" y="134"/>
                  </a:lnTo>
                  <a:lnTo>
                    <a:pt x="136" y="145"/>
                  </a:lnTo>
                  <a:lnTo>
                    <a:pt x="116" y="156"/>
                  </a:lnTo>
                  <a:lnTo>
                    <a:pt x="96" y="170"/>
                  </a:lnTo>
                  <a:lnTo>
                    <a:pt x="76" y="182"/>
                  </a:lnTo>
                  <a:lnTo>
                    <a:pt x="56" y="196"/>
                  </a:lnTo>
                  <a:lnTo>
                    <a:pt x="38" y="211"/>
                  </a:lnTo>
                  <a:lnTo>
                    <a:pt x="19" y="225"/>
                  </a:lnTo>
                  <a:lnTo>
                    <a:pt x="0" y="242"/>
                  </a:lnTo>
                  <a:lnTo>
                    <a:pt x="9" y="294"/>
                  </a:lnTo>
                  <a:lnTo>
                    <a:pt x="19" y="347"/>
                  </a:lnTo>
                  <a:lnTo>
                    <a:pt x="27" y="402"/>
                  </a:lnTo>
                  <a:lnTo>
                    <a:pt x="37" y="454"/>
                  </a:lnTo>
                  <a:lnTo>
                    <a:pt x="46" y="508"/>
                  </a:lnTo>
                  <a:lnTo>
                    <a:pt x="55" y="562"/>
                  </a:lnTo>
                  <a:lnTo>
                    <a:pt x="64" y="615"/>
                  </a:lnTo>
                  <a:lnTo>
                    <a:pt x="73" y="668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0200" y="168480"/>
              <a:ext cx="572400" cy="1174680"/>
            </a:xfrm>
            <a:custGeom>
              <a:avLst/>
              <a:gdLst/>
              <a:ahLst/>
              <a:rect l="l" t="t" r="r" b="b"/>
              <a:pathLst>
                <a:path w="1442" h="2958">
                  <a:moveTo>
                    <a:pt x="0" y="0"/>
                  </a:moveTo>
                  <a:lnTo>
                    <a:pt x="21" y="43"/>
                  </a:lnTo>
                  <a:lnTo>
                    <a:pt x="42" y="84"/>
                  </a:lnTo>
                  <a:lnTo>
                    <a:pt x="61" y="127"/>
                  </a:lnTo>
                  <a:lnTo>
                    <a:pt x="81" y="169"/>
                  </a:lnTo>
                  <a:lnTo>
                    <a:pt x="100" y="212"/>
                  </a:lnTo>
                  <a:lnTo>
                    <a:pt x="120" y="254"/>
                  </a:lnTo>
                  <a:lnTo>
                    <a:pt x="141" y="296"/>
                  </a:lnTo>
                  <a:lnTo>
                    <a:pt x="160" y="337"/>
                  </a:lnTo>
                  <a:lnTo>
                    <a:pt x="181" y="380"/>
                  </a:lnTo>
                  <a:lnTo>
                    <a:pt x="201" y="421"/>
                  </a:lnTo>
                  <a:lnTo>
                    <a:pt x="223" y="462"/>
                  </a:lnTo>
                  <a:lnTo>
                    <a:pt x="246" y="503"/>
                  </a:lnTo>
                  <a:lnTo>
                    <a:pt x="268" y="543"/>
                  </a:lnTo>
                  <a:lnTo>
                    <a:pt x="293" y="583"/>
                  </a:lnTo>
                  <a:lnTo>
                    <a:pt x="319" y="622"/>
                  </a:lnTo>
                  <a:lnTo>
                    <a:pt x="347" y="659"/>
                  </a:lnTo>
                  <a:lnTo>
                    <a:pt x="357" y="664"/>
                  </a:lnTo>
                  <a:lnTo>
                    <a:pt x="368" y="656"/>
                  </a:lnTo>
                  <a:lnTo>
                    <a:pt x="382" y="640"/>
                  </a:lnTo>
                  <a:lnTo>
                    <a:pt x="396" y="619"/>
                  </a:lnTo>
                  <a:lnTo>
                    <a:pt x="408" y="600"/>
                  </a:lnTo>
                  <a:lnTo>
                    <a:pt x="422" y="585"/>
                  </a:lnTo>
                  <a:lnTo>
                    <a:pt x="431" y="577"/>
                  </a:lnTo>
                  <a:lnTo>
                    <a:pt x="439" y="584"/>
                  </a:lnTo>
                  <a:lnTo>
                    <a:pt x="460" y="649"/>
                  </a:lnTo>
                  <a:lnTo>
                    <a:pt x="475" y="716"/>
                  </a:lnTo>
                  <a:lnTo>
                    <a:pt x="483" y="784"/>
                  </a:lnTo>
                  <a:lnTo>
                    <a:pt x="490" y="854"/>
                  </a:lnTo>
                  <a:lnTo>
                    <a:pt x="497" y="923"/>
                  </a:lnTo>
                  <a:lnTo>
                    <a:pt x="505" y="992"/>
                  </a:lnTo>
                  <a:lnTo>
                    <a:pt x="520" y="1061"/>
                  </a:lnTo>
                  <a:lnTo>
                    <a:pt x="540" y="1125"/>
                  </a:lnTo>
                  <a:lnTo>
                    <a:pt x="550" y="1152"/>
                  </a:lnTo>
                  <a:lnTo>
                    <a:pt x="564" y="1177"/>
                  </a:lnTo>
                  <a:lnTo>
                    <a:pt x="579" y="1201"/>
                  </a:lnTo>
                  <a:lnTo>
                    <a:pt x="595" y="1224"/>
                  </a:lnTo>
                  <a:lnTo>
                    <a:pt x="611" y="1247"/>
                  </a:lnTo>
                  <a:lnTo>
                    <a:pt x="628" y="1270"/>
                  </a:lnTo>
                  <a:lnTo>
                    <a:pt x="646" y="1292"/>
                  </a:lnTo>
                  <a:lnTo>
                    <a:pt x="665" y="1313"/>
                  </a:lnTo>
                  <a:lnTo>
                    <a:pt x="683" y="1336"/>
                  </a:lnTo>
                  <a:lnTo>
                    <a:pt x="702" y="1358"/>
                  </a:lnTo>
                  <a:lnTo>
                    <a:pt x="720" y="1379"/>
                  </a:lnTo>
                  <a:lnTo>
                    <a:pt x="739" y="1402"/>
                  </a:lnTo>
                  <a:lnTo>
                    <a:pt x="756" y="1425"/>
                  </a:lnTo>
                  <a:lnTo>
                    <a:pt x="772" y="1449"/>
                  </a:lnTo>
                  <a:lnTo>
                    <a:pt x="788" y="1472"/>
                  </a:lnTo>
                  <a:lnTo>
                    <a:pt x="802" y="1497"/>
                  </a:lnTo>
                  <a:lnTo>
                    <a:pt x="818" y="1529"/>
                  </a:lnTo>
                  <a:lnTo>
                    <a:pt x="835" y="1562"/>
                  </a:lnTo>
                  <a:lnTo>
                    <a:pt x="849" y="1595"/>
                  </a:lnTo>
                  <a:lnTo>
                    <a:pt x="863" y="1629"/>
                  </a:lnTo>
                  <a:lnTo>
                    <a:pt x="877" y="1663"/>
                  </a:lnTo>
                  <a:lnTo>
                    <a:pt x="890" y="1698"/>
                  </a:lnTo>
                  <a:lnTo>
                    <a:pt x="904" y="1732"/>
                  </a:lnTo>
                  <a:lnTo>
                    <a:pt x="915" y="1767"/>
                  </a:lnTo>
                  <a:lnTo>
                    <a:pt x="929" y="1801"/>
                  </a:lnTo>
                  <a:lnTo>
                    <a:pt x="942" y="1835"/>
                  </a:lnTo>
                  <a:lnTo>
                    <a:pt x="954" y="1869"/>
                  </a:lnTo>
                  <a:lnTo>
                    <a:pt x="969" y="1905"/>
                  </a:lnTo>
                  <a:lnTo>
                    <a:pt x="983" y="1938"/>
                  </a:lnTo>
                  <a:lnTo>
                    <a:pt x="997" y="1972"/>
                  </a:lnTo>
                  <a:lnTo>
                    <a:pt x="1013" y="2005"/>
                  </a:lnTo>
                  <a:lnTo>
                    <a:pt x="1029" y="2038"/>
                  </a:lnTo>
                  <a:lnTo>
                    <a:pt x="1043" y="2060"/>
                  </a:lnTo>
                  <a:lnTo>
                    <a:pt x="1058" y="2083"/>
                  </a:lnTo>
                  <a:lnTo>
                    <a:pt x="1075" y="2105"/>
                  </a:lnTo>
                  <a:lnTo>
                    <a:pt x="1093" y="2126"/>
                  </a:lnTo>
                  <a:lnTo>
                    <a:pt x="1111" y="2147"/>
                  </a:lnTo>
                  <a:lnTo>
                    <a:pt x="1130" y="2167"/>
                  </a:lnTo>
                  <a:lnTo>
                    <a:pt x="1150" y="2188"/>
                  </a:lnTo>
                  <a:lnTo>
                    <a:pt x="1169" y="2208"/>
                  </a:lnTo>
                  <a:lnTo>
                    <a:pt x="1187" y="2229"/>
                  </a:lnTo>
                  <a:lnTo>
                    <a:pt x="1205" y="2250"/>
                  </a:lnTo>
                  <a:lnTo>
                    <a:pt x="1221" y="2273"/>
                  </a:lnTo>
                  <a:lnTo>
                    <a:pt x="1237" y="2295"/>
                  </a:lnTo>
                  <a:lnTo>
                    <a:pt x="1250" y="2319"/>
                  </a:lnTo>
                  <a:lnTo>
                    <a:pt x="1261" y="2341"/>
                  </a:lnTo>
                  <a:lnTo>
                    <a:pt x="1269" y="2366"/>
                  </a:lnTo>
                  <a:lnTo>
                    <a:pt x="1275" y="2393"/>
                  </a:lnTo>
                  <a:lnTo>
                    <a:pt x="1277" y="2444"/>
                  </a:lnTo>
                  <a:lnTo>
                    <a:pt x="1268" y="2494"/>
                  </a:lnTo>
                  <a:lnTo>
                    <a:pt x="1252" y="2543"/>
                  </a:lnTo>
                  <a:lnTo>
                    <a:pt x="1232" y="2593"/>
                  </a:lnTo>
                  <a:lnTo>
                    <a:pt x="1208" y="2641"/>
                  </a:lnTo>
                  <a:lnTo>
                    <a:pt x="1185" y="2690"/>
                  </a:lnTo>
                  <a:lnTo>
                    <a:pt x="1163" y="2740"/>
                  </a:lnTo>
                  <a:lnTo>
                    <a:pt x="1147" y="2790"/>
                  </a:lnTo>
                  <a:lnTo>
                    <a:pt x="1143" y="2831"/>
                  </a:lnTo>
                  <a:lnTo>
                    <a:pt x="1141" y="2874"/>
                  </a:lnTo>
                  <a:lnTo>
                    <a:pt x="1141" y="2917"/>
                  </a:lnTo>
                  <a:lnTo>
                    <a:pt x="1139" y="2958"/>
                  </a:lnTo>
                  <a:lnTo>
                    <a:pt x="1155" y="2958"/>
                  </a:lnTo>
                  <a:lnTo>
                    <a:pt x="1172" y="2957"/>
                  </a:lnTo>
                  <a:lnTo>
                    <a:pt x="1190" y="2956"/>
                  </a:lnTo>
                  <a:lnTo>
                    <a:pt x="1207" y="2955"/>
                  </a:lnTo>
                  <a:lnTo>
                    <a:pt x="1224" y="2955"/>
                  </a:lnTo>
                  <a:lnTo>
                    <a:pt x="1241" y="2953"/>
                  </a:lnTo>
                  <a:lnTo>
                    <a:pt x="1258" y="2952"/>
                  </a:lnTo>
                  <a:lnTo>
                    <a:pt x="1275" y="2951"/>
                  </a:lnTo>
                  <a:lnTo>
                    <a:pt x="1279" y="2922"/>
                  </a:lnTo>
                  <a:lnTo>
                    <a:pt x="1282" y="2890"/>
                  </a:lnTo>
                  <a:lnTo>
                    <a:pt x="1284" y="2859"/>
                  </a:lnTo>
                  <a:lnTo>
                    <a:pt x="1286" y="2827"/>
                  </a:lnTo>
                  <a:lnTo>
                    <a:pt x="1288" y="2796"/>
                  </a:lnTo>
                  <a:lnTo>
                    <a:pt x="1294" y="2767"/>
                  </a:lnTo>
                  <a:lnTo>
                    <a:pt x="1304" y="2738"/>
                  </a:lnTo>
                  <a:lnTo>
                    <a:pt x="1317" y="2713"/>
                  </a:lnTo>
                  <a:lnTo>
                    <a:pt x="1328" y="2705"/>
                  </a:lnTo>
                  <a:lnTo>
                    <a:pt x="1343" y="2703"/>
                  </a:lnTo>
                  <a:lnTo>
                    <a:pt x="1361" y="2704"/>
                  </a:lnTo>
                  <a:lnTo>
                    <a:pt x="1382" y="2707"/>
                  </a:lnTo>
                  <a:lnTo>
                    <a:pt x="1400" y="2710"/>
                  </a:lnTo>
                  <a:lnTo>
                    <a:pt x="1416" y="2710"/>
                  </a:lnTo>
                  <a:lnTo>
                    <a:pt x="1430" y="2707"/>
                  </a:lnTo>
                  <a:lnTo>
                    <a:pt x="1435" y="2696"/>
                  </a:lnTo>
                  <a:lnTo>
                    <a:pt x="1439" y="2662"/>
                  </a:lnTo>
                  <a:lnTo>
                    <a:pt x="1436" y="2629"/>
                  </a:lnTo>
                  <a:lnTo>
                    <a:pt x="1430" y="2595"/>
                  </a:lnTo>
                  <a:lnTo>
                    <a:pt x="1418" y="2562"/>
                  </a:lnTo>
                  <a:lnTo>
                    <a:pt x="1407" y="2528"/>
                  </a:lnTo>
                  <a:lnTo>
                    <a:pt x="1395" y="2495"/>
                  </a:lnTo>
                  <a:lnTo>
                    <a:pt x="1387" y="2460"/>
                  </a:lnTo>
                  <a:lnTo>
                    <a:pt x="1384" y="2427"/>
                  </a:lnTo>
                  <a:lnTo>
                    <a:pt x="1389" y="2387"/>
                  </a:lnTo>
                  <a:lnTo>
                    <a:pt x="1399" y="2346"/>
                  </a:lnTo>
                  <a:lnTo>
                    <a:pt x="1411" y="2306"/>
                  </a:lnTo>
                  <a:lnTo>
                    <a:pt x="1425" y="2265"/>
                  </a:lnTo>
                  <a:lnTo>
                    <a:pt x="1435" y="2225"/>
                  </a:lnTo>
                  <a:lnTo>
                    <a:pt x="1442" y="2186"/>
                  </a:lnTo>
                  <a:lnTo>
                    <a:pt x="1440" y="2149"/>
                  </a:lnTo>
                  <a:lnTo>
                    <a:pt x="1427" y="2114"/>
                  </a:lnTo>
                  <a:lnTo>
                    <a:pt x="1409" y="2088"/>
                  </a:lnTo>
                  <a:lnTo>
                    <a:pt x="1389" y="2064"/>
                  </a:lnTo>
                  <a:lnTo>
                    <a:pt x="1366" y="2043"/>
                  </a:lnTo>
                  <a:lnTo>
                    <a:pt x="1341" y="2023"/>
                  </a:lnTo>
                  <a:lnTo>
                    <a:pt x="1314" y="2006"/>
                  </a:lnTo>
                  <a:lnTo>
                    <a:pt x="1286" y="1989"/>
                  </a:lnTo>
                  <a:lnTo>
                    <a:pt x="1257" y="1973"/>
                  </a:lnTo>
                  <a:lnTo>
                    <a:pt x="1227" y="1957"/>
                  </a:lnTo>
                  <a:lnTo>
                    <a:pt x="1198" y="1941"/>
                  </a:lnTo>
                  <a:lnTo>
                    <a:pt x="1169" y="1926"/>
                  </a:lnTo>
                  <a:lnTo>
                    <a:pt x="1141" y="1908"/>
                  </a:lnTo>
                  <a:lnTo>
                    <a:pt x="1113" y="1891"/>
                  </a:lnTo>
                  <a:lnTo>
                    <a:pt x="1088" y="1872"/>
                  </a:lnTo>
                  <a:lnTo>
                    <a:pt x="1067" y="1850"/>
                  </a:lnTo>
                  <a:lnTo>
                    <a:pt x="1046" y="1826"/>
                  </a:lnTo>
                  <a:lnTo>
                    <a:pt x="1029" y="1800"/>
                  </a:lnTo>
                  <a:lnTo>
                    <a:pt x="1002" y="1745"/>
                  </a:lnTo>
                  <a:lnTo>
                    <a:pt x="978" y="1689"/>
                  </a:lnTo>
                  <a:lnTo>
                    <a:pt x="956" y="1632"/>
                  </a:lnTo>
                  <a:lnTo>
                    <a:pt x="938" y="1571"/>
                  </a:lnTo>
                  <a:lnTo>
                    <a:pt x="922" y="1512"/>
                  </a:lnTo>
                  <a:lnTo>
                    <a:pt x="907" y="1452"/>
                  </a:lnTo>
                  <a:lnTo>
                    <a:pt x="894" y="1392"/>
                  </a:lnTo>
                  <a:lnTo>
                    <a:pt x="881" y="1330"/>
                  </a:lnTo>
                  <a:lnTo>
                    <a:pt x="868" y="1270"/>
                  </a:lnTo>
                  <a:lnTo>
                    <a:pt x="855" y="1207"/>
                  </a:lnTo>
                  <a:lnTo>
                    <a:pt x="840" y="1147"/>
                  </a:lnTo>
                  <a:lnTo>
                    <a:pt x="826" y="1087"/>
                  </a:lnTo>
                  <a:lnTo>
                    <a:pt x="809" y="1026"/>
                  </a:lnTo>
                  <a:lnTo>
                    <a:pt x="789" y="968"/>
                  </a:lnTo>
                  <a:lnTo>
                    <a:pt x="768" y="910"/>
                  </a:lnTo>
                  <a:lnTo>
                    <a:pt x="743" y="855"/>
                  </a:lnTo>
                  <a:lnTo>
                    <a:pt x="731" y="847"/>
                  </a:lnTo>
                  <a:lnTo>
                    <a:pt x="714" y="852"/>
                  </a:lnTo>
                  <a:lnTo>
                    <a:pt x="693" y="866"/>
                  </a:lnTo>
                  <a:lnTo>
                    <a:pt x="670" y="884"/>
                  </a:lnTo>
                  <a:lnTo>
                    <a:pt x="648" y="904"/>
                  </a:lnTo>
                  <a:lnTo>
                    <a:pt x="629" y="917"/>
                  </a:lnTo>
                  <a:lnTo>
                    <a:pt x="615" y="922"/>
                  </a:lnTo>
                  <a:lnTo>
                    <a:pt x="608" y="913"/>
                  </a:lnTo>
                  <a:lnTo>
                    <a:pt x="606" y="859"/>
                  </a:lnTo>
                  <a:lnTo>
                    <a:pt x="615" y="807"/>
                  </a:lnTo>
                  <a:lnTo>
                    <a:pt x="629" y="753"/>
                  </a:lnTo>
                  <a:lnTo>
                    <a:pt x="647" y="701"/>
                  </a:lnTo>
                  <a:lnTo>
                    <a:pt x="666" y="649"/>
                  </a:lnTo>
                  <a:lnTo>
                    <a:pt x="682" y="597"/>
                  </a:lnTo>
                  <a:lnTo>
                    <a:pt x="693" y="543"/>
                  </a:lnTo>
                  <a:lnTo>
                    <a:pt x="693" y="491"/>
                  </a:lnTo>
                  <a:lnTo>
                    <a:pt x="682" y="434"/>
                  </a:lnTo>
                  <a:lnTo>
                    <a:pt x="667" y="380"/>
                  </a:lnTo>
                  <a:lnTo>
                    <a:pt x="646" y="327"/>
                  </a:lnTo>
                  <a:lnTo>
                    <a:pt x="622" y="275"/>
                  </a:lnTo>
                  <a:lnTo>
                    <a:pt x="598" y="223"/>
                  </a:lnTo>
                  <a:lnTo>
                    <a:pt x="571" y="173"/>
                  </a:lnTo>
                  <a:lnTo>
                    <a:pt x="546" y="121"/>
                  </a:lnTo>
                  <a:lnTo>
                    <a:pt x="523" y="68"/>
                  </a:lnTo>
                  <a:lnTo>
                    <a:pt x="488" y="72"/>
                  </a:lnTo>
                  <a:lnTo>
                    <a:pt x="454" y="76"/>
                  </a:lnTo>
                  <a:lnTo>
                    <a:pt x="418" y="78"/>
                  </a:lnTo>
                  <a:lnTo>
                    <a:pt x="384" y="79"/>
                  </a:lnTo>
                  <a:lnTo>
                    <a:pt x="350" y="79"/>
                  </a:lnTo>
                  <a:lnTo>
                    <a:pt x="316" y="78"/>
                  </a:lnTo>
                  <a:lnTo>
                    <a:pt x="283" y="76"/>
                  </a:lnTo>
                  <a:lnTo>
                    <a:pt x="249" y="71"/>
                  </a:lnTo>
                  <a:lnTo>
                    <a:pt x="216" y="66"/>
                  </a:lnTo>
                  <a:lnTo>
                    <a:pt x="183" y="61"/>
                  </a:lnTo>
                  <a:lnTo>
                    <a:pt x="151" y="55"/>
                  </a:lnTo>
                  <a:lnTo>
                    <a:pt x="119" y="46"/>
                  </a:lnTo>
                  <a:lnTo>
                    <a:pt x="89" y="37"/>
                  </a:lnTo>
                  <a:lnTo>
                    <a:pt x="58" y="25"/>
                  </a:lnTo>
                  <a:lnTo>
                    <a:pt x="28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9240" y="216000"/>
              <a:ext cx="666360" cy="1127160"/>
            </a:xfrm>
            <a:custGeom>
              <a:avLst/>
              <a:gdLst/>
              <a:ahLst/>
              <a:rect l="l" t="t" r="r" b="b"/>
              <a:pathLst>
                <a:path w="1681" h="2840">
                  <a:moveTo>
                    <a:pt x="42" y="9"/>
                  </a:moveTo>
                  <a:lnTo>
                    <a:pt x="38" y="0"/>
                  </a:lnTo>
                  <a:lnTo>
                    <a:pt x="30" y="10"/>
                  </a:lnTo>
                  <a:lnTo>
                    <a:pt x="22" y="34"/>
                  </a:lnTo>
                  <a:lnTo>
                    <a:pt x="15" y="69"/>
                  </a:lnTo>
                  <a:lnTo>
                    <a:pt x="8" y="108"/>
                  </a:lnTo>
                  <a:lnTo>
                    <a:pt x="3" y="148"/>
                  </a:lnTo>
                  <a:lnTo>
                    <a:pt x="0" y="184"/>
                  </a:lnTo>
                  <a:lnTo>
                    <a:pt x="0" y="211"/>
                  </a:lnTo>
                  <a:lnTo>
                    <a:pt x="5" y="232"/>
                  </a:lnTo>
                  <a:lnTo>
                    <a:pt x="12" y="251"/>
                  </a:lnTo>
                  <a:lnTo>
                    <a:pt x="20" y="269"/>
                  </a:lnTo>
                  <a:lnTo>
                    <a:pt x="31" y="289"/>
                  </a:lnTo>
                  <a:lnTo>
                    <a:pt x="42" y="308"/>
                  </a:lnTo>
                  <a:lnTo>
                    <a:pt x="53" y="326"/>
                  </a:lnTo>
                  <a:lnTo>
                    <a:pt x="62" y="344"/>
                  </a:lnTo>
                  <a:lnTo>
                    <a:pt x="67" y="364"/>
                  </a:lnTo>
                  <a:lnTo>
                    <a:pt x="75" y="395"/>
                  </a:lnTo>
                  <a:lnTo>
                    <a:pt x="79" y="424"/>
                  </a:lnTo>
                  <a:lnTo>
                    <a:pt x="82" y="451"/>
                  </a:lnTo>
                  <a:lnTo>
                    <a:pt x="84" y="476"/>
                  </a:lnTo>
                  <a:lnTo>
                    <a:pt x="88" y="502"/>
                  </a:lnTo>
                  <a:lnTo>
                    <a:pt x="94" y="527"/>
                  </a:lnTo>
                  <a:lnTo>
                    <a:pt x="104" y="555"/>
                  </a:lnTo>
                  <a:lnTo>
                    <a:pt x="117" y="582"/>
                  </a:lnTo>
                  <a:lnTo>
                    <a:pt x="129" y="599"/>
                  </a:lnTo>
                  <a:lnTo>
                    <a:pt x="140" y="615"/>
                  </a:lnTo>
                  <a:lnTo>
                    <a:pt x="154" y="632"/>
                  </a:lnTo>
                  <a:lnTo>
                    <a:pt x="168" y="649"/>
                  </a:lnTo>
                  <a:lnTo>
                    <a:pt x="183" y="665"/>
                  </a:lnTo>
                  <a:lnTo>
                    <a:pt x="198" y="681"/>
                  </a:lnTo>
                  <a:lnTo>
                    <a:pt x="214" y="697"/>
                  </a:lnTo>
                  <a:lnTo>
                    <a:pt x="231" y="714"/>
                  </a:lnTo>
                  <a:lnTo>
                    <a:pt x="247" y="730"/>
                  </a:lnTo>
                  <a:lnTo>
                    <a:pt x="263" y="745"/>
                  </a:lnTo>
                  <a:lnTo>
                    <a:pt x="280" y="762"/>
                  </a:lnTo>
                  <a:lnTo>
                    <a:pt x="296" y="777"/>
                  </a:lnTo>
                  <a:lnTo>
                    <a:pt x="312" y="792"/>
                  </a:lnTo>
                  <a:lnTo>
                    <a:pt x="328" y="808"/>
                  </a:lnTo>
                  <a:lnTo>
                    <a:pt x="342" y="822"/>
                  </a:lnTo>
                  <a:lnTo>
                    <a:pt x="354" y="837"/>
                  </a:lnTo>
                  <a:lnTo>
                    <a:pt x="375" y="861"/>
                  </a:lnTo>
                  <a:lnTo>
                    <a:pt x="393" y="886"/>
                  </a:lnTo>
                  <a:lnTo>
                    <a:pt x="410" y="912"/>
                  </a:lnTo>
                  <a:lnTo>
                    <a:pt x="426" y="939"/>
                  </a:lnTo>
                  <a:lnTo>
                    <a:pt x="443" y="967"/>
                  </a:lnTo>
                  <a:lnTo>
                    <a:pt x="458" y="994"/>
                  </a:lnTo>
                  <a:lnTo>
                    <a:pt x="473" y="1021"/>
                  </a:lnTo>
                  <a:lnTo>
                    <a:pt x="491" y="1048"/>
                  </a:lnTo>
                  <a:lnTo>
                    <a:pt x="501" y="1065"/>
                  </a:lnTo>
                  <a:lnTo>
                    <a:pt x="512" y="1083"/>
                  </a:lnTo>
                  <a:lnTo>
                    <a:pt x="522" y="1101"/>
                  </a:lnTo>
                  <a:lnTo>
                    <a:pt x="534" y="1118"/>
                  </a:lnTo>
                  <a:lnTo>
                    <a:pt x="544" y="1135"/>
                  </a:lnTo>
                  <a:lnTo>
                    <a:pt x="555" y="1153"/>
                  </a:lnTo>
                  <a:lnTo>
                    <a:pt x="566" y="1171"/>
                  </a:lnTo>
                  <a:lnTo>
                    <a:pt x="577" y="1188"/>
                  </a:lnTo>
                  <a:lnTo>
                    <a:pt x="588" y="1207"/>
                  </a:lnTo>
                  <a:lnTo>
                    <a:pt x="599" y="1224"/>
                  </a:lnTo>
                  <a:lnTo>
                    <a:pt x="610" y="1242"/>
                  </a:lnTo>
                  <a:lnTo>
                    <a:pt x="620" y="1259"/>
                  </a:lnTo>
                  <a:lnTo>
                    <a:pt x="633" y="1276"/>
                  </a:lnTo>
                  <a:lnTo>
                    <a:pt x="643" y="1293"/>
                  </a:lnTo>
                  <a:lnTo>
                    <a:pt x="655" y="1311"/>
                  </a:lnTo>
                  <a:lnTo>
                    <a:pt x="667" y="1327"/>
                  </a:lnTo>
                  <a:lnTo>
                    <a:pt x="682" y="1343"/>
                  </a:lnTo>
                  <a:lnTo>
                    <a:pt x="699" y="1358"/>
                  </a:lnTo>
                  <a:lnTo>
                    <a:pt x="716" y="1374"/>
                  </a:lnTo>
                  <a:lnTo>
                    <a:pt x="734" y="1387"/>
                  </a:lnTo>
                  <a:lnTo>
                    <a:pt x="752" y="1402"/>
                  </a:lnTo>
                  <a:lnTo>
                    <a:pt x="767" y="1418"/>
                  </a:lnTo>
                  <a:lnTo>
                    <a:pt x="779" y="1435"/>
                  </a:lnTo>
                  <a:lnTo>
                    <a:pt x="785" y="1454"/>
                  </a:lnTo>
                  <a:lnTo>
                    <a:pt x="793" y="1511"/>
                  </a:lnTo>
                  <a:lnTo>
                    <a:pt x="793" y="1567"/>
                  </a:lnTo>
                  <a:lnTo>
                    <a:pt x="790" y="1625"/>
                  </a:lnTo>
                  <a:lnTo>
                    <a:pt x="784" y="1681"/>
                  </a:lnTo>
                  <a:lnTo>
                    <a:pt x="781" y="1738"/>
                  </a:lnTo>
                  <a:lnTo>
                    <a:pt x="781" y="1792"/>
                  </a:lnTo>
                  <a:lnTo>
                    <a:pt x="787" y="1848"/>
                  </a:lnTo>
                  <a:lnTo>
                    <a:pt x="803" y="1904"/>
                  </a:lnTo>
                  <a:lnTo>
                    <a:pt x="816" y="1932"/>
                  </a:lnTo>
                  <a:lnTo>
                    <a:pt x="831" y="1962"/>
                  </a:lnTo>
                  <a:lnTo>
                    <a:pt x="850" y="1989"/>
                  </a:lnTo>
                  <a:lnTo>
                    <a:pt x="869" y="2016"/>
                  </a:lnTo>
                  <a:lnTo>
                    <a:pt x="890" y="2041"/>
                  </a:lnTo>
                  <a:lnTo>
                    <a:pt x="911" y="2066"/>
                  </a:lnTo>
                  <a:lnTo>
                    <a:pt x="934" y="2090"/>
                  </a:lnTo>
                  <a:lnTo>
                    <a:pt x="958" y="2115"/>
                  </a:lnTo>
                  <a:lnTo>
                    <a:pt x="982" y="2140"/>
                  </a:lnTo>
                  <a:lnTo>
                    <a:pt x="1005" y="2165"/>
                  </a:lnTo>
                  <a:lnTo>
                    <a:pt x="1027" y="2190"/>
                  </a:lnTo>
                  <a:lnTo>
                    <a:pt x="1050" y="2215"/>
                  </a:lnTo>
                  <a:lnTo>
                    <a:pt x="1071" y="2242"/>
                  </a:lnTo>
                  <a:lnTo>
                    <a:pt x="1090" y="2269"/>
                  </a:lnTo>
                  <a:lnTo>
                    <a:pt x="1108" y="2296"/>
                  </a:lnTo>
                  <a:lnTo>
                    <a:pt x="1123" y="2326"/>
                  </a:lnTo>
                  <a:lnTo>
                    <a:pt x="1149" y="2388"/>
                  </a:lnTo>
                  <a:lnTo>
                    <a:pt x="1170" y="2451"/>
                  </a:lnTo>
                  <a:lnTo>
                    <a:pt x="1185" y="2515"/>
                  </a:lnTo>
                  <a:lnTo>
                    <a:pt x="1197" y="2578"/>
                  </a:lnTo>
                  <a:lnTo>
                    <a:pt x="1208" y="2642"/>
                  </a:lnTo>
                  <a:lnTo>
                    <a:pt x="1217" y="2707"/>
                  </a:lnTo>
                  <a:lnTo>
                    <a:pt x="1229" y="2773"/>
                  </a:lnTo>
                  <a:lnTo>
                    <a:pt x="1241" y="2840"/>
                  </a:lnTo>
                  <a:lnTo>
                    <a:pt x="1266" y="2827"/>
                  </a:lnTo>
                  <a:lnTo>
                    <a:pt x="1292" y="2816"/>
                  </a:lnTo>
                  <a:lnTo>
                    <a:pt x="1317" y="2802"/>
                  </a:lnTo>
                  <a:lnTo>
                    <a:pt x="1344" y="2792"/>
                  </a:lnTo>
                  <a:lnTo>
                    <a:pt x="1369" y="2781"/>
                  </a:lnTo>
                  <a:lnTo>
                    <a:pt x="1396" y="2771"/>
                  </a:lnTo>
                  <a:lnTo>
                    <a:pt x="1422" y="2763"/>
                  </a:lnTo>
                  <a:lnTo>
                    <a:pt x="1448" y="2756"/>
                  </a:lnTo>
                  <a:lnTo>
                    <a:pt x="1476" y="2751"/>
                  </a:lnTo>
                  <a:lnTo>
                    <a:pt x="1503" y="2749"/>
                  </a:lnTo>
                  <a:lnTo>
                    <a:pt x="1531" y="2750"/>
                  </a:lnTo>
                  <a:lnTo>
                    <a:pt x="1560" y="2754"/>
                  </a:lnTo>
                  <a:lnTo>
                    <a:pt x="1589" y="2759"/>
                  </a:lnTo>
                  <a:lnTo>
                    <a:pt x="1619" y="2769"/>
                  </a:lnTo>
                  <a:lnTo>
                    <a:pt x="1650" y="2782"/>
                  </a:lnTo>
                  <a:lnTo>
                    <a:pt x="1681" y="2799"/>
                  </a:lnTo>
                  <a:lnTo>
                    <a:pt x="1662" y="2772"/>
                  </a:lnTo>
                  <a:lnTo>
                    <a:pt x="1643" y="2746"/>
                  </a:lnTo>
                  <a:lnTo>
                    <a:pt x="1623" y="2719"/>
                  </a:lnTo>
                  <a:lnTo>
                    <a:pt x="1605" y="2694"/>
                  </a:lnTo>
                  <a:lnTo>
                    <a:pt x="1586" y="2668"/>
                  </a:lnTo>
                  <a:lnTo>
                    <a:pt x="1565" y="2643"/>
                  </a:lnTo>
                  <a:lnTo>
                    <a:pt x="1547" y="2618"/>
                  </a:lnTo>
                  <a:lnTo>
                    <a:pt x="1528" y="2593"/>
                  </a:lnTo>
                  <a:lnTo>
                    <a:pt x="1510" y="2568"/>
                  </a:lnTo>
                  <a:lnTo>
                    <a:pt x="1490" y="2543"/>
                  </a:lnTo>
                  <a:lnTo>
                    <a:pt x="1471" y="2519"/>
                  </a:lnTo>
                  <a:lnTo>
                    <a:pt x="1453" y="2493"/>
                  </a:lnTo>
                  <a:lnTo>
                    <a:pt x="1436" y="2467"/>
                  </a:lnTo>
                  <a:lnTo>
                    <a:pt x="1419" y="2440"/>
                  </a:lnTo>
                  <a:lnTo>
                    <a:pt x="1400" y="2412"/>
                  </a:lnTo>
                  <a:lnTo>
                    <a:pt x="1385" y="2384"/>
                  </a:lnTo>
                  <a:lnTo>
                    <a:pt x="1372" y="2360"/>
                  </a:lnTo>
                  <a:lnTo>
                    <a:pt x="1358" y="2337"/>
                  </a:lnTo>
                  <a:lnTo>
                    <a:pt x="1346" y="2312"/>
                  </a:lnTo>
                  <a:lnTo>
                    <a:pt x="1332" y="2288"/>
                  </a:lnTo>
                  <a:lnTo>
                    <a:pt x="1321" y="2263"/>
                  </a:lnTo>
                  <a:lnTo>
                    <a:pt x="1308" y="2238"/>
                  </a:lnTo>
                  <a:lnTo>
                    <a:pt x="1298" y="2213"/>
                  </a:lnTo>
                  <a:lnTo>
                    <a:pt x="1286" y="2188"/>
                  </a:lnTo>
                  <a:lnTo>
                    <a:pt x="1275" y="2163"/>
                  </a:lnTo>
                  <a:lnTo>
                    <a:pt x="1264" y="2138"/>
                  </a:lnTo>
                  <a:lnTo>
                    <a:pt x="1254" y="2113"/>
                  </a:lnTo>
                  <a:lnTo>
                    <a:pt x="1242" y="2087"/>
                  </a:lnTo>
                  <a:lnTo>
                    <a:pt x="1232" y="2063"/>
                  </a:lnTo>
                  <a:lnTo>
                    <a:pt x="1221" y="2038"/>
                  </a:lnTo>
                  <a:lnTo>
                    <a:pt x="1210" y="2012"/>
                  </a:lnTo>
                  <a:lnTo>
                    <a:pt x="1200" y="1987"/>
                  </a:lnTo>
                  <a:lnTo>
                    <a:pt x="1184" y="1949"/>
                  </a:lnTo>
                  <a:lnTo>
                    <a:pt x="1165" y="1915"/>
                  </a:lnTo>
                  <a:lnTo>
                    <a:pt x="1147" y="1881"/>
                  </a:lnTo>
                  <a:lnTo>
                    <a:pt x="1127" y="1850"/>
                  </a:lnTo>
                  <a:lnTo>
                    <a:pt x="1108" y="1818"/>
                  </a:lnTo>
                  <a:lnTo>
                    <a:pt x="1089" y="1788"/>
                  </a:lnTo>
                  <a:lnTo>
                    <a:pt x="1069" y="1757"/>
                  </a:lnTo>
                  <a:lnTo>
                    <a:pt x="1051" y="1726"/>
                  </a:lnTo>
                  <a:lnTo>
                    <a:pt x="1034" y="1697"/>
                  </a:lnTo>
                  <a:lnTo>
                    <a:pt x="1018" y="1665"/>
                  </a:lnTo>
                  <a:lnTo>
                    <a:pt x="1003" y="1632"/>
                  </a:lnTo>
                  <a:lnTo>
                    <a:pt x="992" y="1599"/>
                  </a:lnTo>
                  <a:lnTo>
                    <a:pt x="983" y="1564"/>
                  </a:lnTo>
                  <a:lnTo>
                    <a:pt x="976" y="1526"/>
                  </a:lnTo>
                  <a:lnTo>
                    <a:pt x="972" y="1487"/>
                  </a:lnTo>
                  <a:lnTo>
                    <a:pt x="972" y="1447"/>
                  </a:lnTo>
                  <a:lnTo>
                    <a:pt x="971" y="1407"/>
                  </a:lnTo>
                  <a:lnTo>
                    <a:pt x="959" y="1368"/>
                  </a:lnTo>
                  <a:lnTo>
                    <a:pt x="943" y="1329"/>
                  </a:lnTo>
                  <a:lnTo>
                    <a:pt x="922" y="1291"/>
                  </a:lnTo>
                  <a:lnTo>
                    <a:pt x="895" y="1254"/>
                  </a:lnTo>
                  <a:lnTo>
                    <a:pt x="866" y="1218"/>
                  </a:lnTo>
                  <a:lnTo>
                    <a:pt x="832" y="1181"/>
                  </a:lnTo>
                  <a:lnTo>
                    <a:pt x="799" y="1145"/>
                  </a:lnTo>
                  <a:lnTo>
                    <a:pt x="764" y="1110"/>
                  </a:lnTo>
                  <a:lnTo>
                    <a:pt x="728" y="1075"/>
                  </a:lnTo>
                  <a:lnTo>
                    <a:pt x="694" y="1039"/>
                  </a:lnTo>
                  <a:lnTo>
                    <a:pt x="662" y="1006"/>
                  </a:lnTo>
                  <a:lnTo>
                    <a:pt x="634" y="971"/>
                  </a:lnTo>
                  <a:lnTo>
                    <a:pt x="610" y="938"/>
                  </a:lnTo>
                  <a:lnTo>
                    <a:pt x="589" y="904"/>
                  </a:lnTo>
                  <a:lnTo>
                    <a:pt x="575" y="871"/>
                  </a:lnTo>
                  <a:lnTo>
                    <a:pt x="562" y="835"/>
                  </a:lnTo>
                  <a:lnTo>
                    <a:pt x="545" y="802"/>
                  </a:lnTo>
                  <a:lnTo>
                    <a:pt x="526" y="767"/>
                  </a:lnTo>
                  <a:lnTo>
                    <a:pt x="505" y="737"/>
                  </a:lnTo>
                  <a:lnTo>
                    <a:pt x="483" y="705"/>
                  </a:lnTo>
                  <a:lnTo>
                    <a:pt x="459" y="675"/>
                  </a:lnTo>
                  <a:lnTo>
                    <a:pt x="434" y="646"/>
                  </a:lnTo>
                  <a:lnTo>
                    <a:pt x="408" y="617"/>
                  </a:lnTo>
                  <a:lnTo>
                    <a:pt x="380" y="588"/>
                  </a:lnTo>
                  <a:lnTo>
                    <a:pt x="353" y="559"/>
                  </a:lnTo>
                  <a:lnTo>
                    <a:pt x="327" y="531"/>
                  </a:lnTo>
                  <a:lnTo>
                    <a:pt x="301" y="501"/>
                  </a:lnTo>
                  <a:lnTo>
                    <a:pt x="274" y="472"/>
                  </a:lnTo>
                  <a:lnTo>
                    <a:pt x="249" y="442"/>
                  </a:lnTo>
                  <a:lnTo>
                    <a:pt x="226" y="411"/>
                  </a:lnTo>
                  <a:lnTo>
                    <a:pt x="204" y="380"/>
                  </a:lnTo>
                  <a:lnTo>
                    <a:pt x="178" y="339"/>
                  </a:lnTo>
                  <a:lnTo>
                    <a:pt x="153" y="293"/>
                  </a:lnTo>
                  <a:lnTo>
                    <a:pt x="129" y="244"/>
                  </a:lnTo>
                  <a:lnTo>
                    <a:pt x="107" y="195"/>
                  </a:lnTo>
                  <a:lnTo>
                    <a:pt x="87" y="146"/>
                  </a:lnTo>
                  <a:lnTo>
                    <a:pt x="69" y="99"/>
                  </a:lnTo>
                  <a:lnTo>
                    <a:pt x="54" y="52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09680" y="482760"/>
              <a:ext cx="142200" cy="263520"/>
            </a:xfrm>
            <a:custGeom>
              <a:avLst/>
              <a:gdLst/>
              <a:ahLst/>
              <a:rect l="l" t="t" r="r" b="b"/>
              <a:pathLst>
                <a:path w="358" h="663">
                  <a:moveTo>
                    <a:pt x="0" y="0"/>
                  </a:moveTo>
                  <a:lnTo>
                    <a:pt x="11" y="8"/>
                  </a:lnTo>
                  <a:lnTo>
                    <a:pt x="23" y="16"/>
                  </a:lnTo>
                  <a:lnTo>
                    <a:pt x="36" y="24"/>
                  </a:lnTo>
                  <a:lnTo>
                    <a:pt x="47" y="33"/>
                  </a:lnTo>
                  <a:lnTo>
                    <a:pt x="60" y="42"/>
                  </a:lnTo>
                  <a:lnTo>
                    <a:pt x="71" y="50"/>
                  </a:lnTo>
                  <a:lnTo>
                    <a:pt x="84" y="60"/>
                  </a:lnTo>
                  <a:lnTo>
                    <a:pt x="95" y="69"/>
                  </a:lnTo>
                  <a:lnTo>
                    <a:pt x="107" y="78"/>
                  </a:lnTo>
                  <a:lnTo>
                    <a:pt x="118" y="87"/>
                  </a:lnTo>
                  <a:lnTo>
                    <a:pt x="129" y="97"/>
                  </a:lnTo>
                  <a:lnTo>
                    <a:pt x="141" y="107"/>
                  </a:lnTo>
                  <a:lnTo>
                    <a:pt x="150" y="116"/>
                  </a:lnTo>
                  <a:lnTo>
                    <a:pt x="161" y="127"/>
                  </a:lnTo>
                  <a:lnTo>
                    <a:pt x="170" y="138"/>
                  </a:lnTo>
                  <a:lnTo>
                    <a:pt x="180" y="148"/>
                  </a:lnTo>
                  <a:lnTo>
                    <a:pt x="199" y="169"/>
                  </a:lnTo>
                  <a:lnTo>
                    <a:pt x="216" y="192"/>
                  </a:lnTo>
                  <a:lnTo>
                    <a:pt x="232" y="216"/>
                  </a:lnTo>
                  <a:lnTo>
                    <a:pt x="246" y="241"/>
                  </a:lnTo>
                  <a:lnTo>
                    <a:pt x="260" y="266"/>
                  </a:lnTo>
                  <a:lnTo>
                    <a:pt x="273" y="292"/>
                  </a:lnTo>
                  <a:lnTo>
                    <a:pt x="285" y="320"/>
                  </a:lnTo>
                  <a:lnTo>
                    <a:pt x="295" y="346"/>
                  </a:lnTo>
                  <a:lnTo>
                    <a:pt x="306" y="373"/>
                  </a:lnTo>
                  <a:lnTo>
                    <a:pt x="314" y="401"/>
                  </a:lnTo>
                  <a:lnTo>
                    <a:pt x="323" y="430"/>
                  </a:lnTo>
                  <a:lnTo>
                    <a:pt x="331" y="457"/>
                  </a:lnTo>
                  <a:lnTo>
                    <a:pt x="337" y="486"/>
                  </a:lnTo>
                  <a:lnTo>
                    <a:pt x="344" y="514"/>
                  </a:lnTo>
                  <a:lnTo>
                    <a:pt x="351" y="542"/>
                  </a:lnTo>
                  <a:lnTo>
                    <a:pt x="357" y="571"/>
                  </a:lnTo>
                  <a:lnTo>
                    <a:pt x="358" y="594"/>
                  </a:lnTo>
                  <a:lnTo>
                    <a:pt x="354" y="616"/>
                  </a:lnTo>
                  <a:lnTo>
                    <a:pt x="346" y="640"/>
                  </a:lnTo>
                  <a:lnTo>
                    <a:pt x="337" y="663"/>
                  </a:lnTo>
                  <a:lnTo>
                    <a:pt x="317" y="616"/>
                  </a:lnTo>
                  <a:lnTo>
                    <a:pt x="298" y="571"/>
                  </a:lnTo>
                  <a:lnTo>
                    <a:pt x="281" y="525"/>
                  </a:lnTo>
                  <a:lnTo>
                    <a:pt x="262" y="481"/>
                  </a:lnTo>
                  <a:lnTo>
                    <a:pt x="246" y="438"/>
                  </a:lnTo>
                  <a:lnTo>
                    <a:pt x="230" y="396"/>
                  </a:lnTo>
                  <a:lnTo>
                    <a:pt x="213" y="355"/>
                  </a:lnTo>
                  <a:lnTo>
                    <a:pt x="197" y="314"/>
                  </a:lnTo>
                  <a:lnTo>
                    <a:pt x="180" y="274"/>
                  </a:lnTo>
                  <a:lnTo>
                    <a:pt x="161" y="233"/>
                  </a:lnTo>
                  <a:lnTo>
                    <a:pt x="141" y="193"/>
                  </a:lnTo>
                  <a:lnTo>
                    <a:pt x="118" y="155"/>
                  </a:lnTo>
                  <a:lnTo>
                    <a:pt x="93" y="115"/>
                  </a:lnTo>
                  <a:lnTo>
                    <a:pt x="66" y="77"/>
                  </a:lnTo>
                  <a:lnTo>
                    <a:pt x="34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88960" y="692280"/>
              <a:ext cx="217080" cy="601560"/>
            </a:xfrm>
            <a:custGeom>
              <a:avLst/>
              <a:gdLst/>
              <a:ahLst/>
              <a:rect l="l" t="t" r="r" b="b"/>
              <a:pathLst>
                <a:path w="550" h="1515">
                  <a:moveTo>
                    <a:pt x="0" y="463"/>
                  </a:moveTo>
                  <a:lnTo>
                    <a:pt x="28" y="469"/>
                  </a:lnTo>
                  <a:lnTo>
                    <a:pt x="50" y="469"/>
                  </a:lnTo>
                  <a:lnTo>
                    <a:pt x="66" y="461"/>
                  </a:lnTo>
                  <a:lnTo>
                    <a:pt x="75" y="449"/>
                  </a:lnTo>
                  <a:lnTo>
                    <a:pt x="79" y="432"/>
                  </a:lnTo>
                  <a:lnTo>
                    <a:pt x="78" y="412"/>
                  </a:lnTo>
                  <a:lnTo>
                    <a:pt x="75" y="388"/>
                  </a:lnTo>
                  <a:lnTo>
                    <a:pt x="69" y="362"/>
                  </a:lnTo>
                  <a:lnTo>
                    <a:pt x="59" y="334"/>
                  </a:lnTo>
                  <a:lnTo>
                    <a:pt x="50" y="305"/>
                  </a:lnTo>
                  <a:lnTo>
                    <a:pt x="39" y="274"/>
                  </a:lnTo>
                  <a:lnTo>
                    <a:pt x="27" y="246"/>
                  </a:lnTo>
                  <a:lnTo>
                    <a:pt x="18" y="216"/>
                  </a:lnTo>
                  <a:lnTo>
                    <a:pt x="10" y="189"/>
                  </a:lnTo>
                  <a:lnTo>
                    <a:pt x="3" y="164"/>
                  </a:lnTo>
                  <a:lnTo>
                    <a:pt x="2" y="142"/>
                  </a:lnTo>
                  <a:lnTo>
                    <a:pt x="2" y="122"/>
                  </a:lnTo>
                  <a:lnTo>
                    <a:pt x="6" y="97"/>
                  </a:lnTo>
                  <a:lnTo>
                    <a:pt x="10" y="69"/>
                  </a:lnTo>
                  <a:lnTo>
                    <a:pt x="17" y="43"/>
                  </a:lnTo>
                  <a:lnTo>
                    <a:pt x="25" y="20"/>
                  </a:lnTo>
                  <a:lnTo>
                    <a:pt x="33" y="6"/>
                  </a:lnTo>
                  <a:lnTo>
                    <a:pt x="43" y="0"/>
                  </a:lnTo>
                  <a:lnTo>
                    <a:pt x="52" y="8"/>
                  </a:lnTo>
                  <a:lnTo>
                    <a:pt x="74" y="45"/>
                  </a:lnTo>
                  <a:lnTo>
                    <a:pt x="90" y="86"/>
                  </a:lnTo>
                  <a:lnTo>
                    <a:pt x="99" y="129"/>
                  </a:lnTo>
                  <a:lnTo>
                    <a:pt x="108" y="172"/>
                  </a:lnTo>
                  <a:lnTo>
                    <a:pt x="115" y="216"/>
                  </a:lnTo>
                  <a:lnTo>
                    <a:pt x="122" y="260"/>
                  </a:lnTo>
                  <a:lnTo>
                    <a:pt x="132" y="304"/>
                  </a:lnTo>
                  <a:lnTo>
                    <a:pt x="145" y="345"/>
                  </a:lnTo>
                  <a:lnTo>
                    <a:pt x="158" y="373"/>
                  </a:lnTo>
                  <a:lnTo>
                    <a:pt x="173" y="399"/>
                  </a:lnTo>
                  <a:lnTo>
                    <a:pt x="190" y="425"/>
                  </a:lnTo>
                  <a:lnTo>
                    <a:pt x="208" y="452"/>
                  </a:lnTo>
                  <a:lnTo>
                    <a:pt x="225" y="477"/>
                  </a:lnTo>
                  <a:lnTo>
                    <a:pt x="242" y="503"/>
                  </a:lnTo>
                  <a:lnTo>
                    <a:pt x="259" y="529"/>
                  </a:lnTo>
                  <a:lnTo>
                    <a:pt x="272" y="557"/>
                  </a:lnTo>
                  <a:lnTo>
                    <a:pt x="282" y="584"/>
                  </a:lnTo>
                  <a:lnTo>
                    <a:pt x="288" y="611"/>
                  </a:lnTo>
                  <a:lnTo>
                    <a:pt x="293" y="637"/>
                  </a:lnTo>
                  <a:lnTo>
                    <a:pt x="299" y="665"/>
                  </a:lnTo>
                  <a:lnTo>
                    <a:pt x="304" y="694"/>
                  </a:lnTo>
                  <a:lnTo>
                    <a:pt x="308" y="722"/>
                  </a:lnTo>
                  <a:lnTo>
                    <a:pt x="313" y="748"/>
                  </a:lnTo>
                  <a:lnTo>
                    <a:pt x="322" y="776"/>
                  </a:lnTo>
                  <a:lnTo>
                    <a:pt x="332" y="803"/>
                  </a:lnTo>
                  <a:lnTo>
                    <a:pt x="341" y="830"/>
                  </a:lnTo>
                  <a:lnTo>
                    <a:pt x="352" y="857"/>
                  </a:lnTo>
                  <a:lnTo>
                    <a:pt x="363" y="883"/>
                  </a:lnTo>
                  <a:lnTo>
                    <a:pt x="375" y="909"/>
                  </a:lnTo>
                  <a:lnTo>
                    <a:pt x="385" y="935"/>
                  </a:lnTo>
                  <a:lnTo>
                    <a:pt x="398" y="961"/>
                  </a:lnTo>
                  <a:lnTo>
                    <a:pt x="409" y="987"/>
                  </a:lnTo>
                  <a:lnTo>
                    <a:pt x="422" y="1015"/>
                  </a:lnTo>
                  <a:lnTo>
                    <a:pt x="432" y="1041"/>
                  </a:lnTo>
                  <a:lnTo>
                    <a:pt x="445" y="1067"/>
                  </a:lnTo>
                  <a:lnTo>
                    <a:pt x="456" y="1092"/>
                  </a:lnTo>
                  <a:lnTo>
                    <a:pt x="467" y="1118"/>
                  </a:lnTo>
                  <a:lnTo>
                    <a:pt x="479" y="1145"/>
                  </a:lnTo>
                  <a:lnTo>
                    <a:pt x="489" y="1172"/>
                  </a:lnTo>
                  <a:lnTo>
                    <a:pt x="499" y="1199"/>
                  </a:lnTo>
                  <a:lnTo>
                    <a:pt x="507" y="1224"/>
                  </a:lnTo>
                  <a:lnTo>
                    <a:pt x="517" y="1249"/>
                  </a:lnTo>
                  <a:lnTo>
                    <a:pt x="526" y="1273"/>
                  </a:lnTo>
                  <a:lnTo>
                    <a:pt x="536" y="1298"/>
                  </a:lnTo>
                  <a:lnTo>
                    <a:pt x="544" y="1324"/>
                  </a:lnTo>
                  <a:lnTo>
                    <a:pt x="549" y="1350"/>
                  </a:lnTo>
                  <a:lnTo>
                    <a:pt x="550" y="1376"/>
                  </a:lnTo>
                  <a:lnTo>
                    <a:pt x="549" y="1403"/>
                  </a:lnTo>
                  <a:lnTo>
                    <a:pt x="547" y="1416"/>
                  </a:lnTo>
                  <a:lnTo>
                    <a:pt x="542" y="1432"/>
                  </a:lnTo>
                  <a:lnTo>
                    <a:pt x="539" y="1446"/>
                  </a:lnTo>
                  <a:lnTo>
                    <a:pt x="533" y="1459"/>
                  </a:lnTo>
                  <a:lnTo>
                    <a:pt x="528" y="1474"/>
                  </a:lnTo>
                  <a:lnTo>
                    <a:pt x="522" y="1488"/>
                  </a:lnTo>
                  <a:lnTo>
                    <a:pt x="515" y="1501"/>
                  </a:lnTo>
                  <a:lnTo>
                    <a:pt x="507" y="1515"/>
                  </a:lnTo>
                  <a:lnTo>
                    <a:pt x="493" y="1461"/>
                  </a:lnTo>
                  <a:lnTo>
                    <a:pt x="497" y="1445"/>
                  </a:lnTo>
                  <a:lnTo>
                    <a:pt x="500" y="1430"/>
                  </a:lnTo>
                  <a:lnTo>
                    <a:pt x="500" y="1415"/>
                  </a:lnTo>
                  <a:lnTo>
                    <a:pt x="498" y="1403"/>
                  </a:lnTo>
                  <a:lnTo>
                    <a:pt x="495" y="1391"/>
                  </a:lnTo>
                  <a:lnTo>
                    <a:pt x="487" y="1382"/>
                  </a:lnTo>
                  <a:lnTo>
                    <a:pt x="479" y="1374"/>
                  </a:lnTo>
                  <a:lnTo>
                    <a:pt x="465" y="1368"/>
                  </a:lnTo>
                  <a:lnTo>
                    <a:pt x="371" y="1199"/>
                  </a:lnTo>
                  <a:lnTo>
                    <a:pt x="373" y="1161"/>
                  </a:lnTo>
                  <a:lnTo>
                    <a:pt x="373" y="1126"/>
                  </a:lnTo>
                  <a:lnTo>
                    <a:pt x="368" y="1091"/>
                  </a:lnTo>
                  <a:lnTo>
                    <a:pt x="364" y="1056"/>
                  </a:lnTo>
                  <a:lnTo>
                    <a:pt x="358" y="1026"/>
                  </a:lnTo>
                  <a:lnTo>
                    <a:pt x="348" y="992"/>
                  </a:lnTo>
                  <a:lnTo>
                    <a:pt x="335" y="954"/>
                  </a:lnTo>
                  <a:lnTo>
                    <a:pt x="319" y="920"/>
                  </a:lnTo>
                  <a:lnTo>
                    <a:pt x="304" y="892"/>
                  </a:lnTo>
                  <a:lnTo>
                    <a:pt x="288" y="872"/>
                  </a:lnTo>
                  <a:lnTo>
                    <a:pt x="271" y="867"/>
                  </a:lnTo>
                  <a:lnTo>
                    <a:pt x="256" y="878"/>
                  </a:lnTo>
                  <a:lnTo>
                    <a:pt x="250" y="886"/>
                  </a:lnTo>
                  <a:lnTo>
                    <a:pt x="244" y="896"/>
                  </a:lnTo>
                  <a:lnTo>
                    <a:pt x="240" y="907"/>
                  </a:lnTo>
                  <a:lnTo>
                    <a:pt x="235" y="917"/>
                  </a:lnTo>
                  <a:lnTo>
                    <a:pt x="231" y="927"/>
                  </a:lnTo>
                  <a:lnTo>
                    <a:pt x="226" y="937"/>
                  </a:lnTo>
                  <a:lnTo>
                    <a:pt x="223" y="950"/>
                  </a:lnTo>
                  <a:lnTo>
                    <a:pt x="221" y="960"/>
                  </a:lnTo>
                  <a:lnTo>
                    <a:pt x="203" y="930"/>
                  </a:lnTo>
                  <a:lnTo>
                    <a:pt x="188" y="901"/>
                  </a:lnTo>
                  <a:lnTo>
                    <a:pt x="170" y="871"/>
                  </a:lnTo>
                  <a:lnTo>
                    <a:pt x="155" y="841"/>
                  </a:lnTo>
                  <a:lnTo>
                    <a:pt x="140" y="812"/>
                  </a:lnTo>
                  <a:lnTo>
                    <a:pt x="125" y="783"/>
                  </a:lnTo>
                  <a:lnTo>
                    <a:pt x="111" y="752"/>
                  </a:lnTo>
                  <a:lnTo>
                    <a:pt x="98" y="722"/>
                  </a:lnTo>
                  <a:lnTo>
                    <a:pt x="84" y="692"/>
                  </a:lnTo>
                  <a:lnTo>
                    <a:pt x="72" y="660"/>
                  </a:lnTo>
                  <a:lnTo>
                    <a:pt x="58" y="629"/>
                  </a:lnTo>
                  <a:lnTo>
                    <a:pt x="46" y="597"/>
                  </a:lnTo>
                  <a:lnTo>
                    <a:pt x="34" y="565"/>
                  </a:lnTo>
                  <a:lnTo>
                    <a:pt x="23" y="531"/>
                  </a:lnTo>
                  <a:lnTo>
                    <a:pt x="10" y="497"/>
                  </a:lnTo>
                  <a:lnTo>
                    <a:pt x="0" y="463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80800" y="190800"/>
              <a:ext cx="676080" cy="1197000"/>
            </a:xfrm>
            <a:custGeom>
              <a:avLst/>
              <a:gdLst/>
              <a:ahLst/>
              <a:rect l="l" t="t" r="r" b="b"/>
              <a:pathLst>
                <a:path w="1707" h="3013">
                  <a:moveTo>
                    <a:pt x="0" y="103"/>
                  </a:moveTo>
                  <a:lnTo>
                    <a:pt x="34" y="103"/>
                  </a:lnTo>
                  <a:lnTo>
                    <a:pt x="66" y="99"/>
                  </a:lnTo>
                  <a:lnTo>
                    <a:pt x="100" y="96"/>
                  </a:lnTo>
                  <a:lnTo>
                    <a:pt x="134" y="88"/>
                  </a:lnTo>
                  <a:lnTo>
                    <a:pt x="168" y="79"/>
                  </a:lnTo>
                  <a:lnTo>
                    <a:pt x="202" y="70"/>
                  </a:lnTo>
                  <a:lnTo>
                    <a:pt x="237" y="59"/>
                  </a:lnTo>
                  <a:lnTo>
                    <a:pt x="272" y="49"/>
                  </a:lnTo>
                  <a:lnTo>
                    <a:pt x="306" y="38"/>
                  </a:lnTo>
                  <a:lnTo>
                    <a:pt x="341" y="28"/>
                  </a:lnTo>
                  <a:lnTo>
                    <a:pt x="375" y="20"/>
                  </a:lnTo>
                  <a:lnTo>
                    <a:pt x="411" y="12"/>
                  </a:lnTo>
                  <a:lnTo>
                    <a:pt x="446" y="5"/>
                  </a:lnTo>
                  <a:lnTo>
                    <a:pt x="480" y="2"/>
                  </a:lnTo>
                  <a:lnTo>
                    <a:pt x="516" y="0"/>
                  </a:lnTo>
                  <a:lnTo>
                    <a:pt x="551" y="2"/>
                  </a:lnTo>
                  <a:lnTo>
                    <a:pt x="564" y="26"/>
                  </a:lnTo>
                  <a:lnTo>
                    <a:pt x="577" y="50"/>
                  </a:lnTo>
                  <a:lnTo>
                    <a:pt x="590" y="73"/>
                  </a:lnTo>
                  <a:lnTo>
                    <a:pt x="605" y="96"/>
                  </a:lnTo>
                  <a:lnTo>
                    <a:pt x="619" y="119"/>
                  </a:lnTo>
                  <a:lnTo>
                    <a:pt x="634" y="141"/>
                  </a:lnTo>
                  <a:lnTo>
                    <a:pt x="647" y="165"/>
                  </a:lnTo>
                  <a:lnTo>
                    <a:pt x="661" y="188"/>
                  </a:lnTo>
                  <a:lnTo>
                    <a:pt x="676" y="212"/>
                  </a:lnTo>
                  <a:lnTo>
                    <a:pt x="688" y="236"/>
                  </a:lnTo>
                  <a:lnTo>
                    <a:pt x="702" y="260"/>
                  </a:lnTo>
                  <a:lnTo>
                    <a:pt x="713" y="283"/>
                  </a:lnTo>
                  <a:lnTo>
                    <a:pt x="726" y="307"/>
                  </a:lnTo>
                  <a:lnTo>
                    <a:pt x="735" y="332"/>
                  </a:lnTo>
                  <a:lnTo>
                    <a:pt x="745" y="357"/>
                  </a:lnTo>
                  <a:lnTo>
                    <a:pt x="754" y="384"/>
                  </a:lnTo>
                  <a:lnTo>
                    <a:pt x="761" y="423"/>
                  </a:lnTo>
                  <a:lnTo>
                    <a:pt x="761" y="465"/>
                  </a:lnTo>
                  <a:lnTo>
                    <a:pt x="758" y="509"/>
                  </a:lnTo>
                  <a:lnTo>
                    <a:pt x="753" y="552"/>
                  </a:lnTo>
                  <a:lnTo>
                    <a:pt x="748" y="595"/>
                  </a:lnTo>
                  <a:lnTo>
                    <a:pt x="748" y="637"/>
                  </a:lnTo>
                  <a:lnTo>
                    <a:pt x="755" y="676"/>
                  </a:lnTo>
                  <a:lnTo>
                    <a:pt x="771" y="712"/>
                  </a:lnTo>
                  <a:lnTo>
                    <a:pt x="779" y="720"/>
                  </a:lnTo>
                  <a:lnTo>
                    <a:pt x="788" y="725"/>
                  </a:lnTo>
                  <a:lnTo>
                    <a:pt x="800" y="725"/>
                  </a:lnTo>
                  <a:lnTo>
                    <a:pt x="812" y="723"/>
                  </a:lnTo>
                  <a:lnTo>
                    <a:pt x="827" y="719"/>
                  </a:lnTo>
                  <a:lnTo>
                    <a:pt x="842" y="713"/>
                  </a:lnTo>
                  <a:lnTo>
                    <a:pt x="856" y="708"/>
                  </a:lnTo>
                  <a:lnTo>
                    <a:pt x="872" y="701"/>
                  </a:lnTo>
                  <a:lnTo>
                    <a:pt x="887" y="693"/>
                  </a:lnTo>
                  <a:lnTo>
                    <a:pt x="901" y="688"/>
                  </a:lnTo>
                  <a:lnTo>
                    <a:pt x="916" y="683"/>
                  </a:lnTo>
                  <a:lnTo>
                    <a:pt x="927" y="679"/>
                  </a:lnTo>
                  <a:lnTo>
                    <a:pt x="938" y="679"/>
                  </a:lnTo>
                  <a:lnTo>
                    <a:pt x="946" y="682"/>
                  </a:lnTo>
                  <a:lnTo>
                    <a:pt x="953" y="686"/>
                  </a:lnTo>
                  <a:lnTo>
                    <a:pt x="957" y="695"/>
                  </a:lnTo>
                  <a:lnTo>
                    <a:pt x="962" y="758"/>
                  </a:lnTo>
                  <a:lnTo>
                    <a:pt x="959" y="811"/>
                  </a:lnTo>
                  <a:lnTo>
                    <a:pt x="951" y="860"/>
                  </a:lnTo>
                  <a:lnTo>
                    <a:pt x="946" y="906"/>
                  </a:lnTo>
                  <a:lnTo>
                    <a:pt x="946" y="952"/>
                  </a:lnTo>
                  <a:lnTo>
                    <a:pt x="959" y="1001"/>
                  </a:lnTo>
                  <a:lnTo>
                    <a:pt x="987" y="1055"/>
                  </a:lnTo>
                  <a:lnTo>
                    <a:pt x="1038" y="1117"/>
                  </a:lnTo>
                  <a:lnTo>
                    <a:pt x="1063" y="1145"/>
                  </a:lnTo>
                  <a:lnTo>
                    <a:pt x="1085" y="1176"/>
                  </a:lnTo>
                  <a:lnTo>
                    <a:pt x="1109" y="1212"/>
                  </a:lnTo>
                  <a:lnTo>
                    <a:pt x="1132" y="1249"/>
                  </a:lnTo>
                  <a:lnTo>
                    <a:pt x="1153" y="1288"/>
                  </a:lnTo>
                  <a:lnTo>
                    <a:pt x="1175" y="1330"/>
                  </a:lnTo>
                  <a:lnTo>
                    <a:pt x="1195" y="1373"/>
                  </a:lnTo>
                  <a:lnTo>
                    <a:pt x="1216" y="1416"/>
                  </a:lnTo>
                  <a:lnTo>
                    <a:pt x="1236" y="1461"/>
                  </a:lnTo>
                  <a:lnTo>
                    <a:pt x="1256" y="1504"/>
                  </a:lnTo>
                  <a:lnTo>
                    <a:pt x="1276" y="1547"/>
                  </a:lnTo>
                  <a:lnTo>
                    <a:pt x="1294" y="1589"/>
                  </a:lnTo>
                  <a:lnTo>
                    <a:pt x="1314" y="1629"/>
                  </a:lnTo>
                  <a:lnTo>
                    <a:pt x="1332" y="1668"/>
                  </a:lnTo>
                  <a:lnTo>
                    <a:pt x="1350" y="1703"/>
                  </a:lnTo>
                  <a:lnTo>
                    <a:pt x="1369" y="1736"/>
                  </a:lnTo>
                  <a:lnTo>
                    <a:pt x="1386" y="1763"/>
                  </a:lnTo>
                  <a:lnTo>
                    <a:pt x="1405" y="1793"/>
                  </a:lnTo>
                  <a:lnTo>
                    <a:pt x="1424" y="1821"/>
                  </a:lnTo>
                  <a:lnTo>
                    <a:pt x="1444" y="1850"/>
                  </a:lnTo>
                  <a:lnTo>
                    <a:pt x="1464" y="1877"/>
                  </a:lnTo>
                  <a:lnTo>
                    <a:pt x="1483" y="1904"/>
                  </a:lnTo>
                  <a:lnTo>
                    <a:pt x="1502" y="1933"/>
                  </a:lnTo>
                  <a:lnTo>
                    <a:pt x="1522" y="1961"/>
                  </a:lnTo>
                  <a:lnTo>
                    <a:pt x="1541" y="1990"/>
                  </a:lnTo>
                  <a:lnTo>
                    <a:pt x="1559" y="2018"/>
                  </a:lnTo>
                  <a:lnTo>
                    <a:pt x="1576" y="2048"/>
                  </a:lnTo>
                  <a:lnTo>
                    <a:pt x="1592" y="2077"/>
                  </a:lnTo>
                  <a:lnTo>
                    <a:pt x="1609" y="2107"/>
                  </a:lnTo>
                  <a:lnTo>
                    <a:pt x="1623" y="2138"/>
                  </a:lnTo>
                  <a:lnTo>
                    <a:pt x="1637" y="2169"/>
                  </a:lnTo>
                  <a:lnTo>
                    <a:pt x="1648" y="2200"/>
                  </a:lnTo>
                  <a:lnTo>
                    <a:pt x="1666" y="2262"/>
                  </a:lnTo>
                  <a:lnTo>
                    <a:pt x="1682" y="2324"/>
                  </a:lnTo>
                  <a:lnTo>
                    <a:pt x="1694" y="2387"/>
                  </a:lnTo>
                  <a:lnTo>
                    <a:pt x="1703" y="2450"/>
                  </a:lnTo>
                  <a:lnTo>
                    <a:pt x="1707" y="2514"/>
                  </a:lnTo>
                  <a:lnTo>
                    <a:pt x="1707" y="2580"/>
                  </a:lnTo>
                  <a:lnTo>
                    <a:pt x="1705" y="2644"/>
                  </a:lnTo>
                  <a:lnTo>
                    <a:pt x="1698" y="2707"/>
                  </a:lnTo>
                  <a:lnTo>
                    <a:pt x="1690" y="2745"/>
                  </a:lnTo>
                  <a:lnTo>
                    <a:pt x="1680" y="2781"/>
                  </a:lnTo>
                  <a:lnTo>
                    <a:pt x="1665" y="2814"/>
                  </a:lnTo>
                  <a:lnTo>
                    <a:pt x="1648" y="2847"/>
                  </a:lnTo>
                  <a:lnTo>
                    <a:pt x="1630" y="2878"/>
                  </a:lnTo>
                  <a:lnTo>
                    <a:pt x="1611" y="2911"/>
                  </a:lnTo>
                  <a:lnTo>
                    <a:pt x="1589" y="2944"/>
                  </a:lnTo>
                  <a:lnTo>
                    <a:pt x="1570" y="2977"/>
                  </a:lnTo>
                  <a:lnTo>
                    <a:pt x="1553" y="2980"/>
                  </a:lnTo>
                  <a:lnTo>
                    <a:pt x="1533" y="2985"/>
                  </a:lnTo>
                  <a:lnTo>
                    <a:pt x="1513" y="2991"/>
                  </a:lnTo>
                  <a:lnTo>
                    <a:pt x="1491" y="2994"/>
                  </a:lnTo>
                  <a:lnTo>
                    <a:pt x="1470" y="3000"/>
                  </a:lnTo>
                  <a:lnTo>
                    <a:pt x="1448" y="3005"/>
                  </a:lnTo>
                  <a:lnTo>
                    <a:pt x="1429" y="3010"/>
                  </a:lnTo>
                  <a:lnTo>
                    <a:pt x="1412" y="3013"/>
                  </a:lnTo>
                  <a:lnTo>
                    <a:pt x="1429" y="2950"/>
                  </a:lnTo>
                  <a:lnTo>
                    <a:pt x="1447" y="2892"/>
                  </a:lnTo>
                  <a:lnTo>
                    <a:pt x="1468" y="2835"/>
                  </a:lnTo>
                  <a:lnTo>
                    <a:pt x="1487" y="2781"/>
                  </a:lnTo>
                  <a:lnTo>
                    <a:pt x="1502" y="2726"/>
                  </a:lnTo>
                  <a:lnTo>
                    <a:pt x="1517" y="2670"/>
                  </a:lnTo>
                  <a:lnTo>
                    <a:pt x="1525" y="2610"/>
                  </a:lnTo>
                  <a:lnTo>
                    <a:pt x="1528" y="2546"/>
                  </a:lnTo>
                  <a:lnTo>
                    <a:pt x="1523" y="2514"/>
                  </a:lnTo>
                  <a:lnTo>
                    <a:pt x="1512" y="2483"/>
                  </a:lnTo>
                  <a:lnTo>
                    <a:pt x="1493" y="2454"/>
                  </a:lnTo>
                  <a:lnTo>
                    <a:pt x="1472" y="2425"/>
                  </a:lnTo>
                  <a:lnTo>
                    <a:pt x="1449" y="2398"/>
                  </a:lnTo>
                  <a:lnTo>
                    <a:pt x="1426" y="2370"/>
                  </a:lnTo>
                  <a:lnTo>
                    <a:pt x="1407" y="2340"/>
                  </a:lnTo>
                  <a:lnTo>
                    <a:pt x="1393" y="2309"/>
                  </a:lnTo>
                  <a:lnTo>
                    <a:pt x="1379" y="2262"/>
                  </a:lnTo>
                  <a:lnTo>
                    <a:pt x="1369" y="2207"/>
                  </a:lnTo>
                  <a:lnTo>
                    <a:pt x="1363" y="2150"/>
                  </a:lnTo>
                  <a:lnTo>
                    <a:pt x="1356" y="2092"/>
                  </a:lnTo>
                  <a:lnTo>
                    <a:pt x="1350" y="2034"/>
                  </a:lnTo>
                  <a:lnTo>
                    <a:pt x="1341" y="1978"/>
                  </a:lnTo>
                  <a:lnTo>
                    <a:pt x="1327" y="1926"/>
                  </a:lnTo>
                  <a:lnTo>
                    <a:pt x="1309" y="1879"/>
                  </a:lnTo>
                  <a:lnTo>
                    <a:pt x="1289" y="1841"/>
                  </a:lnTo>
                  <a:lnTo>
                    <a:pt x="1267" y="1804"/>
                  </a:lnTo>
                  <a:lnTo>
                    <a:pt x="1243" y="1767"/>
                  </a:lnTo>
                  <a:lnTo>
                    <a:pt x="1219" y="1730"/>
                  </a:lnTo>
                  <a:lnTo>
                    <a:pt x="1194" y="1694"/>
                  </a:lnTo>
                  <a:lnTo>
                    <a:pt x="1168" y="1660"/>
                  </a:lnTo>
                  <a:lnTo>
                    <a:pt x="1141" y="1625"/>
                  </a:lnTo>
                  <a:lnTo>
                    <a:pt x="1115" y="1589"/>
                  </a:lnTo>
                  <a:lnTo>
                    <a:pt x="1088" y="1555"/>
                  </a:lnTo>
                  <a:lnTo>
                    <a:pt x="1062" y="1520"/>
                  </a:lnTo>
                  <a:lnTo>
                    <a:pt x="1036" y="1486"/>
                  </a:lnTo>
                  <a:lnTo>
                    <a:pt x="1010" y="1449"/>
                  </a:lnTo>
                  <a:lnTo>
                    <a:pt x="984" y="1415"/>
                  </a:lnTo>
                  <a:lnTo>
                    <a:pt x="960" y="1378"/>
                  </a:lnTo>
                  <a:lnTo>
                    <a:pt x="936" y="1342"/>
                  </a:lnTo>
                  <a:lnTo>
                    <a:pt x="914" y="1305"/>
                  </a:lnTo>
                  <a:lnTo>
                    <a:pt x="901" y="1280"/>
                  </a:lnTo>
                  <a:lnTo>
                    <a:pt x="892" y="1254"/>
                  </a:lnTo>
                  <a:lnTo>
                    <a:pt x="881" y="1228"/>
                  </a:lnTo>
                  <a:lnTo>
                    <a:pt x="874" y="1200"/>
                  </a:lnTo>
                  <a:lnTo>
                    <a:pt x="863" y="1174"/>
                  </a:lnTo>
                  <a:lnTo>
                    <a:pt x="853" y="1148"/>
                  </a:lnTo>
                  <a:lnTo>
                    <a:pt x="842" y="1123"/>
                  </a:lnTo>
                  <a:lnTo>
                    <a:pt x="827" y="1100"/>
                  </a:lnTo>
                  <a:lnTo>
                    <a:pt x="810" y="1079"/>
                  </a:lnTo>
                  <a:lnTo>
                    <a:pt x="790" y="1059"/>
                  </a:lnTo>
                  <a:lnTo>
                    <a:pt x="770" y="1043"/>
                  </a:lnTo>
                  <a:lnTo>
                    <a:pt x="750" y="1029"/>
                  </a:lnTo>
                  <a:lnTo>
                    <a:pt x="728" y="1013"/>
                  </a:lnTo>
                  <a:lnTo>
                    <a:pt x="707" y="997"/>
                  </a:lnTo>
                  <a:lnTo>
                    <a:pt x="687" y="978"/>
                  </a:lnTo>
                  <a:lnTo>
                    <a:pt x="669" y="958"/>
                  </a:lnTo>
                  <a:lnTo>
                    <a:pt x="651" y="928"/>
                  </a:lnTo>
                  <a:lnTo>
                    <a:pt x="637" y="898"/>
                  </a:lnTo>
                  <a:lnTo>
                    <a:pt x="628" y="868"/>
                  </a:lnTo>
                  <a:lnTo>
                    <a:pt x="619" y="836"/>
                  </a:lnTo>
                  <a:lnTo>
                    <a:pt x="612" y="806"/>
                  </a:lnTo>
                  <a:lnTo>
                    <a:pt x="601" y="777"/>
                  </a:lnTo>
                  <a:lnTo>
                    <a:pt x="587" y="748"/>
                  </a:lnTo>
                  <a:lnTo>
                    <a:pt x="565" y="720"/>
                  </a:lnTo>
                  <a:lnTo>
                    <a:pt x="554" y="711"/>
                  </a:lnTo>
                  <a:lnTo>
                    <a:pt x="539" y="709"/>
                  </a:lnTo>
                  <a:lnTo>
                    <a:pt x="521" y="709"/>
                  </a:lnTo>
                  <a:lnTo>
                    <a:pt x="504" y="711"/>
                  </a:lnTo>
                  <a:lnTo>
                    <a:pt x="486" y="712"/>
                  </a:lnTo>
                  <a:lnTo>
                    <a:pt x="469" y="715"/>
                  </a:lnTo>
                  <a:lnTo>
                    <a:pt x="453" y="715"/>
                  </a:lnTo>
                  <a:lnTo>
                    <a:pt x="439" y="711"/>
                  </a:lnTo>
                  <a:lnTo>
                    <a:pt x="400" y="690"/>
                  </a:lnTo>
                  <a:lnTo>
                    <a:pt x="365" y="663"/>
                  </a:lnTo>
                  <a:lnTo>
                    <a:pt x="331" y="633"/>
                  </a:lnTo>
                  <a:lnTo>
                    <a:pt x="301" y="599"/>
                  </a:lnTo>
                  <a:lnTo>
                    <a:pt x="272" y="562"/>
                  </a:lnTo>
                  <a:lnTo>
                    <a:pt x="243" y="525"/>
                  </a:lnTo>
                  <a:lnTo>
                    <a:pt x="217" y="484"/>
                  </a:lnTo>
                  <a:lnTo>
                    <a:pt x="192" y="440"/>
                  </a:lnTo>
                  <a:lnTo>
                    <a:pt x="167" y="397"/>
                  </a:lnTo>
                  <a:lnTo>
                    <a:pt x="144" y="353"/>
                  </a:lnTo>
                  <a:lnTo>
                    <a:pt x="121" y="308"/>
                  </a:lnTo>
                  <a:lnTo>
                    <a:pt x="98" y="265"/>
                  </a:lnTo>
                  <a:lnTo>
                    <a:pt x="74" y="222"/>
                  </a:lnTo>
                  <a:lnTo>
                    <a:pt x="50" y="181"/>
                  </a:lnTo>
                  <a:lnTo>
                    <a:pt x="25" y="141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08120" y="355680"/>
              <a:ext cx="529560" cy="1000080"/>
            </a:xfrm>
            <a:custGeom>
              <a:avLst/>
              <a:gdLst/>
              <a:ahLst/>
              <a:rect l="l" t="t" r="r" b="b"/>
              <a:pathLst>
                <a:path w="1335" h="2520">
                  <a:moveTo>
                    <a:pt x="0" y="0"/>
                  </a:moveTo>
                  <a:lnTo>
                    <a:pt x="11" y="56"/>
                  </a:lnTo>
                  <a:lnTo>
                    <a:pt x="22" y="113"/>
                  </a:lnTo>
                  <a:lnTo>
                    <a:pt x="33" y="170"/>
                  </a:lnTo>
                  <a:lnTo>
                    <a:pt x="44" y="228"/>
                  </a:lnTo>
                  <a:lnTo>
                    <a:pt x="55" y="285"/>
                  </a:lnTo>
                  <a:lnTo>
                    <a:pt x="65" y="343"/>
                  </a:lnTo>
                  <a:lnTo>
                    <a:pt x="77" y="401"/>
                  </a:lnTo>
                  <a:lnTo>
                    <a:pt x="88" y="459"/>
                  </a:lnTo>
                  <a:lnTo>
                    <a:pt x="100" y="517"/>
                  </a:lnTo>
                  <a:lnTo>
                    <a:pt x="112" y="574"/>
                  </a:lnTo>
                  <a:lnTo>
                    <a:pt x="126" y="632"/>
                  </a:lnTo>
                  <a:lnTo>
                    <a:pt x="140" y="687"/>
                  </a:lnTo>
                  <a:lnTo>
                    <a:pt x="155" y="744"/>
                  </a:lnTo>
                  <a:lnTo>
                    <a:pt x="172" y="799"/>
                  </a:lnTo>
                  <a:lnTo>
                    <a:pt x="190" y="852"/>
                  </a:lnTo>
                  <a:lnTo>
                    <a:pt x="210" y="906"/>
                  </a:lnTo>
                  <a:lnTo>
                    <a:pt x="226" y="945"/>
                  </a:lnTo>
                  <a:lnTo>
                    <a:pt x="246" y="982"/>
                  </a:lnTo>
                  <a:lnTo>
                    <a:pt x="265" y="1021"/>
                  </a:lnTo>
                  <a:lnTo>
                    <a:pt x="287" y="1056"/>
                  </a:lnTo>
                  <a:lnTo>
                    <a:pt x="311" y="1092"/>
                  </a:lnTo>
                  <a:lnTo>
                    <a:pt x="335" y="1128"/>
                  </a:lnTo>
                  <a:lnTo>
                    <a:pt x="360" y="1163"/>
                  </a:lnTo>
                  <a:lnTo>
                    <a:pt x="386" y="1197"/>
                  </a:lnTo>
                  <a:lnTo>
                    <a:pt x="412" y="1231"/>
                  </a:lnTo>
                  <a:lnTo>
                    <a:pt x="438" y="1265"/>
                  </a:lnTo>
                  <a:lnTo>
                    <a:pt x="464" y="1299"/>
                  </a:lnTo>
                  <a:lnTo>
                    <a:pt x="491" y="1332"/>
                  </a:lnTo>
                  <a:lnTo>
                    <a:pt x="517" y="1368"/>
                  </a:lnTo>
                  <a:lnTo>
                    <a:pt x="542" y="1402"/>
                  </a:lnTo>
                  <a:lnTo>
                    <a:pt x="567" y="1437"/>
                  </a:lnTo>
                  <a:lnTo>
                    <a:pt x="591" y="1472"/>
                  </a:lnTo>
                  <a:lnTo>
                    <a:pt x="616" y="1510"/>
                  </a:lnTo>
                  <a:lnTo>
                    <a:pt x="641" y="1546"/>
                  </a:lnTo>
                  <a:lnTo>
                    <a:pt x="666" y="1579"/>
                  </a:lnTo>
                  <a:lnTo>
                    <a:pt x="691" y="1613"/>
                  </a:lnTo>
                  <a:lnTo>
                    <a:pt x="715" y="1645"/>
                  </a:lnTo>
                  <a:lnTo>
                    <a:pt x="739" y="1677"/>
                  </a:lnTo>
                  <a:lnTo>
                    <a:pt x="762" y="1709"/>
                  </a:lnTo>
                  <a:lnTo>
                    <a:pt x="786" y="1738"/>
                  </a:lnTo>
                  <a:lnTo>
                    <a:pt x="809" y="1770"/>
                  </a:lnTo>
                  <a:lnTo>
                    <a:pt x="832" y="1802"/>
                  </a:lnTo>
                  <a:lnTo>
                    <a:pt x="853" y="1835"/>
                  </a:lnTo>
                  <a:lnTo>
                    <a:pt x="875" y="1869"/>
                  </a:lnTo>
                  <a:lnTo>
                    <a:pt x="896" y="1905"/>
                  </a:lnTo>
                  <a:lnTo>
                    <a:pt x="916" y="1941"/>
                  </a:lnTo>
                  <a:lnTo>
                    <a:pt x="936" y="1981"/>
                  </a:lnTo>
                  <a:lnTo>
                    <a:pt x="955" y="2022"/>
                  </a:lnTo>
                  <a:lnTo>
                    <a:pt x="967" y="2049"/>
                  </a:lnTo>
                  <a:lnTo>
                    <a:pt x="984" y="2076"/>
                  </a:lnTo>
                  <a:lnTo>
                    <a:pt x="1002" y="2108"/>
                  </a:lnTo>
                  <a:lnTo>
                    <a:pt x="1024" y="2141"/>
                  </a:lnTo>
                  <a:lnTo>
                    <a:pt x="1048" y="2174"/>
                  </a:lnTo>
                  <a:lnTo>
                    <a:pt x="1073" y="2208"/>
                  </a:lnTo>
                  <a:lnTo>
                    <a:pt x="1099" y="2242"/>
                  </a:lnTo>
                  <a:lnTo>
                    <a:pt x="1128" y="2279"/>
                  </a:lnTo>
                  <a:lnTo>
                    <a:pt x="1155" y="2313"/>
                  </a:lnTo>
                  <a:lnTo>
                    <a:pt x="1183" y="2347"/>
                  </a:lnTo>
                  <a:lnTo>
                    <a:pt x="1212" y="2380"/>
                  </a:lnTo>
                  <a:lnTo>
                    <a:pt x="1239" y="2413"/>
                  </a:lnTo>
                  <a:lnTo>
                    <a:pt x="1265" y="2443"/>
                  </a:lnTo>
                  <a:lnTo>
                    <a:pt x="1290" y="2471"/>
                  </a:lnTo>
                  <a:lnTo>
                    <a:pt x="1314" y="2497"/>
                  </a:lnTo>
                  <a:lnTo>
                    <a:pt x="1335" y="2520"/>
                  </a:lnTo>
                  <a:lnTo>
                    <a:pt x="1310" y="2482"/>
                  </a:lnTo>
                  <a:lnTo>
                    <a:pt x="1283" y="2441"/>
                  </a:lnTo>
                  <a:lnTo>
                    <a:pt x="1257" y="2399"/>
                  </a:lnTo>
                  <a:lnTo>
                    <a:pt x="1230" y="2357"/>
                  </a:lnTo>
                  <a:lnTo>
                    <a:pt x="1201" y="2314"/>
                  </a:lnTo>
                  <a:lnTo>
                    <a:pt x="1175" y="2271"/>
                  </a:lnTo>
                  <a:lnTo>
                    <a:pt x="1147" y="2226"/>
                  </a:lnTo>
                  <a:lnTo>
                    <a:pt x="1120" y="2182"/>
                  </a:lnTo>
                  <a:lnTo>
                    <a:pt x="1091" y="2137"/>
                  </a:lnTo>
                  <a:lnTo>
                    <a:pt x="1063" y="2093"/>
                  </a:lnTo>
                  <a:lnTo>
                    <a:pt x="1035" y="2049"/>
                  </a:lnTo>
                  <a:lnTo>
                    <a:pt x="1008" y="2006"/>
                  </a:lnTo>
                  <a:lnTo>
                    <a:pt x="981" y="1963"/>
                  </a:lnTo>
                  <a:lnTo>
                    <a:pt x="955" y="1922"/>
                  </a:lnTo>
                  <a:lnTo>
                    <a:pt x="928" y="1882"/>
                  </a:lnTo>
                  <a:lnTo>
                    <a:pt x="903" y="1844"/>
                  </a:lnTo>
                  <a:lnTo>
                    <a:pt x="865" y="1787"/>
                  </a:lnTo>
                  <a:lnTo>
                    <a:pt x="825" y="1732"/>
                  </a:lnTo>
                  <a:lnTo>
                    <a:pt x="784" y="1675"/>
                  </a:lnTo>
                  <a:lnTo>
                    <a:pt x="743" y="1620"/>
                  </a:lnTo>
                  <a:lnTo>
                    <a:pt x="701" y="1564"/>
                  </a:lnTo>
                  <a:lnTo>
                    <a:pt x="660" y="1509"/>
                  </a:lnTo>
                  <a:lnTo>
                    <a:pt x="619" y="1454"/>
                  </a:lnTo>
                  <a:lnTo>
                    <a:pt x="578" y="1398"/>
                  </a:lnTo>
                  <a:lnTo>
                    <a:pt x="537" y="1343"/>
                  </a:lnTo>
                  <a:lnTo>
                    <a:pt x="499" y="1286"/>
                  </a:lnTo>
                  <a:lnTo>
                    <a:pt x="461" y="1229"/>
                  </a:lnTo>
                  <a:lnTo>
                    <a:pt x="423" y="1171"/>
                  </a:lnTo>
                  <a:lnTo>
                    <a:pt x="388" y="1113"/>
                  </a:lnTo>
                  <a:lnTo>
                    <a:pt x="355" y="1053"/>
                  </a:lnTo>
                  <a:lnTo>
                    <a:pt x="323" y="992"/>
                  </a:lnTo>
                  <a:lnTo>
                    <a:pt x="295" y="931"/>
                  </a:lnTo>
                  <a:lnTo>
                    <a:pt x="264" y="844"/>
                  </a:lnTo>
                  <a:lnTo>
                    <a:pt x="242" y="753"/>
                  </a:lnTo>
                  <a:lnTo>
                    <a:pt x="227" y="662"/>
                  </a:lnTo>
                  <a:lnTo>
                    <a:pt x="218" y="570"/>
                  </a:lnTo>
                  <a:lnTo>
                    <a:pt x="210" y="476"/>
                  </a:lnTo>
                  <a:lnTo>
                    <a:pt x="204" y="381"/>
                  </a:lnTo>
                  <a:lnTo>
                    <a:pt x="197" y="288"/>
                  </a:lnTo>
                  <a:lnTo>
                    <a:pt x="186" y="196"/>
                  </a:lnTo>
                  <a:lnTo>
                    <a:pt x="173" y="186"/>
                  </a:lnTo>
                  <a:lnTo>
                    <a:pt x="160" y="177"/>
                  </a:lnTo>
                  <a:lnTo>
                    <a:pt x="147" y="166"/>
                  </a:lnTo>
                  <a:lnTo>
                    <a:pt x="133" y="156"/>
                  </a:lnTo>
                  <a:lnTo>
                    <a:pt x="121" y="145"/>
                  </a:lnTo>
                  <a:lnTo>
                    <a:pt x="107" y="135"/>
                  </a:lnTo>
                  <a:lnTo>
                    <a:pt x="96" y="122"/>
                  </a:lnTo>
                  <a:lnTo>
                    <a:pt x="82" y="112"/>
                  </a:lnTo>
                  <a:lnTo>
                    <a:pt x="71" y="98"/>
                  </a:lnTo>
                  <a:lnTo>
                    <a:pt x="58" y="87"/>
                  </a:lnTo>
                  <a:lnTo>
                    <a:pt x="48" y="73"/>
                  </a:lnTo>
                  <a:lnTo>
                    <a:pt x="37" y="60"/>
                  </a:lnTo>
                  <a:lnTo>
                    <a:pt x="27" y="46"/>
                  </a:lnTo>
                  <a:lnTo>
                    <a:pt x="16" y="31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ffff"/>
                </a:solidFill>
                <a:latin typeface="Times New Roman"/>
              </a:rPr>
              <a:t>Austria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Analiza połączenia Dublin/Wiede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koncentrowanie się na ruchu biznesowy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łożenie nacisku na jakość usłu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Opracowanie raportu w ciągu miesią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Możliwość utworzenia nowego połączenia do A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FLAG_AUT" descr=""/>
          <p:cNvPicPr/>
          <p:nvPr/>
        </p:nvPicPr>
        <p:blipFill>
          <a:blip r:embed="rId1"/>
          <a:stretch/>
        </p:blipFill>
        <p:spPr>
          <a:xfrm>
            <a:off x="0" y="0"/>
            <a:ext cx="2255760" cy="13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Prognoza szczegółowa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Porównanie zysków i cen w istniejących połączeniach</a:t>
            </a:r>
            <a:r>
              <a:rPr b="0" i="1" lang="en-IE" sz="4400" spc="-1" strike="noStrike">
                <a:solidFill>
                  <a:srgbClr val="ffffff"/>
                </a:solidFill>
                <a:latin typeface="Times New Roman"/>
              </a:rPr>
              <a:t> €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2057400"/>
          <a:ext cx="7267680" cy="422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7267680" cy="42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Podsumowani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248520" y="4952880"/>
            <a:ext cx="1523880" cy="685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52280" y="5181480"/>
            <a:ext cx="5791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goda banku na zaciągniecie kredy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2743200"/>
            <a:ext cx="5486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zewidywana data pierwszego lotu – 5 maja 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655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trudnienie wysokokwalifikowanego persone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2:48:01Z</dcterms:created>
  <dc:creator>User</dc:creator>
  <dc:description/>
  <dc:language>en-US</dc:language>
  <cp:lastModifiedBy>Wojciech Kulik</cp:lastModifiedBy>
  <dcterms:modified xsi:type="dcterms:W3CDTF">2005-12-20T13:29:27Z</dcterms:modified>
  <cp:revision>134</cp:revision>
  <dc:subject/>
  <dc:title>Marketing Plan Dublin / Paris</dc:title>
</cp:coreProperties>
</file>